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11.jpeg" ContentType="image/jpeg"/>
  <Override PartName="/ppt/media/image5.jpeg" ContentType="image/jpeg"/>
  <Override PartName="/ppt/media/image4.jpeg" ContentType="image/jpeg"/>
  <Override PartName="/ppt/media/image25.png" ContentType="image/png"/>
  <Override PartName="/ppt/media/image31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png" ContentType="image/png"/>
  <Override PartName="/ppt/media/image29.jpeg" ContentType="image/jpeg"/>
  <Override PartName="/ppt/media/image8.jpeg" ContentType="image/jpeg"/>
  <Override PartName="/ppt/media/image13.png" ContentType="image/png"/>
  <Override PartName="/ppt/media/image9.jpeg" ContentType="image/jpeg"/>
  <Override PartName="/ppt/media/image30.jpeg" ContentType="image/jpeg"/>
  <Override PartName="/ppt/media/image3.jpeg" ContentType="image/jpeg"/>
  <Override PartName="/ppt/media/image2.jpeg" ContentType="image/jpeg"/>
  <Override PartName="/ppt/media/image23.jpeg" ContentType="image/jpeg"/>
  <Override PartName="/ppt/media/image12.png" ContentType="image/png"/>
  <Override PartName="/ppt/media/image10.png" ContentType="image/png"/>
  <Override PartName="/ppt/media/image1.jpeg" ContentType="image/jpeg"/>
  <Override PartName="/ppt/media/image22.jpeg" ContentType="image/jpeg"/>
  <Override PartName="/ppt/media/image14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5.png" ContentType="image/png"/>
  <Override PartName="/ppt/media/image18.jpeg" ContentType="image/jpeg"/>
  <Override PartName="/ppt/media/image20.jpeg" ContentType="image/jpeg"/>
  <Override PartName="/ppt/media/image19.png" ContentType="image/png"/>
  <Override PartName="/ppt/media/image21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72E4-6398-408F-9560-0B0660247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119A-36C1-4775-96CD-F800C5D45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9124-4B08-438E-9F5D-D2EFAF023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E050-728F-4C4C-9C00-1ECF94081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003E1-56DF-489A-A2B1-8827F51B5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D4A4C-D26D-4D0C-AB40-BD0DFF6F1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BBC20-9CC1-4144-98E6-E491D1E6E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8D7DA-618F-45BA-AA15-9C3B44936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7B266-179D-40F3-A367-FCFAE4269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576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05C5B-B49B-450C-8F6E-80524480A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AD1EE-50DC-4B90-86E9-BE323EB8E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C435-BA25-4AF2-9402-CAED82450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39886-7F00-4C1A-8908-042330326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09BC5-C948-4B0F-9282-4CF1E73F3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9F375-4ACF-4739-8EA1-FE9BBB63E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CA6F7-DBB8-4090-801D-C4CB4AFC8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91574-43F2-4BCC-A6B2-D2B4C1F77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4FC6D6-C458-464A-A58E-B45352E0E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ECE277-A716-44C2-8B8A-C5CC38C5D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BBF762-CC59-4E6A-BDA1-245F0ABF1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17A6CA-3B06-4FB7-ACF8-2885B2F66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00C81D-E283-4D8D-8596-A32DCFE0C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6A15-5702-4A3C-A3AD-A332FC501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576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323085-8AE4-4180-A133-2A37A3D2E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F8B511-013A-4967-8928-52DC48E40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ED5B9C-7449-4F98-BE83-0AC20973C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ECF109-7F5F-4D95-A709-B5AA920F9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109AFF-28E0-4AE0-86ED-31C54A7AC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1B458C-356C-4BB4-9561-F2ADEABEB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7C7E93-8648-4FA1-AA65-0A8F742B6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FF93BA-7CA0-4303-878F-E481CE447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E88F16-5E59-47FB-A76F-1576E4C08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846F20-3E53-4E05-B4AC-CBC3C3FAC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EC0E-322A-4952-88C2-1D12730A9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28932B-E7A0-450C-B1BA-E1320250D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AA33E0-B18E-421C-B78C-A37639CAD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576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A128F6-1A1E-43A4-A2EE-F51FE08C9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6B6702-A142-45D3-9BF0-21BEABDD7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4AE862-02E3-4958-A083-26E970F9C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5FAB84-BBA2-416D-90FA-CACE6F3AF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7598A4-039A-4349-90A5-F8EEA2323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575DF7-FBC5-473E-A81D-F4851D27F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58B798-6363-450F-9A1B-AFE89663C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2754-4E8D-4BDD-B453-DB884DCD8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576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576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E290-8675-4C68-B2B4-42C5B934E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2FA68F-4620-495E-B6D3-375D4A0FE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33D81A-2123-442F-AEEB-FC3E9D4D3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6EBB96-8690-43E7-83BF-E00A7474E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2DD612-B123-4279-81F3-AFEBAA376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D4E159-1EF3-43EC-BB0C-D088CE0ED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457200" y="27576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E3DEFF-E71B-4FE7-AFF8-C76C3B70A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F08C80-25D9-4AE2-AC22-20FE1BFCF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84CDBC-3E98-404B-9CFD-04BA22456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91495B-FCEF-4025-9EF0-504A254F0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B00C-95AF-4E37-B6EF-4D555C5D1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14C904-6974-43AD-A9E6-4FC8C1D27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D537D9-F99A-40F4-8511-ADBB83BB0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ABA150-720A-4212-ACE8-E2E4E3BCF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9956A8-7A28-42E9-B7B3-4282DAF0A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A5B807-B944-41DF-B81A-F80CEDD69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662881-0BF2-4C9F-B80B-10CAF7C91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C28D86-2509-47CF-8A0F-8325F3112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CCB19C-1508-4F34-AE28-0926BD3E4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576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2CB02B-2061-438A-81FA-D95AC62FB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E9E932-14C8-4CFF-A798-71C217BD5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1824-E680-49E2-BB7A-16C905921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A6B4B9-77A3-46C6-AD38-4F56A5F4B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03CAA4-9C06-41CD-B801-72E7D96D2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E947DF-AB4C-47EF-B2B4-6FF51C157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1D516B-153D-4E00-A16D-C3933E1D0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EACD50-1E4D-4B1C-B69C-0DCBFEF36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2BB8-A767-44ED-893D-4899F953F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2e04"/>
                </a:solidFill>
                <a:latin typeface="时尚中黑简体"/>
              </a:rPr>
              <a:t>Click to edit the title text format</a:t>
            </a:r>
            <a:endParaRPr b="0" lang="en-US" sz="2800" spc="-1" strike="noStrike">
              <a:solidFill>
                <a:srgbClr val="602e04"/>
              </a:solidFill>
              <a:latin typeface="时尚中黑简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602e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2e04"/>
                </a:solidFill>
                <a:latin typeface="微软雅黑"/>
              </a:rPr>
              <a:t>Click to edit the outline text format</a:t>
            </a:r>
            <a:endParaRPr b="0" lang="en-US" sz="2000" spc="-1" strike="noStrike">
              <a:solidFill>
                <a:srgbClr val="602e04"/>
              </a:solidFill>
              <a:latin typeface="微软雅黑"/>
            </a:endParaRPr>
          </a:p>
          <a:p>
            <a:pPr lvl="1" marL="743040" indent="-285840">
              <a:spcBef>
                <a:spcPts val="499"/>
              </a:spcBef>
              <a:buClr>
                <a:srgbClr val="602e0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2e04"/>
                </a:solidFill>
                <a:latin typeface="微软雅黑"/>
              </a:rPr>
              <a:t>Second Outline Level</a:t>
            </a:r>
            <a:endParaRPr b="0" lang="en-US" sz="2000" spc="-1" strike="noStrike">
              <a:solidFill>
                <a:srgbClr val="602e04"/>
              </a:solidFill>
              <a:latin typeface="微软雅黑"/>
            </a:endParaRPr>
          </a:p>
          <a:p>
            <a:pPr lvl="2" marL="1143000" indent="-228600">
              <a:spcBef>
                <a:spcPts val="499"/>
              </a:spcBef>
              <a:buClr>
                <a:srgbClr val="602e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2e04"/>
                </a:solidFill>
                <a:latin typeface="微软雅黑"/>
              </a:rPr>
              <a:t>Third Outline Level</a:t>
            </a:r>
            <a:endParaRPr b="0" lang="en-US" sz="2000" spc="-1" strike="noStrike">
              <a:solidFill>
                <a:srgbClr val="602e04"/>
              </a:solidFill>
              <a:latin typeface="微软雅黑"/>
            </a:endParaRPr>
          </a:p>
          <a:p>
            <a:pPr lvl="3" marL="1600200" indent="-228600">
              <a:spcBef>
                <a:spcPts val="499"/>
              </a:spcBef>
              <a:buClr>
                <a:srgbClr val="602e0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2e04"/>
                </a:solidFill>
                <a:latin typeface="微软雅黑"/>
              </a:rPr>
              <a:t>Fourth Outline Level</a:t>
            </a:r>
            <a:endParaRPr b="0" lang="en-US" sz="2000" spc="-1" strike="noStrike">
              <a:solidFill>
                <a:srgbClr val="602e04"/>
              </a:solidFill>
              <a:latin typeface="微软雅黑"/>
            </a:endParaRPr>
          </a:p>
          <a:p>
            <a:pPr lvl="4" marL="2057400" indent="-228600">
              <a:spcBef>
                <a:spcPts val="499"/>
              </a:spcBef>
              <a:buClr>
                <a:srgbClr val="602e0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2e04"/>
                </a:solidFill>
                <a:latin typeface="微软雅黑"/>
              </a:rPr>
              <a:t>Fifth Outline Level</a:t>
            </a:r>
            <a:endParaRPr b="0" lang="en-US" sz="2000" spc="-1" strike="noStrike">
              <a:solidFill>
                <a:srgbClr val="602e04"/>
              </a:solidFill>
              <a:latin typeface="微软雅黑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2e04"/>
                </a:solidFill>
                <a:latin typeface="微软雅黑"/>
              </a:rPr>
              <a:t>Sixth Outline Level</a:t>
            </a:r>
            <a:endParaRPr b="0" lang="en-US" sz="2000" spc="-1" strike="noStrike">
              <a:solidFill>
                <a:srgbClr val="602e04"/>
              </a:solidFill>
              <a:latin typeface="微软雅黑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2e04"/>
                </a:solidFill>
                <a:latin typeface="微软雅黑"/>
              </a:rPr>
              <a:t>Seventh Outline Level</a:t>
            </a:r>
            <a:endParaRPr b="0" lang="en-US" sz="2000" spc="-1" strike="noStrike">
              <a:solidFill>
                <a:srgbClr val="602e04"/>
              </a:solidFill>
              <a:latin typeface="微软雅黑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2F3E9-8D64-4DB0-8757-78E83A1636C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81080" y="2677680"/>
            <a:ext cx="6696000" cy="11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02e04"/>
                </a:solidFill>
                <a:latin typeface="时尚中黑简体"/>
              </a:rPr>
              <a:t>Click to edit the title text format</a:t>
            </a:r>
            <a:endParaRPr b="1" lang="en-US" sz="3600" spc="-1" strike="noStrike">
              <a:solidFill>
                <a:srgbClr val="602e04"/>
              </a:solidFill>
              <a:latin typeface="时尚中黑简体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B234A-09AD-45EF-A5E8-D97011E0590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2e04"/>
                </a:solidFill>
                <a:latin typeface="微软雅黑"/>
              </a:rPr>
              <a:t>Click to edit the outline text format</a:t>
            </a:r>
            <a:endParaRPr b="0" lang="en-US" sz="2800" spc="-1" strike="noStrike">
              <a:solidFill>
                <a:srgbClr val="602e04"/>
              </a:solidFill>
              <a:latin typeface="微软雅黑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2e04"/>
                </a:solidFill>
                <a:latin typeface="微软雅黑"/>
              </a:rPr>
              <a:t>Second Outline Level</a:t>
            </a:r>
            <a:endParaRPr b="0" lang="en-US" sz="1800" spc="-1" strike="noStrike">
              <a:solidFill>
                <a:srgbClr val="602e04"/>
              </a:solidFill>
              <a:latin typeface="微软雅黑"/>
            </a:endParaRPr>
          </a:p>
          <a:p>
            <a:pPr lvl="2" marL="914400" algn="ctr">
              <a:spcBef>
                <a:spcPts val="400"/>
              </a:spcBef>
              <a:buClr>
                <a:srgbClr val="602e0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02e04"/>
                </a:solidFill>
                <a:latin typeface="微软雅黑"/>
              </a:rPr>
              <a:t>Third Outline Level</a:t>
            </a:r>
            <a:endParaRPr b="0" lang="en-US" sz="1600" spc="-1" strike="noStrike">
              <a:solidFill>
                <a:srgbClr val="602e04"/>
              </a:solidFill>
              <a:latin typeface="微软雅黑"/>
            </a:endParaRPr>
          </a:p>
          <a:p>
            <a:pPr lvl="3" marL="1371600" algn="ctr">
              <a:spcBef>
                <a:spcPts val="349"/>
              </a:spcBef>
              <a:buClr>
                <a:srgbClr val="602e04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02e04"/>
                </a:solidFill>
                <a:latin typeface="微软雅黑"/>
              </a:rPr>
              <a:t>Fourth Outline Level</a:t>
            </a:r>
            <a:endParaRPr b="0" lang="en-US" sz="1400" spc="-1" strike="noStrike">
              <a:solidFill>
                <a:srgbClr val="602e04"/>
              </a:solidFill>
              <a:latin typeface="微软雅黑"/>
            </a:endParaRPr>
          </a:p>
          <a:p>
            <a:pPr lvl="4" marL="1828800" algn="ctr">
              <a:spcBef>
                <a:spcPts val="300"/>
              </a:spcBef>
              <a:buClr>
                <a:srgbClr val="602e04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02e04"/>
                </a:solidFill>
                <a:latin typeface="微软雅黑"/>
              </a:rPr>
              <a:t>Fifth Outline Level</a:t>
            </a:r>
            <a:endParaRPr b="0" lang="en-US" sz="1200" spc="-1" strike="noStrike">
              <a:solidFill>
                <a:srgbClr val="602e04"/>
              </a:solidFill>
              <a:latin typeface="微软雅黑"/>
            </a:endParaRPr>
          </a:p>
          <a:p>
            <a:pPr lvl="5" marL="18288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02e04"/>
                </a:solidFill>
                <a:latin typeface="微软雅黑"/>
              </a:rPr>
              <a:t>Sixth Outline Level</a:t>
            </a:r>
            <a:endParaRPr b="0" lang="en-US" sz="1200" spc="-1" strike="noStrike">
              <a:solidFill>
                <a:srgbClr val="602e04"/>
              </a:solidFill>
              <a:latin typeface="微软雅黑"/>
            </a:endParaRPr>
          </a:p>
          <a:p>
            <a:pPr lvl="6" marL="18288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02e04"/>
                </a:solidFill>
                <a:latin typeface="微软雅黑"/>
              </a:rPr>
              <a:t>Seventh Outline Level</a:t>
            </a:r>
            <a:endParaRPr b="0" lang="en-US" sz="1200" spc="-1" strike="noStrike">
              <a:solidFill>
                <a:srgbClr val="602e04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7B8B6-62D4-425F-BA6E-C9D5920F11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40CC0-2A7C-4237-838E-FED79D013BBF}" type="datetime"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7DF56-A1B2-4540-AC57-1EF08C5B0E64}" type="slidenum"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>
              <a:alpha val="36000"/>
            </a:srgbClr>
          </a:solidFill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Franklin Gothic Medium"/>
              </a:rPr>
              <a:t>Click to edit the title text format</a:t>
            </a:r>
            <a:endParaRPr b="1" lang="en-US" sz="3200" spc="-1" strike="noStrike">
              <a:solidFill>
                <a:srgbClr val="006699"/>
              </a:solidFill>
              <a:latin typeface="Franklin Gothic Medium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body"/>
          </p:nvPr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微软雅黑"/>
            </a:endParaRPr>
          </a:p>
          <a:p>
            <a:pPr lvl="1" marL="457200" indent="4572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微软雅黑"/>
            </a:endParaRPr>
          </a:p>
          <a:p>
            <a:pPr lvl="2" marL="9144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微软雅黑"/>
            </a:endParaRPr>
          </a:p>
          <a:p>
            <a:pPr lvl="3" marL="1371600" indent="-4572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微软雅黑"/>
            </a:endParaRPr>
          </a:p>
          <a:p>
            <a:pPr lvl="4" marL="1828800" indent="-9144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微软雅黑"/>
            </a:endParaRPr>
          </a:p>
          <a:p>
            <a:pPr lvl="5" marL="1828800" indent="-9144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微软雅黑"/>
            </a:endParaRPr>
          </a:p>
          <a:p>
            <a:pPr lvl="6" marL="1828800" indent="-9144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2560" y="4193640"/>
            <a:ext cx="7772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36943-3E80-461D-B42A-BECD6EED3C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1413000"/>
            <a:ext cx="7772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1261D-B715-40C3-B380-0BFAACA33C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3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6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6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6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6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6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6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82160" y="909360"/>
            <a:ext cx="651348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602e04"/>
              </a:solidFill>
              <a:latin typeface="时尚中黑简体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900000" y="5049720"/>
            <a:ext cx="7056720" cy="139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8000"/>
                    </a:srgbClr>
                  </a:outerShdw>
                </a:effectLst>
                <a:latin typeface="宋体"/>
              </a:rPr>
              <a:t>不抄袭别人 也不复制自己。</a:t>
            </a:r>
            <a:endParaRPr b="1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84" name=""/>
          <p:cNvSpPr/>
          <p:nvPr/>
        </p:nvSpPr>
        <p:spPr>
          <a:xfrm>
            <a:off x="431640" y="909720"/>
            <a:ext cx="43945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Arial"/>
                <a:ea typeface="新宋体"/>
              </a:rPr>
              <a:t>诚信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Arial"/>
                <a:ea typeface="新宋体"/>
              </a:rPr>
              <a:t>     </a:t>
            </a:r>
            <a:r>
              <a:rPr b="1" lang="zh-CN" sz="9600" spc="-1" strike="noStrike">
                <a:solidFill>
                  <a:srgbClr val="000000"/>
                </a:solidFill>
                <a:latin typeface="Arial"/>
                <a:ea typeface="新宋体"/>
              </a:rPr>
              <a:t>考试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16720" y="4149720"/>
            <a:ext cx="219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20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" dur="2000" fill="hold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2" descr="未标题-1"/>
          <p:cNvPicPr/>
          <p:nvPr/>
        </p:nvPicPr>
        <p:blipFill>
          <a:blip r:embed="rId1"/>
          <a:stretch/>
        </p:blipFill>
        <p:spPr>
          <a:xfrm>
            <a:off x="1763640" y="0"/>
            <a:ext cx="5643720" cy="112860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3" descr="应告发好友作弊吗？"/>
          <p:cNvPicPr/>
          <p:nvPr/>
        </p:nvPicPr>
        <p:blipFill>
          <a:blip r:embed="rId2"/>
          <a:stretch/>
        </p:blipFill>
        <p:spPr>
          <a:xfrm>
            <a:off x="826920" y="1211400"/>
            <a:ext cx="8317080" cy="5646600"/>
          </a:xfrm>
          <a:prstGeom prst="rect">
            <a:avLst/>
          </a:prstGeom>
          <a:ln w="0">
            <a:noFill/>
          </a:ln>
        </p:spPr>
      </p:pic>
      <p:sp>
        <p:nvSpPr>
          <p:cNvPr id="332" name="Rectangle 4"/>
          <p:cNvSpPr/>
          <p:nvPr/>
        </p:nvSpPr>
        <p:spPr>
          <a:xfrm>
            <a:off x="0" y="1279440"/>
            <a:ext cx="900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应告发好友作弊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Rectangle 3" descr=""/>
          <p:cNvPicPr/>
          <p:nvPr/>
        </p:nvPicPr>
        <p:blipFill>
          <a:blip r:embed="rId2"/>
          <a:stretch/>
        </p:blipFill>
        <p:spPr>
          <a:xfrm>
            <a:off x="3278160" y="477720"/>
            <a:ext cx="5256360" cy="568800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 txBox="1"/>
          <p:nvPr/>
        </p:nvSpPr>
        <p:spPr>
          <a:xfrm>
            <a:off x="612720" y="692280"/>
            <a:ext cx="208764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宋体"/>
              </a:rPr>
              <a:t>诚信了吗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</p:spTree>
  </p:cSld>
  <p:transition>
    <p:fade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7" dur="2000" fill="hold"/>
                                        <p:tgtEl>
                                          <p:spTgt spid="33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" descr=""/>
          <p:cNvPicPr/>
          <p:nvPr/>
        </p:nvPicPr>
        <p:blipFill>
          <a:blip r:embed="rId2"/>
          <a:stretch/>
        </p:blipFill>
        <p:spPr>
          <a:xfrm>
            <a:off x="-830160" y="0"/>
            <a:ext cx="10583640" cy="746748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990720" y="182880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据从事教育工作的周女士介绍，她儿子就读某地某中学初中三年级，临近中考，大大小小摸底考试不断，孩子成绩较为理想，让她很欣慰。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8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日，她在帮孩子收房间时发现一奇怪饮料瓶除包装外，还有一张透明胶布紧贴在瓶身，上面印着好些数学公式。“不仔细检查，真看不出。”周反应过来，孩子在作弊。气急败坏的她打了儿子一顿。其儿子委屈地说，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自己作弊是怕考不好，给父母丢脸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而作弊方法，是一李姓同学以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0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元的价格卖给他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0" y="4302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6019920" cy="1143000"/>
          </a:xfrm>
          <a:prstGeom prst="rect">
            <a:avLst/>
          </a:prstGeom>
          <a:solidFill>
            <a:srgbClr val="ffff99">
              <a:alpha val="36000"/>
            </a:srgbClr>
          </a:solidFill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6699"/>
                </a:solidFill>
                <a:latin typeface="Franklin Gothic Medium"/>
                <a:ea typeface="华文新魏"/>
              </a:rPr>
              <a:t>考场经济</a:t>
            </a:r>
            <a:endParaRPr b="1" lang="en-US" sz="6600" spc="-1" strike="noStrike">
              <a:solidFill>
                <a:srgbClr val="006699"/>
              </a:solidFill>
              <a:latin typeface="Franklin Gothic Medium"/>
            </a:endParaRPr>
          </a:p>
        </p:txBody>
      </p:sp>
      <p:sp>
        <p:nvSpPr>
          <p:cNvPr id="339" name=""/>
          <p:cNvSpPr/>
          <p:nvPr/>
        </p:nvSpPr>
        <p:spPr>
          <a:xfrm>
            <a:off x="457200" y="2057400"/>
            <a:ext cx="7391520" cy="0"/>
          </a:xfrm>
          <a:prstGeom prst="line">
            <a:avLst/>
          </a:prstGeom>
          <a:ln w="7632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457200" y="2133720"/>
            <a:ext cx="7467480" cy="4495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914400" y="2666880"/>
            <a:ext cx="6705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很多 人通过考试来发财，通过考试来谋取个人的私利，比如说有一些是通过办班、押题，这些还是属于合法范围里的事，但还是有不少不正当的，比如说盗窃国家的考试试卷，另外通过作弊等等一些方式谋取个人得好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57200" y="533520"/>
            <a:ext cx="8229600" cy="6095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3"/>
          <a:stretch/>
        </p:blipFill>
        <p:spPr>
          <a:xfrm>
            <a:off x="762120" y="1295280"/>
            <a:ext cx="7238880" cy="4813560"/>
          </a:xfrm>
          <a:prstGeom prst="rect">
            <a:avLst/>
          </a:prstGeom>
          <a:ln w="0">
            <a:noFill/>
          </a:ln>
        </p:spPr>
      </p:pic>
      <p:pic>
        <p:nvPicPr>
          <p:cNvPr id="344" name="" descr=""/>
          <p:cNvPicPr/>
          <p:nvPr/>
        </p:nvPicPr>
        <p:blipFill>
          <a:blip r:embed="rId4"/>
          <a:stretch/>
        </p:blipFill>
        <p:spPr>
          <a:xfrm>
            <a:off x="826920" y="692280"/>
            <a:ext cx="7620120" cy="5838840"/>
          </a:xfrm>
          <a:prstGeom prst="rect">
            <a:avLst/>
          </a:prstGeom>
          <a:ln w="0">
            <a:noFill/>
          </a:ln>
        </p:spPr>
      </p:pic>
      <p:pic>
        <p:nvPicPr>
          <p:cNvPr id="345" name="" descr=""/>
          <p:cNvPicPr/>
          <p:nvPr/>
        </p:nvPicPr>
        <p:blipFill>
          <a:blip r:embed="rId5"/>
          <a:stretch/>
        </p:blipFill>
        <p:spPr>
          <a:xfrm rot="379200">
            <a:off x="1332000" y="981000"/>
            <a:ext cx="5562360" cy="502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650"/>
                            </p:stCondLst>
                            <p:childTnLst>
                              <p:par>
                                <p:cTn id="253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833 -0.03329 L -0.00417 0.66574 E">
                                      <p:cBhvr>
                                        <p:cTn id="254" dur="500" fill="hold"/>
                                        <p:tgtEl>
                                          <p:spTgt spid="3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150"/>
                            </p:stCondLst>
                            <p:childTnLst>
                              <p:par>
                                <p:cTn id="26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6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6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xit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ipe(down)" transition="out">
                                      <p:cBhvr additive="repl">
                                        <p:cTn id="271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74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5399700">
                                      <p:cBhvr>
                                        <p:cTn id="279" dur="2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17 0.66575 L -0.35834 0.31068 E">
                                      <p:cBhvr>
                                        <p:cTn id="281" dur="2000" fill="hold"/>
                                        <p:tgtEl>
                                          <p:spTgt spid="3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000"/>
                            </p:stCondLst>
                            <p:childTnLst>
                              <p:par>
                                <p:cTn id="283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0417 0.19973 L 0.49583 0.19973 E">
                                      <p:cBhvr>
                                        <p:cTn id="284" dur="500" fill="hold"/>
                                        <p:tgtEl>
                                          <p:spTgt spid="3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8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8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8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8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xit" presetID="52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3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3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305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3000"/>
                            </p:stCondLst>
                            <p:childTnLst>
                              <p:par>
                                <p:cTn id="3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4000"/>
                            </p:stCondLst>
                            <p:childTnLst>
                              <p:par>
                                <p:cTn id="312" nodeType="afterEffect" fill="hold" presetClass="exit" presetID="52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3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3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315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6000"/>
                            </p:stCondLst>
                            <p:childTnLst>
                              <p:par>
                                <p:cTn id="31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8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8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8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8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7000"/>
                            </p:stCondLst>
                            <p:childTnLst>
                              <p:par>
                                <p:cTn id="327" nodeType="afterEffect" fill="hold" presetClass="exit" presetID="52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3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3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3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 flipV="1" rot="10800000">
            <a:off x="2358720" y="4797360"/>
            <a:ext cx="4422600" cy="434880"/>
          </a:xfrm>
          <a:prstGeom prst="ellipse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未知"/>
          <p:cNvSpPr/>
          <p:nvPr/>
        </p:nvSpPr>
        <p:spPr>
          <a:xfrm>
            <a:off x="4576680" y="1627200"/>
            <a:ext cx="1720800" cy="2570040"/>
          </a:xfrm>
          <a:custGeom>
            <a:avLst/>
            <a:gdLst/>
            <a:ahLst/>
            <a:rect l="l" t="t" r="r" b="b"/>
            <a:pathLst>
              <a:path w="174" h="260">
                <a:moveTo>
                  <a:pt x="150" y="260"/>
                </a:moveTo>
                <a:cubicBezTo>
                  <a:pt x="165" y="234"/>
                  <a:pt x="174" y="204"/>
                  <a:pt x="174" y="174"/>
                </a:cubicBezTo>
                <a:cubicBezTo>
                  <a:pt x="174" y="77"/>
                  <a:pt x="96" y="0"/>
                  <a:pt x="0" y="0"/>
                </a:cubicBezTo>
                <a:lnTo>
                  <a:pt x="0" y="174"/>
                </a:lnTo>
                <a:lnTo>
                  <a:pt x="150" y="260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009999"/>
              </a:gs>
            </a:gsLst>
            <a:lin ang="5400000"/>
          </a:gradFill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未知"/>
          <p:cNvSpPr/>
          <p:nvPr/>
        </p:nvSpPr>
        <p:spPr>
          <a:xfrm>
            <a:off x="3078000" y="3346560"/>
            <a:ext cx="2981520" cy="1708200"/>
          </a:xfrm>
          <a:custGeom>
            <a:avLst/>
            <a:gdLst/>
            <a:ahLst/>
            <a:rect l="l" t="t" r="r" b="b"/>
            <a:pathLst>
              <a:path w="301" h="173">
                <a:moveTo>
                  <a:pt x="0" y="86"/>
                </a:moveTo>
                <a:cubicBezTo>
                  <a:pt x="31" y="140"/>
                  <a:pt x="88" y="173"/>
                  <a:pt x="151" y="173"/>
                </a:cubicBezTo>
                <a:cubicBezTo>
                  <a:pt x="213" y="173"/>
                  <a:pt x="270" y="140"/>
                  <a:pt x="301" y="86"/>
                </a:cubicBezTo>
                <a:lnTo>
                  <a:pt x="151" y="0"/>
                </a:lnTo>
                <a:lnTo>
                  <a:pt x="0" y="86"/>
                </a:lnTo>
                <a:close/>
              </a:path>
            </a:pathLst>
          </a:custGeom>
          <a:gradFill rotWithShape="0">
            <a:gsLst>
              <a:gs pos="0">
                <a:srgbClr val="808080"/>
              </a:gs>
              <a:gs pos="100000">
                <a:srgbClr val="3b3b3b"/>
              </a:gs>
            </a:gsLst>
            <a:lin ang="5400000"/>
          </a:gradFill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未知"/>
          <p:cNvSpPr/>
          <p:nvPr/>
        </p:nvSpPr>
        <p:spPr>
          <a:xfrm>
            <a:off x="2843280" y="1628640"/>
            <a:ext cx="1730160" cy="2570400"/>
          </a:xfrm>
          <a:custGeom>
            <a:avLst/>
            <a:gdLst/>
            <a:ahLst/>
            <a:rect l="l" t="t" r="r" b="b"/>
            <a:pathLst>
              <a:path w="175" h="260">
                <a:moveTo>
                  <a:pt x="174" y="0"/>
                </a:moveTo>
                <a:cubicBezTo>
                  <a:pt x="78" y="0"/>
                  <a:pt x="1" y="77"/>
                  <a:pt x="1" y="173"/>
                </a:cubicBezTo>
                <a:cubicBezTo>
                  <a:pt x="0" y="204"/>
                  <a:pt x="9" y="234"/>
                  <a:pt x="24" y="260"/>
                </a:cubicBezTo>
                <a:lnTo>
                  <a:pt x="175" y="174"/>
                </a:lnTo>
                <a:lnTo>
                  <a:pt x="174" y="0"/>
                </a:lnTo>
                <a:close/>
              </a:path>
            </a:pathLst>
          </a:custGeom>
          <a:gradFill rotWithShape="0">
            <a:gsLst>
              <a:gs pos="0">
                <a:srgbClr val="808080"/>
              </a:gs>
              <a:gs pos="100000">
                <a:srgbClr val="3b3b3b"/>
              </a:gs>
            </a:gsLst>
            <a:lin ang="5400000"/>
          </a:gradFill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rot="6300000">
            <a:off x="3135960" y="3850920"/>
            <a:ext cx="389160" cy="39204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rot="13500000">
            <a:off x="4383000" y="1722240"/>
            <a:ext cx="388800" cy="39204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 rot="20700000">
            <a:off x="5622480" y="3860280"/>
            <a:ext cx="389160" cy="39240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3219840" y="1981080"/>
            <a:ext cx="2732400" cy="2727360"/>
            <a:chOff x="3219840" y="1981080"/>
            <a:chExt cx="2732400" cy="2727360"/>
          </a:xfrm>
        </p:grpSpPr>
        <p:sp>
          <p:nvSpPr>
            <p:cNvPr id="354" name=""/>
            <p:cNvSpPr/>
            <p:nvPr/>
          </p:nvSpPr>
          <p:spPr>
            <a:xfrm rot="649800">
              <a:off x="3417840" y="2179800"/>
              <a:ext cx="2336400" cy="232992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ffffff"/>
                </a:gs>
                <a:gs pos="100000">
                  <a:srgbClr val="808080"/>
                </a:gs>
              </a:gsLst>
              <a:lin ang="135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 rot="649800">
              <a:off x="3549240" y="2306520"/>
              <a:ext cx="2073240" cy="2075040"/>
            </a:xfrm>
            <a:prstGeom prst="ellipse">
              <a:avLst/>
            </a:prstGeom>
            <a:gradFill rotWithShape="0">
              <a:gsLst>
                <a:gs pos="0">
                  <a:srgbClr val="333399">
                    <a:alpha val="90196"/>
                  </a:srgbClr>
                </a:gs>
                <a:gs pos="100000">
                  <a:srgbClr val="bbe0e3"/>
                </a:gs>
              </a:gsLst>
              <a:lin ang="135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6" name=""/>
          <p:cNvSpPr txBox="1"/>
          <p:nvPr/>
        </p:nvSpPr>
        <p:spPr>
          <a:xfrm rot="3535800">
            <a:off x="5360760" y="2631600"/>
            <a:ext cx="873360" cy="1461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ln w="0">
                  <a:noFill/>
                </a:ln>
                <a:solidFill>
                  <a:srgbClr val="ffffff"/>
                </a:solidFill>
                <a:latin typeface="黑体"/>
              </a:rPr>
              <a:t>担心补考</a:t>
            </a:r>
            <a:endParaRPr b="0" lang="en-US" sz="1400" spc="-1" strike="noStrike">
              <a:ln w="0">
                <a:noFill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357" name=""/>
          <p:cNvSpPr txBox="1"/>
          <p:nvPr/>
        </p:nvSpPr>
        <p:spPr>
          <a:xfrm rot="18000000">
            <a:off x="2982600" y="2631960"/>
            <a:ext cx="914400" cy="260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ffffff"/>
                </a:solidFill>
                <a:latin typeface="黑体"/>
              </a:rPr>
              <a:t>为得高分</a:t>
            </a:r>
            <a:endParaRPr b="0" lang="en-US" sz="1800" spc="-1" strike="noStrike">
              <a:ln w="0">
                <a:noFill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067280" y="4510080"/>
            <a:ext cx="1143000" cy="260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ffffff"/>
                </a:solidFill>
                <a:latin typeface="黑体"/>
              </a:rPr>
              <a:t>大家都作弊</a:t>
            </a:r>
            <a:endParaRPr b="0" lang="en-US" sz="1800" spc="-1" strike="noStrike">
              <a:ln w="0">
                <a:noFill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359" name="未知"/>
          <p:cNvSpPr/>
          <p:nvPr/>
        </p:nvSpPr>
        <p:spPr>
          <a:xfrm>
            <a:off x="3708360" y="2349360"/>
            <a:ext cx="1736640" cy="83520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3780000" y="3070080"/>
            <a:ext cx="1655640" cy="58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考试作弊的原因</a:t>
            </a:r>
            <a:endParaRPr b="0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361" name=""/>
          <p:cNvSpPr/>
          <p:nvPr/>
        </p:nvSpPr>
        <p:spPr>
          <a:xfrm>
            <a:off x="142920" y="2960640"/>
            <a:ext cx="2736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希望能够有更高的分数，虽然自己也认真学了，但是对自己的能力没有自信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299280" y="2421000"/>
            <a:ext cx="2736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平时上课吸收率不高，担心考试不及格，因此考试作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4392720" y="5410080"/>
            <a:ext cx="2736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大家都作弊，觉得自己如果不作弊会吃亏，因为作弊的同学考得分数可能会比自己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2"/>
          <a:stretch/>
        </p:blipFill>
        <p:spPr>
          <a:xfrm>
            <a:off x="8388360" y="6093000"/>
            <a:ext cx="387360" cy="38700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 txBox="1"/>
          <p:nvPr/>
        </p:nvSpPr>
        <p:spPr>
          <a:xfrm>
            <a:off x="1727280" y="404640"/>
            <a:ext cx="5219640" cy="11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分析考试作弊的原因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4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9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4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11" descr="170609_1024_768"/>
          <p:cNvPicPr/>
          <p:nvPr/>
        </p:nvPicPr>
        <p:blipFill>
          <a:blip r:embed="rId2"/>
          <a:stretch/>
        </p:blipFill>
        <p:spPr>
          <a:xfrm>
            <a:off x="0" y="0"/>
            <a:ext cx="9023400" cy="6858000"/>
          </a:xfrm>
          <a:prstGeom prst="rect">
            <a:avLst/>
          </a:prstGeom>
          <a:ln w="0">
            <a:noFill/>
          </a:ln>
        </p:spPr>
      </p:pic>
      <p:sp>
        <p:nvSpPr>
          <p:cNvPr id="369" name="Text Box 5"/>
          <p:cNvSpPr/>
          <p:nvPr/>
        </p:nvSpPr>
        <p:spPr>
          <a:xfrm>
            <a:off x="685800" y="1066680"/>
            <a:ext cx="7378560" cy="41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微软雅黑"/>
              </a:rPr>
              <a:t>大学生考试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微软雅黑"/>
              </a:rPr>
              <a:t>作弊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微软雅黑"/>
              </a:rPr>
              <a:t>的八大典型心理：</a:t>
            </a:r>
            <a:br>
              <a:rPr sz="3600"/>
            </a:b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微软雅黑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微软雅黑"/>
              </a:rPr>
              <a:t>  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微软雅黑"/>
              </a:rPr>
              <a:t>依赖心理          功利心理</a:t>
            </a:r>
            <a:br>
              <a:rPr sz="3600"/>
            </a:b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微软雅黑"/>
              </a:rPr>
              <a:t>       虚荣心理          盲从心理</a:t>
            </a:r>
            <a:br>
              <a:rPr sz="3600"/>
            </a:b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微软雅黑"/>
              </a:rPr>
              <a:t>       投机心理          讲义气心理</a:t>
            </a:r>
            <a:br>
              <a:rPr sz="3600"/>
            </a:b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微软雅黑"/>
              </a:rPr>
              <a:t>       冒险心理          不平衡心理</a:t>
            </a: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1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隶书"/>
              </a:rPr>
              <a:t>不诚信的考试可能会带来一些后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学校记于考试作弊处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自己的诚信度在老师和同学们眼里会大大折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与你预期想得到的奖学金、助学金失之交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自己会长时间感到后悔难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连累他人，影响同学之间的友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0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500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500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500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500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500"/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500"/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2" name=""/>
          <p:cNvGrpSpPr/>
          <p:nvPr/>
        </p:nvGrpSpPr>
        <p:grpSpPr>
          <a:xfrm>
            <a:off x="826920" y="1410840"/>
            <a:ext cx="2305080" cy="937080"/>
            <a:chOff x="826920" y="1410840"/>
            <a:chExt cx="2305080" cy="937080"/>
          </a:xfrm>
        </p:grpSpPr>
        <p:sp>
          <p:nvSpPr>
            <p:cNvPr id="373" name=""/>
            <p:cNvSpPr/>
            <p:nvPr/>
          </p:nvSpPr>
          <p:spPr>
            <a:xfrm>
              <a:off x="826920" y="1555560"/>
              <a:ext cx="2305080" cy="792360"/>
            </a:xfrm>
            <a:prstGeom prst="downArrowCallout">
              <a:avLst>
                <a:gd name="adj1" fmla="val 72681"/>
                <a:gd name="adj2" fmla="val 36337"/>
                <a:gd name="adj3" fmla="val 14028"/>
                <a:gd name="adj4" fmla="val 85940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3333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 rot="10800000">
              <a:off x="833040" y="1410480"/>
              <a:ext cx="2298600" cy="144360"/>
            </a:xfrm>
            <a:custGeom>
              <a:avLst/>
              <a:gdLst>
                <a:gd name="textAreaLeft" fmla="*/ 228600 w 2298600"/>
                <a:gd name="textAreaRight" fmla="*/ 2070000 w 2298600"/>
                <a:gd name="textAreaTop" fmla="*/ 14400 h 144360"/>
                <a:gd name="textAreaBottom" fmla="*/ 12996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879" y="21600"/>
                  </a:lnTo>
                  <a:lnTo>
                    <a:pt x="721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bbe0e3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" name=""/>
          <p:cNvGrpSpPr/>
          <p:nvPr/>
        </p:nvGrpSpPr>
        <p:grpSpPr>
          <a:xfrm>
            <a:off x="3419640" y="1410840"/>
            <a:ext cx="2304720" cy="937080"/>
            <a:chOff x="3419640" y="1410840"/>
            <a:chExt cx="2304720" cy="937080"/>
          </a:xfrm>
        </p:grpSpPr>
        <p:sp>
          <p:nvSpPr>
            <p:cNvPr id="376" name=""/>
            <p:cNvSpPr/>
            <p:nvPr/>
          </p:nvSpPr>
          <p:spPr>
            <a:xfrm>
              <a:off x="3419640" y="1555560"/>
              <a:ext cx="2304720" cy="792360"/>
            </a:xfrm>
            <a:prstGeom prst="downArrowCallout">
              <a:avLst>
                <a:gd name="adj1" fmla="val 72670"/>
                <a:gd name="adj2" fmla="val 36331"/>
                <a:gd name="adj3" fmla="val 14060"/>
                <a:gd name="adj4" fmla="val 85940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3333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 rot="10800000">
              <a:off x="3422520" y="1410480"/>
              <a:ext cx="2298240" cy="144360"/>
            </a:xfrm>
            <a:custGeom>
              <a:avLst/>
              <a:gdLst>
                <a:gd name="textAreaLeft" fmla="*/ 228600 w 2298240"/>
                <a:gd name="textAreaRight" fmla="*/ 2069640 w 2298240"/>
                <a:gd name="textAreaTop" fmla="*/ 14400 h 144360"/>
                <a:gd name="textAreaBottom" fmla="*/ 12996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879" y="21600"/>
                  </a:lnTo>
                  <a:lnTo>
                    <a:pt x="721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bbe0e3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" name=""/>
          <p:cNvGrpSpPr/>
          <p:nvPr/>
        </p:nvGrpSpPr>
        <p:grpSpPr>
          <a:xfrm>
            <a:off x="6011640" y="1410840"/>
            <a:ext cx="2305440" cy="937080"/>
            <a:chOff x="6011640" y="1410840"/>
            <a:chExt cx="2305440" cy="937080"/>
          </a:xfrm>
        </p:grpSpPr>
        <p:sp>
          <p:nvSpPr>
            <p:cNvPr id="379" name=""/>
            <p:cNvSpPr/>
            <p:nvPr/>
          </p:nvSpPr>
          <p:spPr>
            <a:xfrm>
              <a:off x="6012000" y="1555560"/>
              <a:ext cx="2305080" cy="792360"/>
            </a:xfrm>
            <a:prstGeom prst="downArrowCallout">
              <a:avLst>
                <a:gd name="adj1" fmla="val 72681"/>
                <a:gd name="adj2" fmla="val 36337"/>
                <a:gd name="adj3" fmla="val 14060"/>
                <a:gd name="adj4" fmla="val 85940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3333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 rot="10800000">
              <a:off x="6011640" y="1410480"/>
              <a:ext cx="2298600" cy="144360"/>
            </a:xfrm>
            <a:custGeom>
              <a:avLst/>
              <a:gdLst>
                <a:gd name="textAreaLeft" fmla="*/ 228600 w 2298600"/>
                <a:gd name="textAreaRight" fmla="*/ 2070000 w 2298600"/>
                <a:gd name="textAreaTop" fmla="*/ 14400 h 144360"/>
                <a:gd name="textAreaBottom" fmla="*/ 12996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879" y="21600"/>
                  </a:lnTo>
                  <a:lnTo>
                    <a:pt x="721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bbe0e3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684000" y="2204640"/>
            <a:ext cx="2518920" cy="4176720"/>
            <a:chOff x="684000" y="2204640"/>
            <a:chExt cx="2518920" cy="4176720"/>
          </a:xfrm>
        </p:grpSpPr>
        <p:sp>
          <p:nvSpPr>
            <p:cNvPr id="382" name=""/>
            <p:cNvSpPr/>
            <p:nvPr/>
          </p:nvSpPr>
          <p:spPr>
            <a:xfrm rot="10800000">
              <a:off x="684000" y="2621520"/>
              <a:ext cx="2518920" cy="375984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16200000"/>
            </a:gradFill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 rot="10800000">
              <a:off x="684000" y="2204640"/>
              <a:ext cx="2518920" cy="416520"/>
            </a:xfrm>
            <a:custGeom>
              <a:avLst/>
              <a:gdLst>
                <a:gd name="textAreaLeft" fmla="*/ 273240 w 2518920"/>
                <a:gd name="textAreaRight" fmla="*/ 2245680 w 2518920"/>
                <a:gd name="textAreaTop" fmla="*/ 45000 h 416520"/>
                <a:gd name="textAreaBottom" fmla="*/ 371520 h 416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28" y="21600"/>
                  </a:lnTo>
                  <a:lnTo>
                    <a:pt x="1072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fffff">
                    <a:alpha val="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4" name=""/>
          <p:cNvSpPr txBox="1"/>
          <p:nvPr/>
        </p:nvSpPr>
        <p:spPr>
          <a:xfrm>
            <a:off x="996840" y="1779480"/>
            <a:ext cx="1943280" cy="23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引起考生的焦虑</a:t>
            </a:r>
            <a:endParaRPr b="0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385" name=""/>
          <p:cNvSpPr/>
          <p:nvPr/>
        </p:nvSpPr>
        <p:spPr>
          <a:xfrm>
            <a:off x="755640" y="2709720"/>
            <a:ext cx="237636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33"/>
                </a:solidFill>
                <a:latin typeface="Arial"/>
              </a:rPr>
              <a:t>作弊是一种欺骗行为，作弊过程要躲过监考老师，这就必然引起考生的紧张不安，使得本来没有考试焦虑的考生可能因为这种特殊的情景与心理状态，而产生不必要的考试焦虑，影响考试作答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3348000" y="2277720"/>
            <a:ext cx="2520720" cy="4103280"/>
            <a:chOff x="3348000" y="2277720"/>
            <a:chExt cx="2520720" cy="4103280"/>
          </a:xfrm>
        </p:grpSpPr>
        <p:sp>
          <p:nvSpPr>
            <p:cNvPr id="387" name=""/>
            <p:cNvSpPr/>
            <p:nvPr/>
          </p:nvSpPr>
          <p:spPr>
            <a:xfrm rot="10800000">
              <a:off x="3348000" y="2687040"/>
              <a:ext cx="2520720" cy="369396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16200000"/>
            </a:gradFill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 rot="10800000">
              <a:off x="3348000" y="2277720"/>
              <a:ext cx="2520720" cy="409320"/>
            </a:xfrm>
            <a:custGeom>
              <a:avLst/>
              <a:gdLst>
                <a:gd name="textAreaLeft" fmla="*/ 273600 w 2520720"/>
                <a:gd name="textAreaRight" fmla="*/ 2247120 w 2520720"/>
                <a:gd name="textAreaTop" fmla="*/ 44280 h 409320"/>
                <a:gd name="textAreaBottom" fmla="*/ 365040 h 40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28" y="21600"/>
                  </a:lnTo>
                  <a:lnTo>
                    <a:pt x="1072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fffff">
                    <a:alpha val="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9" name=""/>
          <p:cNvSpPr txBox="1"/>
          <p:nvPr/>
        </p:nvSpPr>
        <p:spPr>
          <a:xfrm>
            <a:off x="3589200" y="1779480"/>
            <a:ext cx="1943280" cy="23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对未来发展的影响</a:t>
            </a:r>
            <a:endParaRPr b="0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390" name=""/>
          <p:cNvSpPr/>
          <p:nvPr/>
        </p:nvSpPr>
        <p:spPr>
          <a:xfrm>
            <a:off x="3348000" y="2711520"/>
            <a:ext cx="237636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33"/>
                </a:solidFill>
                <a:latin typeface="Arial"/>
              </a:rPr>
              <a:t>作弊可能使考生在某一次考试中获得高分，但这并不等于他真正掌握了知识，而在以后的学习工作中，考试分数并非衡量一个人知识水平高低的标准。所以，从表面看来，作弊是考生欺骗老师，但从本质上看，作弊则是一种自欺欺人的行为，它并不能使考生得到任何实际的利益，既不会有利于考生的学习，更不会有利于他今后的工作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6011640" y="2276280"/>
            <a:ext cx="2449080" cy="4177440"/>
            <a:chOff x="6011640" y="2276280"/>
            <a:chExt cx="2449080" cy="4177440"/>
          </a:xfrm>
        </p:grpSpPr>
        <p:sp>
          <p:nvSpPr>
            <p:cNvPr id="392" name=""/>
            <p:cNvSpPr/>
            <p:nvPr/>
          </p:nvSpPr>
          <p:spPr>
            <a:xfrm rot="10800000">
              <a:off x="6011640" y="2692800"/>
              <a:ext cx="2449080" cy="376092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16200000"/>
            </a:gradFill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 rot="10800000">
              <a:off x="6011640" y="2276280"/>
              <a:ext cx="2449080" cy="416520"/>
            </a:xfrm>
            <a:custGeom>
              <a:avLst/>
              <a:gdLst>
                <a:gd name="textAreaLeft" fmla="*/ 265680 w 2449080"/>
                <a:gd name="textAreaRight" fmla="*/ 2183400 w 2449080"/>
                <a:gd name="textAreaTop" fmla="*/ 45000 h 416520"/>
                <a:gd name="textAreaBottom" fmla="*/ 371520 h 416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28" y="21600"/>
                  </a:lnTo>
                  <a:lnTo>
                    <a:pt x="1072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fffff">
                    <a:alpha val="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4" name=""/>
          <p:cNvSpPr txBox="1"/>
          <p:nvPr/>
        </p:nvSpPr>
        <p:spPr>
          <a:xfrm>
            <a:off x="6181560" y="1779480"/>
            <a:ext cx="1943280" cy="23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不利于心理健康</a:t>
            </a:r>
            <a:endParaRPr b="0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395" name=""/>
          <p:cNvSpPr/>
          <p:nvPr/>
        </p:nvSpPr>
        <p:spPr>
          <a:xfrm>
            <a:off x="6012000" y="2709720"/>
            <a:ext cx="2449440" cy="38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33"/>
                </a:solidFill>
                <a:latin typeface="Arial"/>
              </a:rPr>
              <a:t>在作弊过程中，难免不被发现，一旦被发现。考生就会感到羞愧与失望，各种沮丧心情都可能产生。有时还会在考后保持许久，从而影响考生的心理健康。假如作弊被发现后，下面还有别的考试，这种羞愧感就会影响下一个科目的成绩，更不利于考生心理上的恢复</a:t>
            </a:r>
            <a:r>
              <a:rPr b="0" i="1" lang="zh-CN" sz="1800" spc="-1" strike="noStrike">
                <a:solidFill>
                  <a:srgbClr val="333333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" descr=""/>
          <p:cNvPicPr/>
          <p:nvPr/>
        </p:nvPicPr>
        <p:blipFill>
          <a:blip r:embed="rId2"/>
          <a:stretch/>
        </p:blipFill>
        <p:spPr>
          <a:xfrm>
            <a:off x="8604360" y="6310440"/>
            <a:ext cx="387360" cy="38736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2052720" y="514440"/>
            <a:ext cx="48956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作弊危害心理健康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6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1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96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60000" y="622440"/>
            <a:ext cx="8434440" cy="23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自古以来，读书人都是以节操为本，以诚信为基。轻院学生更应该传承民族美德，树道德之新风。学习在于点滴积累，亲手采的蜜最甜，亲自酿的酒最香。期中考试即将开始，值此本班向全体同学发出倡议：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78920" y="4221000"/>
            <a:ext cx="854388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979640" y="2565360"/>
            <a:ext cx="6661080" cy="27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、全体同学认真复习，积极备考，自觉抵制考试中的各种不良风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2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、学生干部带头遵守考场纪律，以身作则，为全体同学做出表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、同学之间互相督促，互相警策，制止作弊，弘扬正气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100000001490116"/>
                                  </p:iterate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-360" y="685800"/>
            <a:ext cx="8839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Arial"/>
                <a:ea typeface="华文琥珀"/>
              </a:rPr>
              <a:t>人生途中会经历无数次的考试，这其中不仅仅是考一个人的诚信度，而更多地是折射出一个更加公平、公正的社会，那就让我们从诚信考试做起吧</a:t>
            </a:r>
            <a:r>
              <a:rPr b="1" lang="en-US" sz="4800" spc="-1" strike="noStrike">
                <a:solidFill>
                  <a:srgbClr val="ff0066"/>
                </a:solidFill>
                <a:latin typeface="Arial"/>
                <a:ea typeface="华文琥珀"/>
              </a:rPr>
              <a:t>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385920" y="438120"/>
            <a:ext cx="1677960" cy="738360"/>
          </a:xfrm>
          <a:prstGeom prst="diamond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777960" y="577800"/>
            <a:ext cx="914400" cy="52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6000"/>
                    </a:srgbClr>
                  </a:outerShdw>
                </a:effectLst>
                <a:latin typeface="宋体"/>
              </a:rPr>
              <a:t>讨论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6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88" name=""/>
          <p:cNvSpPr/>
          <p:nvPr/>
        </p:nvSpPr>
        <p:spPr>
          <a:xfrm>
            <a:off x="650880" y="1660680"/>
            <a:ext cx="790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· </a:t>
            </a:r>
            <a:r>
              <a:rPr b="0" lang="zh-CN" sz="36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如果无人监考，你会怎么样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96880" y="5126040"/>
            <a:ext cx="838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· </a:t>
            </a:r>
            <a:r>
              <a:rPr b="0" lang="zh-CN" sz="36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如果答案就在试卷背面，你又会怎么样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2"/>
          <a:stretch/>
        </p:blipFill>
        <p:spPr>
          <a:xfrm>
            <a:off x="0" y="9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360360" y="801720"/>
            <a:ext cx="8066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cc"/>
                </a:solidFill>
                <a:latin typeface="Times New Roman"/>
                <a:ea typeface="黑体"/>
              </a:rPr>
              <a:t>班会目的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476360" y="2313000"/>
            <a:ext cx="464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511280" y="2097000"/>
            <a:ext cx="5977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1)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使同学明确“诚信”的含义，理解“诚信”对学生自身发展和为人处世的重要意义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2)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使同学崇尚诚信，远离虚伪欺诈，把诚信作为同学之间、师生之间、家庭成员之间相处的基本原则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3)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使同学重视学习，重视考试，懂得诚实守信必须从我做起，从现在做起，落实在日常的学习生活中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2000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" dur="2000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1835280" y="765000"/>
            <a:ext cx="3636720" cy="11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78000"/>
                    </a:srgbClr>
                  </a:outerShdw>
                </a:effectLst>
                <a:latin typeface="宋体"/>
              </a:rPr>
              <a:t>诚信倡议</a:t>
            </a:r>
            <a:endParaRPr b="0" lang="en-US" sz="1800" spc="-1" strike="noStrike">
              <a:ln w="9360">
                <a:solidFill>
                  <a:srgbClr val="0066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03" name=""/>
          <p:cNvSpPr/>
          <p:nvPr/>
        </p:nvSpPr>
        <p:spPr>
          <a:xfrm>
            <a:off x="1727280" y="2205000"/>
            <a:ext cx="53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我们真诚希望各位同学凭自己辛勤的汗水和真才实学，在考场上发挥出色水平，以诚信考试为荣，以违纪作弊为耻，弘扬求实学风，维护知识的尊严！用诚信品德向自己、向老师、向家人交上一份高水平的答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图片 6" descr=""/>
          <p:cNvPicPr/>
          <p:nvPr/>
        </p:nvPicPr>
        <p:blipFill>
          <a:blip r:embed="rId4"/>
          <a:stretch/>
        </p:blipFill>
        <p:spPr>
          <a:xfrm>
            <a:off x="5724360" y="260280"/>
            <a:ext cx="4175280" cy="555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0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0" dur="2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2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2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96608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66"/>
                </a:solidFill>
                <a:latin typeface="Arial"/>
                <a:ea typeface="华文行楷"/>
              </a:rPr>
              <a:t>一个普通的诚信故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-150840" y="1034640"/>
            <a:ext cx="9018720" cy="58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有一年秋天，北大新学期开学，一个外地来的学子背着大包小包走进了校园，实在太累了，就把包放在路边。这时正好一位老人走来，年轻学子就拜托老人替自己看一下包，自己则轻装去办理手续。老人爽快地答应了。近一个小时过去，学子归来，老人还在尽职尽责地看守着。学子谢过老人，两人分别。几日后北大举行开学典礼，这位年轻的学子惊讶地发现，主席台上就座的北大副校长季羡林，正是那一天替自己看行李的老人。</a:t>
            </a:r>
            <a:br>
              <a:rPr sz="2400"/>
            </a:b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    季老的诚信彰显着他独特的人格魅力，深受后人的尊敬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图片 5" descr="279759ee3d6d55fb5c7704216d224f4a20a4dd00.jpg"/>
          <p:cNvPicPr/>
          <p:nvPr/>
        </p:nvPicPr>
        <p:blipFill>
          <a:blip r:embed="rId2"/>
          <a:stretch/>
        </p:blipFill>
        <p:spPr>
          <a:xfrm>
            <a:off x="6705720" y="5029200"/>
            <a:ext cx="2438280" cy="2209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0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6840" y="121932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3300"/>
                </a:solidFill>
                <a:latin typeface="Arial"/>
                <a:ea typeface="微软雅黑"/>
              </a:rPr>
              <a:t>祝愿大家考出好成绩</a:t>
            </a:r>
            <a:r>
              <a:rPr b="1" lang="en-US" sz="6000" spc="-1" strike="noStrike">
                <a:solidFill>
                  <a:srgbClr val="cc3300"/>
                </a:solidFill>
                <a:latin typeface="Arial"/>
                <a:ea typeface="微软雅黑"/>
              </a:rPr>
              <a:t>,</a:t>
            </a:r>
            <a:r>
              <a:rPr b="1" lang="zh-CN" sz="6000" spc="-1" strike="noStrike">
                <a:solidFill>
                  <a:srgbClr val="cc3300"/>
                </a:solidFill>
                <a:latin typeface="Arial"/>
                <a:ea typeface="微软雅黑"/>
              </a:rPr>
              <a:t>考出理想的成绩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WordArt 5"/>
          <p:cNvSpPr txBox="1"/>
          <p:nvPr/>
        </p:nvSpPr>
        <p:spPr>
          <a:xfrm>
            <a:off x="4724280" y="5410080"/>
            <a:ext cx="309564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宋体"/>
              </a:rPr>
              <a:t>相信自己！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>
    <p:fade/>
  </p:transition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4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38" dur="2000" fill="hold"/>
                                        <p:tgtEl>
                                          <p:spTgt spid="40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图片 6" descr=""/>
          <p:cNvPicPr/>
          <p:nvPr/>
        </p:nvPicPr>
        <p:blipFill>
          <a:blip r:embed="rId2"/>
          <a:stretch/>
        </p:blipFill>
        <p:spPr>
          <a:xfrm>
            <a:off x="2987640" y="189000"/>
            <a:ext cx="4176720" cy="555768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720720" y="2421000"/>
            <a:ext cx="7831080" cy="193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78000"/>
                    </a:srgbClr>
                  </a:outerShdw>
                </a:effectLst>
                <a:latin typeface="宋体"/>
              </a:rPr>
              <a:t>Thank You for Watching</a:t>
            </a:r>
            <a:endParaRPr b="1" lang="en-US" sz="5400" spc="-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0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/>
          </p:nvPr>
        </p:nvSpPr>
        <p:spPr>
          <a:xfrm>
            <a:off x="395280" y="1123560"/>
            <a:ext cx="813744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99"/>
                </a:solidFill>
                <a:latin typeface="微软雅黑"/>
              </a:rPr>
              <a:t>诚信是一个道德范畴，是公民的第二个“身份证”，是日常行为的诚实和正式交流的信用的合称。即待人处事真诚、老实、讲信誉，言必信、行必果，一言九鼎，一诺千金</a:t>
            </a:r>
            <a:r>
              <a:rPr b="0" lang="zh-CN" sz="2000" spc="-1" strike="noStrike">
                <a:solidFill>
                  <a:srgbClr val="602e04"/>
                </a:solidFill>
                <a:latin typeface="微软雅黑"/>
              </a:rPr>
              <a:t>。</a:t>
            </a:r>
            <a:endParaRPr b="0" lang="en-US" sz="2000" spc="-1" strike="noStrike">
              <a:solidFill>
                <a:srgbClr val="602e04"/>
              </a:solidFill>
              <a:latin typeface="微软雅黑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826920" y="476280"/>
            <a:ext cx="914400" cy="60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微软雅黑"/>
              </a:rPr>
              <a:t>诚信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微软雅黑"/>
              <a:ea typeface="微软雅黑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900000" y="3141720"/>
            <a:ext cx="914400" cy="60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微软雅黑"/>
              </a:rPr>
              <a:t>考试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微软雅黑"/>
              <a:ea typeface="微软雅黑"/>
            </a:endParaRPr>
          </a:p>
        </p:txBody>
      </p:sp>
      <p:sp>
        <p:nvSpPr>
          <p:cNvPr id="297" name=""/>
          <p:cNvSpPr/>
          <p:nvPr/>
        </p:nvSpPr>
        <p:spPr>
          <a:xfrm>
            <a:off x="395280" y="3933720"/>
            <a:ext cx="8137440" cy="20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99"/>
                </a:solidFill>
                <a:latin typeface="微软雅黑"/>
                <a:ea typeface="微软雅黑"/>
              </a:rPr>
              <a:t>考试，是一种严格的知识水平鉴定方法。为了保证结果的公平，考场必须要求有很强的纪律约束，并且专门设有主考、监考等监督考试过程。绝对禁止任何舞弊行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66"/>
                </a:solidFill>
                <a:latin typeface="时尚中黑简体"/>
                <a:ea typeface="华文行楷"/>
              </a:rPr>
              <a:t>考试中的诚信问题</a:t>
            </a:r>
            <a:endParaRPr b="0" lang="en-US" sz="5400" spc="-1" strike="noStrike">
              <a:solidFill>
                <a:srgbClr val="602e04"/>
              </a:solidFill>
              <a:latin typeface="时尚中黑简体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02e04"/>
                </a:solidFill>
                <a:latin typeface="微软雅黑"/>
                <a:ea typeface="华文中宋"/>
              </a:rPr>
              <a:t>一次考试</a:t>
            </a:r>
            <a:endParaRPr b="0" lang="en-US" sz="4000" spc="-1" strike="noStrike">
              <a:solidFill>
                <a:srgbClr val="602e04"/>
              </a:solidFill>
              <a:latin typeface="微软雅黑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02e04"/>
                </a:solidFill>
                <a:latin typeface="微软雅黑"/>
                <a:ea typeface="华文中宋"/>
              </a:rPr>
              <a:t>           </a:t>
            </a:r>
            <a:r>
              <a:rPr b="1" lang="zh-CN" sz="2000" spc="-1" strike="noStrike">
                <a:solidFill>
                  <a:srgbClr val="602e04"/>
                </a:solidFill>
                <a:latin typeface="微软雅黑"/>
                <a:ea typeface="华文中宋"/>
              </a:rPr>
              <a:t>能够考查我们</a:t>
            </a:r>
            <a:r>
              <a:rPr b="1" lang="zh-CN" sz="4000" spc="-1" strike="noStrike">
                <a:solidFill>
                  <a:srgbClr val="ff0000"/>
                </a:solidFill>
                <a:latin typeface="微软雅黑"/>
                <a:ea typeface="华文中宋"/>
              </a:rPr>
              <a:t>对学科知识的识记、理解、运用、拓展能力，</a:t>
            </a:r>
            <a:endParaRPr b="0" lang="en-US" sz="4000" spc="-1" strike="noStrike">
              <a:solidFill>
                <a:srgbClr val="602e04"/>
              </a:solidFill>
              <a:latin typeface="微软雅黑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02e04"/>
                </a:solidFill>
                <a:latin typeface="微软雅黑"/>
                <a:ea typeface="华文中宋"/>
              </a:rPr>
              <a:t>           </a:t>
            </a:r>
            <a:r>
              <a:rPr b="1" lang="zh-CN" sz="2000" spc="-1" strike="noStrike">
                <a:solidFill>
                  <a:srgbClr val="602e04"/>
                </a:solidFill>
                <a:latin typeface="微软雅黑"/>
                <a:ea typeface="华文中宋"/>
              </a:rPr>
              <a:t>还能够考验我们的</a:t>
            </a:r>
            <a:r>
              <a:rPr b="1" lang="zh-CN" sz="4000" spc="-1" strike="noStrike">
                <a:solidFill>
                  <a:srgbClr val="ff0000"/>
                </a:solidFill>
                <a:latin typeface="微软雅黑"/>
                <a:ea typeface="华文中宋"/>
              </a:rPr>
              <a:t>身体素质、心理素质，</a:t>
            </a:r>
            <a:endParaRPr b="0" lang="en-US" sz="4000" spc="-1" strike="noStrike">
              <a:solidFill>
                <a:srgbClr val="602e04"/>
              </a:solidFill>
              <a:latin typeface="微软雅黑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02e04"/>
                </a:solidFill>
                <a:latin typeface="微软雅黑"/>
                <a:ea typeface="华文中宋"/>
              </a:rPr>
              <a:t>           </a:t>
            </a:r>
            <a:r>
              <a:rPr b="1" lang="zh-CN" sz="2000" spc="-1" strike="noStrike">
                <a:solidFill>
                  <a:srgbClr val="602e04"/>
                </a:solidFill>
                <a:latin typeface="微软雅黑"/>
                <a:ea typeface="华文中宋"/>
              </a:rPr>
              <a:t>更能测试出我们的</a:t>
            </a:r>
            <a:r>
              <a:rPr b="1" lang="zh-CN" sz="4000" spc="-1" strike="noStrike">
                <a:solidFill>
                  <a:srgbClr val="ff0000"/>
                </a:solidFill>
                <a:latin typeface="微软雅黑"/>
                <a:ea typeface="华文中宋"/>
              </a:rPr>
              <a:t>诚信度！</a:t>
            </a:r>
            <a:endParaRPr b="0" lang="en-US" sz="4000" spc="-1" strike="noStrike">
              <a:solidFill>
                <a:srgbClr val="602e04"/>
              </a:solidFill>
              <a:latin typeface="微软雅黑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2e04"/>
              </a:solidFill>
              <a:latin typeface="微软雅黑"/>
            </a:endParaRPr>
          </a:p>
        </p:txBody>
      </p:sp>
    </p:spTree>
  </p:cSld>
  <p:transition spd="med">
    <p:fade thruBlk="true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60360" y="65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80e08"/>
                </a:solidFill>
                <a:latin typeface="时尚中黑简体"/>
              </a:rPr>
              <a:t>本店没有温州货</a:t>
            </a:r>
            <a:r>
              <a:rPr b="1" lang="zh-CN" sz="2800" spc="-1" strike="noStrike">
                <a:solidFill>
                  <a:srgbClr val="f80e08"/>
                </a:solidFill>
                <a:latin typeface="时尚中黑简体"/>
              </a:rPr>
              <a:t> </a:t>
            </a:r>
            <a:endParaRPr b="0" lang="en-US" sz="2800" spc="-1" strike="noStrike">
              <a:solidFill>
                <a:srgbClr val="602e04"/>
              </a:solidFill>
              <a:latin typeface="时尚中黑简体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31280" y="1378080"/>
            <a:ext cx="824580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602e04"/>
                </a:solidFill>
                <a:latin typeface="微软雅黑"/>
              </a:rPr>
              <a:t>     </a:t>
            </a:r>
            <a:endParaRPr b="0" lang="en-US" sz="2700" spc="-1" strike="noStrike">
              <a:solidFill>
                <a:srgbClr val="602e04"/>
              </a:solidFill>
              <a:latin typeface="微软雅黑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602e04"/>
                </a:solidFill>
                <a:latin typeface="微软雅黑"/>
              </a:rPr>
              <a:t>       </a:t>
            </a:r>
            <a:r>
              <a:rPr b="1" lang="zh-CN" sz="2000" spc="-1" strike="noStrike">
                <a:solidFill>
                  <a:srgbClr val="602e04"/>
                </a:solidFill>
                <a:latin typeface="微软雅黑"/>
              </a:rPr>
              <a:t>一个人靠诚信在社会上立足，一个企业、一个行业甚至是一个地区也要靠诚信在社会上立足。</a:t>
            </a:r>
            <a:endParaRPr b="0" lang="en-US" sz="2000" spc="-1" strike="noStrike">
              <a:solidFill>
                <a:srgbClr val="602e04"/>
              </a:solidFill>
              <a:latin typeface="微软雅黑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02e04"/>
                </a:solidFill>
                <a:latin typeface="微软雅黑"/>
              </a:rPr>
              <a:t>        </a:t>
            </a:r>
            <a:r>
              <a:rPr b="1" lang="zh-CN" sz="2000" spc="-1" strike="noStrike">
                <a:solidFill>
                  <a:srgbClr val="602e04"/>
                </a:solidFill>
                <a:latin typeface="微软雅黑"/>
              </a:rPr>
              <a:t>改革开放之初，我国东南沿海的一些小厂为了赚取暴利，成批地生产假冒伪劣商品，这种现象最严重的就是温州地区，在那里一切假名牌应有尽有。时间长了，全国都知道温州货不可靠，</a:t>
            </a:r>
            <a:r>
              <a:rPr b="1" lang="zh-CN" sz="2000" spc="-1" strike="noStrike">
                <a:solidFill>
                  <a:srgbClr val="008000"/>
                </a:solidFill>
                <a:latin typeface="微软雅黑"/>
              </a:rPr>
              <a:t>许多商店为了表明自己的信誉，都在店门口贴上“本店没有温州货”。</a:t>
            </a:r>
            <a:r>
              <a:rPr b="1" lang="zh-CN" sz="2000" spc="-1" strike="noStrike">
                <a:solidFill>
                  <a:srgbClr val="602e04"/>
                </a:solidFill>
                <a:latin typeface="微软雅黑"/>
              </a:rPr>
              <a:t>这使温州人一下子觉醒了，这才懂得：</a:t>
            </a:r>
            <a:r>
              <a:rPr b="1" lang="zh-CN" sz="2000" spc="-1" strike="noStrike">
                <a:solidFill>
                  <a:srgbClr val="0000ff"/>
                </a:solidFill>
                <a:latin typeface="微软雅黑"/>
              </a:rPr>
              <a:t>要把生意做大，必须靠诚实经营，用诚信树立商业信誉和企业形象。</a:t>
            </a:r>
            <a:r>
              <a:rPr b="1" lang="zh-CN" sz="2000" spc="-1" strike="noStrike">
                <a:solidFill>
                  <a:srgbClr val="602e04"/>
                </a:solidFill>
                <a:latin typeface="微软雅黑"/>
              </a:rPr>
              <a:t>现在的温州已经不生产假货了，整个社会又开始重新接受温州生产的货品了。</a:t>
            </a:r>
            <a:endParaRPr b="0" lang="en-US" sz="2000" spc="-1" strike="noStrike">
              <a:solidFill>
                <a:srgbClr val="602e04"/>
              </a:solidFill>
              <a:latin typeface="微软雅黑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02e04"/>
              </a:solidFill>
              <a:latin typeface="微软雅黑"/>
            </a:endParaRPr>
          </a:p>
        </p:txBody>
      </p:sp>
      <p:sp>
        <p:nvSpPr>
          <p:cNvPr id="302" name=""/>
          <p:cNvSpPr/>
          <p:nvPr/>
        </p:nvSpPr>
        <p:spPr>
          <a:xfrm>
            <a:off x="687240" y="4906800"/>
            <a:ext cx="672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我认为：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楷体_GB2312"/>
              </a:rPr>
              <a:t>做假可能在没被人识破时会得到一定的利益，可是不会长久，最终会自断前程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727920" y="49039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"/>
                            </p:stCondLst>
                            <p:childTnLst>
                              <p:par>
                                <p:cTn id="10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1" dur="20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0" y="-34920"/>
            <a:ext cx="9144000" cy="689292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5748120" y="-206280"/>
            <a:ext cx="911520" cy="42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汉仪小隶书简"/>
              </a:rPr>
              <a:t>诚信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472640" y="1143000"/>
            <a:ext cx="7898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汉仪小隶书简"/>
              </a:rPr>
              <a:t>诚实，守信用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052080" y="476280"/>
            <a:ext cx="60696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新魏"/>
              </a:rPr>
              <a:t>———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新魏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现代汉语词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新魏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723000" y="944640"/>
            <a:ext cx="1521000" cy="51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汉仪行楷简"/>
                <a:ea typeface="汉仪行楷简"/>
              </a:rPr>
              <a:t>何  为  诚  信 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2946240" y="5154480"/>
            <a:ext cx="762120" cy="72252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1749960" y="836640"/>
            <a:ext cx="66780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通俗表述，就是说老实话、办老实事、做老实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3" dur="75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5"/>
                            </p:stCondLst>
                            <p:childTnLst>
                              <p:par>
                                <p:cTn id="11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7" dur="75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750"/>
                            </p:stCondLst>
                            <p:childTnLst>
                              <p:par>
                                <p:cTn id="11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1" dur="75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575"/>
                            </p:stCondLst>
                            <p:childTnLst>
                              <p:par>
                                <p:cTn id="123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/>
          </p:nvPr>
        </p:nvSpPr>
        <p:spPr>
          <a:xfrm>
            <a:off x="1653840" y="2204640"/>
            <a:ext cx="7489800" cy="44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新宋体"/>
              </a:rPr>
              <a:t>诚信是人一生当中最基本的道德观念，通俗的讲，“诚”就是不自欺，“信”就是不欺人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新宋体"/>
              </a:rPr>
              <a:t>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新宋体"/>
              </a:rPr>
              <a:t>诚实守信”是中华民族的传统美德，自古以来就有很多关于诚信的名言警句，如：“人而无信，不知其可也”“言必信，行必果”“人无信不立”以及“一言既出驷马难追”等等，这些都充分说明了诚信的重要性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新宋体"/>
              </a:rPr>
              <a:t>诚信不仅可以使你获得成功，还可以让你得到别人的尊重，而缺少诚信的人生活在世上，如同一颗飘浮在空气中的尘埃，永远都不会收获公众的赞美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1943280" y="512640"/>
            <a:ext cx="6769080" cy="11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诚信考试</a:t>
            </a:r>
            <a:r>
              <a:rPr b="1" lang="en-US" sz="6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,</a:t>
            </a:r>
            <a:r>
              <a:rPr b="1" lang="zh-CN" sz="6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诚信作人</a:t>
            </a:r>
            <a:endParaRPr b="1" lang="en-US" sz="6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87164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作弊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835280" y="2276640"/>
            <a:ext cx="6767280" cy="358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拼音：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zuò bì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基本解释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　　用欺骗的手段做不合法或不合规定的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详细解释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　　用欺骗的手法去做违背制度或规定的事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黑体"/>
                <a:ea typeface="黑体"/>
              </a:rPr>
              <a:t> 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  <a:ea typeface="黑体"/>
              </a:rPr>
              <a:t>《</a:t>
            </a:r>
            <a:r>
              <a:rPr b="0" lang="zh-CN" sz="2400" spc="-1" strike="noStrike">
                <a:solidFill>
                  <a:srgbClr val="0000cc"/>
                </a:solidFill>
                <a:latin typeface="Arial"/>
                <a:ea typeface="黑体"/>
              </a:rPr>
              <a:t>红楼梦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  <a:ea typeface="黑体"/>
              </a:rPr>
              <a:t>》</a:t>
            </a:r>
            <a:r>
              <a:rPr b="0" lang="zh-CN" sz="2400" spc="-1" strike="noStrike">
                <a:solidFill>
                  <a:srgbClr val="0000cc"/>
                </a:solidFill>
                <a:latin typeface="Arial"/>
                <a:ea typeface="黑体"/>
              </a:rPr>
              <a:t>第四三回：“只许你主子作弊，就不许我作情吗？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77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9" dur="770" fill="hold"/>
                                        <p:tgtEl>
                                          <p:spTgt spid="31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1" dur="77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3" dur="77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9" dur="20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4" dur="2000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9" dur="2000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4" dur="2000"/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9" dur="2000"/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4" dur="2000"/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9" dur="2000"/>
                                        <p:tgtEl>
                                          <p:spTgt spid="3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66560" y="47592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诚信考试，从我做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1187280" y="1557360"/>
            <a:ext cx="7561440" cy="1150920"/>
            <a:chOff x="1187280" y="1557360"/>
            <a:chExt cx="7561440" cy="1150920"/>
          </a:xfrm>
        </p:grpSpPr>
        <p:grpSp>
          <p:nvGrpSpPr>
            <p:cNvPr id="317" name=""/>
            <p:cNvGrpSpPr/>
            <p:nvPr/>
          </p:nvGrpSpPr>
          <p:grpSpPr>
            <a:xfrm>
              <a:off x="1187280" y="1557360"/>
              <a:ext cx="1152360" cy="1150920"/>
              <a:chOff x="1187280" y="1557360"/>
              <a:chExt cx="1152360" cy="1150920"/>
            </a:xfrm>
          </p:grpSpPr>
          <p:sp>
            <p:nvSpPr>
              <p:cNvPr id="318" name=""/>
              <p:cNvSpPr/>
              <p:nvPr/>
            </p:nvSpPr>
            <p:spPr>
              <a:xfrm>
                <a:off x="1187280" y="1557360"/>
                <a:ext cx="1152360" cy="115092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bbe0e3"/>
                  </a:gs>
                </a:gsLst>
                <a:path path="rect">
                  <a:fillToRect l="50000" t="50000" r="50000" b="50000"/>
                </a:path>
              </a:gradFill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1331640" y="1700280"/>
                <a:ext cx="863640" cy="863640"/>
              </a:xfrm>
              <a:prstGeom prst="ellipse">
                <a:avLst/>
              </a:prstGeom>
              <a:blipFill rotWithShape="0">
                <a:blip r:embed="rId2">
                  <a:alphaModFix amt="52000"/>
                </a:blip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0" name=""/>
            <p:cNvSpPr/>
            <p:nvPr/>
          </p:nvSpPr>
          <p:spPr>
            <a:xfrm>
              <a:off x="1403280" y="1844640"/>
              <a:ext cx="7380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411280" y="2060640"/>
              <a:ext cx="576360" cy="0"/>
            </a:xfrm>
            <a:prstGeom prst="line">
              <a:avLst/>
            </a:prstGeom>
            <a:ln w="28440">
              <a:solidFill>
                <a:srgbClr val="99cc0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058920" y="1773360"/>
              <a:ext cx="5689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考场规则知多少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1187280" y="2852640"/>
            <a:ext cx="7561440" cy="1150920"/>
            <a:chOff x="1187280" y="2852640"/>
            <a:chExt cx="7561440" cy="1150920"/>
          </a:xfrm>
        </p:grpSpPr>
        <p:grpSp>
          <p:nvGrpSpPr>
            <p:cNvPr id="324" name=""/>
            <p:cNvGrpSpPr/>
            <p:nvPr/>
          </p:nvGrpSpPr>
          <p:grpSpPr>
            <a:xfrm>
              <a:off x="1187280" y="2852640"/>
              <a:ext cx="1152360" cy="1150920"/>
              <a:chOff x="1187280" y="2852640"/>
              <a:chExt cx="1152360" cy="1150920"/>
            </a:xfrm>
          </p:grpSpPr>
          <p:sp>
            <p:nvSpPr>
              <p:cNvPr id="325" name=""/>
              <p:cNvSpPr/>
              <p:nvPr/>
            </p:nvSpPr>
            <p:spPr>
              <a:xfrm>
                <a:off x="1187280" y="2852640"/>
                <a:ext cx="1152360" cy="115092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bbe0e3"/>
                  </a:gs>
                </a:gsLst>
                <a:path path="rect">
                  <a:fillToRect l="50000" t="50000" r="50000" b="50000"/>
                </a:path>
              </a:gradFill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1331640" y="2995560"/>
                <a:ext cx="863640" cy="863640"/>
              </a:xfrm>
              <a:prstGeom prst="ellipse">
                <a:avLst/>
              </a:prstGeom>
              <a:blipFill rotWithShape="0">
                <a:blip r:embed="rId3">
                  <a:alphaModFix amt="52000"/>
                </a:blip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7" name=""/>
            <p:cNvSpPr/>
            <p:nvPr/>
          </p:nvSpPr>
          <p:spPr>
            <a:xfrm>
              <a:off x="1403280" y="3139920"/>
              <a:ext cx="7380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411280" y="3355920"/>
              <a:ext cx="576360" cy="0"/>
            </a:xfrm>
            <a:prstGeom prst="line">
              <a:avLst/>
            </a:prstGeom>
            <a:ln w="28440">
              <a:solidFill>
                <a:srgbClr val="99cc0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058920" y="3068640"/>
              <a:ext cx="5689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学生考核违纪作弊处理方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2000"/>
                            </p:stCondLst>
                            <p:childTnLst>
                              <p:par>
                                <p:cTn id="20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500"/>
                            </p:stCondLst>
                            <p:childTnLst>
                              <p:par>
                                <p:cTn id="20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2T16:22:33Z</dcterms:created>
  <dc:creator>Administrator</dc:creator>
  <dc:description/>
  <dc:language>en-US</dc:language>
  <cp:lastModifiedBy>walkinnet</cp:lastModifiedBy>
  <cp:lastPrinted>1899-12-30T00:00:00Z</cp:lastPrinted>
  <dcterms:modified xsi:type="dcterms:W3CDTF">2014-04-22T08:28:10Z</dcterms:modified>
  <cp:revision>1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567</vt:lpwstr>
  </property>
  <property fmtid="{D5CDD505-2E9C-101B-9397-08002B2CF9AE}" pid="3" name="_TemplateID">
    <vt:lpwstr>TC103367939990</vt:lpwstr>
  </property>
</Properties>
</file>