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D30-5C3D-416F-997B-54724D16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A72-6147-44C2-AF46-9D7C1557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CD3-12F8-4DB2-9908-DED6ACB3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FD9-3767-4B06-BD60-72648637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C143-01B1-4627-AB5E-DD432515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23F1-A202-4A5A-AB52-F5A9A87C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EBBE-78CA-4DC8-AC10-4B399D5B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E7D5-9E9D-4738-B8BF-852EEA78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C894-338C-4008-A954-AC0BD365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BA4F-E687-49E3-B7AA-F4C17A0D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6262-5E0C-484B-A3E6-7A30986F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92E-7D10-4742-A1A0-770A1883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88A5-B447-4B08-8684-F2B1B52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DC84-8950-4781-BF48-3576ACD3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E496-833D-4998-AD7F-EAC981AC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E4D1-5E53-463F-A17C-477BC642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3E8A-D995-463C-B276-0DB40122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B318-FEE5-4EAA-8F5E-6FF957DC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0624-DDB7-4052-8279-57F550E2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97EBF-0750-4E27-8F89-36B81025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FF5B-DEA7-45DB-B132-92BDC63E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627E-FAC9-47EE-828E-7ABF4261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FE5-3010-4BAA-845D-393324C5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904C2-07CD-4EDC-A681-7FBB68A4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8C65-BE9E-4852-BCB8-ABACDC89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E2A7C-9434-4DB3-ADDF-7853B105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4986-534F-4F7C-9F5C-879B7F8E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94EF-AC90-404A-8E75-DA39F94D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1BAE-8F2F-42E1-87FD-1C7B0832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F6E6-72BB-4975-9E51-1E548780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FA6-DA8E-4789-AC67-8DD4A57D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4EF-F786-4451-926A-3517CBA7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CBB-0A78-4905-84A2-EF9088C8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C8F-E981-4DD4-9B4F-71886A07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737-A525-4CD4-B1E2-D0F4C9EF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6B5-4158-486D-B203-F4265CE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133D-FCC2-46C6-BB67-E6FBD0AED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13920"/>
            <a:ext cx="380880" cy="6543720"/>
            <a:chOff x="0" y="313920"/>
            <a:chExt cx="380880" cy="6543720"/>
          </a:xfrm>
        </p:grpSpPr>
        <p:sp>
          <p:nvSpPr>
            <p:cNvPr id="42" name="AutoShape 3"/>
            <p:cNvSpPr/>
            <p:nvPr/>
          </p:nvSpPr>
          <p:spPr>
            <a:xfrm flipH="1" rot="5400000">
              <a:off x="-256680" y="339876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 flipH="1" rot="5400000">
              <a:off x="-256680" y="43416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5"/>
            <p:cNvSpPr/>
            <p:nvPr/>
          </p:nvSpPr>
          <p:spPr>
            <a:xfrm flipH="1" rot="5400000">
              <a:off x="-257400" y="52830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6"/>
            <p:cNvSpPr/>
            <p:nvPr/>
          </p:nvSpPr>
          <p:spPr>
            <a:xfrm flipH="1" rot="5400000">
              <a:off x="-252720" y="6224400"/>
              <a:ext cx="885960" cy="380160"/>
            </a:xfrm>
            <a:prstGeom prst="parallelogram">
              <a:avLst>
                <a:gd name="adj" fmla="val 123408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 flipH="1" rot="5400000">
              <a:off x="-256680" y="5713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8"/>
            <p:cNvSpPr/>
            <p:nvPr/>
          </p:nvSpPr>
          <p:spPr>
            <a:xfrm flipH="1" rot="5400000">
              <a:off x="-257400" y="150804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9"/>
            <p:cNvSpPr/>
            <p:nvPr/>
          </p:nvSpPr>
          <p:spPr>
            <a:xfrm flipH="1" rot="5400000">
              <a:off x="-257400" y="24541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 flipH="1">
            <a:off x="0" y="0"/>
            <a:ext cx="8825040" cy="228600"/>
          </a:xfrm>
          <a:custGeom>
            <a:avLst/>
            <a:gdLst>
              <a:gd name="textAreaLeft" fmla="*/ 360 w 8825040"/>
              <a:gd name="textAreaRight" fmla="*/ 8825760 w 8825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0" y="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679320" y="2128680"/>
            <a:ext cx="190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4"/>
          <p:cNvSpPr/>
          <p:nvPr/>
        </p:nvSpPr>
        <p:spPr>
          <a:xfrm>
            <a:off x="8839080" y="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673200" y="1955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sp>
          <p:nvSpPr>
            <p:cNvPr id="56" name="AutoShape 17"/>
            <p:cNvSpPr/>
            <p:nvPr/>
          </p:nvSpPr>
          <p:spPr>
            <a:xfrm rot="16200000">
              <a:off x="-256320" y="38707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8"/>
            <p:cNvSpPr/>
            <p:nvPr/>
          </p:nvSpPr>
          <p:spPr>
            <a:xfrm rot="16200000">
              <a:off x="-257040" y="481428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9"/>
            <p:cNvSpPr/>
            <p:nvPr/>
          </p:nvSpPr>
          <p:spPr>
            <a:xfrm rot="16200000">
              <a:off x="-257400" y="575640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0"/>
            <p:cNvSpPr/>
            <p:nvPr/>
          </p:nvSpPr>
          <p:spPr>
            <a:xfrm rot="16200000">
              <a:off x="-257040" y="103932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1"/>
            <p:cNvSpPr/>
            <p:nvPr/>
          </p:nvSpPr>
          <p:spPr>
            <a:xfrm rot="16200000">
              <a:off x="-257400" y="198144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2"/>
            <p:cNvSpPr/>
            <p:nvPr/>
          </p:nvSpPr>
          <p:spPr>
            <a:xfrm rot="16200000">
              <a:off x="-257400" y="29275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800" y="0"/>
              <a:ext cx="378720" cy="738360"/>
            </a:xfrm>
            <a:prstGeom prst="pi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0" y="6445080"/>
              <a:ext cx="325440" cy="412920"/>
            </a:xfrm>
            <a:prstGeom prst="pi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282680" y="2197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369800" y="6464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808080" y="64641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237440" y="6464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A45D-8558-43B2-8F96-583787781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FA98-51E0-49E3-9CA2-0FB9453EF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313920"/>
            <a:ext cx="380880" cy="6543720"/>
            <a:chOff x="0" y="313920"/>
            <a:chExt cx="380880" cy="6543720"/>
          </a:xfrm>
        </p:grpSpPr>
        <p:sp>
          <p:nvSpPr>
            <p:cNvPr id="146" name="AutoShape 3"/>
            <p:cNvSpPr/>
            <p:nvPr/>
          </p:nvSpPr>
          <p:spPr>
            <a:xfrm flipH="1" rot="5400000">
              <a:off x="-256680" y="339876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 flipH="1" rot="5400000">
              <a:off x="-256680" y="43416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 flipH="1" rot="5400000">
              <a:off x="-257400" y="528300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"/>
            <p:cNvSpPr/>
            <p:nvPr/>
          </p:nvSpPr>
          <p:spPr>
            <a:xfrm flipH="1" rot="5400000">
              <a:off x="-252720" y="6224400"/>
              <a:ext cx="885960" cy="380160"/>
            </a:xfrm>
            <a:prstGeom prst="parallelogram">
              <a:avLst>
                <a:gd name="adj" fmla="val 123408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 flipH="1" rot="5400000">
              <a:off x="-256680" y="5713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8"/>
            <p:cNvSpPr/>
            <p:nvPr/>
          </p:nvSpPr>
          <p:spPr>
            <a:xfrm flipH="1" rot="5400000">
              <a:off x="-257400" y="150804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9"/>
            <p:cNvSpPr/>
            <p:nvPr/>
          </p:nvSpPr>
          <p:spPr>
            <a:xfrm flipH="1" rot="5400000">
              <a:off x="-257400" y="2454120"/>
              <a:ext cx="895320" cy="380160"/>
            </a:xfrm>
            <a:prstGeom prst="parallelogram">
              <a:avLst>
                <a:gd name="adj" fmla="val 124712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0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 flipH="1">
            <a:off x="0" y="0"/>
            <a:ext cx="8825040" cy="228600"/>
          </a:xfrm>
          <a:custGeom>
            <a:avLst/>
            <a:gdLst>
              <a:gd name="textAreaLeft" fmla="*/ 360 w 8825040"/>
              <a:gd name="textAreaRight" fmla="*/ 8825760 w 8825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ee941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0" y="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79320" y="2128680"/>
            <a:ext cx="190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8839080" y="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e94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673200" y="1955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6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sp>
          <p:nvSpPr>
            <p:cNvPr id="160" name="AutoShape 17"/>
            <p:cNvSpPr/>
            <p:nvPr/>
          </p:nvSpPr>
          <p:spPr>
            <a:xfrm rot="16200000">
              <a:off x="-256320" y="38707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8"/>
            <p:cNvSpPr/>
            <p:nvPr/>
          </p:nvSpPr>
          <p:spPr>
            <a:xfrm rot="16200000">
              <a:off x="-257040" y="481428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9"/>
            <p:cNvSpPr/>
            <p:nvPr/>
          </p:nvSpPr>
          <p:spPr>
            <a:xfrm rot="16200000">
              <a:off x="-257400" y="575640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0"/>
            <p:cNvSpPr/>
            <p:nvPr/>
          </p:nvSpPr>
          <p:spPr>
            <a:xfrm rot="16200000">
              <a:off x="-257040" y="1039320"/>
              <a:ext cx="896760" cy="379440"/>
            </a:xfrm>
            <a:prstGeom prst="parallelogram">
              <a:avLst>
                <a:gd name="adj" fmla="val 1251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1"/>
            <p:cNvSpPr/>
            <p:nvPr/>
          </p:nvSpPr>
          <p:spPr>
            <a:xfrm rot="16200000">
              <a:off x="-257400" y="198144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2"/>
            <p:cNvSpPr/>
            <p:nvPr/>
          </p:nvSpPr>
          <p:spPr>
            <a:xfrm rot="16200000">
              <a:off x="-257400" y="2927520"/>
              <a:ext cx="895320" cy="379440"/>
            </a:xfrm>
            <a:prstGeom prst="parallelogram">
              <a:avLst>
                <a:gd name="adj" fmla="val 12494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1800" y="0"/>
              <a:ext cx="378720" cy="738360"/>
            </a:xfrm>
            <a:prstGeom prst="pi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4"/>
            <p:cNvSpPr/>
            <p:nvPr/>
          </p:nvSpPr>
          <p:spPr>
            <a:xfrm>
              <a:off x="0" y="6445080"/>
              <a:ext cx="325440" cy="412920"/>
            </a:xfrm>
            <a:prstGeom prst="pi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282680" y="2197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iaodong.net/news/system/2009/09/11/010630084.shtml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11280" y="404640"/>
            <a:ext cx="31687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216000"/>
            <a:ext cx="4716360" cy="54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理想在这里放飞</a:t>
            </a:r>
            <a:endParaRPr b="1" lang="en-US" sz="60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4067280" y="5950080"/>
            <a:ext cx="4716360" cy="54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友谊在此刻永恒</a:t>
            </a:r>
            <a:endParaRPr b="1" lang="en-US" sz="60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477120" y="19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英才理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4920" y="59580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们共同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DSC05493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56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4a702f6069f7bef48db10da9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83884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09100911088ed1068d7b5352d0"/>
          <p:cNvPicPr/>
          <p:nvPr/>
        </p:nvPicPr>
        <p:blipFill>
          <a:blip r:embed="rId1"/>
          <a:stretch/>
        </p:blipFill>
        <p:spPr>
          <a:xfrm>
            <a:off x="0" y="907920"/>
            <a:ext cx="4038480" cy="570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091009192679b6ab4e82f9dcad"/>
          <p:cNvPicPr/>
          <p:nvPr/>
        </p:nvPicPr>
        <p:blipFill>
          <a:blip r:embed="rId2"/>
          <a:stretch/>
        </p:blipFill>
        <p:spPr>
          <a:xfrm>
            <a:off x="4643280" y="907920"/>
            <a:ext cx="4038840" cy="570564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80bb6e1f793fdc324034172f"/>
          <p:cNvPicPr/>
          <p:nvPr/>
        </p:nvPicPr>
        <p:blipFill>
          <a:blip r:embed="rId1"/>
          <a:stretch/>
        </p:blipFill>
        <p:spPr>
          <a:xfrm>
            <a:off x="1258920" y="549360"/>
            <a:ext cx="6192720" cy="60721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8031960" y="28440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08d1a6f48da9f5c37609d7c1"/>
          <p:cNvPicPr/>
          <p:nvPr/>
        </p:nvPicPr>
        <p:blipFill>
          <a:blip r:embed="rId1"/>
          <a:stretch/>
        </p:blipFill>
        <p:spPr>
          <a:xfrm>
            <a:off x="1619280" y="476280"/>
            <a:ext cx="5715000" cy="626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8031960" y="28440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3447c24e325b80e6d1c86ada"/>
          <p:cNvPicPr/>
          <p:nvPr/>
        </p:nvPicPr>
        <p:blipFill>
          <a:blip r:embed="rId1"/>
          <a:stretch/>
        </p:blipFill>
        <p:spPr>
          <a:xfrm>
            <a:off x="762120" y="620640"/>
            <a:ext cx="7842240" cy="554508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58b55ef2333883afdfa3cc7"/>
          <p:cNvPicPr/>
          <p:nvPr/>
        </p:nvPicPr>
        <p:blipFill>
          <a:blip r:embed="rId1"/>
          <a:stretch/>
        </p:blipFill>
        <p:spPr>
          <a:xfrm>
            <a:off x="1979640" y="0"/>
            <a:ext cx="5472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xinsrc_0220906271741484511162"/>
          <p:cNvPicPr/>
          <p:nvPr/>
        </p:nvPicPr>
        <p:blipFill>
          <a:blip r:embed="rId1"/>
          <a:stretch/>
        </p:blipFill>
        <p:spPr>
          <a:xfrm>
            <a:off x="468360" y="981000"/>
            <a:ext cx="8207280" cy="51120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b5e8f1260e92fe3c8a82a1b9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0909252058f15c1f992472fe09"/>
          <p:cNvPicPr/>
          <p:nvPr/>
        </p:nvPicPr>
        <p:blipFill>
          <a:blip r:embed="rId1"/>
          <a:stretch/>
        </p:blipFill>
        <p:spPr>
          <a:xfrm>
            <a:off x="1979640" y="103320"/>
            <a:ext cx="5329080" cy="675468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2250161777480c6621a4e927"/>
          <p:cNvPicPr/>
          <p:nvPr/>
        </p:nvPicPr>
        <p:blipFill>
          <a:blip r:embed="rId1"/>
          <a:stretch/>
        </p:blipFill>
        <p:spPr>
          <a:xfrm>
            <a:off x="0" y="0"/>
            <a:ext cx="6516720" cy="4888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bd5a7882da3e5fbcf603a6de"/>
          <p:cNvPicPr/>
          <p:nvPr/>
        </p:nvPicPr>
        <p:blipFill>
          <a:blip r:embed="rId2"/>
          <a:stretch/>
        </p:blipFill>
        <p:spPr>
          <a:xfrm>
            <a:off x="3944880" y="2955960"/>
            <a:ext cx="5199120" cy="390204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2" descr="C:\Users\xydream\Desktop\图片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212" name="2009国庆60周年大阅兵（现场直播）_1.wmv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6477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045ecd096c3e160f6b60fbaf"/>
          <p:cNvPicPr/>
          <p:nvPr/>
        </p:nvPicPr>
        <p:blipFill>
          <a:blip r:embed="rId1"/>
          <a:stretch/>
        </p:blipFill>
        <p:spPr>
          <a:xfrm>
            <a:off x="1332000" y="260280"/>
            <a:ext cx="4505400" cy="6191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8031960" y="28440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钢铁军魂完美阅兵的背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ff2dc6a8a3fb989dcb130cfb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489744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吼如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12d540c4928ed5858326aca1"/>
          <p:cNvPicPr/>
          <p:nvPr/>
        </p:nvPicPr>
        <p:blipFill>
          <a:blip r:embed="rId1"/>
          <a:stretch/>
        </p:blipFill>
        <p:spPr>
          <a:xfrm>
            <a:off x="0" y="1268280"/>
            <a:ext cx="4764240" cy="4880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1c40af1212f52eab6438db6e"/>
          <p:cNvPicPr/>
          <p:nvPr/>
        </p:nvPicPr>
        <p:blipFill>
          <a:blip r:embed="rId2"/>
          <a:stretch/>
        </p:blipFill>
        <p:spPr>
          <a:xfrm>
            <a:off x="5248440" y="1011240"/>
            <a:ext cx="3895560" cy="584676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0910091108bc186c5dd5205d30"/>
          <p:cNvPicPr/>
          <p:nvPr/>
        </p:nvPicPr>
        <p:blipFill>
          <a:blip r:embed="rId1"/>
          <a:stretch/>
        </p:blipFill>
        <p:spPr>
          <a:xfrm>
            <a:off x="971640" y="1628640"/>
            <a:ext cx="7105680" cy="47484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8031960" y="28440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模板2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1371600" y="4572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438280" y="17524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自己一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124080" y="35053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奋斗的理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然我选择来补习，那么我觉得我就应该去克服一些坏毛病，自习课上，时刻提醒自己来这儿的目的，不说废话，认真做自己的题，在平时，应该上进，做事利索，上课认真听讲，不开小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人最大的挑战不在于外力，而在于内心。挑战自己我决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克服懒惰，不得过且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手机放在寝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锻炼自己的恒心，为达目标决不放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会冷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，认真处理每一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58200" cy="59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择了高四，也就选在了吃苦，既然来了，就坚持走下去，当看着周围的朋友一个个的走向大学的校园，心里也确实曾有些落寞，但这只会徒增伤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了就要风风光光的走，对自己来说，这无疑是对自己的一次挑战。如今，再一次踏上高考的战场，自己不再会是个逃兵，不会让懒惰将自己击败，唯有的就是让自己真正的勤一次，体验付出后的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拼了，没有什么不可能，让自己真正的身心俱疲一次，大学，明年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4582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前的我是缺点很多，今后我也有缺点，但是，我想自我改变，用这一年改掉自己的那些缺点，首先，我会改掉自己拖拉，懒惰的毛病，其次，我要有问题学者慢慢与老师沟通，再者，出现问题先从自己身上找原因，而不是怨天尤人。总之，我会慢慢改变，努力，努力，再努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刻打盹，你将做梦，此刻学习，你将圆梦。每天都要让自己处于极致的状态。告别过去，迎接未来。让书本融入你的血液，深入骨髓，来充实你的精神世界，来证明你，你不是一般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钢铁军魂完美阅兵的背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2fbd69c3a9f59f79b219a81a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4753080"/>
          </a:xfrm>
          <a:prstGeom prst="rect">
            <a:avLst/>
          </a:prstGeom>
          <a:ln w="0">
            <a:noFill/>
          </a:ln>
        </p:spPr>
      </p:pic>
      <p:pic>
        <p:nvPicPr>
          <p:cNvPr id="216" name="壮志在我胸.mp3" descr=""/>
          <p:cNvPicPr/>
          <p:nvPr/>
        </p:nvPicPr>
        <p:blipFill>
          <a:blip r:embed="rId2"/>
          <a:stretch/>
        </p:blipFill>
        <p:spPr>
          <a:xfrm>
            <a:off x="86868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高补这一年，我要用全力，付出我满腔的热情去挖掘那自己以前不敢触碰的知识与财富，坚持下去，我是理三的一员，我为极致代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5345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松懈时想想高考的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懒惰时想想曾经的伤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虚时想想未来的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聊时想想凌乱的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要放弃，那就回想踏进高补的苦痛与内心的挣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年的时光曾经不珍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的时光岂能再次放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来到，我看到，我必将征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5345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补岁月已经快过去了一个月，点点滴滴的成长都记在心里，也有自己做的不好的时候，也因此懊恼过，哭过。是的，必须承认，自己的敌人是自己，高补这条路是我自己选择的，在追梦的路上，没有人逼我，我应该很乐意地去接受错误，去挑战难题。十几年了，每天过的仿佛都很潇洒，但明年六月，我想让自己的人生真的潇洒一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都要看无数次的这样一句话：悔当初过，思今日奋，再战六月不应有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pret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457200" y="5592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学习就像马拉松，是个漫长而艰难的过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53160" y="1600200"/>
            <a:ext cx="10947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毅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623720" y="1600200"/>
            <a:ext cx="1094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效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01300000287294122918431368630"/>
          <p:cNvPicPr/>
          <p:nvPr/>
        </p:nvPicPr>
        <p:blipFill>
          <a:blip r:embed="rId2"/>
          <a:stretch/>
        </p:blipFill>
        <p:spPr>
          <a:xfrm>
            <a:off x="1752480" y="152280"/>
            <a:ext cx="55627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3429000" y="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毅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09480" y="12193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学习是万分枯燥的，学习的过程更会有重重困难，而我们身边有很多比学习有趣的多也来得十分容易的事情。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有毅力的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，可以抵制外来的“诱惑”，专心致志地投入到学习当中，能够积极排除万难，持之以恒，坚持到底，最终取得成功；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没有毅力的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，尽管有雄心壮志，却由于不能自控，经常会陷入到“诱惑”中不能自拔，虽然有时也能浪子回头，奋发图强，但终因没有坚强的毅力，半途而废，最终仍然是失败。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可见，那些失败的人，他们并不是不知道勤奋的重要，也不是缺乏目标，而是缺乏达成目标所需要的持之以恒的精神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pret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荀况"/>
          <p:cNvPicPr/>
          <p:nvPr/>
        </p:nvPicPr>
        <p:blipFill>
          <a:blip r:embed="rId2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6400800" y="1230480"/>
            <a:ext cx="25909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锲而舍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朽木不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锲而不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金石可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716292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荀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灰小电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许三多"/>
          <p:cNvPicPr/>
          <p:nvPr/>
        </p:nvPicPr>
        <p:blipFill>
          <a:blip r:embed="rId2"/>
          <a:stretch/>
        </p:blipFill>
        <p:spPr>
          <a:xfrm>
            <a:off x="2438280" y="1219320"/>
            <a:ext cx="5105520" cy="40384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1099800" y="380880"/>
            <a:ext cx="7290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坚持把每一件小事做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685800" y="5592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在枯燥的日复一日的坚持中磨练自己的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0" y="1628280"/>
            <a:ext cx="91440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只动嘴，不动脑，学习不会好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只动脑，不动手，知识不长久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只做题，不看书，基础不牢固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限时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无限题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浪费生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限时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限题目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深入思考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大效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4"/>
          <p:cNvSpPr txBox="1"/>
          <p:nvPr/>
        </p:nvSpPr>
        <p:spPr>
          <a:xfrm>
            <a:off x="3276720" y="0"/>
            <a:ext cx="30859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几点看法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4000"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004"/>
          <p:cNvPicPr/>
          <p:nvPr/>
        </p:nvPicPr>
        <p:blipFill>
          <a:blip r:embed="rId1"/>
          <a:srcRect l="3116" t="2582" r="2806" b="2611"/>
          <a:stretch/>
        </p:blipFill>
        <p:spPr>
          <a:xfrm>
            <a:off x="0" y="-2286000"/>
            <a:ext cx="9016920" cy="109728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3"/>
          <p:cNvSpPr/>
          <p:nvPr/>
        </p:nvSpPr>
        <p:spPr>
          <a:xfrm>
            <a:off x="2209680" y="0"/>
            <a:ext cx="6934320" cy="3809880"/>
          </a:xfrm>
          <a:prstGeom prst="cloudCallout">
            <a:avLst>
              <a:gd name="adj1" fmla="val -39398"/>
              <a:gd name="adj2" fmla="val 47916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76720" y="304920"/>
            <a:ext cx="51051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你准备好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要像我一样，    加油啊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1619280" y="220500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高补名人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斑马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0560574_9430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3800520"/>
            <a:ext cx="4608720" cy="305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aa6e2f5455718774d10906dd"/>
          <p:cNvPicPr/>
          <p:nvPr/>
        </p:nvPicPr>
        <p:blipFill>
          <a:blip r:embed="rId3"/>
          <a:stretch/>
        </p:blipFill>
        <p:spPr>
          <a:xfrm>
            <a:off x="395280" y="1341360"/>
            <a:ext cx="4032360" cy="30276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马云的复读之路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6588000" y="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我不知道该怎样定义成功，但我知道应该怎样定义失败，那就是放弃，如果你放弃了，你就失败了，如果你有梦想你不放弃，你永远有希望和机会。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20110607095412_15838"/>
          <p:cNvPicPr/>
          <p:nvPr/>
        </p:nvPicPr>
        <p:blipFill>
          <a:blip r:embed="rId1"/>
          <a:stretch/>
        </p:blipFill>
        <p:spPr>
          <a:xfrm>
            <a:off x="1332000" y="476280"/>
            <a:ext cx="622764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111111"/>
          <p:cNvPicPr/>
          <p:nvPr/>
        </p:nvPicPr>
        <p:blipFill>
          <a:blip r:embed="rId1"/>
          <a:stretch/>
        </p:blipFill>
        <p:spPr>
          <a:xfrm>
            <a:off x="250920" y="189000"/>
            <a:ext cx="5297400" cy="64087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5940360" y="333360"/>
            <a:ext cx="273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哪怕是最没有希望的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只要有一个勇者去坚持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到最后就会拥有希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012000" y="3141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际上人的智商是差不多的，关键在于两个差别：一是你面对失败重新去做的能力，还有一个是你的心理承受能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20101028014900"/>
          <p:cNvPicPr/>
          <p:nvPr/>
        </p:nvPicPr>
        <p:blipFill>
          <a:blip r:embed="rId1"/>
          <a:stretch/>
        </p:blipFill>
        <p:spPr>
          <a:xfrm>
            <a:off x="1979640" y="260280"/>
            <a:ext cx="4897440" cy="6121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7236000" y="907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位奥斯卡最佳导演奖华人得主，两度高考落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11513109_262625"/>
          <p:cNvPicPr/>
          <p:nvPr/>
        </p:nvPicPr>
        <p:blipFill>
          <a:blip r:embed="rId1"/>
          <a:stretch/>
        </p:blipFill>
        <p:spPr>
          <a:xfrm>
            <a:off x="1835280" y="333360"/>
            <a:ext cx="5238720" cy="47512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826920" y="5516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汤唯：三年不懈努力复读终于考入戏剧学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11513111_986669"/>
          <p:cNvPicPr/>
          <p:nvPr/>
        </p:nvPicPr>
        <p:blipFill>
          <a:blip r:embed="rId1"/>
          <a:stretch/>
        </p:blipFill>
        <p:spPr>
          <a:xfrm>
            <a:off x="1908000" y="84240"/>
            <a:ext cx="4969080" cy="47847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324000" y="486252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倪虹洁：复读以优异成绩考取同济大学经济信息管理专业：凭借电视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武林外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饰演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色被更多的观众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1513110_670036"/>
          <p:cNvPicPr/>
          <p:nvPr/>
        </p:nvPicPr>
        <p:blipFill>
          <a:blip r:embed="rId1"/>
          <a:stretch/>
        </p:blipFill>
        <p:spPr>
          <a:xfrm>
            <a:off x="1547640" y="57240"/>
            <a:ext cx="5832720" cy="50274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3"/>
          <p:cNvSpPr/>
          <p:nvPr/>
        </p:nvSpPr>
        <p:spPr>
          <a:xfrm>
            <a:off x="468360" y="51944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蒋雯丽：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牵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式离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大红大紫，但是，当年这个心怀梦想的女孩儿居然高考落榜，复读考上了电影学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11513112_396163"/>
          <p:cNvPicPr/>
          <p:nvPr/>
        </p:nvPicPr>
        <p:blipFill>
          <a:blip r:embed="rId1"/>
          <a:stretch/>
        </p:blipFill>
        <p:spPr>
          <a:xfrm>
            <a:off x="2195640" y="0"/>
            <a:ext cx="4357440" cy="5715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468360" y="565308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巩俐：高考屡战屡败，屡败屡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11513113_558573"/>
          <p:cNvPicPr/>
          <p:nvPr/>
        </p:nvPicPr>
        <p:blipFill>
          <a:blip r:embed="rId1"/>
          <a:stretch/>
        </p:blipFill>
        <p:spPr>
          <a:xfrm>
            <a:off x="2590920" y="152280"/>
            <a:ext cx="3717720" cy="51055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611280" y="5349960"/>
            <a:ext cx="78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袁莉：曾被称为“复读生”的典范。取得了北京电影学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级第一名的成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1513114_999760"/>
          <p:cNvPicPr/>
          <p:nvPr/>
        </p:nvPicPr>
        <p:blipFill>
          <a:blip r:embed="rId1"/>
          <a:stretch/>
        </p:blipFill>
        <p:spPr>
          <a:xfrm>
            <a:off x="2340000" y="108000"/>
            <a:ext cx="3765600" cy="46162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228600" y="5029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丹丹：因为早恋而高考落榜。现在回想起来，我是第一眼就爱上他了，因为他长得比我们班任何一个同学都高大一圈儿。从那一眼开始，我的学习一落千丈，从班里的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，一直到高考落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汗水洒在阅兵场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阅兵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F200909251706533233915204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89564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513117_992841"/>
          <p:cNvPicPr/>
          <p:nvPr/>
        </p:nvPicPr>
        <p:blipFill>
          <a:blip r:embed="rId1"/>
          <a:stretch/>
        </p:blipFill>
        <p:spPr>
          <a:xfrm>
            <a:off x="2484360" y="0"/>
            <a:ext cx="3876840" cy="54864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539640" y="56530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徐静蕾：高考曾考化妆专业被拒之门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2010061310410128611"/>
          <p:cNvPicPr/>
          <p:nvPr/>
        </p:nvPicPr>
        <p:blipFill>
          <a:blip r:embed="rId1"/>
          <a:stretch/>
        </p:blipFill>
        <p:spPr>
          <a:xfrm>
            <a:off x="1979640" y="18900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7524720" y="981000"/>
            <a:ext cx="12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著名诗人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经复读考入暨南大学中文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跨越自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我们可以欺瞒别人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却无法欺瞒自己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当我们走向枝繁叶茂的五月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青春就不再是一个谜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向上的路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总是坎坷又崎岖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要永远保持最初的浪漫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真是不容易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有人悲哀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有人欣喜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当我们跨越了一座高山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也就跨越了一个真实的自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250920" y="1413000"/>
            <a:ext cx="8497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cc00"/>
                </a:solidFill>
                <a:latin typeface="Arial"/>
                <a:ea typeface="华文新魏"/>
              </a:rPr>
              <a:t>高补是无怨无悔的青春年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高补是积累成功的机会挑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  <a:ea typeface="华文新魏"/>
              </a:rPr>
              <a:t>高补是创造幸福人生的跳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]{7}JK$]LK(`S8AX9]V(0AS"/>
          <p:cNvPicPr/>
          <p:nvPr/>
        </p:nvPicPr>
        <p:blipFill>
          <a:blip r:embed="rId1"/>
          <a:stretch/>
        </p:blipFill>
        <p:spPr>
          <a:xfrm>
            <a:off x="1258920" y="692280"/>
            <a:ext cx="6481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纹丝不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0910091108d56a2e180f17c1d0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11164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0909252058617418b5d8d6ab3d"/>
          <p:cNvPicPr/>
          <p:nvPr/>
        </p:nvPicPr>
        <p:blipFill>
          <a:blip r:embed="rId1"/>
          <a:stretch/>
        </p:blipFill>
        <p:spPr>
          <a:xfrm>
            <a:off x="0" y="0"/>
            <a:ext cx="8101080" cy="5950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0909252058ea55222968947cd5"/>
          <p:cNvPicPr/>
          <p:nvPr/>
        </p:nvPicPr>
        <p:blipFill>
          <a:blip r:embed="rId2"/>
          <a:stretch/>
        </p:blipFill>
        <p:spPr>
          <a:xfrm>
            <a:off x="3429000" y="2708280"/>
            <a:ext cx="5715000" cy="414972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85ef247de675a32428388aa6"/>
          <p:cNvPicPr/>
          <p:nvPr/>
        </p:nvPicPr>
        <p:blipFill>
          <a:blip r:embed="rId1"/>
          <a:stretch/>
        </p:blipFill>
        <p:spPr>
          <a:xfrm>
            <a:off x="468360" y="871560"/>
            <a:ext cx="7559640" cy="55944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64000" y="27432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站如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0910091108364de7313a48f560"/>
          <p:cNvPicPr/>
          <p:nvPr/>
        </p:nvPicPr>
        <p:blipFill>
          <a:blip r:embed="rId1"/>
          <a:stretch/>
        </p:blipFill>
        <p:spPr>
          <a:xfrm>
            <a:off x="4643280" y="2100240"/>
            <a:ext cx="4500720" cy="431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e35bd70388f0e7234afb515c"/>
          <p:cNvPicPr/>
          <p:nvPr/>
        </p:nvPicPr>
        <p:blipFill>
          <a:blip r:embed="rId2"/>
          <a:srcRect l="0" t="0" r="22660" b="0"/>
          <a:stretch/>
        </p:blipFill>
        <p:spPr>
          <a:xfrm>
            <a:off x="395280" y="189000"/>
            <a:ext cx="4680000" cy="44910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ydream</cp:lastModifiedBy>
  <dcterms:modified xsi:type="dcterms:W3CDTF">2013-11-15T11:45:31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