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8A5-BE1E-4A68-BF5B-C8BFF87A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B16-A73E-4E93-9D01-9D1D782A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262-27B9-41FE-912D-B039D6E7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187-35A4-4402-AE6C-4D9182BF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203D-9C31-4DD0-8EED-1647319F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4710-FAEA-414A-9FEA-DE7F9804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DDDF-FE6B-4258-8103-8D6E9E65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AAE1-FDC1-4F5F-B15D-EF9706F2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7740-BE04-493C-8BD1-E7693AE2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25CC-3A80-4D29-822B-8AA4DEAF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FF33-2857-4BF9-ACD5-D2A96EC6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7FA-42BB-4911-A1D0-99FD9318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C655-D8EE-4E4E-87F9-27C8F242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5CE0-BF67-423F-AF38-969FBF15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CB1D-F133-494E-AA4C-6B72A3DF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3E74-A352-43AC-B0E7-9D49D495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3E43-46F2-46D1-BB67-6C826EAF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BD06B-2C35-42AA-95F2-02A26FF0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5441-7B7E-48BD-A6A6-F3777390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48416-CA6F-4A80-B1B1-47B4EBBB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AA936-A6D8-4EE2-9CAE-47842D4D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4B80C-70D0-434C-89F4-B3CB9559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CE1-6793-4D46-A74F-0713CD3A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6980C-8B52-49BA-9AB7-12F7D236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4D15-AF22-4762-AE40-1BF2806E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46991-A6A3-4FFF-B2D5-3C8AF4A9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E126B-26EF-47D8-B4B6-F4F5D047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64ED3-69A8-4CA1-BF90-D1BF7BF9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AADA2-60AA-4153-B77E-55FD0147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8F7F0-8E63-43F6-8C62-3631A37D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982-51CE-4182-A6D0-5FAFA921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018-B3A2-4603-B17A-D31F1114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6C3-A4C6-427E-93DD-9CC653C1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D48-F272-4164-934B-589AE6AA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539-431B-40F7-B134-3E9BB089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D27-91A8-4056-9473-31060CF3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7CC2-6620-4964-B090-BF4F8E1960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720" y="0"/>
            <a:ext cx="1064160" cy="6853320"/>
            <a:chOff x="-720" y="0"/>
            <a:chExt cx="1064160" cy="6853320"/>
          </a:xfrm>
        </p:grpSpPr>
        <p:grpSp>
          <p:nvGrpSpPr>
            <p:cNvPr id="42" name="Group 3"/>
            <p:cNvGrpSpPr/>
            <p:nvPr/>
          </p:nvGrpSpPr>
          <p:grpSpPr>
            <a:xfrm>
              <a:off x="41760" y="0"/>
              <a:ext cx="1021320" cy="6853320"/>
              <a:chOff x="41760" y="0"/>
              <a:chExt cx="1021320" cy="6853320"/>
            </a:xfrm>
          </p:grpSpPr>
          <p:sp>
            <p:nvSpPr>
              <p:cNvPr id="43" name="未知"/>
              <p:cNvSpPr/>
              <p:nvPr/>
            </p:nvSpPr>
            <p:spPr>
              <a:xfrm flipH="1">
                <a:off x="68400" y="0"/>
                <a:ext cx="990000" cy="683208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6832080"/>
                  <a:gd name="textAreaBottom" fmla="*/ 6832440 h 683208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 flipH="1">
                <a:off x="55800" y="1686600"/>
                <a:ext cx="990000" cy="49932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 flipH="1">
                <a:off x="65160" y="1291680"/>
                <a:ext cx="990000" cy="50184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 flipH="1">
                <a:off x="58680" y="151560"/>
                <a:ext cx="989640" cy="30312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未知"/>
              <p:cNvSpPr/>
              <p:nvPr/>
            </p:nvSpPr>
            <p:spPr>
              <a:xfrm flipH="1">
                <a:off x="65160" y="989640"/>
                <a:ext cx="990000" cy="34920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未知"/>
              <p:cNvSpPr/>
              <p:nvPr/>
            </p:nvSpPr>
            <p:spPr>
              <a:xfrm flipH="1">
                <a:off x="65160" y="681840"/>
                <a:ext cx="990000" cy="43020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 flipH="1">
                <a:off x="58680" y="366840"/>
                <a:ext cx="1002600" cy="374400"/>
              </a:xfrm>
              <a:custGeom>
                <a:avLst/>
                <a:gdLst>
                  <a:gd name="textAreaLeft" fmla="*/ -360 w 1002600"/>
                  <a:gd name="textAreaRight" fmla="*/ 1002600 w 100260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 flipH="1">
                <a:off x="44640" y="3930120"/>
                <a:ext cx="990000" cy="50184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 flipH="1">
                <a:off x="57240" y="3531960"/>
                <a:ext cx="990000" cy="50292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 flipH="1">
                <a:off x="50760" y="2388600"/>
                <a:ext cx="989640" cy="30312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 flipH="1">
                <a:off x="60480" y="3228480"/>
                <a:ext cx="990000" cy="35064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350640"/>
                  <a:gd name="textAreaBottom" fmla="*/ 351000 h 3506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 flipH="1">
                <a:off x="47880" y="2922840"/>
                <a:ext cx="990000" cy="42768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 flipH="1">
                <a:off x="60120" y="2619000"/>
                <a:ext cx="1002600" cy="374400"/>
              </a:xfrm>
              <a:custGeom>
                <a:avLst/>
                <a:gdLst>
                  <a:gd name="textAreaLeft" fmla="*/ -360 w 1002600"/>
                  <a:gd name="textAreaRight" fmla="*/ 1002600 w 100260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 flipH="1">
                <a:off x="49320" y="4961160"/>
                <a:ext cx="990000" cy="50184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 flipH="1">
                <a:off x="58320" y="4563000"/>
                <a:ext cx="989640" cy="50184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H="1">
                <a:off x="44640" y="5658120"/>
                <a:ext cx="990000" cy="30312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 flipH="1" rot="16200000">
                <a:off x="375120" y="6184440"/>
                <a:ext cx="345960" cy="99144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1440"/>
                  <a:gd name="textAreaBottom" fmla="*/ 991800 h 99144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H="1">
                <a:off x="41760" y="6190920"/>
                <a:ext cx="990000" cy="430200"/>
              </a:xfrm>
              <a:custGeom>
                <a:avLst/>
                <a:gdLst>
                  <a:gd name="textAreaLeft" fmla="*/ 360 w 990000"/>
                  <a:gd name="textAreaRight" fmla="*/ 990720 w 9900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 flipH="1">
                <a:off x="50400" y="5889960"/>
                <a:ext cx="1002600" cy="375840"/>
              </a:xfrm>
              <a:custGeom>
                <a:avLst/>
                <a:gdLst>
                  <a:gd name="textAreaLeft" fmla="*/ -360 w 1002600"/>
                  <a:gd name="textAreaRight" fmla="*/ 1002600 w 10026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未知"/>
            <p:cNvSpPr/>
            <p:nvPr/>
          </p:nvSpPr>
          <p:spPr>
            <a:xfrm flipH="1" rot="16200000">
              <a:off x="-3097440" y="3096720"/>
              <a:ext cx="6853320" cy="659880"/>
            </a:xfrm>
            <a:custGeom>
              <a:avLst/>
              <a:gdLst>
                <a:gd name="textAreaLeft" fmla="*/ -360 w 6853320"/>
                <a:gd name="textAreaRight" fmla="*/ 6853320 w 6853320"/>
                <a:gd name="textAreaTop" fmla="*/ 0 h 659880"/>
                <a:gd name="textAreaBottom" fmla="*/ 660240 h 65988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 flipH="1" rot="16200000">
              <a:off x="-2513520" y="3274560"/>
              <a:ext cx="6851880" cy="302400"/>
            </a:xfrm>
            <a:custGeom>
              <a:avLst/>
              <a:gdLst>
                <a:gd name="textAreaLeft" fmla="*/ -360 w 6851880"/>
                <a:gd name="textAreaRight" fmla="*/ 6851880 w 6851880"/>
                <a:gd name="textAreaTop" fmla="*/ 0 h 302400"/>
                <a:gd name="textAreaBottom" fmla="*/ 302400 h 30240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B8F9-C0EF-4968-9603-8AADE42D5F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-360" y="2438280"/>
            <a:ext cx="9144360" cy="1063800"/>
            <a:chOff x="-360" y="2438280"/>
            <a:chExt cx="9144360" cy="1063800"/>
          </a:xfrm>
        </p:grpSpPr>
        <p:grpSp>
          <p:nvGrpSpPr>
            <p:cNvPr id="106" name="Group 3"/>
            <p:cNvGrpSpPr/>
            <p:nvPr/>
          </p:nvGrpSpPr>
          <p:grpSpPr>
            <a:xfrm>
              <a:off x="360" y="2479680"/>
              <a:ext cx="9143640" cy="1012320"/>
              <a:chOff x="360" y="2479680"/>
              <a:chExt cx="9143640" cy="1012320"/>
            </a:xfrm>
          </p:grpSpPr>
          <p:sp>
            <p:nvSpPr>
              <p:cNvPr id="107" name="未知"/>
              <p:cNvSpPr/>
              <p:nvPr/>
            </p:nvSpPr>
            <p:spPr>
              <a:xfrm flipH="1" rot="5400000">
                <a:off x="4091760" y="-1561320"/>
                <a:ext cx="990720" cy="9113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3760"/>
                  <a:gd name="textAreaBottom" fmla="*/ 9114120 h 911376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flipH="1" rot="5400000">
                <a:off x="6059160" y="2650680"/>
                <a:ext cx="990720" cy="66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4560"/>
                  <a:gd name="textAreaBottom" fmla="*/ 664920 h 664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flipH="1" rot="5400000">
                <a:off x="6591240" y="2659320"/>
                <a:ext cx="990720" cy="666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flipH="1" rot="5400000">
                <a:off x="8238240" y="278064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flipH="1" rot="5400000">
                <a:off x="7094160" y="275904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 flipH="1" rot="5400000">
                <a:off x="7446240" y="2705400"/>
                <a:ext cx="990720" cy="573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840"/>
                  <a:gd name="textAreaBottom" fmla="*/ 574200 h 5738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 flipH="1" rot="5400000">
                <a:off x="7897320" y="273888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 flipH="1" rot="5400000">
                <a:off x="3063600" y="264096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 flipH="1" rot="5400000">
                <a:off x="3594240" y="2649600"/>
                <a:ext cx="990720" cy="669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240"/>
                  <a:gd name="textAreaBottom" fmla="*/ 669600 h 6692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 flipH="1" rot="5400000">
                <a:off x="5257440" y="277272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 flipH="1" rot="5400000">
                <a:off x="410004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 flipH="1" rot="5400000">
                <a:off x="4464720" y="2688840"/>
                <a:ext cx="990720" cy="5724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 flipH="1" rot="5400000">
                <a:off x="4893480" y="273960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 flipH="1" rot="5400000">
                <a:off x="1689840" y="2650680"/>
                <a:ext cx="990720" cy="66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4200"/>
                  <a:gd name="textAreaBottom" fmla="*/ 664560 h 664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 flipH="1" rot="5400000">
                <a:off x="2220120" y="2657520"/>
                <a:ext cx="990720" cy="669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240"/>
                  <a:gd name="textAreaBottom" fmla="*/ 669600 h 6692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 flipH="1" rot="5400000">
                <a:off x="888840" y="277272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flipH="1">
                <a:off x="360" y="248760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 flipH="1" rot="5400000">
                <a:off x="95760" y="2688840"/>
                <a:ext cx="990720" cy="5724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 flipH="1" rot="5400000">
                <a:off x="524880" y="273960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未知"/>
            <p:cNvSpPr/>
            <p:nvPr/>
          </p:nvSpPr>
          <p:spPr>
            <a:xfrm flipH="1">
              <a:off x="0" y="2438280"/>
              <a:ext cx="9144000" cy="654120"/>
            </a:xfrm>
            <a:custGeom>
              <a:avLst/>
              <a:gdLst>
                <a:gd name="textAreaLeft" fmla="*/ 360 w 9144000"/>
                <a:gd name="textAreaRight" fmla="*/ 9144720 w 9144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 flipH="1">
              <a:off x="-720" y="3201840"/>
              <a:ext cx="9142200" cy="300240"/>
            </a:xfrm>
            <a:custGeom>
              <a:avLst/>
              <a:gdLst>
                <a:gd name="textAreaLeft" fmla="*/ -360 w 9142200"/>
                <a:gd name="textAreaRight" fmla="*/ 9142200 w 9142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ADA4-2FE9-48AA-B8BD-702255519E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lfshuibeng.blog.sohu.com/219666391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1979640" y="4581360"/>
            <a:ext cx="676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WordArt 4" descr=""/>
          <p:cNvPicPr/>
          <p:nvPr/>
        </p:nvPicPr>
        <p:blipFill>
          <a:blip r:embed="rId1"/>
          <a:stretch/>
        </p:blipFill>
        <p:spPr>
          <a:xfrm>
            <a:off x="1468440" y="1352520"/>
            <a:ext cx="6499080" cy="43894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4932360" y="5805360"/>
            <a:ext cx="37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高二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班主题谈话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盲目追求面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攀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盲目的攀比只会让人忘了重视自己提升和修炼，容易滋生浮躁情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最易形成懒散拖沓之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懒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多少会有一些惰性，懒惰会变成拖沓懒惰、拖延、不积极，这些会在同学之间传播，一个传染一个，就造成整个学习氛围懒散低效。懒惰、低效率的极易被淘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最易影响人际和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多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感情和周围人际变化比较敏感，更容易患上疑心病。注意调节学习节奏，做到张弛有度，避免猜疑变成偏执妄想影响了团队的和谐和合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最易削弱竞争力和创新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麻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任何工作都难再有热情和积极性，也没了积极的冲动和想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副不争辩的样子，如果你是这样，那你已深陷麻木之中了，这种人被动、无动于衷的情绪和态度，如果大家对什么事麻木不仁，想必这个团队也很快会被竞争对手淘汰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正能量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负能量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具正能量的人的特征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你跟他在一起感觉是安全、放松、想接近的，你觉得他浑身散发着诸如善良、同情心、同理心或愿意去支持你的感觉，且有他在旁边，你会觉得比自己独处的状态更好。有一句话是说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喜欢你不仅因为你的样子，也因为和你在一起时我的样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你的积极能量也会跟着上升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E:\2011QQ\Users\724404530\Image\Image2\7P~DRSYTHE9YKMK(XN)_HS1.gif"/>
          <p:cNvPicPr/>
          <p:nvPr/>
        </p:nvPicPr>
        <p:blipFill>
          <a:blip r:embed="rId1"/>
          <a:stretch/>
        </p:blipFill>
        <p:spPr>
          <a:xfrm>
            <a:off x="1428840" y="785880"/>
            <a:ext cx="874800" cy="928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E:\2011QQ\Users\724404530\Image\Image1\3ARF6PK2~}@U{(D79CTSD84.jpg"/>
          <p:cNvPicPr/>
          <p:nvPr/>
        </p:nvPicPr>
        <p:blipFill>
          <a:blip r:embed="rId2"/>
          <a:stretch/>
        </p:blipFill>
        <p:spPr>
          <a:xfrm>
            <a:off x="6715080" y="857160"/>
            <a:ext cx="1114560" cy="1071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42960" y="114300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具负能量的人的特征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你跟他在一起感觉不安全、紧张，处于防卫状态，你觉得是被吸取、压榨和剥削的感觉，你自己的能量衰弱，感觉不舒服，自己是被挑剔的、挑战的和攻击的，你会很想逃走。所以做一个正能量的人非常重要，如果周围人都认为你是一个负能量的人，对你的工作和人际关系都是很大的破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E:\2011QQ\Users\724404530\Image\Image1\`_O49IVTHD]27{[5L[B]~ZF.jpg"/>
          <p:cNvPicPr/>
          <p:nvPr/>
        </p:nvPicPr>
        <p:blipFill>
          <a:blip r:embed="rId1"/>
          <a:stretch/>
        </p:blipFill>
        <p:spPr>
          <a:xfrm>
            <a:off x="6715080" y="214200"/>
            <a:ext cx="1428840" cy="16066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1828800" y="1143000"/>
            <a:ext cx="511956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幼圆"/>
              </a:rPr>
              <a:t>人生正能量</a:t>
            </a:r>
            <a:endParaRPr b="1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332000" y="54936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能量”指的是一种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健康乐观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积极向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动力和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能量既是一种积极的人生态度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也是一种积极的学习态度和生活态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能量的内涵十分丰富：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代表积极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消极；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镇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不恐惧；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面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不逃避；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自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不自卑；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善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不破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28800" y="476280"/>
            <a:ext cx="91724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66"/>
                </a:solidFill>
                <a:latin typeface="幼圆"/>
                <a:ea typeface="幼圆"/>
              </a:rPr>
              <a:t>有些时候，你会有很多的困惑：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65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为什么我每天忙忙碌碌，却在考试时与成功失之交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为什么我每天熬夜苦读，学习成绩也总不见起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为什么我的心灵长感疲惫，体会不到快乐的感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931160" cy="9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你看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45370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792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95280" y="1123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填写一个描写情绪或行为的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95280" y="2205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　面对同伴、学习、交往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我（　　　　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害怕　　　逃避　　　哭泣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　　兴奋　　　微笑       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8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同一幅画从不同的角度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得到不同的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同一件事从不同的角度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也会得到不同的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何看待学习和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5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服务同学耽误了我学习，别人的成绩超过了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95280" y="3068640"/>
            <a:ext cx="822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服务同学锻炼我的能力，帮助别人过关，相当于我又复习了一遍，别人的成绩超过了我，对我来说，又有了新的挑战，可以激发自己的学习动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009160" y="2001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Arial"/>
              </a:rPr>
              <a:t>心态的自我诊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55080" y="1523880"/>
            <a:ext cx="7401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幼圆"/>
              </a:rPr>
              <a:t>考试中遇到一道难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1395000" y="1523880"/>
            <a:ext cx="8514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幼圆"/>
              </a:rPr>
              <a:t>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587400" y="2595600"/>
            <a:ext cx="420408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幼圆"/>
              </a:rPr>
              <a:t>你的想法与做法是怎样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sucai270012"/>
          <p:cNvPicPr/>
          <p:nvPr/>
        </p:nvPicPr>
        <p:blipFill>
          <a:blip r:embed="rId1"/>
          <a:stretch/>
        </p:blipFill>
        <p:spPr>
          <a:xfrm>
            <a:off x="3048120" y="380988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844720" y="-9036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6400800" y="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059840" y="762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想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835280" y="260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这道题，我难别人也难，所以别慌，让我想想，既然想不出来，先做后面的题目，回头再来做这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5622840" y="68580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真该死，这道题怎么做不出，万一做不出怎么办？不行，一定要做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136160" y="2971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情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057400" y="3048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镇定、从容不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6833880" y="289548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急躁、冒汗、理不出头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26640" y="3809880"/>
            <a:ext cx="98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幼圆"/>
              </a:rPr>
              <a:t>¾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过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2638800" y="38098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会做的题目做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正仔细分析难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6108840" y="373392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后面还有好多题目没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真心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826920" y="4724280"/>
            <a:ext cx="123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考试即将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2791080" y="49528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解出难题，复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放弃解不出的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991480" y="487692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还有题目没做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顾不上复查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1117080" y="623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2795400" y="6095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考出实际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6143760" y="6095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幼圆"/>
              </a:rPr>
              <a:t>考不出实际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1066680" y="28954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066680" y="37339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1066680" y="48006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1066680" y="60199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582920" y="76212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幼圆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2666880" y="1143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45240" y="76212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幼圆"/>
              </a:rPr>
              <a:t>情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5181480" y="1219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6612120" y="83808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幼圆"/>
              </a:rPr>
              <a:t>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 flipH="1">
            <a:off x="5410080" y="16765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4097520" y="236232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幼圆"/>
              </a:rPr>
              <a:t>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 flipV="1">
            <a:off x="4343400" y="1523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1523880" y="3048120"/>
            <a:ext cx="7315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幼圆"/>
                <a:ea typeface="幼圆"/>
              </a:rPr>
              <a:t>人与人之间只有很小的差异，但这种很小的差异却往往造成巨大的差异！很小的差异就是所具备的心态是积极的还是消极的，巨大的差异就是成功与失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3366"/>
                </a:solidFill>
                <a:latin typeface="幼圆"/>
                <a:ea typeface="幼圆"/>
              </a:rPr>
              <a:t>拿破伦</a:t>
            </a:r>
            <a:r>
              <a:rPr b="1" lang="en-US" sz="2800" spc="-1" strike="noStrike">
                <a:solidFill>
                  <a:srgbClr val="003366"/>
                </a:solidFill>
                <a:latin typeface="幼圆"/>
                <a:ea typeface="幼圆"/>
              </a:rPr>
              <a:t>.</a:t>
            </a:r>
            <a:r>
              <a:rPr b="1" lang="zh-CN" sz="2800" spc="-1" strike="noStrike">
                <a:solidFill>
                  <a:srgbClr val="003366"/>
                </a:solidFill>
                <a:latin typeface="幼圆"/>
                <a:ea typeface="幼圆"/>
              </a:rPr>
              <a:t>希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200312122224857786"/>
          <p:cNvPicPr/>
          <p:nvPr/>
        </p:nvPicPr>
        <p:blipFill>
          <a:blip r:embed="rId1"/>
          <a:stretch/>
        </p:blipFill>
        <p:spPr>
          <a:xfrm>
            <a:off x="179280" y="1341360"/>
            <a:ext cx="2521080" cy="50119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2700360" y="1557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两个欧洲人到非洲去推销皮鞋，第一个推销员看到非洲人都打赤脚，立刻失望地说：“这些人都习惯打赤脚，怎么能买我们皮鞋呢！于是沮丧而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另一个推销员看到非洲人打赤脚、惊喜万分：“这些人都没有鞋穿，看来皮鞋市场大的很呀”。于是想方设法，向非洲人推销自己的皮鞋，最后发了大财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4920" y="2602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故事分享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4712400" y="909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推销员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200312122224857786"/>
          <p:cNvPicPr/>
          <p:nvPr/>
        </p:nvPicPr>
        <p:blipFill>
          <a:blip r:embed="rId1"/>
          <a:stretch/>
        </p:blipFill>
        <p:spPr>
          <a:xfrm>
            <a:off x="179280" y="1341360"/>
            <a:ext cx="2521080" cy="50119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2916360" y="765000"/>
            <a:ext cx="6227640" cy="20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两个秀才一起去赶考，路上他们遇到了一支出殡的队伍。看到那一口黑糊糊的棺材，其中一个秀才心里立即“咯噔”一下，凉了半截，心想：完了，真触霉头，赶考的日子居然碰到这个倒霉的棺材。于是，心情一落千丈，走进考场，那个“黑糊糊的棺材”一直挥之不去，结果，文思枯竭，名落孙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另一个秀才也同时看到了这个棺材，一开始心里也“咯噔”了一下，但转念一想：棺材，棺材，奥！那不就是有“官”又有“财”吗？好，好兆头，看来今天我要红运当头了，一定高中。于是心理十分兴奋，情绪高涨，走进考场，文思泉涌，果然一举高中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4488120" y="573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这两个故事给我们什么启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4920" y="2602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故事分享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4857120" y="26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秀才赶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200312122224857786"/>
          <p:cNvPicPr/>
          <p:nvPr/>
        </p:nvPicPr>
        <p:blipFill>
          <a:blip r:embed="rId1"/>
          <a:stretch/>
        </p:blipFill>
        <p:spPr>
          <a:xfrm>
            <a:off x="179280" y="1341360"/>
            <a:ext cx="2521080" cy="50119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2916360" y="76500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771640" y="1989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开启人生的正能量，用积极、健康、良好的心态看待问题，控制好自己的情绪，努力奋斗就会获得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187280" y="693720"/>
            <a:ext cx="72010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面对繁重的学习，巨大的压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你对自己说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272400" y="23335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幼圆"/>
              </a:rPr>
              <a:t>完了，我不行，没希望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4200480" y="3324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幼圆"/>
              </a:rPr>
              <a:t>我能行，一定有办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tn_sucai270336"/>
          <p:cNvPicPr/>
          <p:nvPr/>
        </p:nvPicPr>
        <p:blipFill>
          <a:blip r:embed="rId1"/>
          <a:stretch/>
        </p:blipFill>
        <p:spPr>
          <a:xfrm>
            <a:off x="3352680" y="4267080"/>
            <a:ext cx="3048120" cy="188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小组内交流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我复习中存在哪些问题，如何解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我有什么好的复习方法与大家分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我认为考试中应注意那些事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负能量关键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   随时随地，都请有意识地避让以下负能量情绪关键词：愤怒、厌烦、失望、担忧、抱怨、自私、多疑、批评、恐惧、嫉妒、消极、攻击、委屈、抑郁、憎恨、内疚、贪婪、狭隘、病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是十种我们在经常遇到的负能量！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C:\Documents and Settings\Administrator\桌面\4谈她.gif"/>
          <p:cNvPicPr/>
          <p:nvPr/>
        </p:nvPicPr>
        <p:blipFill>
          <a:blip r:embed="rId1"/>
          <a:stretch/>
        </p:blipFill>
        <p:spPr>
          <a:xfrm>
            <a:off x="6715080" y="21420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如何积极主动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2600" y="155736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2600" y="263700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情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822600" y="371808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822600" y="501336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987640" y="1701720"/>
            <a:ext cx="4438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2340000" y="1413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就是查漏补缺、巩固知识、  提高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2195640" y="249408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遇见不会的地方，终于找到了不足，又为考试增添了一分，提高积极心态，马上攻克难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学习找不到不会的地方，我都学会了，要把学会的知识系统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2050920" y="50864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构建了自己的知识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知网”密密  考点难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如何取得理想成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822600" y="155736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2600" y="263700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情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822600" y="371808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822600" y="5013360"/>
            <a:ext cx="7902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2340000" y="1413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试就是把掌握的知识展现出来，把没有掌握的知识通过推理答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2195640" y="2565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把会做的题目做对就行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124000" y="37180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会做的题，让大脑产生了兴奋，有利于思考不会做的难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2195640" y="5013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会做的题目做对了，不会做的难题也做对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8"/>
          <p:cNvPicPr/>
          <p:nvPr/>
        </p:nvPicPr>
        <p:blipFill>
          <a:blip r:embed="rId1"/>
          <a:stretch/>
        </p:blipFill>
        <p:spPr>
          <a:xfrm>
            <a:off x="990720" y="838080"/>
            <a:ext cx="7542000" cy="55404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4"/>
          <p:cNvSpPr/>
          <p:nvPr/>
        </p:nvSpPr>
        <p:spPr>
          <a:xfrm>
            <a:off x="1835280" y="1773360"/>
            <a:ext cx="6102360" cy="25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坚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你有多大目标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就会有多大收获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979640" y="4765680"/>
            <a:ext cx="5256360" cy="825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并坚持为之努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杀伤力最大辐射面最广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抱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抱怨是最易传播，辐射又快又广，也最具杀伤力的负能量。抱怨让自己和他人陷入负面情绪中，消极怠工，积极性差，工作容易出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最易动摇军心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消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是有人消极怠惰，对自己缺乏信心，患得患失。其实这种人的内心能量比较弱，而且行动力不高，总在瞻前顾后中蹉跎了时间和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最耐不住寂寞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浮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怕左右摇摆的人，也怕急于求成的人。急于邀功，做事不踏实的人很容易带动其他人与他一样急行军，而少了脚踏实地的积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最易演变成冷暴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冷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工作协作中有意不配合，疏远同学，甚至有意给同学设置障碍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最无力无能的表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起事来总是畏畏缩缩，什么重任都不敢承担。大家更喜欢与自信、有担当的人合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最禁锢自身发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妒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凭什么这机会又给了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别人的进步和优势让自己脸上无光，立马心生恨意。竞争中必有强弱之分，但想要自己的综合竞争力变强，就要从自身修炼开始，一味的敌视别人的进步和优势，反而会让自己陷入负面情绪，最自身发展不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09:34:48Z</dcterms:created>
  <dc:creator>www.yuwen99.com 中学语文网</dc:creator>
  <dc:description>www.yuwen99.com 中学语文网</dc:description>
  <cp:keywords>www.yuwen99.com 中学语文网</cp:keywords>
  <dc:language>en-US</dc:language>
  <cp:lastModifiedBy>shibazx</cp:lastModifiedBy>
  <cp:lastPrinted>1899-12-30T00:00:00Z</cp:lastPrinted>
  <dcterms:modified xsi:type="dcterms:W3CDTF">2013-03-29T03:25:41Z</dcterms:modified>
  <cp:revision>33</cp:revision>
  <dc:subject>www.yuwen99.com 中学语文网</dc:subject>
  <dc:title>www.yuwen99.com 中学语文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