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type.wav" ContentType="audio/x-wav"/>
  <Override PartName="/ppt/media/image7.jpeg" ContentType="image/jpeg"/>
  <Override PartName="/ppt/media/image6.jpeg" ContentType="image/jpeg"/>
  <Override PartName="/ppt/media/image11.gif" ContentType="image/gif"/>
  <Override PartName="/ppt/media/image14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2.gif" ContentType="image/gif"/>
  <Override PartName="/ppt/media/image17.jpeg" ContentType="image/jpeg"/>
  <Override PartName="/ppt/media/image21.png" ContentType="image/png"/>
  <Override PartName="/ppt/media/image19.gif" ContentType="image/gif"/>
  <Override PartName="/ppt/media/image1.jpeg" ContentType="image/jpeg"/>
  <Override PartName="/ppt/media/image18.gif" ContentType="image/gif"/>
  <Override PartName="/ppt/media/image23.png" ContentType="image/png"/>
  <Override PartName="/ppt/media/image20.gif" ContentType="image/gif"/>
  <Override PartName="/ppt/media/image16.png" ContentType="image/png"/>
  <Override PartName="/ppt/media/image13.png" ContentType="image/png"/>
  <Override PartName="/ppt/media/image2.jpeg" ContentType="image/jpeg"/>
  <Override PartName="/ppt/media/image15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2EBC-44A5-4E86-B808-80024BEC7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D5D5-2E32-4427-A23C-E50D9A0B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DB6C-BA6A-4F63-8C3A-6529063C1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A55E-492B-499C-B812-06CC15C43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3163-E420-4533-A6B2-2C3FD2BEB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F9BE-913E-45B6-AF98-0EA34D4B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FF95-9065-429E-862E-73CFA65F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7126-C47B-41BF-A271-0DCFECAD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11B5-CADF-4BED-8641-4BD1BC3E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9603-538F-4A0A-BF49-F660E9C1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7ED8-C80F-4AD0-A496-9771101A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06EC-52EE-4127-A782-A6D8EA92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77B0-E0D5-4EDE-A8E4-FB190EE9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01C9-867C-4308-8C5B-BE6DC354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FA99-BF92-48DC-BB9B-D01FD9B2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C030-F68F-41B8-AAC7-47238ED63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95F1-55CB-4527-BF0F-93431A2B4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59B6-3409-4A78-B3C4-3D48399A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511F-8254-4161-B0BF-02D6022B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FA05-BDD5-401A-849C-4EE80F4C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C20B-679E-4F58-B09F-99027A5C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E917-AF66-45EB-85D8-AFD25A0B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4669-2B32-44FE-AE65-0F1788B0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09FB-122F-4FAE-9FD0-2DA2787C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A474-D375-45F8-8A3E-1D14AA916D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15DF-C9B9-47E5-9942-27A90B84C0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9.gif"/><Relationship Id="rId8" Type="http://schemas.openxmlformats.org/officeDocument/2006/relationships/image" Target="../media/image20.gif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2.gif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" Target="slide3.xml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955960" y="543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27760" y="5506920"/>
            <a:ext cx="192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7920" y="4572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60e32"/>
                </a:solidFill>
                <a:latin typeface="华文行楷"/>
                <a:ea typeface="华文行楷"/>
              </a:rPr>
              <a:t> </a:t>
            </a:r>
            <a:r>
              <a:rPr b="1" lang="zh-CN" sz="3600" spc="-1" strike="noStrike">
                <a:solidFill>
                  <a:srgbClr val="960e32"/>
                </a:solidFill>
                <a:latin typeface="华文行楷"/>
                <a:ea typeface="华文行楷"/>
              </a:rPr>
              <a:t>一年级（</a:t>
            </a:r>
            <a:r>
              <a:rPr b="1" lang="zh-CN" sz="3600" spc="-1" strike="noStrike">
                <a:solidFill>
                  <a:srgbClr val="960e32"/>
                </a:solidFill>
                <a:latin typeface="华文行楷"/>
                <a:ea typeface="华文行楷"/>
              </a:rPr>
              <a:t>2</a:t>
            </a:r>
            <a:r>
              <a:rPr b="1" lang="zh-CN" sz="3600" spc="-1" strike="noStrike">
                <a:solidFill>
                  <a:srgbClr val="960e32"/>
                </a:solidFill>
                <a:latin typeface="华文行楷"/>
                <a:ea typeface="华文行楷"/>
              </a:rPr>
              <a:t>）班全体师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84760" y="535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62120" y="1981080"/>
            <a:ext cx="7772400" cy="3657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欢迎您尊敬的家长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-8287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90684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9144000" cy="7534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447920" y="297180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1484280"/>
            <a:ext cx="82296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一组组长：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叶海燕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二组组长：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韩帅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三组组长：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孔淑慧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四组组长：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韦文可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-541440" y="692280"/>
            <a:ext cx="10514160" cy="68259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-1260360" y="-272880"/>
            <a:ext cx="10693440" cy="71308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301680" y="380880"/>
            <a:ext cx="8540640" cy="56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半学期转眼就过去了，对各位家长来说，从孩子幼儿园进入了小学至今，肯定也感受到孩子身上的许多变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行为能力方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堂纪律方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间出操方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习、认字方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914400" y="838080"/>
            <a:ext cx="5257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透过成绩看问题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62120" y="2438280"/>
            <a:ext cx="532116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一、上课质量决定成绩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3733920"/>
            <a:ext cx="81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进步非常大的小朋友：李想  张凯东  吴何  孔淑慧  金哲群  王龙龙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403280" y="907920"/>
            <a:ext cx="532152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二、作业完成态度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184464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作业优秀的小朋友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徐可玟   王保军   李昂  叶海燕   许贤亮            李海铃    叶洋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-433440" y="189000"/>
            <a:ext cx="9577440" cy="6386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403280" y="620640"/>
            <a:ext cx="5753160" cy="77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三、正确看待孩子的分数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148428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一次考试不能代表什么，也不是我们开家长会的最终目的。仅仅是为了让家长对小朋友们前一阶段的学习有个真实的了解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-684360" y="0"/>
            <a:ext cx="10230120" cy="6821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301680" y="380880"/>
            <a:ext cx="8540640" cy="56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家庭教育对学生的成长的影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8000" spc="-1" strike="noStrike">
                <a:solidFill>
                  <a:srgbClr val="800080"/>
                </a:solidFill>
                <a:latin typeface="Arial"/>
              </a:rPr>
              <a:t>良好的习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799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第一方面是关于作息时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方面是关于学习的准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三方面是关于孩子学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第四方面是关于行为品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6732720" y="4508640"/>
            <a:ext cx="1726920" cy="1726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0" y="4724280"/>
            <a:ext cx="1851120" cy="23148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755640" y="1052640"/>
            <a:ext cx="7488360" cy="129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行楷"/>
              </a:rPr>
              <a:t>良好习惯的培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p:transition>
    <p:dissolv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1059120"/>
            <a:ext cx="8858160" cy="45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作息时间方面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到校开始早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放学    周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放学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请您一定要按时接送孩子上学放学，以您的实际行动教育孩子有时间观念、遵守规章制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注重孩子在家的作息时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写作业时间、休息时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-396720" y="-17136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83320" y="189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36720" y="1098720"/>
            <a:ext cx="1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学习准备方面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学习用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书包、书、  本子 、 铅笔、橡皮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生活用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餐巾布、餐巾纸、水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每天穿校服，佩戴校服校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-396720" y="-17136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307520" y="18900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Arial"/>
              </a:rPr>
              <a:t>孩子的学习方面（语文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58760" y="1098720"/>
            <a:ext cx="301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、完成作业的态度，时间、质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、及时的复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，家长的辅导与监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、家校联系册的检查签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838080" y="1066680"/>
            <a:ext cx="7620120" cy="1981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为了我们共同的目标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19320" y="2819520"/>
            <a:ext cx="6858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沟通、理解、合作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133720" y="5105520"/>
            <a:ext cx="5910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——</a:t>
            </a: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一年级（</a:t>
            </a: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2</a:t>
            </a: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）班家长会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9144000" y="6858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-685800" y="3809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90684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90684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059109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671480" y="91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-252360" y="981000"/>
            <a:ext cx="9144000" cy="37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cc00"/>
                </a:solidFill>
                <a:latin typeface="Arial"/>
              </a:rPr>
              <a:t>行为品德方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卫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文明、礼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责任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24000" y="1844640"/>
            <a:ext cx="85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、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护短，支持班级工作，不斤斤计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、及时与老师联系沟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、言传身教，多鼓励，重视与孩子的情感交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座位问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打扫卫生问题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684360" y="4941720"/>
            <a:ext cx="7991280" cy="9144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-396720" y="0"/>
            <a:ext cx="10009080" cy="75344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447920" y="297180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685800"/>
            <a:ext cx="9144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方正姚体"/>
              </a:rPr>
              <a:t>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老师在孩子们心中是神圣的、万能的，但是老师毕竟不是完美的，老师跟老师之间也有不同的教育方法、教学方式，但是请您一定要信任老师，与老师加强沟通，有任何不满或不理解都可以通过心平气和的沟通来解决，请相信我们每一个教师都愿意做到让您满意。您千万不要在孩子面前随意议论，以免给孩子的心理投下永不消失的阴影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方正姚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0" y="380880"/>
            <a:ext cx="91440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学生一旦对老师有偏见，不满意，就会出现逆反心理，不听老师话，就学不好这门功课，最终吃亏的还是学生。老师表扬学生，学生认为是鼓励，老师批评，学生认为是爱护，表扬和批评在融洽的师生感情中，才能成为学生前进的动力。我要求学生比较严格，如果有什么不尽人意的地方可以和我联系，我一定尽力改正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990720" y="1523880"/>
            <a:ext cx="693396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尊重、理解 老师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-396720" y="-17136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93000" y="1890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Arial"/>
              </a:rPr>
              <a:t>安全教育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35280" y="1125360"/>
            <a:ext cx="3673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、交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、饮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、防溺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、防火、防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隶书"/>
              </a:rPr>
              <a:t>班级教学理念</a:t>
            </a:r>
            <a:endParaRPr b="0" lang="en-US" sz="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"/>
                <a:ea typeface="华文行楷"/>
              </a:rPr>
              <a:t>关注每一个学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"/>
                <a:ea typeface="华文行楷"/>
              </a:rPr>
              <a:t>不仅追求好，更追求进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"/>
                <a:ea typeface="华文行楷"/>
              </a:rPr>
              <a:t>不看中一时成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"/>
                <a:ea typeface="华文行楷"/>
              </a:rPr>
              <a:t>希望每个孩子都有进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-612720" y="0"/>
            <a:ext cx="10225080" cy="68184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50920" y="1413000"/>
            <a:ext cx="8540640" cy="42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cc00"/>
                </a:solidFill>
                <a:latin typeface="Arial"/>
              </a:rPr>
              <a:t>最后，祝各位家长工作顺利，家庭幸福，再次感谢你们的支持和理解！愿我们一</a:t>
            </a:r>
            <a:r>
              <a:rPr b="1" lang="zh-CN" sz="4000" spc="-1" strike="noStrike">
                <a:solidFill>
                  <a:srgbClr val="00cc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cc00"/>
                </a:solidFill>
                <a:latin typeface="Arial"/>
              </a:rPr>
              <a:t>班的每位小朋友都健健康康、快快乐乐的成长！再次感谢你们到来！如有不当之处请多指正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534440"/>
          </a:xfrm>
          <a:prstGeom prst="rect">
            <a:avLst/>
          </a:prstGeom>
          <a:ln w="0">
            <a:noFill/>
          </a:ln>
        </p:spPr>
      </p:pic>
      <p:sp>
        <p:nvSpPr>
          <p:cNvPr id="95" name="">
            <a:hlinkClick r:id="rId3" action="ppaction://hlinksldjump"/>
          </p:cNvPr>
          <p:cNvSpPr/>
          <p:nvPr/>
        </p:nvSpPr>
        <p:spPr>
          <a:xfrm>
            <a:off x="1295280" y="1371600"/>
            <a:ext cx="73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一、听广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297180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4" action="ppaction://hlinksldjump"/>
          </p:cNvPr>
          <p:cNvSpPr/>
          <p:nvPr/>
        </p:nvSpPr>
        <p:spPr>
          <a:xfrm>
            <a:off x="1219320" y="32004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三、班主任汇报班级的基本情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28600"/>
            <a:ext cx="358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a1002"/>
                </a:solidFill>
                <a:latin typeface="隶书"/>
                <a:ea typeface="隶书"/>
              </a:rPr>
              <a:t>会议议程</a:t>
            </a:r>
            <a:r>
              <a:rPr b="1" lang="zh-CN" sz="4000" spc="-1" strike="noStrike">
                <a:solidFill>
                  <a:srgbClr val="ca1002"/>
                </a:solidFill>
                <a:latin typeface="隶书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22096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二、与任课老师面对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2400" y="42670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四、自由交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24000" y="1268280"/>
            <a:ext cx="807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首先感谢大家在百忙之中抽空来参加这次的家长会，在这里我代表全体师生对你们表示热烈欢迎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作为一（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）班的班主任兼语文老师，我将针对于这次期中考试和班级整体情况作一些汇报介绍，希望通过这次家长会，能让各位家长了解到孩子在校的各项情况，并在以后的学习生活中给予更多的关注，支持和帮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404640"/>
            <a:ext cx="5810040" cy="9169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80"/>
                </a:solidFill>
                <a:latin typeface="Times New Roman"/>
              </a:rPr>
              <a:t>尊敬的各位家长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会议主要内容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会议的目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班级情况的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家庭对孩子成长的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家长应给予的支持与帮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安全教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94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-76320" y="1798560"/>
            <a:ext cx="8763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为了加强老师与家长、家长与家长、家长与学生之间的联系，相互交流一下学生在校及在家的情况，以便老师能够更有针对性的实施教育，家长能够更好教育自己的子女做人与成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380880"/>
            <a:ext cx="6191280" cy="863640"/>
          </a:xfrm>
          <a:prstGeom prst="rect">
            <a:avLst/>
          </a:prstGeom>
          <a:solidFill>
            <a:srgbClr val="ffff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隶书"/>
                <a:ea typeface="隶书"/>
              </a:rPr>
              <a:t>召开这次家长会的目的</a:t>
            </a:r>
            <a:r>
              <a:rPr b="1" lang="zh-CN" sz="4400" spc="-1" strike="noStrike">
                <a:solidFill>
                  <a:srgbClr val="6600ff"/>
                </a:solidFill>
                <a:latin typeface="隶书"/>
                <a:ea typeface="隶书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1341360"/>
            <a:ext cx="518472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1341360"/>
            <a:ext cx="0" cy="865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604360" y="3357720"/>
            <a:ext cx="0" cy="388764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258920" y="7245000"/>
            <a:ext cx="7345440" cy="7308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320" y="5788800"/>
            <a:ext cx="9144000" cy="764280"/>
          </a:xfrm>
          <a:prstGeom prst="rect">
            <a:avLst/>
          </a:prstGeom>
          <a:solidFill>
            <a:srgbClr val="d1fbf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我们的努力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＋</a:t>
            </a: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您的关爱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＝孩子的成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75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75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732240"/>
            <a:ext cx="842472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Arial"/>
                <a:ea typeface="华文新魏"/>
              </a:rPr>
              <a:t>班级情况分析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（一）班级基本情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（二）学生的学习情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（三）期中考试情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9144000" cy="7534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447920" y="297180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1484280"/>
            <a:ext cx="822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班级基本情况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共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名学生，其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位男生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位女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班干部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语文课代表    黄草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数学课代表    吉果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英语课代表    徐可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-541440" y="-9360"/>
            <a:ext cx="10298160" cy="6867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75344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447920" y="297180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1268280"/>
            <a:ext cx="860400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班长：   丁奇佳   牛文强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学习委员：刘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纪律委员：梁佳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体育委员：许贤亮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劳卫委员：王成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-468360" y="190440"/>
            <a:ext cx="10080720" cy="67215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1T03:11:07Z</dcterms:created>
  <dc:creator>宏达</dc:creator>
  <dc:description/>
  <dc:language>en-US</dc:language>
  <cp:lastModifiedBy>YlmF</cp:lastModifiedBy>
  <dcterms:modified xsi:type="dcterms:W3CDTF">2012-03-15T11:16:37Z</dcterms:modified>
  <cp:revision>103</cp:revision>
  <dc:subject/>
  <dc:title>PowerPoint 演示文稿</dc:title>
</cp:coreProperties>
</file>