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7.jpeg" ContentType="image/jpeg"/>
  <Override PartName="/ppt/media/image9.gif" ContentType="image/gif"/>
  <Override PartName="/ppt/media/typ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4.png" ContentType="image/png"/>
  <Override PartName="/ppt/media/image3.jpeg" ContentType="image/jpeg"/>
  <Override PartName="/ppt/media/image2.jpeg" ContentType="image/jpeg"/>
  <Override PartName="/ppt/media/image12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3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9DD-2C42-4CC4-B7B9-C45B6A8A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7DB-8504-4ECB-B76A-8C59B0AF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42D-C69E-4893-BCBD-A85F64A7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B16-BEDF-4B76-B322-2E2EDAC2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B3F-F7BB-4579-860C-133AD119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54C-87F0-4953-806A-2A285FB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4CA0-36CC-40F5-89CB-6AED14E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55A4-B8F4-47A7-9899-B65069D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5F6-4A1A-40C9-88C6-3EFA15DC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1F02-658D-4194-9CBB-AAD8A53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81E7-9C0B-4661-800B-F87327F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A36-44AD-4BA3-A279-7F26D97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A7D-7B6B-4C21-B40E-DBD7AA5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F5C-36DA-42F1-A231-B91519A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E7B-A37B-4856-A3C6-688EBAC2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45E7-FF91-4E35-987A-F6788D45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092-293F-454E-A1FC-BBABB1BB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A7F-B835-4214-80AF-78E3631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DA7-7DBD-4AD9-8F3F-271A1B38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591-A4C9-4E4F-B0A4-14101B6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D2A-C7AB-4AEC-9864-320B45A6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89E-8414-4603-8A81-53650A7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A29-BBA8-4CDA-B0BD-50C1731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EFB-5FA0-4D4A-89C3-FCD0EE3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E7B-C3CE-42A2-B71F-E8770FBCF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357-89AA-4FBE-84ED-3AF2DB01BE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45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三（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全体师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82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33336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业完成态度决定成绩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36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经常不完成家庭作业的同学：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68640"/>
            <a:ext cx="96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黎艳吉  隆定高 梁凯文  王凯波  潘 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陆曾炜  韦佳良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03280" y="620640"/>
            <a:ext cx="57531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正确看待孩子的分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次考试不能代表什么，也不是我们开家长会的最终目的。仅仅是为了让家长对小朋友们前一阶段的学习有个真实的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23012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庭教育对学生的成长的影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8000" spc="-1" strike="noStrike">
                <a:solidFill>
                  <a:srgbClr val="800080"/>
                </a:solidFill>
                <a:latin typeface="Arial"/>
              </a:rPr>
              <a:t>良好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第一方面是关于作息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方面是关于学习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方面是关于孩子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四方面是关于行为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732720" y="450864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755640" y="1052640"/>
            <a:ext cx="7488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良好习惯的培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学校时间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3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到校开始早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中午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下午到校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2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下午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5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周五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6:20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07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孩子的学习方面（语文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15880" y="1197000"/>
            <a:ext cx="33274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、完成作业的态度，时间、质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、及时的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，家长的辅导与监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71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252360" y="981000"/>
            <a:ext cx="91440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行为品德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文明、礼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责任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短，支持班级工作，不斤斤计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及时与老师联系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言传身教，多鼓励，重视与孩子的情感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阅读课外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4360" y="4941720"/>
            <a:ext cx="7991280" cy="91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09080" cy="753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580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老师在孩子们心中是神圣的、万能的，但是老师毕竟不是完美的，老师跟老师之间也有不同的教育方法、教学方式，但是请您一定要信任老师，与老师加强沟通，有任何不满或不理解都可以通过心平气和的沟通来解决，请相信我们每一个教师都愿意做到让您满意。您千万不要在孩子面前随意议论，以免给孩子的心理投下永不消失的阴影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08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学生一旦对老师有偏见，不满意，就会出现逆反心理，不听老师话，就学不好这门功课，最终吃亏的还是学生。老师表扬学生，学生认为是鼓励，老师批评，学生认为是爱护，表扬和批评在融洽的师生感情中，才能成为学生前进的动力。我要求学生比较严格，如果有什么不尽人意的地方可以和我联系，我一定尽力改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耐心    细心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   诚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沟通，从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开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537372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2520" y="494172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 老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-612720" y="0"/>
            <a:ext cx="10225080" cy="681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141300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后，祝各位家长工作顺利，家庭幸福，再次感谢你们的支持和理解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83664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感谢你们能从百忙之中抽出时间到校参加会议，谢谢你们对我们工作的支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734080"/>
            <a:ext cx="302400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会议主要内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议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情况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庭对孩子成长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应给予的支持与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rurl4_b=67aabeeea8033bf0521e7fe7fa1ba3b4bdf9e07c045785e5c3bc821431d923fd738dc9ea1d636cbac68a7fe83c5f38159524ed3ecbbb3cfa89dfb0194944ff2aad3c8ea36b47e691a22a2508e24afe589a1f24e8&amp;a=28&amp;b=28"/>
          <p:cNvPicPr/>
          <p:nvPr/>
        </p:nvPicPr>
        <p:blipFill>
          <a:blip r:embed="rId2"/>
          <a:stretch/>
        </p:blipFill>
        <p:spPr>
          <a:xfrm>
            <a:off x="-14940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685800" y="2209680"/>
            <a:ext cx="7696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平均分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93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合格率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100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%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41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  优秀率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9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%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0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2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040" y="1020600"/>
            <a:ext cx="304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段考语文科成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680400"/>
            <a:ext cx="8424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三科总分成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55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39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70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分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31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85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90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bj029"/>
          <p:cNvPicPr/>
          <p:nvPr/>
        </p:nvPicPr>
        <p:blipFill>
          <a:blip r:embed="rId2"/>
          <a:stretch/>
        </p:blipFill>
        <p:spPr>
          <a:xfrm>
            <a:off x="0" y="26028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2556000" y="260280"/>
            <a:ext cx="63370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习标兵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潘贤煜     张 颖    谢丽杨     苏科逢    李雯颖   黄诗峻 谭艳琳    黄耀璇   赵茂逸 陆俊霖    曾小晨   吕秋葵  黄丽媛    石海膺     林雅妮  黄巧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30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00" y="1094040"/>
            <a:ext cx="1521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4797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2556000" y="4797360"/>
            <a:ext cx="66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33336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77336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68640"/>
            <a:ext cx="96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巧音 张 颖  赵茂逸  谢丽杨  李雯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诗峻 谭艳琳 曾小晨  韦秋兰  韦德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耀璇 黄莉媛 潘俊龙  石海膺  曾星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林雅妮 陆志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50920" y="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41300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上课不认真的同学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4640"/>
            <a:ext cx="96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潘 璘  韦佳良  苏科逢  陆俊霖  王凯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苏健超 陆曾炜  张雨润  梁凯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3:11:07Z</dcterms:created>
  <dc:creator>宏达</dc:creator>
  <dc:description/>
  <dc:language>en-US</dc:language>
  <cp:lastModifiedBy>未知用户</cp:lastModifiedBy>
  <dcterms:modified xsi:type="dcterms:W3CDTF">2015-11-23T01:12:19Z</dcterms:modified>
  <cp:revision>107</cp:revision>
  <dc:subject/>
  <dc:title>PowerPoint 演示文稿</dc:title>
</cp:coreProperties>
</file>