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4.jpeg" ContentType="image/jpeg"/>
  <Override PartName="/ppt/media/image5.gif" ContentType="image/gif"/>
  <Override PartName="/ppt/media/image6.jpeg" ContentType="image/jpeg"/>
  <Override PartName="/ppt/media/image11.jpeg" ContentType="image/jpeg"/>
  <Override PartName="/ppt/media/image7.gif" ContentType="image/gif"/>
  <Override PartName="/ppt/media/image13.jpeg" ContentType="image/jpeg"/>
  <Override PartName="/ppt/media/image10.jpeg" ContentType="image/jpeg"/>
  <Override PartName="/ppt/media/image8.jpeg" ContentType="image/jpeg"/>
  <Override PartName="/ppt/media/image9.gif" ContentType="image/gi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54FB-794C-44E3-A3CA-F5000B55EEE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341B-CCE6-4746-A85A-BB6229052D1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5395-2691-428B-B7CE-3F4AD6211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0952-29EE-4EE6-865E-45D15F71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37448-DF5E-45ED-AB0D-64A1F0B6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0EE59-CD9A-434D-8658-49870810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66887-CDA6-48D9-9D2F-BDAF7958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1C1C3-3C0A-431C-889A-5A569931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B9BC8F-67BE-4F58-A1B9-BF512F41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C126C-B4DF-47E4-8646-6EB2A6A3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A6D77-5A84-4059-9B91-F7BA7571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7A5D2-0CE9-4747-AB99-9E636AB84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ABCF0-4736-4B73-830D-FE077FEE9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264D6-EC8E-4D6D-8143-CD76B687C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EE81-3555-40AF-A9CB-C0C1BE246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1E759-EEAA-49DA-B504-C4352324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581A06-2E97-4F24-8CA7-709215EF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8E846-D281-4800-9328-2208CE34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AF6364-E6B6-4AC2-BFD9-D9DD5CDD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CBAE78-0791-49CC-8650-C5022BB4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C4212D-AAD7-40A5-B055-DE990ED5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A2A1D3-0274-4B94-BF8E-B8725C6E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9E95D-D0BF-4B59-A7BF-03A13BBA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52A3B-4E81-4857-B93E-E0B0A4B8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B0566-9A92-442A-A601-9F0D5CB2A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F829-B332-4317-909A-00C23C1B2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A17A52-4C44-43D6-8CBA-41E4AFDA5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0F0DE-1011-4F6D-A43B-643524E09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B25A5-AF39-45FE-8631-2BDE0B1A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2C882-F992-4FD8-8614-067A7EDF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19393-29AE-4D01-97A5-8E0F569D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05643-8133-4DB6-9F92-52603722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A18F8-858B-4C28-BCB5-28CBC727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B7449-AFD5-4F10-8D04-39EC6B72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054E5-7619-44A8-A625-0D2188B7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42D73-0FEA-4067-A0C8-BC74C480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D969-A29A-405A-9CC8-96E35D613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EB527-12DF-432E-ABBF-E0102BE2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80F1E-6171-48BB-88E2-BB71779E2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98CEA-C269-45C1-9872-4B0196A8E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815B-1E72-434F-B9BF-0AD170B1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4C7F-A445-4108-935A-0A2EB959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005B-89F4-4877-AEF5-10B07935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D48D-1420-4A10-85F2-B013172B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D99A-C0A7-4762-842D-5A5ACDA4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D0CB-6BD5-410C-8BE3-1BD9259F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4BF7-0E3C-4B3B-822E-A6EF3198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C90B-0947-4B24-A1A5-BBADE6B7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841A-217F-42E4-8E5D-FC6FB423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23CA-B7EA-483F-9833-38CB05DF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6680-62E8-447F-A471-F24C0C42D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F673-09E8-44EE-B98D-8C742D9FB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77E21-5020-469D-99F2-53C45569C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DFE2F-4852-41C4-BF0A-1192C26F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D8618-39CB-4758-8A53-BC527EB0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7ED4E-5D55-40CC-B3EF-35825A38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D89FE-45A5-47D8-BE5C-853411EB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1248-659E-4DDA-AEAE-78ABB00A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F983B-6531-4B6F-A7C0-E4616ADD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80130-1414-4C78-A850-8A971564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A1AEE-12BF-4A3F-8D3B-98573E2B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D2636-A15B-4405-91C4-AD01E418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F2ADE-E65E-483D-8915-23FC7433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A07B7-591B-4148-AF76-8DE317408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7BD8B-C858-4DB4-BB74-EC859A27C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43E97-BB5E-4E89-9F1B-5FE705110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53005-A2A8-45B9-9866-1C894B54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5CB3D-D52B-432A-8D96-8FDFABC5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B10E-41DB-4404-81B8-6602F82A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06683-F443-4056-A39E-CADD3D6C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38DAB-72BC-4DA1-8F10-285A5F8C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66E7C-7160-4D66-BF23-8F522DD3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70E53-01A0-4345-A3E3-F6659DEA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7064C-A3B2-4F3D-B842-3B4F083A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0FA56-FE1B-42DE-A14E-B04DEAC5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992D1-A591-4E62-839A-8E6F6AC7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96515-ADDC-4891-AC79-91EA278D3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A587F-40A0-4322-AF95-D6107BC2E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095A4-D992-41F3-A5B4-400C9D468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506F-5C5D-40A9-B1CE-E4F32805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A7790-8C32-4858-89C2-1643BB16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F47E3-B03F-4917-952F-40669D8E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9542A-01AC-4C41-9474-8D72C207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4C6AE-DB7F-4460-A672-2BDC64DA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35C53-C123-4EFE-83AB-9DAB8F15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063C9-4DFC-4303-A4CD-EAA0B701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A96CE-CF1A-4383-BB62-016BD842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EC808-2C1C-4E93-907B-8CF4E4AC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48D9D-7C32-4CFE-8252-F30AFAD6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3DCF9-0815-49D9-8A0C-9CAAD44A0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69C8-F546-49B6-94E5-B7FF913C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062B3-1C92-4392-8FCC-FFFC1C96E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43291-BB15-46BD-8061-A3CCE682E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C7EEF-DAF0-4265-93AC-69396AEC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20B92-FC41-4121-AE81-7178F5F2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F29C3-05D1-4E30-9419-F64B22AE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95600-C29A-41A2-AC9F-39DA6082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D44B6-FB6A-420B-AEEE-89BE815C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68FD1-460E-44FF-AFF6-C4D1B97F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76FBC-B215-4290-8B59-32BC9A20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6DBFF-FB49-457D-9FC1-5E610042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CEF3-617C-4249-A8CF-23496436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A5B0A-6AF7-43D5-8781-890AF61E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235E6-5DA8-4BD7-9980-DC2586041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08569-536B-4B3B-B69F-74E93010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D5FC5-DD84-40ED-9647-DA09D7FF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0045B-17A6-4A74-8DDA-2B4BBC9A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024E2-36DE-4712-A5E0-B143960E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AD937-7807-4CA2-B5CF-716408B0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5CD4F-C222-4CAF-8191-CDA7EA14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A2546-C817-4AC5-8A3D-42E2AF40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11FB7-63AF-4BD7-A10E-2526446D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E8EF-0D4C-4930-BF2F-04D56790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38A1D-7CCB-4223-AE9F-AD159D17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8C2B9-ECE5-437C-AE4A-A8B74B00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69E57-1FC4-4DF7-9139-AEAAD640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35B1A-95A0-410F-8ADF-43B5D6B84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CF779-98CC-43A9-98C6-4B91FDF42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129D3-16AC-468D-8072-A0BADB634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B966A-FC19-4C2A-A300-4A497EC3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FAB93-E8C1-4063-A274-E24B7F42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95074-A4EA-45BF-AC05-264E9DDE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BACAD-58FB-4F2D-9C69-54B8724C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F5C2-A3B1-48EA-B795-47B9D5FD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5F7A3-3373-41C9-9B99-184F3B79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2C98E-8B01-4502-9DA6-9ABAC151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69BB3-B312-4F2D-A156-20676FE0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147A5-240D-4AAB-9899-3CABEECF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25D70-DDCA-4C89-AC66-05B2209F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3FF9E-11B2-4847-84C3-76E980ADB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555C3-A8E2-4CBD-8A33-67780F4EF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9C9A16-EB54-4BDB-8224-957A93A6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AE294-B6B3-4620-9CE5-9C4533E4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717896-B297-40A5-8068-C959497A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EC17-E1BE-441B-BEED-4EB949AEBCD6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2A91-02B1-4800-A758-09BD76D6C6E0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24A4-D2E2-4741-B6C4-7A8099973F02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89F7-4602-4447-A977-708A64C0005F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3695-F6F7-44C9-A00D-A2742DDDE974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951D-46A4-4728-94B0-DF0A09756B82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A1CD-59E7-42F3-B032-C78F4E062664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6AFD-C8B4-44B8-B9C4-D77E0C710EDE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B214-B9B7-4222-A88E-67CEBCB4C17D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CE25-443A-4C4D-B887-126377C758BC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2DBD-AF44-46DB-8284-B89DE2C7EF9B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9" descr="2011052107243239_s"/>
          <p:cNvPicPr/>
          <p:nvPr/>
        </p:nvPicPr>
        <p:blipFill>
          <a:blip r:embed="rId2"/>
          <a:stretch/>
        </p:blipFill>
        <p:spPr>
          <a:xfrm>
            <a:off x="0" y="0"/>
            <a:ext cx="9144000" cy="698328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071800"/>
            <a:ext cx="7772400" cy="19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2f2f2f"/>
                </a:solidFill>
                <a:latin typeface="Franklin Gothic Medium"/>
                <a:ea typeface="华文新魏"/>
              </a:rPr>
              <a:t>国庆假后收心教育</a:t>
            </a:r>
            <a:endParaRPr b="0" lang="en-US" sz="7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371600" y="5714640"/>
            <a:ext cx="64008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Franklin Gothic Book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2" descr="http://img.xiaba.cvimage.cn/4cbc5fd27cbaf06a3e48000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Franklin Gothic Book"/>
              </a:rPr>
              <a:t>在此，我们希望各位同学们好好学习，不做被时间抛弃的人，我想各位一定在国庆期间做好了完美的学习计划，好好努力，加油！！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9" name="矩形 4"/>
          <p:cNvSpPr/>
          <p:nvPr/>
        </p:nvSpPr>
        <p:spPr>
          <a:xfrm>
            <a:off x="571680" y="4572000"/>
            <a:ext cx="61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rial"/>
              </a:rPr>
              <a:t>一 一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2" descr="http://img.xiaba.cvimage.cn/4cbc5cb22228dda47646000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522" name="Picture 4" descr="http://img.xiaba.cvimage.cn/4cbc5cb22228dda476460000.jpg"/>
          <p:cNvPicPr/>
          <p:nvPr/>
        </p:nvPicPr>
        <p:blipFill>
          <a:blip r:embed="rId3"/>
          <a:stretch/>
        </p:blipFill>
        <p:spPr>
          <a:xfrm>
            <a:off x="4773600" y="3071880"/>
            <a:ext cx="2095560" cy="1571400"/>
          </a:xfrm>
          <a:prstGeom prst="rect">
            <a:avLst/>
          </a:prstGeom>
          <a:ln w="0">
            <a:noFill/>
          </a:ln>
        </p:spPr>
      </p:pic>
      <p:pic>
        <p:nvPicPr>
          <p:cNvPr id="523" name="矩形 4" descr=""/>
          <p:cNvPicPr/>
          <p:nvPr/>
        </p:nvPicPr>
        <p:blipFill>
          <a:blip r:embed="rId4"/>
          <a:stretch/>
        </p:blipFill>
        <p:spPr>
          <a:xfrm>
            <a:off x="2066760" y="1792440"/>
            <a:ext cx="6510600" cy="11397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http://attach.bbs.china.com.cn/forum/201106/03/115316r3vme0e0nvzrvou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一个包子和土豆打架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结果土豆把包子打死了。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{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猜一食物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}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包子死了，他的爸爸来找土豆报仇。土豆知道打不过，就逃啊逃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一条河把土豆给拦住了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{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猜一蔬菜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}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94" name="Picture 8" descr="http://88.gaosu.com/q/2011-8-22/110cb99aed58dccbf76ef3ed1f269390.gif"/>
          <p:cNvPicPr/>
          <p:nvPr/>
        </p:nvPicPr>
        <p:blipFill>
          <a:blip r:embed="rId3"/>
          <a:stretch/>
        </p:blipFill>
        <p:spPr>
          <a:xfrm>
            <a:off x="5500800" y="4500720"/>
            <a:ext cx="2214360" cy="2000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http://www.zlcool.com/d/file/2010/10/14/b3fb323199dc049989d012003873b0d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spcBef>
                <a:spcPts val="18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Franklin Gothic Book"/>
              </a:rPr>
              <a:t>答案：豆沙包       答案：荷兰豆</a:t>
            </a:r>
            <a:br>
              <a:rPr sz="7200"/>
            </a:b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5" descr="300001041563130037199002342"/>
          <p:cNvPicPr/>
          <p:nvPr/>
        </p:nvPicPr>
        <p:blipFill>
          <a:blip r:embed="rId2"/>
          <a:stretch/>
        </p:blipFill>
        <p:spPr>
          <a:xfrm>
            <a:off x="250920" y="0"/>
            <a:ext cx="8893080" cy="666900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假期，同学们有没有做些有意义的事，          有没有去哪里玩，有没有好好复习呢？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5" descr="2011051823134687_S"/>
          <p:cNvPicPr/>
          <p:nvPr/>
        </p:nvPicPr>
        <p:blipFill>
          <a:blip r:embed="rId2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f2f2f"/>
                </a:solidFill>
                <a:latin typeface="Franklin Gothic Medium"/>
              </a:rPr>
              <a:t>不做被时间放弃的人 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anklin Gothic Book"/>
              </a:rPr>
              <a:t>金风送爽，天高云淡，在这个花果飘香的季节里，我们迎来了祖国的生日。 　　转眼间，十一国庆假一闪而过，在这个假期里，相信同学们做了不少有意义的事情，比如社会实践调查等等，我们从中也学到了很多在学校里学不到的东西，使我们受益终生。回过头来看，在短短的一个月里，我们学到了很多的知识，可是懂得越多，就越能感觉到知识的广阔，这样看来我们的时间似乎不够，不足以被我们支配了。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5" descr="http://pica.nipic.com/2008-02-22/200822203437704_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Franklin Gothic Book"/>
              </a:rPr>
              <a:t>大家知道什么是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134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Franklin Gothic Book"/>
              </a:rPr>
              <a:t>时间吗？？？？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5" descr="http://img.xiaba.cvimage.cn/4cbc5fd358eeb9b33e46000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Franklin Gothic Book"/>
              </a:rPr>
              <a:t>时间到底是什么呢？时间对于不同的人              有不同的意义。对于活着的人来说，时间          是生命；对于从事经济工作的人来说，              时间是金钱；对于做学问的人来说，时间          是资本；对于无聊的人来说，时间是债              务；对于我们来说，时间是财富，是资本，     是命运，是千金难买的无价之宝。 　　                        莎士比亚说：放弃时间的人，时间也放弃他。 　　愿我们永远不被时间放弃！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http://sports.shangdu.com/file/upload/2011_11/05/63456092624269000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anklin Gothic Book"/>
              </a:rPr>
              <a:t>1.</a:t>
            </a:r>
            <a:r>
              <a:rPr b="0" lang="zh-CN" sz="4800" spc="-1" strike="noStrike">
                <a:solidFill>
                  <a:srgbClr val="000000"/>
                </a:solidFill>
                <a:latin typeface="Franklin Gothic Book"/>
              </a:rPr>
              <a:t>秀秀你的学习计划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anklin Gothic Book"/>
              </a:rPr>
              <a:t>2.</a:t>
            </a:r>
            <a:r>
              <a:rPr b="0" lang="zh-CN" sz="4800" spc="-1" strike="noStrike">
                <a:solidFill>
                  <a:srgbClr val="000000"/>
                </a:solidFill>
                <a:latin typeface="Franklin Gothic Book"/>
              </a:rPr>
              <a:t>说说你认为好的收心方法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anklin Gothic Book"/>
              </a:rPr>
              <a:t>3.</a:t>
            </a:r>
            <a:r>
              <a:rPr b="0" lang="zh-CN" sz="4800" spc="-1" strike="noStrike">
                <a:solidFill>
                  <a:srgbClr val="000000"/>
                </a:solidFill>
                <a:latin typeface="Franklin Gothic Book"/>
              </a:rPr>
              <a:t>讲讲你的学习目标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2" descr="http://img.xiaba.cvimage.cn/4cbc5cb376d854d47644000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现在，我们来完已个                                          游戏，它叫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18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Franklin Gothic Book"/>
              </a:rPr>
              <a:t>成语接龙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5:59:33Z</dcterms:created>
  <dc:creator>微软用户</dc:creator>
  <dc:description/>
  <dc:language>en-US</dc:language>
  <cp:lastModifiedBy>admin</cp:lastModifiedBy>
  <dcterms:modified xsi:type="dcterms:W3CDTF">2012-10-24T07:45:40Z</dcterms:modified>
  <cp:revision>14</cp:revision>
  <dc:subject/>
  <dc:title>国庆假后收心教育</dc:title>
</cp:coreProperties>
</file>