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gif" ContentType="image/gif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0FE67-B38E-4439-A315-2D45C980777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2360" cy="3294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538200" y="4389480"/>
            <a:ext cx="578160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31A3-751E-4AFE-9D91-22140F7E4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6E43-518E-4B70-8933-D5851D041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2C62-6BCF-43D3-8DFE-0DBFC016D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B8B7-1EFD-4812-B1E7-E1AD0526D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2233-65A0-4A93-943A-821178CB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9916-E9CC-4715-B39E-C4815A1B8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288D-4F19-4770-8A7F-C3CD98185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A4AB-DB8C-457D-B38D-B09666C57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0D2C-AE0C-4055-8FD7-92E47A6A5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817C-A9A7-43CC-927F-CB34CDC8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2B9F-F6F2-4E96-8495-7FDF6A59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12A4-C061-4771-AD2D-EE2D2632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3CFCB-2424-49B8-AF49-86A2EE7604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slide4.xml"/><Relationship Id="rId4" Type="http://schemas.openxmlformats.org/officeDocument/2006/relationships/slide" Target="slide7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hyperlink" Target="file:///&#32929;&#31080;&#25910;&#30410;.doc" TargetMode="External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274680" y="-198360"/>
            <a:ext cx="9723600" cy="72849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51000" y="722160"/>
            <a:ext cx="7346880" cy="91692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Arial"/>
                <a:ea typeface="黑体"/>
              </a:rPr>
              <a:t>股票、债券和保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47760" y="1386000"/>
            <a:ext cx="8389800" cy="29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正确认识股票的特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)</a:t>
            </a: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可退还性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人们一旦购买了股票，便无权向公司要求退股。若要改变股东身份，要么等待公司的破产清盘，要么将股票转售给第三人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2)</a:t>
            </a: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具有较强的流通性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经国家证券管理部门审批同意后，股票可以在证券市场上流通买卖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3)</a:t>
            </a: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股票是一种高收益、高风险同在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投资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式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273400" y="173160"/>
            <a:ext cx="4740120" cy="1266840"/>
          </a:xfrm>
          <a:prstGeom prst="rect">
            <a:avLst/>
          </a:prstGeom>
          <a:ln w="0">
            <a:noFill/>
          </a:ln>
        </p:spPr>
      </p:pic>
      <p:sp>
        <p:nvSpPr>
          <p:cNvPr id="159" name="">
            <a:hlinkClick r:id="rId2" action="ppaction://hlinksldjump"/>
          </p:cNvPr>
          <p:cNvSpPr/>
          <p:nvPr/>
        </p:nvSpPr>
        <p:spPr>
          <a:xfrm>
            <a:off x="7773840" y="498600"/>
            <a:ext cx="900360" cy="493560"/>
          </a:xfrm>
          <a:custGeom>
            <a:avLst/>
            <a:gdLst>
              <a:gd name="textAreaLeft" fmla="*/ 31680 w 900360"/>
              <a:gd name="textAreaRight" fmla="*/ 868680 w 900360"/>
              <a:gd name="textAreaTop" fmla="*/ 31680 h 493560"/>
              <a:gd name="textAreaBottom" fmla="*/ 461880 h 493560"/>
            </a:gdLst>
            <a:ahLst/>
            <a:rect l="textAreaLeft" t="textAreaTop" r="textAreaRight" b="textAreaBottom"/>
            <a:pathLst>
              <a:path w="39390" h="21600">
                <a:moveTo>
                  <a:pt x="0" y="0"/>
                </a:moveTo>
                <a:lnTo>
                  <a:pt x="39390" y="0"/>
                </a:lnTo>
                <a:lnTo>
                  <a:pt x="39390" y="21600"/>
                </a:lnTo>
                <a:lnTo>
                  <a:pt x="0" y="21600"/>
                </a:lnTo>
                <a:close/>
              </a:path>
              <a:path fill="lightenLess" w="39390" h="21600">
                <a:moveTo>
                  <a:pt x="0" y="0"/>
                </a:moveTo>
                <a:lnTo>
                  <a:pt x="39390" y="0"/>
                </a:lnTo>
                <a:lnTo>
                  <a:pt x="37990" y="1400"/>
                </a:lnTo>
                <a:lnTo>
                  <a:pt x="1400" y="1400"/>
                </a:lnTo>
                <a:close/>
              </a:path>
              <a:path fill="darken" w="39390" h="21600">
                <a:moveTo>
                  <a:pt x="39390" y="0"/>
                </a:moveTo>
                <a:lnTo>
                  <a:pt x="39390" y="21600"/>
                </a:lnTo>
                <a:lnTo>
                  <a:pt x="37990" y="20200"/>
                </a:lnTo>
                <a:lnTo>
                  <a:pt x="37990" y="1400"/>
                </a:lnTo>
                <a:close/>
              </a:path>
              <a:path fill="darkenLess" w="39390" h="21600">
                <a:moveTo>
                  <a:pt x="39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990" y="20200"/>
                </a:lnTo>
                <a:close/>
              </a:path>
              <a:path fill="lighten" w="39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390" h="21600">
                <a:moveTo>
                  <a:pt x="12689" y="10800"/>
                </a:moveTo>
                <a:lnTo>
                  <a:pt x="26702" y="3794"/>
                </a:lnTo>
                <a:lnTo>
                  <a:pt x="26702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145404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广州亚运会地铁运输、市政基础建设等投资总额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 0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亿元人民币。为拓宽融资渠道，广州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建设投资发展有限公司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城市建设发行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亿元债券，用于亚运会交通工程配套项目和新电视塔项目建设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由于营利前景不错，债券销售火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亿元债券属于哪类债券？为什么债券销售火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24130" r="0" b="60684"/>
          <a:stretch/>
        </p:blipFill>
        <p:spPr>
          <a:xfrm>
            <a:off x="220680" y="174600"/>
            <a:ext cx="3790800" cy="9907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030560" y="665280"/>
            <a:ext cx="3952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稳健的投资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债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353880"/>
            <a:ext cx="8937720" cy="51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提示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)</a:t>
            </a:r>
            <a:r>
              <a:rPr b="1" lang="zh-CN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属于企业债券，因为其</a:t>
            </a:r>
            <a:r>
              <a:rPr b="1" lang="zh-CN" sz="3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发行主体</a:t>
            </a:r>
            <a:r>
              <a:rPr b="1" lang="zh-CN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广      州市建设投资发展有限公司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2)</a:t>
            </a:r>
            <a:r>
              <a:rPr b="1" lang="zh-CN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企业债券是企业以自身的经营利润作为还本付息的保证，其</a:t>
            </a:r>
            <a:r>
              <a:rPr b="1" lang="zh-CN" sz="3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利率高</a:t>
            </a:r>
            <a:r>
              <a:rPr b="1" lang="zh-CN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于国债和金融债券，并且广州市建设投资发展有限公司的</a:t>
            </a:r>
            <a:r>
              <a:rPr b="1" lang="zh-CN" sz="3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营利前景不错</a:t>
            </a:r>
            <a:r>
              <a:rPr b="1" lang="zh-CN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因而债券销售火爆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8966160" cy="24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0000"/>
                </a:solidFill>
                <a:latin typeface="宋体"/>
              </a:rPr>
              <a:t>巩固练习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小陈的爸爸、妈妈下岗了，单位一次性补助他们下岗费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万元。下岗后在一家外资企业工作的妈妈建议用这笔钱购买股票，开出租车的爸爸建议买国库券，身体不适的爷爷认为应为全家购买人身保险，而正在上高中的小陈则请求家里把这笔钱定期存在银行里，为将来自己上大学做好准备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请为小陈家拟定一项投资计划，并对其可行性加以论证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896616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提示：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)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案：将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元用于定期储蓄，购买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元国库券，为爷爷和小陈各买人身保险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元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2)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依据：小陈父母都下岗了，再就业的工作不是很稳定，购买股票有较大的风险，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因此不宜购买股票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国库券与股票相比，安全性更好，风险更小，收益也较储蓄高一些，可考虑购买一部分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国库券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爷爷上了年纪，从身体健康角度考虑，购买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人身保险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较合适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小陈正在上高中，将来上大学需要资金，存一部分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定期储蓄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可满足他以后上学的需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小陈购买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人身保险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利于小陈的健康成长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754200" y="1684440"/>
            <a:ext cx="76024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作为广州亚运会唯一的保险合作伙伴，中国人民保险集团股份有限公司成立了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20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多人的亚运服务团队。中国人保借鉴北京奥运会保险服务的成功经验，为广州亚运会设计了全面、科学、合理的风险管理方案和保险方案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去广州观看亚运赛事，除了需要购买门票，是否一定要买保险？假如发生意外了，你凭什么去保险公司理赔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55025" r="0" b="29797"/>
          <a:stretch/>
        </p:blipFill>
        <p:spPr>
          <a:xfrm>
            <a:off x="3090960" y="0"/>
            <a:ext cx="3801960" cy="9936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916360" y="909720"/>
            <a:ext cx="38890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规避风险的途径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——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保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01600" y="244440"/>
            <a:ext cx="894240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提示</a:t>
            </a: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购买保险，是规避风险的有效举措。订立保险合同，应当遵循公平互利、协商一致、自愿订立的原则。因此，我们可以自愿购买保险。假如发生意外，我们可凭保险合同到保险公司理赔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39480" y="671400"/>
            <a:ext cx="8186760" cy="568656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6600" spc="-1" strike="noStrike">
                <a:solidFill>
                  <a:srgbClr val="ff00ff"/>
                </a:solidFill>
                <a:latin typeface="Arial"/>
              </a:rPr>
              <a:t>通过本节课的学习</a:t>
            </a:r>
            <a:r>
              <a:rPr b="1" lang="en-US" sz="6600" spc="-1" strike="noStrike">
                <a:solidFill>
                  <a:srgbClr val="ff00ff"/>
                </a:solidFill>
                <a:latin typeface="Arial"/>
              </a:rPr>
              <a:t>,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zh-CN" sz="6600" spc="-1" strike="noStrike">
                <a:solidFill>
                  <a:srgbClr val="ff00ff"/>
                </a:solidFill>
                <a:latin typeface="Arial"/>
              </a:rPr>
              <a:t>你认为今后在投资理财时</a:t>
            </a:r>
            <a:r>
              <a:rPr b="1" lang="en-US" sz="6600" spc="-1" strike="noStrike">
                <a:solidFill>
                  <a:srgbClr val="ff00ff"/>
                </a:solidFill>
                <a:latin typeface="Arial"/>
              </a:rPr>
              <a:t>,</a:t>
            </a:r>
            <a:r>
              <a:rPr b="1" lang="zh-CN" sz="6600" spc="-1" strike="noStrike">
                <a:solidFill>
                  <a:srgbClr val="ff00ff"/>
                </a:solidFill>
                <a:latin typeface="Arial"/>
              </a:rPr>
              <a:t>应该注意什么问题</a:t>
            </a:r>
            <a:r>
              <a:rPr b="1" lang="en-US" sz="6600" spc="-1" strike="noStrike">
                <a:solidFill>
                  <a:srgbClr val="ff00ff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1101600"/>
            <a:ext cx="914400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投资四“注意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)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投资需谨慎。要注意投资的</a:t>
            </a: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收益性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也要注意投资的</a:t>
            </a: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风险性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2)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投资要</a:t>
            </a: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多元化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既能增加投资收益，又能降低投资的风险，不能把鸡蛋放在同一个篮子里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3)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投资要根据自己的经济实力，</a:t>
            </a: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量力而行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4)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既要考虑个人利益，也要考虑国家利益，</a:t>
            </a: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做到利国利民守法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584600" y="247680"/>
            <a:ext cx="2793960" cy="7444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91960" y="495360"/>
            <a:ext cx="2286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38040" y="2016000"/>
            <a:ext cx="7759800" cy="296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我们期待分享你成功的喜悦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4508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知识目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识记股票的含义、性质、特点；债券的含义、种类和特点；商业保险的含义、种类和特点。                             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能力目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概括出各种投资方式的特点，并根据个人实际设计一项综合投资方案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情感态度价值观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通过学习，培养为社会主义经济建设服务的观念和积极进取的意识和精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16120" y="0"/>
            <a:ext cx="27306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宋体"/>
              </a:rPr>
              <a:t>学习目标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1136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自主学习提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4160" y="723960"/>
            <a:ext cx="8889840" cy="57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一）股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股票的含义、性质、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股票的基本特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股票投资的收入、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影响股票价格的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股票市场的建立和发展的意义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债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债券的含义、性质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债券的种类及各自的投资特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三）商业保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商业保险含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商业保险分类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订立保险合同的原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1" action="ppaction://hlinksldjump"/>
          </p:cNvPr>
          <p:cNvSpPr/>
          <p:nvPr/>
        </p:nvSpPr>
        <p:spPr>
          <a:xfrm>
            <a:off x="7678800" y="1292400"/>
            <a:ext cx="193680" cy="436320"/>
          </a:xfrm>
          <a:custGeom>
            <a:avLst/>
            <a:gdLst>
              <a:gd name="textAreaLeft" fmla="*/ 12240 w 193680"/>
              <a:gd name="textAreaRight" fmla="*/ 181440 w 193680"/>
              <a:gd name="textAreaTop" fmla="*/ 12240 h 436320"/>
              <a:gd name="textAreaBottom" fmla="*/ 424080 h 436320"/>
            </a:gdLst>
            <a:ahLst/>
            <a:rect l="textAreaLeft" t="textAreaTop" r="textAreaRight" b="textAreaBottom"/>
            <a:pathLst>
              <a:path w="21600" h="48610">
                <a:moveTo>
                  <a:pt x="0" y="0"/>
                </a:moveTo>
                <a:lnTo>
                  <a:pt x="21600" y="0"/>
                </a:lnTo>
                <a:lnTo>
                  <a:pt x="21600" y="48610"/>
                </a:lnTo>
                <a:lnTo>
                  <a:pt x="0" y="48610"/>
                </a:lnTo>
                <a:close/>
              </a:path>
              <a:path fill="lightenLess" w="21600" h="48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610">
                <a:moveTo>
                  <a:pt x="21600" y="0"/>
                </a:moveTo>
                <a:lnTo>
                  <a:pt x="21600" y="48610"/>
                </a:lnTo>
                <a:lnTo>
                  <a:pt x="20200" y="47210"/>
                </a:lnTo>
                <a:lnTo>
                  <a:pt x="20200" y="1400"/>
                </a:lnTo>
                <a:close/>
              </a:path>
              <a:path fill="darkenLess" w="21600" h="48610">
                <a:moveTo>
                  <a:pt x="21600" y="48610"/>
                </a:moveTo>
                <a:lnTo>
                  <a:pt x="0" y="48610"/>
                </a:lnTo>
                <a:lnTo>
                  <a:pt x="1400" y="47210"/>
                </a:lnTo>
                <a:lnTo>
                  <a:pt x="20200" y="47210"/>
                </a:lnTo>
                <a:close/>
              </a:path>
              <a:path fill="lighten" w="21600" h="48610">
                <a:moveTo>
                  <a:pt x="0" y="48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47210"/>
                </a:lnTo>
                <a:close/>
              </a:path>
              <a:path fill="darken" w="21600" h="48610">
                <a:moveTo>
                  <a:pt x="3794" y="17299"/>
                </a:moveTo>
                <a:lnTo>
                  <a:pt x="17806" y="24305"/>
                </a:lnTo>
                <a:lnTo>
                  <a:pt x="3794" y="3131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2" action="ppaction://hlinksldjump"/>
          </p:cNvPr>
          <p:cNvSpPr/>
          <p:nvPr/>
        </p:nvSpPr>
        <p:spPr>
          <a:xfrm>
            <a:off x="7180200" y="685800"/>
            <a:ext cx="184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3" action="ppaction://hlinksldjump"/>
          </p:cNvPr>
          <p:cNvSpPr/>
          <p:nvPr/>
        </p:nvSpPr>
        <p:spPr>
          <a:xfrm>
            <a:off x="3619440" y="1930320"/>
            <a:ext cx="584280" cy="216000"/>
          </a:xfrm>
          <a:custGeom>
            <a:avLst/>
            <a:gdLst>
              <a:gd name="textAreaLeft" fmla="*/ 13680 w 584280"/>
              <a:gd name="textAreaRight" fmla="*/ 570600 w 584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8367" h="21600">
                <a:moveTo>
                  <a:pt x="0" y="0"/>
                </a:moveTo>
                <a:lnTo>
                  <a:pt x="58367" y="0"/>
                </a:lnTo>
                <a:lnTo>
                  <a:pt x="58367" y="21600"/>
                </a:lnTo>
                <a:lnTo>
                  <a:pt x="0" y="21600"/>
                </a:lnTo>
                <a:close/>
              </a:path>
              <a:path fill="lightenLess" w="58367" h="21600">
                <a:moveTo>
                  <a:pt x="0" y="0"/>
                </a:moveTo>
                <a:lnTo>
                  <a:pt x="58367" y="0"/>
                </a:lnTo>
                <a:lnTo>
                  <a:pt x="56967" y="1400"/>
                </a:lnTo>
                <a:lnTo>
                  <a:pt x="1400" y="1400"/>
                </a:lnTo>
                <a:close/>
              </a:path>
              <a:path fill="darken" w="58367" h="21600">
                <a:moveTo>
                  <a:pt x="58367" y="0"/>
                </a:moveTo>
                <a:lnTo>
                  <a:pt x="58367" y="21600"/>
                </a:lnTo>
                <a:lnTo>
                  <a:pt x="56967" y="20200"/>
                </a:lnTo>
                <a:lnTo>
                  <a:pt x="56967" y="1400"/>
                </a:lnTo>
                <a:close/>
              </a:path>
              <a:path fill="darkenLess" w="58367" h="21600">
                <a:moveTo>
                  <a:pt x="583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967" y="20200"/>
                </a:lnTo>
                <a:close/>
              </a:path>
              <a:path fill="lighten" w="583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8367" h="21600">
                <a:moveTo>
                  <a:pt x="22177" y="3794"/>
                </a:moveTo>
                <a:lnTo>
                  <a:pt x="36190" y="10800"/>
                </a:lnTo>
                <a:lnTo>
                  <a:pt x="221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4" action="ppaction://hlinksldjump"/>
          </p:cNvPr>
          <p:cNvSpPr/>
          <p:nvPr/>
        </p:nvSpPr>
        <p:spPr>
          <a:xfrm>
            <a:off x="5638680" y="3848040"/>
            <a:ext cx="406440" cy="406440"/>
          </a:xfrm>
          <a:custGeom>
            <a:avLst/>
            <a:gdLst>
              <a:gd name="textAreaLeft" fmla="*/ 26280 w 406440"/>
              <a:gd name="textAreaRight" fmla="*/ 380160 w 406440"/>
              <a:gd name="textAreaTop" fmla="*/ 26280 h 406440"/>
              <a:gd name="textAreaBottom" fmla="*/ 380160 h 40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4920" y="0"/>
            <a:ext cx="910908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348000" y="2421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260280"/>
            <a:ext cx="462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877080" y="0"/>
            <a:ext cx="1950840" cy="124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284720" y="1773360"/>
            <a:ext cx="201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28464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47640" y="1123920"/>
            <a:ext cx="52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、股票投资的收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3280" y="3284640"/>
            <a:ext cx="38862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★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股票价格上升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来的差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16000" y="2421000"/>
            <a:ext cx="37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★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股息和红利收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92720" y="3500280"/>
            <a:ext cx="274320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公司的经营状况、供求关系、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华文中宋"/>
                <a:hlinkClick r:id="rId3"/>
              </a:rPr>
              <a:t>大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心理、银行利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863320" y="24922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来源于企业利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24280" y="2743200"/>
            <a:ext cx="503280" cy="144360"/>
          </a:xfrm>
          <a:prstGeom prst="rightArrow">
            <a:avLst>
              <a:gd name="adj1" fmla="val 50000"/>
              <a:gd name="adj2" fmla="val 87157"/>
            </a:avLst>
          </a:prstGeom>
          <a:solidFill>
            <a:srgbClr val="ffffff"/>
          </a:solidFill>
          <a:ln w="3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3962520"/>
            <a:ext cx="503280" cy="144360"/>
          </a:xfrm>
          <a:prstGeom prst="rightArrow">
            <a:avLst>
              <a:gd name="adj1" fmla="val 50000"/>
              <a:gd name="adj2" fmla="val 87157"/>
            </a:avLst>
          </a:prstGeom>
          <a:solidFill>
            <a:srgbClr val="ffffff"/>
          </a:solidFill>
          <a:ln w="3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924680" y="2286000"/>
            <a:ext cx="287280" cy="2087640"/>
          </a:xfrm>
          <a:custGeom>
            <a:avLst/>
            <a:gdLst>
              <a:gd name="textAreaLeft" fmla="*/ 0 w 287280"/>
              <a:gd name="textAreaRight" fmla="*/ 103680 w 28728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229600" y="2286000"/>
            <a:ext cx="68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确定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 rot="5400000">
            <a:off x="-1326600" y="2632680"/>
            <a:ext cx="4710240" cy="8348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>
                    <a:alpha val="95000"/>
                  </a:srgbClr>
                </a:solidFill>
                <a:latin typeface="宋体"/>
              </a:rPr>
              <a:t>股市风云，变幻无常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ff">
                  <a:alpha val="95000"/>
                </a:srgbClr>
              </a:solidFill>
              <a:latin typeface="宋体"/>
              <a:ea typeface="宋体"/>
            </a:endParaRPr>
          </a:p>
        </p:txBody>
      </p:sp>
      <p:sp>
        <p:nvSpPr>
          <p:cNvPr id="74" name="">
            <a:hlinkClick r:id="rId4" action="ppaction://hlinksldjump"/>
          </p:cNvPr>
          <p:cNvSpPr/>
          <p:nvPr/>
        </p:nvSpPr>
        <p:spPr>
          <a:xfrm>
            <a:off x="6400800" y="5372280"/>
            <a:ext cx="990720" cy="761760"/>
          </a:xfrm>
          <a:custGeom>
            <a:avLst/>
            <a:gdLst>
              <a:gd name="textAreaLeft" fmla="*/ 49320 w 990720"/>
              <a:gd name="textAreaRight" fmla="*/ 941400 w 9907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8089" h="21600">
                <a:moveTo>
                  <a:pt x="0" y="0"/>
                </a:moveTo>
                <a:lnTo>
                  <a:pt x="28089" y="0"/>
                </a:lnTo>
                <a:lnTo>
                  <a:pt x="28089" y="21600"/>
                </a:lnTo>
                <a:lnTo>
                  <a:pt x="0" y="21600"/>
                </a:lnTo>
                <a:close/>
              </a:path>
              <a:path fill="lightenLess" w="28089" h="21600">
                <a:moveTo>
                  <a:pt x="0" y="0"/>
                </a:moveTo>
                <a:lnTo>
                  <a:pt x="28089" y="0"/>
                </a:lnTo>
                <a:lnTo>
                  <a:pt x="26689" y="1400"/>
                </a:lnTo>
                <a:lnTo>
                  <a:pt x="1400" y="1400"/>
                </a:lnTo>
                <a:close/>
              </a:path>
              <a:path fill="darken" w="28089" h="21600">
                <a:moveTo>
                  <a:pt x="28089" y="0"/>
                </a:moveTo>
                <a:lnTo>
                  <a:pt x="28089" y="21600"/>
                </a:lnTo>
                <a:lnTo>
                  <a:pt x="26689" y="20200"/>
                </a:lnTo>
                <a:lnTo>
                  <a:pt x="26689" y="1400"/>
                </a:lnTo>
                <a:close/>
              </a:path>
              <a:path fill="darkenLess" w="28089" h="21600">
                <a:moveTo>
                  <a:pt x="28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89" y="20200"/>
                </a:lnTo>
                <a:close/>
              </a:path>
              <a:path fill="lighten" w="28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89" h="21600">
                <a:moveTo>
                  <a:pt x="7038" y="10800"/>
                </a:moveTo>
                <a:lnTo>
                  <a:pt x="21051" y="3794"/>
                </a:lnTo>
                <a:lnTo>
                  <a:pt x="21051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00000" y="1890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债券与股票的异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95280" y="1125360"/>
          <a:ext cx="8458200" cy="5533920"/>
        </p:xfrm>
        <a:graphic>
          <a:graphicData uri="http://schemas.openxmlformats.org/drawingml/2006/table">
            <a:tbl>
              <a:tblPr/>
              <a:tblGrid>
                <a:gridCol w="533520"/>
                <a:gridCol w="1679400"/>
                <a:gridCol w="3044880"/>
                <a:gridCol w="3200400"/>
              </a:tblGrid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隶书"/>
                          <a:ea typeface="隶书"/>
                        </a:rPr>
                        <a:t>债       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股       票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72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性质不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8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受益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不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偿还方法不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5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相同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7" name=""/>
          <p:cNvSpPr/>
          <p:nvPr/>
        </p:nvSpPr>
        <p:spPr>
          <a:xfrm>
            <a:off x="2743200" y="18288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债务凭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24480" y="17668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入股凭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84360" y="2554200"/>
            <a:ext cx="304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定期取得利息，其安全性比股票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638680" y="25542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取得股息和红利，风险性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358128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有明确的付息期限，到期偿还本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36259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股金不能退，只能卖出股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666880" y="4675320"/>
            <a:ext cx="59436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都是有价证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都是集资的手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都是能获得一定收益的金融资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00000" y="260280"/>
            <a:ext cx="48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债券与股票的异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1" action="ppaction://hlinksldjump"/>
          </p:cNvPr>
          <p:cNvSpPr/>
          <p:nvPr/>
        </p:nvSpPr>
        <p:spPr>
          <a:xfrm>
            <a:off x="6197760" y="380880"/>
            <a:ext cx="660240" cy="520920"/>
          </a:xfrm>
          <a:custGeom>
            <a:avLst/>
            <a:gdLst>
              <a:gd name="textAreaLeft" fmla="*/ 33480 w 660240"/>
              <a:gd name="textAreaRight" fmla="*/ 626760 w 660240"/>
              <a:gd name="textAreaTop" fmla="*/ 33480 h 520920"/>
              <a:gd name="textAreaBottom" fmla="*/ 487440 h 520920"/>
            </a:gdLst>
            <a:ahLst/>
            <a:rect l="textAreaLeft" t="textAreaTop" r="textAreaRight" b="textAreaBottom"/>
            <a:pathLst>
              <a:path w="27373" h="21600">
                <a:moveTo>
                  <a:pt x="0" y="0"/>
                </a:moveTo>
                <a:lnTo>
                  <a:pt x="27373" y="0"/>
                </a:lnTo>
                <a:lnTo>
                  <a:pt x="27373" y="21600"/>
                </a:lnTo>
                <a:lnTo>
                  <a:pt x="0" y="21600"/>
                </a:lnTo>
                <a:close/>
              </a:path>
              <a:path fill="lightenLess" w="27373" h="21600">
                <a:moveTo>
                  <a:pt x="0" y="0"/>
                </a:moveTo>
                <a:lnTo>
                  <a:pt x="27373" y="0"/>
                </a:lnTo>
                <a:lnTo>
                  <a:pt x="25973" y="1400"/>
                </a:lnTo>
                <a:lnTo>
                  <a:pt x="1400" y="1400"/>
                </a:lnTo>
                <a:close/>
              </a:path>
              <a:path fill="darken" w="27373" h="21600">
                <a:moveTo>
                  <a:pt x="27373" y="0"/>
                </a:moveTo>
                <a:lnTo>
                  <a:pt x="27373" y="21600"/>
                </a:lnTo>
                <a:lnTo>
                  <a:pt x="25973" y="20200"/>
                </a:lnTo>
                <a:lnTo>
                  <a:pt x="25973" y="1400"/>
                </a:lnTo>
                <a:close/>
              </a:path>
              <a:path fill="darkenLess" w="27373" h="21600">
                <a:moveTo>
                  <a:pt x="27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73" y="20200"/>
                </a:lnTo>
                <a:close/>
              </a:path>
              <a:path fill="lighten" w="27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73" h="21600">
                <a:moveTo>
                  <a:pt x="6680" y="3794"/>
                </a:moveTo>
                <a:lnTo>
                  <a:pt x="20693" y="10800"/>
                </a:lnTo>
                <a:lnTo>
                  <a:pt x="6680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0" y="241200"/>
          <a:ext cx="8861400" cy="6969240"/>
        </p:xfrm>
        <a:graphic>
          <a:graphicData uri="http://schemas.openxmlformats.org/drawingml/2006/table">
            <a:tbl>
              <a:tblPr/>
              <a:tblGrid>
                <a:gridCol w="495360"/>
                <a:gridCol w="750960"/>
                <a:gridCol w="1469880"/>
                <a:gridCol w="2014560"/>
                <a:gridCol w="2100240"/>
                <a:gridCol w="2030400"/>
              </a:tblGrid>
              <a:tr h="944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储蓄存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债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股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商业保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5092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性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70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收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37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风险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798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投资特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1560600" y="142884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储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78200" y="13906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债务证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861080" y="144144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入股凭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38920" y="1276200"/>
            <a:ext cx="19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针对风险本身的投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19040" y="2962440"/>
            <a:ext cx="15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存款利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46240" y="2916360"/>
            <a:ext cx="17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债务利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99080" y="2471760"/>
            <a:ext cx="213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获取股息、红利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股票价格上升带来的差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2540160"/>
            <a:ext cx="22096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根据保险合同，获取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险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934320" y="3530520"/>
            <a:ext cx="2209680" cy="16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79600" y="4470480"/>
            <a:ext cx="11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较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1760" y="4213080"/>
            <a:ext cx="213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国债最小，金融债券中等，企业债券较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30840" y="452592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最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915240" y="4483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较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910560" y="580536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规避风险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投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30480" y="58611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便捷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投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27360" y="5981760"/>
            <a:ext cx="18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稳健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投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88000" y="587052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高风险高收益同在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投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4920" y="0"/>
            <a:ext cx="910908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09480" y="53352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3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债券的种类及其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95280" y="1052640"/>
            <a:ext cx="8748360" cy="5805000"/>
            <a:chOff x="395280" y="1052640"/>
            <a:chExt cx="8748360" cy="5805000"/>
          </a:xfrm>
        </p:grpSpPr>
        <p:sp>
          <p:nvSpPr>
            <p:cNvPr id="107" name=""/>
            <p:cNvSpPr/>
            <p:nvPr/>
          </p:nvSpPr>
          <p:spPr>
            <a:xfrm>
              <a:off x="7464600" y="5396760"/>
              <a:ext cx="1679040" cy="146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167080" y="5396760"/>
              <a:ext cx="2297160" cy="146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69560" y="5396760"/>
              <a:ext cx="2297160" cy="146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366920" y="5396760"/>
              <a:ext cx="1502280" cy="146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95280" y="5396760"/>
              <a:ext cx="971640" cy="146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000ff"/>
                  </a:solidFill>
                  <a:latin typeface="Arial"/>
                </a:rPr>
                <a:t>企业债券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464600" y="3292560"/>
              <a:ext cx="1679040" cy="210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167080" y="3292560"/>
              <a:ext cx="2297160" cy="210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69560" y="3292560"/>
              <a:ext cx="2297160" cy="210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66920" y="3292560"/>
              <a:ext cx="1502280" cy="210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95280" y="3292560"/>
              <a:ext cx="971640" cy="210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000ff"/>
                  </a:solidFill>
                  <a:latin typeface="Arial"/>
                </a:rPr>
                <a:t>金融债券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464600" y="1734480"/>
              <a:ext cx="1679040" cy="155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67080" y="1734480"/>
              <a:ext cx="2297160" cy="155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69560" y="1734480"/>
              <a:ext cx="2297160" cy="155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366920" y="1734480"/>
              <a:ext cx="1502280" cy="155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95280" y="1734480"/>
              <a:ext cx="971640" cy="155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000ff"/>
                  </a:solidFill>
                  <a:latin typeface="Arial"/>
                </a:rPr>
                <a:t>国债即政府债券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64600" y="1052640"/>
              <a:ext cx="1679040" cy="681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000ff"/>
                  </a:solidFill>
                  <a:latin typeface="Arial"/>
                </a:rPr>
                <a:t>流通性能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67080" y="1052640"/>
              <a:ext cx="2297160" cy="681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000ff"/>
                  </a:solidFill>
                  <a:latin typeface="Arial"/>
                </a:rPr>
                <a:t>   </a:t>
              </a:r>
              <a:r>
                <a:rPr b="1" lang="zh-CN" sz="2500" spc="-1" strike="noStrike">
                  <a:solidFill>
                    <a:srgbClr val="0000ff"/>
                  </a:solidFill>
                  <a:latin typeface="Arial"/>
                </a:rPr>
                <a:t>收益情况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69560" y="1052640"/>
              <a:ext cx="2297160" cy="681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r>
                <a:rPr b="1" lang="zh-CN" sz="2500" spc="-1" strike="noStrike">
                  <a:solidFill>
                    <a:srgbClr val="0000ff"/>
                  </a:solidFill>
                  <a:latin typeface="Arial"/>
                </a:rPr>
                <a:t>风险状况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366920" y="1052640"/>
              <a:ext cx="1502280" cy="681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000ff"/>
                  </a:solidFill>
                  <a:latin typeface="Arial"/>
                </a:rPr>
                <a:t>发行主体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95280" y="1052640"/>
              <a:ext cx="971640" cy="681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000ff"/>
                  </a:solidFill>
                  <a:latin typeface="Arial"/>
                </a:rPr>
                <a:t>种类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95280" y="1052640"/>
              <a:ext cx="87483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95280" y="6857640"/>
              <a:ext cx="87483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95280" y="1052640"/>
              <a:ext cx="0" cy="58050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9143640" y="1052640"/>
              <a:ext cx="0" cy="58050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366920" y="1052640"/>
              <a:ext cx="0" cy="580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869560" y="1052640"/>
              <a:ext cx="0" cy="580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67080" y="1052640"/>
              <a:ext cx="0" cy="580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464600" y="1052640"/>
              <a:ext cx="0" cy="580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5280" y="1734480"/>
              <a:ext cx="874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95280" y="3292560"/>
              <a:ext cx="874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5280" y="5396760"/>
              <a:ext cx="874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1187280" y="234936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国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23240" y="3962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金融机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5562720"/>
            <a:ext cx="226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公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（企业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89160" y="2230560"/>
            <a:ext cx="17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最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24080" y="3781440"/>
            <a:ext cx="196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高于企业债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低于国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76720" y="563868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最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86520" y="214164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最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46720" y="3933720"/>
            <a:ext cx="2054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高于国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低于企业债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86400" y="563868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最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624800" y="2311560"/>
            <a:ext cx="151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最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365960" y="3683160"/>
            <a:ext cx="204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较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20120" y="54864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最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753080" y="0"/>
            <a:ext cx="4427280" cy="5936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6560" y="0"/>
            <a:ext cx="8880480" cy="65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>
            <a:hlinkClick r:id="rId2" action="ppaction://hlinksldjump"/>
          </p:cNvPr>
          <p:cNvSpPr/>
          <p:nvPr/>
        </p:nvSpPr>
        <p:spPr>
          <a:xfrm>
            <a:off x="4267080" y="152280"/>
            <a:ext cx="584280" cy="304920"/>
          </a:xfrm>
          <a:custGeom>
            <a:avLst/>
            <a:gdLst>
              <a:gd name="textAreaLeft" fmla="*/ 19440 w 584280"/>
              <a:gd name="textAreaRight" fmla="*/ 564840 w 5842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1366" h="21600">
                <a:moveTo>
                  <a:pt x="0" y="0"/>
                </a:moveTo>
                <a:lnTo>
                  <a:pt x="41366" y="0"/>
                </a:lnTo>
                <a:lnTo>
                  <a:pt x="41366" y="21600"/>
                </a:lnTo>
                <a:lnTo>
                  <a:pt x="0" y="21600"/>
                </a:lnTo>
                <a:close/>
              </a:path>
              <a:path fill="lightenLess" w="41366" h="21600">
                <a:moveTo>
                  <a:pt x="0" y="0"/>
                </a:moveTo>
                <a:lnTo>
                  <a:pt x="41366" y="0"/>
                </a:lnTo>
                <a:lnTo>
                  <a:pt x="39966" y="1400"/>
                </a:lnTo>
                <a:lnTo>
                  <a:pt x="1400" y="1400"/>
                </a:lnTo>
                <a:close/>
              </a:path>
              <a:path fill="darken" w="41366" h="21600">
                <a:moveTo>
                  <a:pt x="41366" y="0"/>
                </a:moveTo>
                <a:lnTo>
                  <a:pt x="41366" y="21600"/>
                </a:lnTo>
                <a:lnTo>
                  <a:pt x="39966" y="20200"/>
                </a:lnTo>
                <a:lnTo>
                  <a:pt x="39966" y="1400"/>
                </a:lnTo>
                <a:close/>
              </a:path>
              <a:path fill="darkenLess" w="41366" h="21600">
                <a:moveTo>
                  <a:pt x="41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966" y="20200"/>
                </a:lnTo>
                <a:close/>
              </a:path>
              <a:path fill="lighten" w="41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366" h="21600">
                <a:moveTo>
                  <a:pt x="13677" y="10800"/>
                </a:moveTo>
                <a:lnTo>
                  <a:pt x="27690" y="3794"/>
                </a:lnTo>
                <a:lnTo>
                  <a:pt x="27690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82520" y="1463760"/>
            <a:ext cx="896148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由于经营不善，小强持有的某股份有限公司的股票一路下跌，投进去的钱出现了亏损。考虑到自己对股市风险的害怕，小强特向公司提出要把股份还给公司的请求。小强的朋友劝他说：“投资股票，‘宁可错过，不可过错’。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公司会同意小强的请求吗？公司会怎样说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     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）为什么小强的朋友说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投资股票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“宁可错过，不可过错”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rcRect l="0" t="0" r="0" b="84034"/>
          <a:stretch/>
        </p:blipFill>
        <p:spPr>
          <a:xfrm>
            <a:off x="2808360" y="-93600"/>
            <a:ext cx="3728880" cy="10224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955880" y="704880"/>
            <a:ext cx="582588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高风险、高收益同在</a:t>
            </a:r>
            <a:r>
              <a:rPr b="1" lang="en-US" sz="3000" spc="-1" strike="noStrike">
                <a:solidFill>
                  <a:srgbClr val="ff0000"/>
                </a:solidFill>
                <a:latin typeface="宋体"/>
              </a:rPr>
              <a:t>——</a:t>
            </a: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股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22200" y="244440"/>
            <a:ext cx="803448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提示：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)</a:t>
            </a:r>
            <a:r>
              <a:rPr b="1" lang="zh-CN" sz="3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会同意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因为在向股份有限公司参股投资取得股票后，</a:t>
            </a:r>
            <a:r>
              <a:rPr b="1" lang="zh-CN" sz="3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股东不能要求公司返还其出资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公司会建议小强</a:t>
            </a:r>
            <a:r>
              <a:rPr b="1" lang="zh-CN" sz="3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将股票转售给第三人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2)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投资股票是一种</a:t>
            </a:r>
            <a:r>
              <a:rPr b="1" lang="zh-CN" sz="3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高风险与高收益同在的投资方式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因此投资股票</a:t>
            </a:r>
            <a:r>
              <a:rPr b="1" lang="zh-CN" sz="3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宁可错过，不可过错”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6T10:42:30Z</dcterms:created>
  <dc:creator> </dc:creator>
  <dc:description/>
  <cp:keywords/>
  <dc:language>en-US</dc:language>
  <cp:lastModifiedBy>User</cp:lastModifiedBy>
  <dcterms:modified xsi:type="dcterms:W3CDTF">2012-11-05T10:57:26Z</dcterms:modified>
  <cp:revision>39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  <property fmtid="{D5CDD505-2E9C-101B-9397-08002B2CF9AE}" pid="3" name="Version">
    <vt:r8>1</vt:r8>
  </property>
</Properties>
</file>