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9D6-69CC-4B5E-8322-C2ECC7D46C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2AA0-966B-4B81-9120-5799CCC08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4192-E738-4DD6-9E47-C9A64A84E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E644-1815-40E4-81A1-AB840B399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036-01C6-4937-98A6-1FC2B05F2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F931-41AD-4A36-80B1-CAB6C9E48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21B-77A9-4E33-8117-BBAC423B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F81-5A04-4ED7-945B-8A67A2E7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E08-9D40-401C-9730-9A4A6309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433-CD03-41AF-BDD0-9EA524FD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904C-36C9-4B18-9805-62BF6983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EEC3-31F1-4B59-A7AD-C49A0B9C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FE1-9423-451D-8E80-4EEBA7D4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1D4D-4673-4515-B94E-6A3CC14F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271-745D-4793-9BA8-1649D8F5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22BF-FB6F-4DA0-96F1-67430800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33D2-410E-4822-A94B-38EF4EB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0CE-DCD5-410F-8B51-E43D7B0E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0A5D-FEA0-4E64-A365-895ADF81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9704-E3BD-4C94-AD95-89405068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B6D4-AF9B-4AE8-AA1A-8E554EE3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FFA6-A19A-4B36-8C4D-8E964DBD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B036-874F-4593-A1BE-D2E7F541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9723D-B752-474D-B3FD-D86AFE75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5BC3-05A3-4789-A4FB-4C92D75D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40A5-984F-41B9-B90C-AA63DFEF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BA5E-7969-483D-98F5-ACDC6C49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0D0A-7108-48C0-9265-9A103CFC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133-A527-49F9-AA6A-11CC1AAA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BD98-C706-47B2-9FE6-62960EBD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9727-58CB-48C5-AEF7-D9BF091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7B14-C2A1-47BC-A367-FBF15D9A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26E8-889C-4D32-9C0B-426417A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D5B8-D72D-468A-AB69-DDB497AD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9AA1-BA80-4421-8BAE-595008C0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A2DF-AA82-4635-A6F0-326B0FEA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1EBD3-B546-4E78-BBB7-CCFD7BEB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69051-A104-418B-8BBA-09A149EB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1AF1-FB0E-4366-987D-36CD35BF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F21-E554-411B-B380-CE34EE02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B101C-541B-4E69-9F03-28A9E6D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5D6E-6904-4368-9AF7-A61F98B7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48E2-D4B0-43AB-B72A-EE9AABAA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6059-2BDA-4456-8A99-803E6883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56F35-A773-4487-83A8-51DCF84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AEC0-D2D2-4069-AF19-FA50518E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FC64-0A83-4099-9303-351C33B0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DDE4-D1AD-43C0-82B4-3B0023A5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759B-A38D-4624-8215-23C6B85A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77C-104B-4DBE-B07A-A1D7D595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05B-D4BC-48D9-BA73-EBF397D6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0B0-19BA-4207-9F3A-944B0B7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C85-CDDF-4C48-AF23-CE5761F6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9D5-94DE-4DB3-B955-C4DAF89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9793-72FF-4914-B14F-B2753C025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129-141F-467E-8119-8E97BD70B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F88B-412B-4FAB-9D8C-85C42780D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C993-7F07-480D-A473-06866BF4C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620280"/>
            <a:ext cx="666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建国小学一年八班家长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990720" y="213372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0099"/>
                </a:solidFill>
                <a:latin typeface="Arial"/>
                <a:ea typeface="华文行楷"/>
              </a:rPr>
              <a:t>沟通，从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心</a:t>
            </a:r>
            <a:r>
              <a:rPr b="0" lang="zh-CN" sz="8000" spc="-1" strike="noStrike">
                <a:solidFill>
                  <a:srgbClr val="990099"/>
                </a:solidFill>
                <a:latin typeface="Arial"/>
                <a:ea typeface="华文行楷"/>
              </a:rPr>
              <a:t>开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"/>
          <p:cNvSpPr/>
          <p:nvPr/>
        </p:nvSpPr>
        <p:spPr>
          <a:xfrm>
            <a:off x="755640" y="620640"/>
            <a:ext cx="7561440" cy="21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宋体"/>
              </a:rPr>
              <a:t>这些好习惯是一点一滴养成的，家长不要操之过急。第一周教他做，第二周帮着做，第三周看着做，第四周放手让他自己做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  <a:ea typeface="宋体"/>
              </a:rPr>
              <a:t>.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宋体"/>
              </a:rPr>
              <a:t>。心理学家说过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21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养成好习惯，坚持</a:t>
            </a:r>
            <a:r>
              <a:rPr b="0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91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之后就会终身不变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900000" y="836640"/>
            <a:ext cx="7201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养成好习惯也需要适度的训练和惩罚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476360" y="3933720"/>
            <a:ext cx="6337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有时惩罚也是一种教育，没有惩罚的教育是不完整的教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116000" y="2565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严格要求、反复训练，是形成良好习惯最基本的方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1547640" y="1197000"/>
            <a:ext cx="684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送给家长朋友们两句话，与大家一起共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育孩子要言传身教。孩子是家长的镜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细节决定教育的成败。教育孩子要从细节做起。关注孩子的细节越多，孩子进步就越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39640" y="47628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华文行楷"/>
              </a:rPr>
              <a:t>共同品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  <p:sndAc>
      <p:stSnd>
        <p:snd r:embed="rId2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1266840" y="4762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95280" y="476280"/>
            <a:ext cx="8209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华文行楷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cc0066"/>
                </a:solidFill>
                <a:latin typeface="华文行楷"/>
                <a:ea typeface="华文行楷"/>
              </a:rPr>
              <a:t>需要说明的是，教师是人，而不是神。他们面对的是</a:t>
            </a:r>
            <a:r>
              <a:rPr b="0" lang="en-US" sz="3200" spc="-1" strike="noStrike">
                <a:solidFill>
                  <a:srgbClr val="cc0066"/>
                </a:solidFill>
                <a:latin typeface="华文行楷"/>
                <a:ea typeface="华文行楷"/>
              </a:rPr>
              <a:t>62</a:t>
            </a:r>
            <a:r>
              <a:rPr b="0" lang="zh-CN" sz="3200" spc="-1" strike="noStrike">
                <a:solidFill>
                  <a:srgbClr val="cc0066"/>
                </a:solidFill>
                <a:latin typeface="华文行楷"/>
                <a:ea typeface="华文行楷"/>
              </a:rPr>
              <a:t>个孩子，而不是</a:t>
            </a:r>
            <a:r>
              <a:rPr b="0" lang="en-US" sz="3200" spc="-1" strike="noStrike">
                <a:solidFill>
                  <a:srgbClr val="cc0066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cc0066"/>
                </a:solidFill>
                <a:latin typeface="华文行楷"/>
                <a:ea typeface="华文行楷"/>
              </a:rPr>
              <a:t>个孩子，在目前的教育体制下，也承受着很大的压力，在工作中难免也有不足之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华文行楷"/>
                <a:ea typeface="华文行楷"/>
              </a:rPr>
              <a:t>    </a:t>
            </a:r>
            <a:r>
              <a:rPr b="0" lang="zh-CN" sz="3200" spc="-1" strike="noStrike">
                <a:solidFill>
                  <a:srgbClr val="cc0066"/>
                </a:solidFill>
                <a:latin typeface="华文行楷"/>
                <a:ea typeface="华文行楷"/>
              </a:rPr>
              <a:t>所以，希望各位家长要多理解，多支持，协调好家庭与学校的关系。同时也欢迎各位对我们的工作提出意见和建议，反映孩子在家的一些情况。老师和家长的心情一样，我们有着共同的出发点。共同的愿望，那就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27" name="WordArt 5" descr=""/>
          <p:cNvPicPr/>
          <p:nvPr/>
        </p:nvPicPr>
        <p:blipFill>
          <a:blip r:embed="rId2"/>
          <a:stretch/>
        </p:blipFill>
        <p:spPr>
          <a:xfrm>
            <a:off x="858960" y="2438280"/>
            <a:ext cx="7072200" cy="2230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Shenwu_Huayu_007"/>
          <p:cNvPicPr/>
          <p:nvPr/>
        </p:nvPicPr>
        <p:blipFill>
          <a:blip r:embed="rId1"/>
          <a:stretch/>
        </p:blipFill>
        <p:spPr>
          <a:xfrm>
            <a:off x="357120" y="-500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611280" y="1197000"/>
            <a:ext cx="8076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、给孩子树立自信、鼓励点滴进步，在很大程度上，学生的学习积极性靠外部驱动，尤其低段孩子，他们更需要得到大人的赏识，有一位家长做得很好，只要有亲戚朋友来家做客，就把孩子画的画拿来给大家欣赏，客人们都把孩子夸奖了一番，后来孩子越画越好，取得了不少成绩。有家长注重孩子学习环境的布置，有专门的书架，放上孩子的书，让孩子能向别人展示自己的书，还有日记本需要准备专门的，以便能很快展示自己的作品。在别人面前，我们应该夸奖自己的孩子，孩子犯错误我们要关起门来耐心教育，给孩子面子。尤其在学习上，任何一个孩子都愿意取得好成绩，只是因为方法不当或是努力不够而暂时落后，教师和家长要为他们树立自信、指导方法，花时间帮助他克服困难、解决问题。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、多与孩子交流，多关注孩子的学习，检查孩子的作业，询问孩子在校的学习。抽读、抽背、听写、考题等。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flipV="1">
            <a:off x="857160" y="285480"/>
            <a:ext cx="770436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539640" y="13413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、  发现问题及时与老师联系，尤其是孩子思想上的问题，有时家长说的话孩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不听，孩子一般比较听老师的话，所以可以跟老师说说，让老师跟孩子说，效果还是比较好的。作为家长不要怕麻烦老师，教育孩子是我们大家的职责。但是，有些孩子比较调皮，对老师的话表面很听的，而背着老师想干什么就干什么，所以，需要我们经常联系，多交流孩子的情况，双方互相配合，让小问题消灭于萌芽状态，不要等问题严重了再找老师。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</a:rPr>
              <a:t>、 督促孩子认真完成回家作业，动作迅速，对书写质量严格要求。很多孩子的回家作业比课堂作业要差很多，因为不认真，所以错误多，而从培养孩子良好的学习习惯是非常重要的。习惯包括认真、及时作业，作业完成后能认真检查，遇到问题爱动脑筋、写字姿势正确，不睡懒觉，自己的事情自己做等等。有时也可以用一些策略来培养孩子的好习惯。例如：孩子喜欢晚上看动画片，就给他约定：今天你做作业时没有错题，你就可以看动画片，超过两个错，动画片不能看。这就是说，达不到这个标准的时候，一定要有限制，要惩罚，这个惩罚一定要剥夺他最喜欢的事情，这个时候不能心疼孩子，他达到这个标准之后，你就的奖励他最喜欢的事情，孩子通过这样的调整，慢慢地就习惯了，习惯培养的奥秘，可以总结出一句话：培养好习惯用加法，改正坏习惯用减法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42960" y="928800"/>
            <a:ext cx="770400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380880" y="16286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作为孩子的班主任，我爱每一个孩子。我们的心情是一样的。所以在教学和班级管理中我也尽自己的所能，力争使这个班的每一个孩子都得到不同程度的提高，但有时也是心有余而力不足。如果我们工作中有想不到、做不到之处，盼望家长能及时与我们交流，只要为了您的孩子尽快成长，我们一定尽力而为。</a:t>
            </a:r>
            <a:br>
              <a:rPr sz="2400"/>
            </a:b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   有些父母看到孩子成绩不理想就斥责甚至惩罚孩子，这是不妥的。学习习惯的养成是需要有一个过程的，家长要关注这个过程，学习的习惯和态度，定会有好成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79280" y="476280"/>
            <a:ext cx="7704360" cy="1191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家长跟学校配合的几点建议：</a:t>
            </a:r>
            <a:r>
              <a:rPr b="0" lang="zh-CN" sz="36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Shenwu_Huayu_007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395280" y="76500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、  有些题目孩子不懂，家长要耐心地解释题目的意思，鼓励孩子不懂就问。但是家长最好不要直接把答案告诉他，我想只要你把题目解释清楚孩子是能够自己解答的，我发现成绩不够理想的孩子，往往依赖性比较强，不愿独立思考，课堂上要么等老师讲解，要么转来转去偷看。这样的孩子在家里做作业也肯定很拖拉。家长要注意正确引导。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、  为孩子创设祥和安临的学习环境，鼓励孩子静心学习，当孩子做作业时，不要在他身边大声讲话，争论，看电视等。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我们了解到很多家长为了孩子安静地学习，在孩子做作业时从来不看电视，等孩子睡了再看，我很赞同这样的做法，只要孩子能听到电视的声音，是无法认真思考的，如果他在抄写，他能记住这几个字吗；如果他在做数学题，我想再简单的题也会做错的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?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 flipV="1">
            <a:off x="179280" y="395640"/>
            <a:ext cx="770436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128592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抓态度。要求学习专心、认真、细心，勇于克服学习中的困难，书写要工整，清洁、准确，不能虎头蛇尾。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2 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抓作业。要保质保量，规定放学必须先写作业，自己检查，确任无误后家长在检查，培养孩子的责任心。家长辅导一定要有耐心，不要间断，成绩的提高才有保证。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3 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抓技能。如想问题，做作业时要准确、迅速，在质中求快。语言表达要清楚、生动。手工操作、口头背诵要求熟练。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4 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抓能力。主要是观察力、注意力、记忆力、想象力与思维力，在课余时间要鼓励孩子学会观察与思考。</a:t>
            </a:r>
            <a:br>
              <a:rPr sz="2000"/>
            </a:b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   孩子年龄小，培养的开始应带有一定的强制性，即具体要求、具体督促、具体检查、有的家长要求一大堆，却不认真检查落实，时间长了，孩子摸透了家长的脾气，进而钻了家长得空子。只有对孩子具体要求，认真检查，才能使孩子感觉家长要求的严肃性，进而要约束自己把要求化为行动。实践证明，对孩子的学习只能坚持正确要求，好的学习习惯定能够养成，学习成绩也能得到提高。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79280" y="476280"/>
            <a:ext cx="7704360" cy="1191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几个建议仅供参考：</a:t>
            </a:r>
            <a:r>
              <a:rPr b="0" lang="zh-CN" sz="36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1"/>
          <p:cNvSpPr/>
          <p:nvPr/>
        </p:nvSpPr>
        <p:spPr>
          <a:xfrm>
            <a:off x="1258920" y="1052640"/>
            <a:ext cx="7632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  <a:ea typeface="华文行楷"/>
              </a:rPr>
              <a:t>谢谢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  <a:ea typeface="华文行楷"/>
              </a:rPr>
              <a:t> 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  <a:ea typeface="华文行楷"/>
              </a:rPr>
              <a:t>您们对我工作的支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  <a:ea typeface="华文行楷"/>
              </a:rPr>
              <a:t>希望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  <a:ea typeface="华文行楷"/>
              </a:rPr>
              <a:t> 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  <a:ea typeface="华文行楷"/>
              </a:rPr>
              <a:t>您能提出宝贵意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900000" y="549360"/>
            <a:ext cx="734544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楷体"/>
              </a:rPr>
              <a:t>       </a:t>
            </a:r>
            <a:r>
              <a:rPr b="1" lang="zh-CN" sz="5400" spc="-1" strike="noStrike">
                <a:solidFill>
                  <a:srgbClr val="336600"/>
                </a:solidFill>
                <a:latin typeface="Arial"/>
                <a:ea typeface="华文楷体"/>
              </a:rPr>
              <a:t>感谢你们能从百忙之中抽出时间到校参加会议，谢谢你们对我们工作的支持</a:t>
            </a:r>
            <a:r>
              <a:rPr b="1" lang="en-US" sz="5400" spc="-1" strike="noStrike">
                <a:solidFill>
                  <a:srgbClr val="336600"/>
                </a:solidFill>
                <a:latin typeface="Arial"/>
                <a:ea typeface="华文楷体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3714840" y="4500720"/>
            <a:ext cx="44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感 谢 光 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826920" y="1052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家长会的目的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938760" y="2059920"/>
            <a:ext cx="16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土地不种荒一年，子女不教误一生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153680" y="30679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父母是孩子的第一任启蒙老师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402080" y="393300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老师是孩子成长的引路人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54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班级情况总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16000" y="1628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孩子的进步值得高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042920" y="393372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存在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3851280" y="2781360"/>
            <a:ext cx="358920" cy="29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427640" y="2565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到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4427640" y="3500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听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356000" y="4437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说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356000" y="551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学习用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539640" y="1662120"/>
            <a:ext cx="8064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守纪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霍人瑞  李佳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611280" y="43657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爱学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康恒臻  孙欣炀  康柯蔚   李浩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李虹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11280" y="3357720"/>
            <a:ext cx="7993080" cy="581400"/>
          </a:xfrm>
          <a:prstGeom prst="rect">
            <a:avLst/>
          </a:prstGeom>
          <a:noFill/>
          <a:ln w="9360">
            <a:solidFill>
              <a:srgbClr val="8a95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讲卫生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多数学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3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755640" y="692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宋体"/>
              </a:rPr>
              <a:t>学生良好习惯的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华文行楷"/>
              </a:rPr>
              <a:t>培养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宋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116000" y="1700280"/>
            <a:ext cx="5545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孩子的礼仪教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1128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宋体"/>
              </a:rPr>
              <a:t>一行为习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363840" y="2708280"/>
            <a:ext cx="14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孩子的合群教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346560" y="3500280"/>
            <a:ext cx="14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孩子的诚信教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1042920" y="4149720"/>
            <a:ext cx="7416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孩子的自我保护意识和安全意识的教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1042920" y="620640"/>
            <a:ext cx="3672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 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二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卫生方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116000" y="3429000"/>
            <a:ext cx="590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孩子要注重个人卫生，着装要干净整洁，周一必穿校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042920" y="1700280"/>
            <a:ext cx="59054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每位学生上学后都要带好纸巾和水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2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904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"/>
          <p:cNvSpPr/>
          <p:nvPr/>
        </p:nvSpPr>
        <p:spPr>
          <a:xfrm>
            <a:off x="395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学习方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541680" y="184464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放学后与孩子多交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553920" y="299736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养成良好的读书习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332000" y="3716280"/>
            <a:ext cx="5769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教会孩子自己准备好学习用品，每天整理好书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" descr="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1476360" y="2708280"/>
            <a:ext cx="3887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辅导孩子的学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414320" y="3789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让孩子养成家庭学习的好习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95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学习方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1403280" y="1557360"/>
            <a:ext cx="453708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做孩子学习榜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1:53:05Z</dcterms:created>
  <dc:creator>12</dc:creator>
  <dc:description/>
  <dc:language>en-US</dc:language>
  <cp:lastModifiedBy>admin</cp:lastModifiedBy>
  <dcterms:modified xsi:type="dcterms:W3CDTF">2014-01-08T13:51:02Z</dcterms:modified>
  <cp:revision>136</cp:revision>
  <dc:subject/>
  <dc:title>幻灯片 1</dc:title>
</cp:coreProperties>
</file>