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6AB-0DD5-4384-9F55-C46BA5BD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CDF-2594-4FEA-8A2C-020F203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AB3-520C-471A-A28F-265CC1A3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1A1-7988-474E-8FEF-3C006603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489-4E21-480F-AE74-3F107CA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A6E-46E8-4AAE-B468-509CCD3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B91-D8D7-46E1-83F8-173E3EC6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2FD-4B9D-473D-8771-2DD94BD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42B-7CD4-4C83-ADF9-5009BCD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A5A-6FEB-455B-9D63-AF7A7E8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2FA-9897-499F-8F89-8AEA94B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8E9-1710-487A-961D-05403BD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CD3-B780-4FE5-B852-38044E6E0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高考作文要突出亮点</a:t>
            </a:r>
            <a:br>
              <a:rPr sz="6000"/>
            </a:br>
            <a:br>
              <a:rPr sz="6000"/>
            </a:br>
            <a:r>
              <a:rPr b="1" lang="zh-CN" sz="4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华南师大附中  邹寿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关于“套作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套作的文章主要有三大特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观点套用。比如不管以什么为标题，都套上“诚信”“坚持”“勇气”“真善美”等等。以“常识”为话题，则论述“坚持”“勇气”“诚信”“真善美”的所谓“常识”；以“与你为邻”为标题，则论述要与“坚持”“勇气”“诚信”“真善美”为邻；以“回到原点”为标题，则论述要回到“坚持”“勇气”“诚信”“真善美”的原点。有些甚至属于离题作文。同样，以“不放下”为标题，也论述“坚持”“勇气”“诚信”“真善美”等之所以“不放下”的理由。考生没有自己的看法，没有自己的生活体验和认识，只是一味地把这些观点往文章里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材料套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套用。比如开头、结尾点题，中间套作，设三个分论点并列论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文要表现自己的真情实感，在备考过程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是要鼓励和指导考生写自己对生活的感受和对社会现象的看法。力求写出自己的与众不同的看法，不要套用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是要避免论据的陈旧化，要使用鲜活的论据（当然，旧论据也可以有新角度）平时要多点积累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是要反对结构的模式化，尤其不要动不动就是并列几个分论点（并非否定并列结构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二、高考作文如何突出亮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（一）  深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从实到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探究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揭示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逐层深入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因果分析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辨证分析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对比论证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提炼富有哲理意味的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高考作文标杆卷一号文，有两段文字被作文评卷组认为写得非常精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情感是原点，是坐标中心，可生活怎么就离它越来越远呢？学生埋头苦读，眼里充斥着数学公式，英语单词，对他人与社会却渐渐变得冷漠；父母拼命赚钱，为孩子提供更优质的生活，与孩子的交流却少的可怜；白领日夜加工，为事业拼搏，却快要连回家的路都忘记了……太多的欲望让我们有了太多的渴求，太多的渴求给我们带来了太大的压力。沉重的负担让我们只顾埋头前行，或许我们连回转身看一下原点的勇气都没了。因为我们恐惧于发现我们离它是多么的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但是，当家变成只供休息的旅馆，当朋友变成只是过节时互相问候的对象，当家人变成同一屋檐下的“室友”，当关爱只意味着给钱，当成功只意味着升职，当我们把一切的情感都物化时，我们与机器人何异？或许我们可以暂时用楼房车子暂时掩盖自己的空虚，或许我们可以用灯红酒绿的生活暂时藏起自己的孤独，可总有一天，远离原点的生活失去了向心力，便会把我们甩的远远的。所以，还是回到原点吧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还是关注一下自己的情感吧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精彩在什么地方呢？一是紧扣题意，看得出是现场发挥出来的，二是深刻地反映了现实生活，三是恰当使用修辞方法，语言表达流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（二）  有  文  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被评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（全市最高分）的《不放下》一文，就是一篇有文采的文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当我第一次在电视上看见你，竟心生一丝敬畏。你唯一的眼睛里，射出的是无所畏惧的光芒，是永不放下的信念。玛丽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柯尔文，不知身在天堂的你，现在可否休息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你是女记者中的异类。安逸的生活不要，却偏偏要往人间炼狱的战场中钻。有多少人劝阻过你，有多少人不理解你，你却依然故我。无需多言，我知道你不会放下的。这是你所钟爱的事业，是你一眼便选定的宿命，你所坚守的，是你对战地记者的爱，是一名新闻工作人员对真实、时效与冒险的毕生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然而无畏的你遇到了生命中的一道坎。你只身突破封锁线，用双眼、双耳、双手记录下战场中人性泯灭与光辉，见证了所有的罪恶与美好。或许是承载了太多，让上帝也心生嫉妒，一枚手榴弹夺去了你敏锐的左眼，捂住了你的左耳。回到祖国、伤痕累累的你赢来了无数的奖励、荣誉与赞扬，你却无所适从，你说每接一份奖就增添给你一份罪恶感——这荣誉是以无数人的鲜血换来的啊！当身体与心灵的伤口都痊愈后，你又义无反顾地奔往战场。无需多言，我知道你是不会放下的。战场上的鲜血与罪恶都在等着你为他们超度，无辜的居民，无助的眼神，都呼唤着你给他们保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亲人的眼泪，友人的劝阻，旁人的冷眼，都阻挡不了你。荣誉、鲜花、名声、金钱，都绊不住你。当你再一次以如同海盗般的独眼出现于众人面前时，他们都震惊了。他们纳罕究竟是什么让这样一个女人在挫折、在诱惑前始终不放下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是爱呀，是对事业，对人，对和平炽热的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是的，你的不放下中，凝聚着的是人类最珍贵美好的大爱。你愿意为了更多的人的幸福，将自己的生死抛于脑后。这般伟大的你，怎会轻易放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你的不放下，带来的绝不仅是你个人的成就，还有全世界对战争的厌恶，对和平的渴望。你大概是上天派下来的天使，要以永不放下的执着，过人的勇气，真实而犀利的文字来唤醒天下众生的人性，来驱散罪恶，还一片美好于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直至生命的最后一刻，你仍未放下。无需多言，你不放下的，是人性，是大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致敬，玛丽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柯尔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篇文章理解题意准确，选材鲜活，思想深刻，感情充沛，语言流畅，有文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、“平庸”作文的主要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一）思想肤浅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表现为观点没深度，或堆聚材料，缺少分析，或虽有分析，但未及本质，不够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选材一般化。（主要指记叙文，所选的材料不能反映现实生活的本质，不典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般说来，使语言表达生动形象，富有文采，有如下一些方法：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巧用修辞方法。如《沙田山居》中的比喻和拟人，《滕王阁序》中的对偶，《我与地坛》中的排比，等等。这里需要特别提醒的是，近年来，有的考生滥用修辞方法，例如，比喻不成立、为排比而排比，等等。切记，所有修辞方法的使用，都必须以自然、合理为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提炼传神动词。如《祝福》中祥林嫂眼珠的“间或一轮”，《守财奴》中葛朗台的眼睛在不同场合的“瞪”、“盯”、“瞅”、“瞧”等动作，刻画人物惟妙惟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使用幽默语言。如鲁迅作品中的语言，就很风趣幽默，令人捧腹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引用俗语。如《庄子：在我们无路可走的时候》中引用熟语“赤条条来去无牵挂”“破罐子破摔”，使语言既通俗易懂、深入浅出又生动活泼、新鲜有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变换句式。根据表达需要，恰当地变换长句和短句、常式句和变式句、设问句和反问句，可以使行文摇曳多姿；同时可穿插使用整句和散句，如《我的空中楼阁》，句子匀称而又错落有致，有一种参差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恰当使用名言名句、成语典故，使文章落笔不凡，词汇丰富，高人一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绘形绘声绘色。如《故乡的榕树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综合运用多种表达方式。如《故乡的榕树》，综合运用了叙述、描写、抒情、议论等表达方式，从而使文章生动形象、富有文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提醒考生注意，形式是为内容服务的，不要为文采而文采。其中修辞手法的运用必须是恰当的、合理的，否则就会弄巧反拙了。如“一模”中有一篇文章在开头部分写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大地放不下地震带来的龟裂，森林放不下火山带来的死寂，沙漠放不下炎热带来的绝望，地球放不下陨石带来的凹陷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里的拟人、排比极不合理，极不自然。这是不好的文风，是我们要坚决反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（三）有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教学案例：（作文备考“四部曲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的高三的语文备考训练有“八大系列”，其中作文备考系列是其中的一个系列，其实就是把高考作文的要点分开，通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次作文训练来落实，依次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命题（话题）作文审题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新材料作文审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立意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选材（论据）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内容充实、中心突出、感情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文体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深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丰富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文采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开头和结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拟写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次用连堂进行作文训练，先由老师讲半个钟头，然后学生用大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的时间写作。老师讲评内容要呼应前面辅导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一个环节：写作辅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１）见解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２）角度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３）材料鲜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……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常常做梦，希望自己左边的空位上也坐着那么一位多愁善感的少女。或许有那么一天，她打开夹着枫叶的笔记本，清风过，枫叶落地，我立刻把它捡起，问‘可以送我吗？’之后我就潇洒地弹着吉他，与她在湖边看蓝天、白云……可惜得很，全班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位同学，独我是第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个，不得不独坐一位，旁边是装满了空气的空气，比别人多一倍的空间伸懒腰。虽然‘意难平’，也不得不心怀‘十年寒窗苦读书’的名言，以此自诫，独坐一位。……测验考试，因无处可瞟，只得立下苦心，事先好好复习 。期末统考，单桌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条好汉，独我脱颖而出，科科九十，传经授道时，我大呼曰‘此乃独坐之妙也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４）构思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议论文采用“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”式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或欲扬先抑（欲抑先扬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或采用因果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如“一模”例文一写“放下”的三种境界，这种构思是新颖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５）表达新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谓表达新，就是记叙议论抒情的用语跳出了一般表达的框框，词语有新的组合而又合情合理合规则，给人一种新鲜感。例如以《水上人家》为标题的一篇文章中的一段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水上人把田种在船上，把地种在船上，把希望也种在船上。他们的田无根，地无根，家也无根。于是，他们的生活是飘动着的。水上人依偎在水的怀抱里，听河心跳动，听汛期喜讯。春潮一到，瘦瘦的江水一夜之间就肥胖起来了。等洪水退去，水上人披蓑戴笠，站立船头，一手拿鱼叉，一手握捞兜，用鱼叉钳住时光，用捞兜打捞生活；月上中天，水上人把月亮泡在茶杯里，坐在船头，让自己慢慢解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观点一般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标杆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号文中所设的三个分论点：放下，是一种满足；放下，是一种智慧；放下，是一种成就。除了第二个稍好外（这一点也是从材料中抄写下来的），其他两个都不理想；一方面，分论点作为判断句，前后两个概念是不对应的：“放下”是行为，而“满足”是心理状态；“放下”与“成就”之间也缺少内在的联系。另一方面，这样的分论点不像是经过深入思考得出的，而像是很随意地提出来的，它太普通了，太没有个性了，因而显得很平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语言表达新颖，有如下一些技巧可供借鉴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炼字求新。如“红杏枝头春意闹”的“闹”字，“春风又绿江南岸”的“绿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拆词求新。如“有实事求是之意，无哗众取宠之心”，分别将“有无”、“心意”两词拆开，形成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意蕴求新。如《水上人家》中的“用鱼叉钳住时光，用捞兜打捞生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语求新。如《藤野先生》中说清国留学生“标志”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引用求新。如《故乡的榕树》中神话传说的引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仿词求新。如《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传》中仿“深闺”造出“浅闺”一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移用求新。如《记念刘和珍君》中“我将深味这非人间的浓黑的悲凉”中的“浓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借新词求新。如“给力” 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借歌词求新。如“该出手时就出手”、“我的未来不是梦”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二个环节：写作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以“我多想对你说”为标题写一篇不少于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字的文章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三个环节：作文讲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学生讨论本次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生发言节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审题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篇例文评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教师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审题、亮点与不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篇例文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第四个环节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反思与重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生反思节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7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评卷老师厌恶“平庸”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高分作文拒绝“平庸”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教会学生反对“平庸”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高考作文要突出亮点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平面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标杆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号文设了三个分论点，分别是“放下自卑，活出自己的精彩”，“放下虚名假利，实现个人价值”，“放下所谓的面子，矗立于世界民族之林”，这篇文章除了分论点本身较浅，表述欠严谨，表意上有交叉，并且缺乏一个有机的统辖之外，其主体部分结构是三段并列，是平面化的，每一段的论述不深入，段与段之间也没有逐层深入的关系，其思想深度从头到尾都是停留在一个平面上的，是比较典型的“三段式”，自然给人肤浅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段式”的文章，如果设置得好，论述深刻，本来也是可以的，它有利于使文章思路清晰，结构严谨。写作有困难的考生可以考虑采用这种结构方式，因为它总比写得毫无章法要好。但它是有利有弊的，如果没有处理好，其效果就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叙而不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只是简单的观点加事例，不懂得去分析，去揭示论据的意义，去说明这个论据是如何地证明了论点。这样的文章还只是停留在初中的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议而不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的文章虽然在列举论据之后有分析，但这个分析还只是停留在表面上，没有涉及到问题的本质，很不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二）缺少创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表现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论点陈旧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让评卷老师感到很熟悉。比如：“诚信”“坚持”“勇气”等，看得多了，听得腻了，就会感到很陈旧。不是说这些观点不能论述，问题在于怎么论述出新意。如果无法讲出新意，倒不如不讲为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论据陈旧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模作文中，有一些通篇使用陈旧论据，不能给人新鲜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生平时一定要关心天下大事，关注身边的生活，有了源头活水，写作时才会有鲜活的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构思俗套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如，有一篇文章，开头一段用一句话总说：“人生不能放下的东西很多，如自信、希望、追求。”第二段提出第一个分论点：“不放下自信”，举了李四光、德摩斯尼（从口吃到演说家）的例子；第三段提出第二个分论点：“不放下希望”，举了海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凯勒和贝多芬的例子；第四段提出第三个分论点：“不放下追求”，举了刘伟的例子。第五段呼应开头：“在人生旅途中，我们不能放下自信、希望、追求。”这样的文章虽然符合题意，材料丰富、运用并列结构，首尾呼应，看上去条理清楚，但确实太平庸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语言表达一般化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的显得生硬、呆板、枯燥，有的不够通顺，有的虽然还算通顺，但谈不上流畅，谈不上有文采。这样的文章，随便可以找出许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2T13:48:51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