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4C4-9FF9-4B64-9CB6-0DD9E5C6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7ED-7F75-4204-9DBA-C770A5B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8EE-AFA5-4CF2-AA99-3ED219BF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FFB-58A1-4DDA-B985-051A0B4D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4A5-3182-4980-994F-9F1C9A5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20C-44D4-4F54-A5A6-767E16D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862-69B9-408A-9FA8-0C3305D0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AD0-3C34-41F6-951A-AF4EEDC2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351-6B06-4632-A606-EB33759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DA2-DC39-4DCC-A88F-ED59FA8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2A6-509C-4E19-952D-E12F26E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2EE-2017-477A-B481-A35D7B85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4E8-BE11-426F-8712-06DEE6EDF9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冰凝\Desktop\ppt 比赛\未标题-1-01.jpg"/>
          <p:cNvPicPr/>
          <p:nvPr/>
        </p:nvPicPr>
        <p:blipFill>
          <a:blip r:embed="rId10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冰凝\Desktop\ppt 比赛\未标题-1-02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冰凝\Desktop\ppt 比赛\未标题-1-03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冰凝\Desktop\ppt 比赛\未标题-1-04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冰凝\Desktop\ppt 比赛\未标题-1-05.jpg"/>
          <p:cNvPicPr/>
          <p:nvPr/>
        </p:nvPicPr>
        <p:blipFill>
          <a:blip r:embed="rId1"/>
          <a:stretch/>
        </p:blipFill>
        <p:spPr>
          <a:xfrm>
            <a:off x="3240" y="-468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冰凝\Desktop\ppt 比赛\未标题-1-06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冰凝\Desktop\ppt 比赛\未标题-1-07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冰凝\Desktop\ppt 比赛\未标题-1-08.jpg"/>
          <p:cNvPicPr/>
          <p:nvPr/>
        </p:nvPicPr>
        <p:blipFill>
          <a:blip r:embed="rId1"/>
          <a:stretch/>
        </p:blipFill>
        <p:spPr>
          <a:xfrm>
            <a:off x="0" y="-468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clf2015</cp:lastModifiedBy>
  <dcterms:modified xsi:type="dcterms:W3CDTF">2015-10-30T07:11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