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687-8D5F-4094-8A2F-6A389422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F17-7B6D-41A0-9D90-C76C16FD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C165-2F05-4C73-AC19-81EBA3295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4A4-C124-48B2-9CD0-CA66A91F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5B7-49C5-4A06-9BDB-90F1AA0F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95DF-7BD9-4F5D-B3EB-EE114BC4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678C-0C61-42B4-AFD3-0B4E8747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481E-954A-4949-A03F-80D40D36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067-BAA1-4A0E-98CB-138AC73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CC9-ED69-44CE-8988-D3C8F79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A13-901D-47E3-B9F0-ADD7DBEA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AAA-AFF1-4DFC-9AF3-01BB4B48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DAE4-8141-49D8-9FE6-F0D2B556CE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hyz.org/lyj/ewebd/banhui/heka3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725040" y="620640"/>
            <a:ext cx="2861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感 恩 老 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14172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犹豫，彷徨之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84720" y="620640"/>
            <a:ext cx="37846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59280" y="765000"/>
            <a:ext cx="4038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否会想起他们，你的老师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113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1197000"/>
            <a:ext cx="3383280" cy="5073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314172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时时刻刻在我们身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叮嘱我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感动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989000"/>
            <a:ext cx="45720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你在哪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遇到些什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想他们说过的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能看到希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能给人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62268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59280" y="765000"/>
            <a:ext cx="3767040" cy="5650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4000" y="2492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即使经常被人拒之门外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他们的门永远为你敞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3284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就是他们——我们的老师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36705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老师，您是这样的人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1200" y="1654200"/>
            <a:ext cx="807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练操时——您是体操专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布置板报时——您是画家、美术设计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合唱比赛时——您是演唱家、指挥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主题班会时——您是导演、主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和我们谈心时——您是心理医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管理班级时——您是警员、卫士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陪伴我们成长——您是心灵导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培养我们成才——您是灵魂的工程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24000" y="2205000"/>
            <a:ext cx="8075520" cy="33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您要担任那么多的角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家和社会赋予了您那么多的重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您每天连续十小时以上地辛勤劳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日夜夜近乎义务地付出，付出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1219320"/>
            <a:ext cx="4495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在孤寂的荒滩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所有的心血写下知识的诗篇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抛起生命的弧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无知走向成熟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用深情的目光放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肩头的一只只小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送他们去搏击风雨长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向没有终点的远方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时间把岁月切割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春夏秋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任一年三百六十五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满沧桑坎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371600"/>
            <a:ext cx="38098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您是一只永不疲惫的般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于黑夜与白天之间摆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遥遥的彼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少手臂在致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您瘦成一轮弯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挂在学生心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很久很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繁花重开的季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插一束温馨于花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让九月的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盛开在您的窗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70040" y="14400"/>
            <a:ext cx="36766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 </a:t>
            </a:r>
            <a:endParaRPr b="0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  </a:t>
            </a:r>
            <a:r>
              <a:rPr b="0" lang="zh-CN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献给老师的歌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5892480" cy="4456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348000" y="191628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我们都知道，老师所做的是为我们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有时又不得不去怀疑，觉得反复的批评与惩罚都是故意跟自己过不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这次班会过后，希望你能够坚信，老师所做的一切都是为了我们的前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解感恩，为什么要感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培养学生尊敬老师、热爱老师的思想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95640" y="692280"/>
            <a:ext cx="3529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班会内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484280"/>
            <a:ext cx="813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050920" y="371628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5280" y="4869000"/>
            <a:ext cx="590364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inishe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56000" y="404280"/>
            <a:ext cx="4330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恩，是一条人生基本的准则，是一种人生质量的体现，是一切生命美好的基础。感恩是生活中的大智慧，能使我们感受到大自然的美妙、生活的美好，能保持我们的积极、健康、阳光的良好心态。怀有感恩之情，对别人、对环境就会少一份挑剔，多一份欣赏和感激。感恩，是一种美好的情感，是病入道义上的净化剂、事业上的原动力和内驱力，是人的高贵之所在。感恩将使你的心和你所企盼的事物联系得更紧，感恩将使你对生活、对一切美好事物的信念，从而一生被美好的事物包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189000"/>
            <a:ext cx="42796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303840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4328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你的童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没有一个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你记住某些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863880" cy="579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95280" y="2997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此你的生活有了改变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87640" cy="583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7640" y="2924280"/>
            <a:ext cx="43275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事会被忘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些事则会留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忆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12283"/>
          <a:stretch/>
        </p:blipFill>
        <p:spPr>
          <a:xfrm>
            <a:off x="395280" y="1557360"/>
            <a:ext cx="4464000" cy="338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0552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多年以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否会记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人，那个教会你一切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697800" cy="4948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400" y="4365720"/>
            <a:ext cx="82296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孤独之时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3727440" cy="5589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3357720"/>
            <a:ext cx="3745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牵着某人的手沉浸于幸福之时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6T04:50:46Z</dcterms:created>
  <dc:creator>jgv</dc:creator>
  <dc:description/>
  <dc:language>en-US</dc:language>
  <cp:lastModifiedBy>jgv</cp:lastModifiedBy>
  <dcterms:modified xsi:type="dcterms:W3CDTF">2011-08-26T14:13:53Z</dcterms:modified>
  <cp:revision>9</cp:revision>
  <dc:subject/>
  <dc:title>幻灯片 1</dc:title>
</cp:coreProperties>
</file>