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E29-0BB4-4B7B-928A-611621AF3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3330-78C5-4E12-861A-1FBE4FF2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3969-3E67-4F5B-9063-CCDD046A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85E-EFE1-4244-8E18-EDDD1825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E33-8602-49E2-BD77-EFD64C0D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CD8-BDF6-4F78-90F4-23EE9BF7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36B-ED98-4F43-AF98-1FB14293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C8D9-A084-4C16-B86F-1A1F11CF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FDF-AC66-40F3-AE80-7971A5E3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C29-AB6D-4E3C-AD3C-58C260F4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AA3-1E59-4CDB-A989-C1ED8FAA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C79-7E2D-4FA6-9531-DC0DD4A8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D477-B1B8-4471-991A-56661CA4ED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info.printing.hc360.com/2009/09/100813106042.shtml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gsrc.baidu.com/baike/pic/item/8bc3a70124a57728738da5c6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imgsrc.baidu.com/baike/pic/item/c9bdddcef7757e2892457e90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imgsrc.baidu.com/baike/pic/item/0e655ca78bb64abed1435895.jpg" TargetMode="External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105520" y="5791320"/>
            <a:ext cx="3504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仿宋_GB2312"/>
              </a:rPr>
              <a:t>三年七班主题班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43200" y="3010680"/>
            <a:ext cx="3048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度春风化绸缪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番秋雨洗鸿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黑发积霜织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粉笔无言写春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蚕丝吐尽春未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烛泪成灰秋更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播桃李三千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来硕果满神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335160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当汶川县映秀镇的群众徒手搬开垮塌的镇小学教学楼的一角时，被眼前的一幕惊呆了：一名男子跪仆在废墟上，双臂紧紧搂着两个孩子，像一只展翅欲飞的雄鹰。两个孩子还活着，而“雄鹰”已经气绝！由于紧抱孩子的手臂已经僵硬，救援人员只得含泪将之锯掉才把孩子救出。这名男子是该校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9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的老师张米亚。“摘下我的翅膀，送给你飞翔。”多才多艺、最爱唱歌的张米亚老师用生命诠释了这句歌词，用血肉之躯为他的学生牢牢把守住了生命之门。大震中，张老师的妻子、同是该校老师的邓霞和他们不满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的儿子也被垮塌的房屋深埋…… 汶川县映秀镇幼儿园的聂晓燕老师始终守护在垮塌的教学楼旁边，目不转睛地看着武警官兵用手扒开废墟。直到她遇难的孩子被挖出，聂晓燕的眼泪终于如山洪暴发：“娃……娃娃……妈妈……来不及……啊……”地震时，孩子们都在睡午觉，聂晓燕一手一个抱出了两个孩子，而她自己的孩子还在屋子里！“娃娃，你的脸怎么这么脏啊？”聂晓燕打开带在身边不知多久的崭新粉红色棉褥，小心翼翼包裹孩子，“妈妈给你洗干净。”她和丈夫用手帕轻轻地擦着孩子满是灰尘的头发和脸蛋，好像生怕把孩子弄醒。 旁边一位武警战士用安全帽使劲地敲着自己的脑袋，让疼痛阻止泪水倾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38088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楷体_GB2312"/>
              </a:rPr>
              <a:t>向所有的老师致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 rot="5400000">
            <a:off x="461520" y="2280960"/>
            <a:ext cx="6391440" cy="228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今天你想对老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师说些什么？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914400"/>
            <a:ext cx="6248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86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53816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0"/>
            <a:ext cx="47926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九月，如期而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世界因此灿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歌唱九月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因为这是您永恒的节日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牢记的九月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因为这是我们真诚的表白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九月，是只情满四溢的杯子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们用双手高高地举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片真诚的祝福声中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请您干杯。九月的乐章已经奏响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请接受我们九月的献礼吧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所有拼搏在教育战线的老师们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请您干杯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那心中的红烛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谢谢您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期的教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老师感谢您的照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使我大胆的向前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走出了人生的道路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5400000">
            <a:off x="5638320" y="3047760"/>
            <a:ext cx="548640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教师节的由来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历史上曾建立过教师节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教育家邰爽秋、程其保等在南京中央大学集会，发表要求“改善教师待遇，保障教师工作和增进教师修养”的宣言，并议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为教师节，也称双六节。不久，国民党政府先是同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为教师节，后又将教师节改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（孔子生日）。建国后，中央人民政府曾恢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为教师节，教育部通告各地教育工作者，可以根据实际情况自行组织庆祝活动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全国教育工会成立，教育工作者被确认为工人阶级的一部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教育部长和中国教育工会全国委员会主席发表书面谈话，宣布“五一国际劳动节”同时为教师节。但由于这一天缺少教师的特点，执行的结果并不理想。特别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以后，在“左”的思想影响下，教师不受重视，教师节实际上已不再存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2114640"/>
            <a:ext cx="6858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近年来，我国政府采取了许多措施，动员全社会尊重教师，提高教师的地位，改善教师的工作和生活条件。为了进一步提高教师的政治地位和社会地位，形成尊师重教、尊重知识、尊重人才的社会风尚，推动教育事业的发展，根据全国人大代表、全国政协委员和各界人士，特别是各地教师的多次提议，以及各地开展尊师活动的经验，国务院于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8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，向全国人民代表大会常务委员会提出关于确定每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为教师节的议案。同年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举行的第六届全国人民代表大会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上，同意关于建立教师节的议案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决定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日为教师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85800"/>
            <a:ext cx="3240000" cy="23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809880"/>
            <a:ext cx="3240000" cy="2237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505320" y="1752480"/>
            <a:ext cx="3744720" cy="3426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 rot="5400000">
            <a:off x="5028480" y="29718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5400000"/>
                </a:gradFill>
                <a:latin typeface="仿宋_GB2312"/>
              </a:rPr>
              <a:t>关于教师节的邮票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2768760"/>
            <a:ext cx="8305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书育人 桃李满天下；教人为事 为天下之大事；教人做人 做堂堂正正人！踏遍心田的每一角，踩透心灵的每一寸，满是对你深深的敬意，谢谢您，敬爱的老师！ 人生旅程上 您为我点燃希望的光芒 丰富我的心灵，增添我的智慧 谢谢您！老师 愿您永远 健康！愉快！幸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尺讲台，染苍苍白发，桃李满园，露美美笑颊。赞美您，敬爱的老师，祝福您，敬爱的老师！ 悦耳的铃声，妖艳的鲜花 都受时间的限制 只有我的祝福永恒 永远永远祝福您 给予我智慧之泉的老师 用语言播种，用彩笔耕耘，用汗水浇灌，用心血滋润，这就是我们敬爱的老师崇高的劳动。 一支粉笔两袖清风，三尺讲台四季晴雨，您用生命的火炬映亮了我们前进的道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，谢谢您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24080" y="38088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园丁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886200" y="-6480"/>
            <a:ext cx="5105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季节轮回，春夏秋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红烛  燃烧着亮丽的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奉献几多血和汗，不求青史留英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用真情传播着智慧的火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象那春蚕献出一生的忠诚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象那冬梅吟唱着早春的歌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眼之夜，长明灯光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在漫漫的长夜里有伏案的身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青丝之间添华发，三尺讲台有笑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用友爱缩短着心与心的路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那阳光融化冷漠的冰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是那向导引人走出科学的迷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啊！光荣的教师，辛勤的园丁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桃李芬芳是你的欢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默默奉献无私的心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啊！光荣的教师，辛勤的园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桃李芬芳是你的欢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默默奉献无私的心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5400000">
            <a:off x="114120" y="3085920"/>
            <a:ext cx="4419720" cy="99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教师礼赞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220752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恩师掬取天池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洒向人间育新苗。 敬爱的老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的教诲如春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似瑞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铭我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虔诚地祝福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给了我灿灿如金的生活真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过岁月的磨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弥久而愈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在木板上的名字未必不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在石头上的名字亦未必永垂千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刻在我们心灵深处的您的名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真正永存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切过去了的都会变成亲切的怀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切逝去了的方知其可贵——我怀念这您带我们走过的分分秒秒。 你的谆谆教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爱的清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在我心灵的河床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远流淌…… 阳光普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园丁心坎春意浓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雨滋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桃李枝头蓓蕾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祝您节日愉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不久的将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论我成为挺拔的白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是低矮的小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都将以生命的翠绿向您致敬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欢快的歌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刻萦绕着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欢乐年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远伴随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祝您节日愉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诚挚的祝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像老树上的翠绿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浓密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岁月俱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558720"/>
            <a:ext cx="4419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的思念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融合着不尽的感激与敬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您的节日里洋溢着 璀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们采摘丰收果实的时候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留给自己的却是被粉笔灰染白的两鬓白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您致敬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敬爱的老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一次注视您的目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一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倾听您的讲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紧握您的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衷心说声谢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我所有的真诚。一份诚挚的祝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一颗颗充满感激的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您的喜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的愿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您听到这祝福时能够同时满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我的祝福像朵小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永远盛开在这温馨的收获季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您时时刻刻点缀出欢乐洋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萝卜家园</cp:lastModifiedBy>
  <dcterms:modified xsi:type="dcterms:W3CDTF">2001-12-31T20:44:1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