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7966-A6A9-4215-8ACA-A0BADD63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A94A-5A1F-4AA5-865F-D0BDB3A4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EB67-F8AF-4ECB-BC7D-809A67D1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421B-CA66-4FC6-AD36-90AF92AF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DF85-892A-42B0-92D6-F490D7AC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A33-B9E9-4EC8-A9D4-57893288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D38-AC6F-4127-AD56-23495A14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8F9E-070D-4C59-B003-23058CD5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EA6F-D1EF-43F2-BA37-29C5687A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70DE-28A4-4C80-B9AA-31EB4F39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B053-08DB-4E98-8483-50FD22C7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2944-A59D-41B3-B5B4-1CD02B1A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3787-0FB5-44B8-870E-4D5DABDD02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516720" y="4653000"/>
            <a:ext cx="649080" cy="649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042920" y="1413000"/>
            <a:ext cx="7058160" cy="22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感恩父母  拥抱亲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讨论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: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如何感恩父母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了解父母各个方面（如：爸爸妈妈的工作是什么？辛苦吗？爸爸妈妈最喜欢吃的食物是什么、你了解爸爸妈妈的身体健康状况吗？你爸爸妈妈的生日是哪一天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尊敬父母，对父母有礼貌，听从父母的正确教导，不当面顶撞父母，不和父母发脾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生活节俭，无浪费现象，不乱花钱，不向父母提过高要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④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父母做力所能及的家务，减轻父母负担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⑤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有心事主动和父母说，经常与父母聊天（多和父母沟通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⑥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碰到一些比较重大的事情，要和父母商量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征求和认真考虑父母的意见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⑦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外出时，在征得父母同意后，应把去向和时间告知父母（未成年人保护法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⑧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努力学好各门功课，经常主动向父母汇报自己在学校的学习生活情况，不让父母操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⑨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父母亲有做得不对的地方要诚恳的指出（实话实说）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6360" y="189000"/>
            <a:ext cx="4392360" cy="1257120"/>
          </a:xfrm>
          <a:prstGeom prst="cloudCallout">
            <a:avLst>
              <a:gd name="adj1" fmla="val -48699"/>
              <a:gd name="adj2" fmla="val 597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孝敬父母是中华民族的传统美德，是做人的最基本道理。其实父母并不需要我们以后轰轰烈烈的去为他们做什么大事，而是要求我们从现在做起，从点滴做起；有时候关心孝敬父母，就是陪父母聊聊天，就是一个祝福、一句问候、一朵鲜花、一个拥抱，甚至只是一个微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692360" y="3068640"/>
            <a:ext cx="5472000" cy="15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66">
                    <a:alpha val="57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讨论：还有哪些可感恩？</a:t>
            </a:r>
            <a:endParaRPr b="0" lang="en-US" sz="1800" spc="-1" strike="noStrike">
              <a:ln w="0">
                <a:noFill/>
              </a:ln>
              <a:solidFill>
                <a:srgbClr val="ff0066">
                  <a:alpha val="57000"/>
                </a:srgbClr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89000"/>
            <a:ext cx="914400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朗诵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感恩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感激生育我们的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因为他们使我们体验生命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感激抚养我们的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因为他们使我们不断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感激帮助我们的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因为他们使我们度过难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感激关怀我们的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因为他们给我们温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感激鼓励我们的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因为他们给我们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0"/>
            <a:ext cx="71535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感激教育我们的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因为他们开化我们的蒙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感激伤害我们的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因为他们磨炼了我们的心志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感激绊倒我们的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因为他强化了我们的双腿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感激欺骗我们的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因为他们增进了我们的智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感激藐视我们的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因为他觉醒了我们的自尊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感激遗弃我们的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因为他教会了我们独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9000"/>
            <a:ext cx="4978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我们的成长道路上，要感谢的人太多太多， 因为他们让我们过上幸福的生活，因为他们让我们没有忧虑地成长，常怀感恩之心的人是最幸福的，常怀感恩之情的生活是最甜美的。同学们，让我们学会感恩，学会感激，用感恩之心去生活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317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289536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父母为我们做了很多很多，请讲：父母令你最感动或者最难忘的一件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父母并不能每时每刻都在做令儿女特别感动的事情，有的学生甚至没有过这种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但他们平凡的工作足以令人感动。请学生讲一讲父母平凡而辛勤工作：父母做什么工作？什么时候上下班？工作时间长吗？你觉得你的父母辛苦吗？他们为什么要这样辛苦地工作呢？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656680" y="609480"/>
            <a:ext cx="264924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母亲也曾陪着我们做作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419640" y="0"/>
            <a:ext cx="2232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2000" cy="6524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80520" y="533520"/>
            <a:ext cx="383796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父爱如山，宽阔的肩膀托起我们的身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587700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母亲曾背着我们劳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挨杖伤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汉朝时，大梁有个叫韩伯愈的人，他的母亲对他管教很严格，稍微有点过失，就举杖挥打。无论母亲打多重，他都没有怨言不掉眼泪。可是，有一天伯愈在挨打时，竟然哭得很伤心。母亲觉得奇怪，问道：“往常打你时，你都能接受，今天为什么哭泣？”伯愈回答道：“往常打我时我觉得疼痛，知道母亲还有力气，身体健康，但是今天感觉不到疼痛，知道母亲身体不如以前，体力微弱。所以伤心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禁不住流下了泪水。并不是疼痛不能忍受。”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8960" y="616572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</a:rPr>
              <a:t>韩伯愈（是一个孝子，性格善良，孝敬母亲）</a:t>
            </a:r>
            <a:r>
              <a:rPr b="0" lang="zh-CN" sz="1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55640" y="549360"/>
            <a:ext cx="172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讨论：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413000"/>
            <a:ext cx="799308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在家里最经常对父母说的话是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父母经常对我说的话是什么？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48360" y="2492280"/>
            <a:ext cx="3527280" cy="132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父母最常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要好好学习啊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557360"/>
            <a:ext cx="4176720" cy="35060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在家最常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回来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哦，我知道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真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天吃什么啊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没钱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要你签名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生讨论下面同学的做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位成绩优秀的学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父母对他的期望很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自己对自己的要求也很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天一回家就马上学习。最近学校开展孝敬父母的活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求学生在家能帮助父母承担一些家务劳动。但小林却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成绩优秀就是孝敬父母，其他都是多余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位学生在接受了孝敬父母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教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后写下了一段话：为了我们的妈妈，我们应该好好学习，将来让妈妈过上幸福的生活，不再让妈妈做又苦又累的生活，让妈妈过世界上最好的生活！妈妈，等着我给你过最幸福的生活吧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5T12:07:37Z</dcterms:created>
  <dc:creator>王利红</dc:creator>
  <dc:description/>
  <cp:keywords/>
  <dc:language>en-US</dc:language>
  <cp:lastModifiedBy>微软用户</cp:lastModifiedBy>
  <dcterms:modified xsi:type="dcterms:W3CDTF">2013-02-18T09:00:22Z</dcterms:modified>
  <cp:revision>1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