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62816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6064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62816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62816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60640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60640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62816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62816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62816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60640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60640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8377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60640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62816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60640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6064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62816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6064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62816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62816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6064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62816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62816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60640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60640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62816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62816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62816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90720" y="260640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9400" y="260640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523880" y="8377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9400" y="260640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90720" y="462816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39400" y="26064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739400" y="462816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9400" y="26064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90720" y="462816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90720" y="462816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39400" y="26064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90720" y="462816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739400" y="462816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3920" y="260640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37120" y="260640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990720" y="462816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3920" y="462816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37120" y="462816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60640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3880" y="8377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60640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62816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6064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62816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813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6064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6064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62816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60640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60640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90720" y="260640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04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光电新材料项目商业计划书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190760" y="2971440"/>
            <a:ext cx="46479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04b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开启更美好的明天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6" name=""/>
          <p:cNvSpPr/>
          <p:nvPr/>
        </p:nvSpPr>
        <p:spPr>
          <a:xfrm>
            <a:off x="4089240" y="5715000"/>
            <a:ext cx="35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404b"/>
                </a:solidFill>
                <a:latin typeface="Arial"/>
              </a:rPr>
              <a:t>keep it simple    </a:t>
            </a:r>
            <a:r>
              <a:rPr b="0" lang="zh-CN" sz="2400" spc="-1" strike="noStrike">
                <a:solidFill>
                  <a:srgbClr val="2f404b"/>
                </a:solidFill>
                <a:latin typeface="Arial"/>
              </a:rPr>
              <a:t>让问题简单化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52480" y="76320"/>
            <a:ext cx="69343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2.</a:t>
            </a: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主要客户名单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3.</a:t>
            </a: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主要供货商及经销商名单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4.</a:t>
            </a: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主要设备清单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5.</a:t>
            </a: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预估分析表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6.</a:t>
            </a: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各种财务报表及财务预估表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33520"/>
            <a:ext cx="60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让问题简单化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705040" y="2405160"/>
            <a:ext cx="3733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7040" y="837720"/>
            <a:ext cx="4800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〖 商业计划书内容 〗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320" y="2057040"/>
            <a:ext cx="899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599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icrosoft Sans Serif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商业计划书是一份全方位描述企业发展的文件，是企业拥有良好融资能力、实现跨越式发展的重要条件之一。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一份完备的商业计划书，是企业融资过程中不可缺少的文件，作为资金的敲门砖，商业计划书不仅是企业能否成功融资的关键因素，同时也是企业梳理战略、规划发展、总结经验、挖掘机会的案头文件。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商业计划书作为吸引投资的“敲门砖”，主要用途是获得投资资金，一份策划优秀的商业计书能够把公司和项目的优势、潜力、运营思路、商业模式等完美的展现给投资者，从而获得风险投资商的的青睐。风险投资商通过股权、债权的方式投入资金，最终退出企业资本体系，获得高额回报。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52480" y="76320"/>
            <a:ext cx="69343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第一章 公司情况介绍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第一节 公司基本情况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一、公司的宗旨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二、目标（市场和财务目标）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三、公司各部门的职能和经营目标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四、公司管理状况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第二节 公司现有产品和技术介绍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一、产品简介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二、产品生产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三、现有技术状况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第二章 光电新材料市场与竞争现状分析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第一节 市场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一、市场规模、市场结构与划分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二、目标市场分析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三、产品消费群体分析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四、公司现有产品市场状况分析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五、市场趋势预测和市场机会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533520"/>
            <a:ext cx="60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让问题简单化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51920"/>
            <a:ext cx="69343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二节 竞争分析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一、行业竞争状况（行业垄断竞争状况）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二、行业主要竞争者的市场份额状况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三、主要竞争对手分析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四、潜在竞争者分析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五、市场变化趋势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六、公司产品竞争优势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三章 市场营销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一节 营销计划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一、主要区域简介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二、营销方式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三、渠道建设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四、预估目标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二节 销售政策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一、现行销售方略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二、新的销售计划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三节 销售市场开拓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一、销售渠道建设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二、销售方式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533520"/>
            <a:ext cx="457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让问题简单化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52480" y="76320"/>
            <a:ext cx="69343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三、行销环节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四、售后服务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四节 主要业务关系状况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五节 销售管理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一、 销售人才队伍情况建设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二、促销和市场渗透（方式及安排、预算）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三、销售计划安排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四、产品销售价格方案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五、市场开发规划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四章 资金管理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一节 投资说明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一、资金需求说明（用量／期限）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二、资金使用计划及进度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三、投资形式（贷款／利率／利率支付条件／转股－普通股、优先股、任股权／对应价格等）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四、资本结构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五、回报／偿还计划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533520"/>
            <a:ext cx="60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让问题简单化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752120" y="76320"/>
            <a:ext cx="71629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六、资本原负债结构说明（每笔债务的时间／条件／抵押／利息等）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七、投资抵押（是否有抵押／抵押品价值及定价依据／定价凭证）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八、投资担保（是否有抵押／担保者财务报告）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九、吸纳投资后股权结构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十、股权成本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十一、投资者介入公司管理之程度说明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十二、报告（定期向投资者提供的报告和资金支出预算）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十三、杂费支付（是否支付中介人手续费）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二节 投资报酬与退出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一、股票上市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二、股权转让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三、股权回购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四、股利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五章 风险分析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一节 资源（原材料／供应商）风险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33520"/>
            <a:ext cx="60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让问题简单化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52480" y="76320"/>
            <a:ext cx="69343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二节 市场不确定性风险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三节 研发风险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四节 生产不确定性风险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五节 成本控制风险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六节 竞争风险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七节 政策风险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八节 财政风险（应收账款／坏账）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九节 管理风险（含人事／人员流动／关键雇员依赖）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十节 破产风险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六章 公司管理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一节 公司组织结构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二节 管理制度及劳动合同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三节 人事计划（配备／招聘／培训／考核）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四节 薪资、福利方案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五节 股权分配和认股计划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第七章 经营预测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33520"/>
            <a:ext cx="60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让问题简单化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52480" y="76320"/>
            <a:ext cx="69343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第一节 销售规模预测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            </a:t>
            </a: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一、销售数量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            </a:t>
            </a: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二、销售增长率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第二节 销售盈利预测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            </a:t>
            </a: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一、毛利率预测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            </a:t>
            </a: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二、销售利润率变化预测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第三节 投资报酬预测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第八章 财务分析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第一节 财务分析说明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第二节 财务数据预测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一、销售收入明细表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二、成本费用明细表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三、薪金水平明细表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四、固定资产明细表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五、资产负债表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六、利润及分配明细表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七、现金流量表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33520"/>
            <a:ext cx="60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让问题简单化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752480" y="76320"/>
            <a:ext cx="69343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八、财务指标分析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附录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一、附件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1.</a:t>
            </a: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营业执照影印本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2.</a:t>
            </a: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董事会名单及简历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3.</a:t>
            </a: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主要经营团队名单及简历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4.</a:t>
            </a: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专业术语说明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5.</a:t>
            </a: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专利证书／生产许可证／鉴定证书等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6.</a:t>
            </a: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注册商标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7.</a:t>
            </a: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企业形象设计／宣传资料（标识设计、说明书、出版物、包装说明等）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8.</a:t>
            </a: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简报及报道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9.</a:t>
            </a: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场地租用证明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10.</a:t>
            </a: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工艺流程图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11.</a:t>
            </a: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产品市场成长预测图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二、附表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Microsoft Sans Serif"/>
              </a:rPr>
              <a:t>1.</a:t>
            </a:r>
            <a:r>
              <a:rPr b="1" lang="zh-CN" sz="2000" spc="-1" strike="noStrike">
                <a:solidFill>
                  <a:srgbClr val="0000ff"/>
                </a:solidFill>
                <a:latin typeface="Microsoft Sans Serif"/>
              </a:rPr>
              <a:t>主要产品目录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33520"/>
            <a:ext cx="60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让问题简单化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20:13:27Z</dcterms:created>
  <dc:creator/>
  <dc:description/>
  <dc:language>en-US</dc:language>
  <cp:lastModifiedBy>echo</cp:lastModifiedBy>
  <cp:lastPrinted>1899-12-30T00:00:00Z</cp:lastPrinted>
  <dcterms:modified xsi:type="dcterms:W3CDTF">2010-03-19T14:22:15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