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gif" ContentType="image/gif"/>
  <Override PartName="/ppt/media/image15.png" ContentType="image/png"/>
  <Override PartName="/ppt/media/image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3A4D-06AB-40D9-B320-316873233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B079-32A1-4C30-9B70-45BB7A000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A709-FEE3-457F-96B8-684C9F5AA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637B-7CE1-4EDD-B2A6-CC5CFF68B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3F58-B65D-4620-BC58-04E11E383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16D7-3038-4F09-8090-AF7238C5C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58AA-E300-4EC2-B380-5049072B6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D0A4-E97C-4B2A-B462-EA96D42C7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0C56-874E-4DC5-A298-D5EEC84E1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BF92-7841-4D80-8A48-0FFE6B55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CC0A-21C1-40FB-AFF3-6841F138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9916-53B2-4817-94F4-63020B82F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BE152-C1A1-4FB5-A4F1-01565DB508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image" Target="../media/image11.jpeg"/><Relationship Id="rId9" Type="http://schemas.openxmlformats.org/officeDocument/2006/relationships/image" Target="../media/image11.jpeg"/><Relationship Id="rId10" Type="http://schemas.openxmlformats.org/officeDocument/2006/relationships/image" Target="../media/image11.jpe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image" Target="../media/image11.jpeg"/><Relationship Id="rId9" Type="http://schemas.openxmlformats.org/officeDocument/2006/relationships/image" Target="../media/image11.jpeg"/><Relationship Id="rId10" Type="http://schemas.openxmlformats.org/officeDocument/2006/relationships/image" Target="../media/image11.jpe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image" Target="../media/image11.jpeg"/><Relationship Id="rId9" Type="http://schemas.openxmlformats.org/officeDocument/2006/relationships/image" Target="../media/image11.jpeg"/><Relationship Id="rId10" Type="http://schemas.openxmlformats.org/officeDocument/2006/relationships/image" Target="../media/image11.jpe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71640" y="1989000"/>
            <a:ext cx="7489800" cy="431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告别童年拥抱青春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2" name=""/>
          <p:cNvSpPr/>
          <p:nvPr/>
        </p:nvSpPr>
        <p:spPr>
          <a:xfrm>
            <a:off x="4902120" y="5510160"/>
            <a:ext cx="39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初一（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13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）班主题班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09480" y="533520"/>
            <a:ext cx="7848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行楷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一个人，从出生，经历过婴儿、童年、少年、青年和中年，最后进入老年，没有任何力量能改变这样的规律。当发现自己鬓发染霜，肢体再也不象从前那样锐利明亮时，青年时代便已经成为过去。这时，青春是否也如黄鹤一去不回，只留下和青春有关的记忆，安慰日渐衰老的心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104920" y="5562720"/>
            <a:ext cx="511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你认为决定青春的最重要的因素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216000" y="216000"/>
            <a:ext cx="9144000" cy="6858000"/>
            <a:chOff x="216000" y="216000"/>
            <a:chExt cx="9144000" cy="6858000"/>
          </a:xfrm>
        </p:grpSpPr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216000" y="216000"/>
              <a:ext cx="9144000" cy="66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2"/>
            <a:stretch/>
          </p:blipFill>
          <p:spPr>
            <a:xfrm>
              <a:off x="216000" y="2959200"/>
              <a:ext cx="9144000" cy="66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3"/>
            <a:stretch/>
          </p:blipFill>
          <p:spPr>
            <a:xfrm>
              <a:off x="216000" y="2273400"/>
              <a:ext cx="9144000" cy="66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4"/>
            <a:stretch/>
          </p:blipFill>
          <p:spPr>
            <a:xfrm>
              <a:off x="216000" y="1587600"/>
              <a:ext cx="9144000" cy="66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5"/>
            <a:stretch/>
          </p:blipFill>
          <p:spPr>
            <a:xfrm>
              <a:off x="216000" y="901800"/>
              <a:ext cx="9144000" cy="66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6"/>
            <a:stretch/>
          </p:blipFill>
          <p:spPr>
            <a:xfrm>
              <a:off x="216000" y="5702400"/>
              <a:ext cx="9144000" cy="66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7"/>
            <a:stretch/>
          </p:blipFill>
          <p:spPr>
            <a:xfrm>
              <a:off x="216000" y="5016600"/>
              <a:ext cx="9144000" cy="66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8"/>
            <a:stretch/>
          </p:blipFill>
          <p:spPr>
            <a:xfrm>
              <a:off x="216000" y="4330800"/>
              <a:ext cx="9144000" cy="66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9"/>
            <a:stretch/>
          </p:blipFill>
          <p:spPr>
            <a:xfrm>
              <a:off x="216000" y="3645000"/>
              <a:ext cx="9144000" cy="66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10"/>
            <a:stretch/>
          </p:blipFill>
          <p:spPr>
            <a:xfrm>
              <a:off x="216000" y="6405840"/>
              <a:ext cx="9144000" cy="668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4" name=""/>
            <p:cNvGrpSpPr/>
            <p:nvPr/>
          </p:nvGrpSpPr>
          <p:grpSpPr>
            <a:xfrm>
              <a:off x="2425680" y="825480"/>
              <a:ext cx="4572000" cy="1676520"/>
              <a:chOff x="2425680" y="825480"/>
              <a:chExt cx="4572000" cy="1676520"/>
            </a:xfrm>
          </p:grpSpPr>
          <p:pic>
            <p:nvPicPr>
              <p:cNvPr id="75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425680" y="825480"/>
                <a:ext cx="4572000" cy="1676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" name=""/>
              <p:cNvSpPr/>
              <p:nvPr/>
            </p:nvSpPr>
            <p:spPr>
              <a:xfrm>
                <a:off x="3187800" y="1359000"/>
                <a:ext cx="2971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8fab73"/>
                    </a:solidFill>
                    <a:latin typeface="Arial"/>
                    <a:ea typeface="华文楷体"/>
                  </a:rPr>
                  <a:t>青春畅想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" name=""/>
          <p:cNvSpPr/>
          <p:nvPr/>
        </p:nvSpPr>
        <p:spPr>
          <a:xfrm>
            <a:off x="1130400" y="234936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说说青春的涵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77760" y="2959200"/>
            <a:ext cx="7239240" cy="16945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华文楷体"/>
                <a:ea typeface="仿宋_GB2312"/>
              </a:rPr>
              <a:t>   </a:t>
            </a:r>
            <a:r>
              <a:rPr b="1" lang="en-US" sz="2600" spc="-1" strike="noStrike">
                <a:solidFill>
                  <a:srgbClr val="ffffff"/>
                </a:solidFill>
                <a:latin typeface="华文楷体"/>
                <a:ea typeface="仿宋_GB2312"/>
              </a:rPr>
              <a:t>1</a:t>
            </a:r>
            <a:r>
              <a:rPr b="1" lang="zh-CN" sz="2600" spc="-1" strike="noStrike">
                <a:solidFill>
                  <a:srgbClr val="ffffff"/>
                </a:solidFill>
                <a:latin typeface="华文楷体"/>
                <a:ea typeface="仿宋_GB2312"/>
              </a:rPr>
              <a:t>、青春不仅表示着秀丽的容颜、优雅的气质以及健美的身姿呢，它更表示着一种新的精神世界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华文楷体"/>
                <a:ea typeface="仿宋_GB2312"/>
              </a:rPr>
              <a:t>   </a:t>
            </a:r>
            <a:r>
              <a:rPr b="1" lang="en-US" sz="2600" spc="-1" strike="noStrike">
                <a:solidFill>
                  <a:srgbClr val="ffffff"/>
                </a:solidFill>
                <a:latin typeface="华文楷体"/>
                <a:ea typeface="仿宋_GB2312"/>
              </a:rPr>
              <a:t>2</a:t>
            </a:r>
            <a:r>
              <a:rPr b="1" lang="zh-CN" sz="2600" spc="-1" strike="noStrike">
                <a:solidFill>
                  <a:srgbClr val="ffffff"/>
                </a:solidFill>
                <a:latin typeface="华文楷体"/>
                <a:ea typeface="仿宋_GB2312"/>
              </a:rPr>
              <a:t>、青春更多的体现在一个人的心态、气质、想象力和情感中，是从生命的潜流中涌动的一种全心的感觉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华文楷体"/>
                <a:ea typeface="仿宋_GB2312"/>
              </a:rPr>
              <a:t>   </a:t>
            </a:r>
            <a:r>
              <a:rPr b="1" lang="en-US" sz="2600" spc="-1" strike="noStrike">
                <a:solidFill>
                  <a:srgbClr val="ffffff"/>
                </a:solidFill>
                <a:latin typeface="华文楷体"/>
                <a:ea typeface="仿宋_GB2312"/>
              </a:rPr>
              <a:t>3</a:t>
            </a:r>
            <a:r>
              <a:rPr b="1" lang="zh-CN" sz="2600" spc="-1" strike="noStrike">
                <a:solidFill>
                  <a:srgbClr val="ffffff"/>
                </a:solidFill>
                <a:latin typeface="华文楷体"/>
                <a:ea typeface="仿宋_GB2312"/>
              </a:rPr>
              <a:t>、青春更是活力的象征，它蕴涵着智慧、勇敢和意志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216000" y="216000"/>
            <a:ext cx="9144000" cy="6858000"/>
            <a:chOff x="216000" y="216000"/>
            <a:chExt cx="9144000" cy="6858000"/>
          </a:xfrm>
        </p:grpSpPr>
        <p:pic>
          <p:nvPicPr>
            <p:cNvPr id="82" name="" descr=""/>
            <p:cNvPicPr/>
            <p:nvPr/>
          </p:nvPicPr>
          <p:blipFill>
            <a:blip r:embed="rId1"/>
            <a:stretch/>
          </p:blipFill>
          <p:spPr>
            <a:xfrm>
              <a:off x="216000" y="216000"/>
              <a:ext cx="9144000" cy="66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2"/>
            <a:stretch/>
          </p:blipFill>
          <p:spPr>
            <a:xfrm>
              <a:off x="216000" y="2959200"/>
              <a:ext cx="9144000" cy="66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" descr=""/>
            <p:cNvPicPr/>
            <p:nvPr/>
          </p:nvPicPr>
          <p:blipFill>
            <a:blip r:embed="rId3"/>
            <a:stretch/>
          </p:blipFill>
          <p:spPr>
            <a:xfrm>
              <a:off x="216000" y="2273400"/>
              <a:ext cx="9144000" cy="66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4"/>
            <a:stretch/>
          </p:blipFill>
          <p:spPr>
            <a:xfrm>
              <a:off x="216000" y="1587600"/>
              <a:ext cx="9144000" cy="66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5"/>
            <a:stretch/>
          </p:blipFill>
          <p:spPr>
            <a:xfrm>
              <a:off x="216000" y="901800"/>
              <a:ext cx="9144000" cy="66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6"/>
            <a:stretch/>
          </p:blipFill>
          <p:spPr>
            <a:xfrm>
              <a:off x="216000" y="5702400"/>
              <a:ext cx="9144000" cy="66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7"/>
            <a:stretch/>
          </p:blipFill>
          <p:spPr>
            <a:xfrm>
              <a:off x="216000" y="5016600"/>
              <a:ext cx="9144000" cy="66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8"/>
            <a:stretch/>
          </p:blipFill>
          <p:spPr>
            <a:xfrm>
              <a:off x="216000" y="4330800"/>
              <a:ext cx="9144000" cy="66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9"/>
            <a:stretch/>
          </p:blipFill>
          <p:spPr>
            <a:xfrm>
              <a:off x="216000" y="3645000"/>
              <a:ext cx="9144000" cy="66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10"/>
            <a:stretch/>
          </p:blipFill>
          <p:spPr>
            <a:xfrm>
              <a:off x="216000" y="6405840"/>
              <a:ext cx="9144000" cy="668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2" name=""/>
            <p:cNvGrpSpPr/>
            <p:nvPr/>
          </p:nvGrpSpPr>
          <p:grpSpPr>
            <a:xfrm>
              <a:off x="2425680" y="825480"/>
              <a:ext cx="4572000" cy="1676520"/>
              <a:chOff x="2425680" y="825480"/>
              <a:chExt cx="4572000" cy="1676520"/>
            </a:xfrm>
          </p:grpSpPr>
          <p:pic>
            <p:nvPicPr>
              <p:cNvPr id="9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425680" y="825480"/>
                <a:ext cx="4572000" cy="1676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" name=""/>
              <p:cNvSpPr/>
              <p:nvPr/>
            </p:nvSpPr>
            <p:spPr>
              <a:xfrm>
                <a:off x="3187800" y="1359000"/>
                <a:ext cx="2971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8fab73"/>
                    </a:solidFill>
                    <a:latin typeface="Arial"/>
                    <a:ea typeface="华文楷体"/>
                  </a:rPr>
                  <a:t>青春畅想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" name=""/>
          <p:cNvSpPr/>
          <p:nvPr/>
        </p:nvSpPr>
        <p:spPr>
          <a:xfrm>
            <a:off x="1054080" y="257796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1" lang="zh-CN" sz="3200" spc="-1" strike="noStrike">
                <a:solidFill>
                  <a:srgbClr val="3333cc"/>
                </a:solidFill>
                <a:latin typeface="华文新魏"/>
                <a:ea typeface="华文新魏"/>
              </a:rPr>
              <a:t>有人说，青春是一颗划破天宇的流星，虽然绚烂却很短暂；也有人说青春是常青树，永不凋零。你更赞成哪一种观点，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30400" y="4559400"/>
            <a:ext cx="7238880" cy="5814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决定青春的最重要的因素——心境。只要保持一颗年轻的心，美好的青春将是一棵常青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16000" y="216000"/>
            <a:ext cx="9144000" cy="6858000"/>
            <a:chOff x="216000" y="216000"/>
            <a:chExt cx="9144000" cy="6858000"/>
          </a:xfrm>
        </p:grpSpPr>
        <p:pic>
          <p:nvPicPr>
            <p:cNvPr id="100" name="" descr=""/>
            <p:cNvPicPr/>
            <p:nvPr/>
          </p:nvPicPr>
          <p:blipFill>
            <a:blip r:embed="rId1"/>
            <a:stretch/>
          </p:blipFill>
          <p:spPr>
            <a:xfrm>
              <a:off x="216000" y="216000"/>
              <a:ext cx="9144000" cy="66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2"/>
            <a:stretch/>
          </p:blipFill>
          <p:spPr>
            <a:xfrm>
              <a:off x="216000" y="2959200"/>
              <a:ext cx="9144000" cy="66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3"/>
            <a:stretch/>
          </p:blipFill>
          <p:spPr>
            <a:xfrm>
              <a:off x="216000" y="2273400"/>
              <a:ext cx="9144000" cy="66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4"/>
            <a:stretch/>
          </p:blipFill>
          <p:spPr>
            <a:xfrm>
              <a:off x="216000" y="1587600"/>
              <a:ext cx="9144000" cy="66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5"/>
            <a:stretch/>
          </p:blipFill>
          <p:spPr>
            <a:xfrm>
              <a:off x="216000" y="901800"/>
              <a:ext cx="9144000" cy="66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6"/>
            <a:stretch/>
          </p:blipFill>
          <p:spPr>
            <a:xfrm>
              <a:off x="216000" y="5702400"/>
              <a:ext cx="9144000" cy="66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7"/>
            <a:stretch/>
          </p:blipFill>
          <p:spPr>
            <a:xfrm>
              <a:off x="216000" y="5016600"/>
              <a:ext cx="9144000" cy="66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8"/>
            <a:stretch/>
          </p:blipFill>
          <p:spPr>
            <a:xfrm>
              <a:off x="216000" y="4330800"/>
              <a:ext cx="9144000" cy="66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9"/>
            <a:stretch/>
          </p:blipFill>
          <p:spPr>
            <a:xfrm>
              <a:off x="216000" y="3645000"/>
              <a:ext cx="9144000" cy="66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10"/>
            <a:stretch/>
          </p:blipFill>
          <p:spPr>
            <a:xfrm>
              <a:off x="216000" y="6405840"/>
              <a:ext cx="9144000" cy="668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0" name=""/>
            <p:cNvGrpSpPr/>
            <p:nvPr/>
          </p:nvGrpSpPr>
          <p:grpSpPr>
            <a:xfrm>
              <a:off x="2425680" y="825480"/>
              <a:ext cx="4572000" cy="1676520"/>
              <a:chOff x="2425680" y="825480"/>
              <a:chExt cx="4572000" cy="1676520"/>
            </a:xfrm>
          </p:grpSpPr>
          <p:pic>
            <p:nvPicPr>
              <p:cNvPr id="111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425680" y="825480"/>
                <a:ext cx="4572000" cy="1676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" name=""/>
              <p:cNvSpPr/>
              <p:nvPr/>
            </p:nvSpPr>
            <p:spPr>
              <a:xfrm>
                <a:off x="3187800" y="1359000"/>
                <a:ext cx="297180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977760" y="2806560"/>
            <a:ext cx="64771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仿宋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仿宋_GB2312"/>
              </a:rPr>
              <a:t>说说青春的意义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01800" y="3568680"/>
            <a:ext cx="7467480" cy="5814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仿宋_GB2312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华文楷体"/>
                <a:ea typeface="仿宋_GB2312"/>
              </a:rPr>
              <a:t>有了青春，我们便有了克服怯懦的勇气和冒险的魄力，青春将使我们对未来充满新奇，使我们有勇气去面对眼前的一切，使我们坦然地接纳欢喜与忧愁，使我们能够尽情地享受人生竞赛的乐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16400" y="1359000"/>
            <a:ext cx="20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fab73"/>
                </a:solidFill>
                <a:latin typeface="Arial"/>
                <a:ea typeface="华文楷体"/>
              </a:rPr>
              <a:t>青春畅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647720" y="2362320"/>
            <a:ext cx="5667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0066"/>
                </a:solidFill>
                <a:latin typeface="宋体"/>
                <a:ea typeface="华文彩云"/>
              </a:rPr>
              <a:t>只要今天的我们把握好青春的方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i="1" lang="en-US" sz="4800" spc="-1" strike="noStrike">
                <a:solidFill>
                  <a:srgbClr val="ff0066"/>
                </a:solidFill>
                <a:latin typeface="Arial"/>
                <a:ea typeface="华文彩云"/>
              </a:rPr>
              <a:t>         </a:t>
            </a:r>
            <a:r>
              <a:rPr b="1" i="1" lang="zh-CN" sz="4800" spc="-1" strike="noStrike">
                <a:solidFill>
                  <a:srgbClr val="ff0066"/>
                </a:solidFill>
                <a:latin typeface="宋体"/>
                <a:ea typeface="华文彩云"/>
              </a:rPr>
              <a:t>我们的明天会更加美好</a:t>
            </a:r>
            <a:r>
              <a:rPr b="1" lang="en-US" sz="4400" spc="-1" strike="noStrike">
                <a:solidFill>
                  <a:srgbClr val="ff66ff"/>
                </a:solidFill>
                <a:latin typeface="Arial"/>
                <a:ea typeface="华文彩云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765520" cy="30844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039400" y="3657600"/>
            <a:ext cx="536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用青春寄语的形式写下你对青春的感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-32040" y="47520"/>
            <a:ext cx="5035320" cy="68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再一次数天上的星星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告别我的童年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再一次听童话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告别我的童年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再一次吃糖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告别我的童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是欢喜 是悲伤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告别我的童年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会怀念 会追忆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我那昔日的童年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211640" y="1125360"/>
            <a:ext cx="49705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儿歌不再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唱起青春的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数星不再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仰望星空的深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童话不再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书写未来的故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糖果不再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咀嚼人生的滋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7800" y="1080"/>
            <a:ext cx="5543640" cy="68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童年不再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用童心迎接青春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等待着 期待着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青春的到来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没有悲伤 没有嗟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用青春谱写年轻的旋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用童年的幻想换一个青春的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这个花开的季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送别童年 迎接青春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将欢笑 我将歌唱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愿化作一阵风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放飞我的梦想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92720" y="44280"/>
            <a:ext cx="4133880" cy="40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愿化作一只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天地任我翱翔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属于我的青春已经到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轻的脚步正准备迈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将欢笑 我将歌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看那青春的花朵即将怒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听那青春的歌声自由飘荡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96720" y="2205000"/>
            <a:ext cx="8280720" cy="148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班会到此结束，再见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童年" descr=""/>
          <p:cNvPicPr/>
          <p:nvPr/>
        </p:nvPicPr>
        <p:blipFill>
          <a:blip r:embed="rId2"/>
          <a:stretch/>
        </p:blipFill>
        <p:spPr>
          <a:xfrm>
            <a:off x="8174160" y="5880240"/>
            <a:ext cx="64764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9429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987640" y="1773360"/>
            <a:ext cx="3168720" cy="26384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5000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  <a:ea typeface="华文中宋"/>
              </a:rPr>
              <a:t>青         春         人         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094200"/>
            <a:ext cx="3997440" cy="2014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华文中宋"/>
                <a:ea typeface="华文中宋"/>
              </a:rPr>
              <a:t>黄威廉</a:t>
            </a:r>
            <a:r>
              <a:rPr b="1" lang="en-US" sz="1800" spc="-1" strike="noStrike">
                <a:solidFill>
                  <a:srgbClr val="3333cc"/>
                </a:solidFill>
                <a:latin typeface="华文中宋"/>
                <a:ea typeface="华文中宋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华文中宋"/>
                <a:ea typeface="华文中宋"/>
              </a:rPr>
              <a:t>年龄</a:t>
            </a:r>
            <a:r>
              <a:rPr b="1" lang="en-US" sz="1800" spc="-1" strike="noStrike">
                <a:solidFill>
                  <a:srgbClr val="3333cc"/>
                </a:solidFill>
                <a:latin typeface="华文中宋"/>
                <a:ea typeface="华文中宋"/>
              </a:rPr>
              <a:t>21,</a:t>
            </a:r>
            <a:r>
              <a:rPr b="1" lang="zh-CN" sz="1800" spc="-1" strike="noStrike">
                <a:solidFill>
                  <a:srgbClr val="3333cc"/>
                </a:solidFill>
                <a:latin typeface="华文中宋"/>
                <a:ea typeface="华文中宋"/>
              </a:rPr>
              <a:t>香港人</a:t>
            </a:r>
            <a:r>
              <a:rPr b="1" lang="en-US" sz="1800" spc="-1" strike="noStrike">
                <a:solidFill>
                  <a:srgbClr val="3333cc"/>
                </a:solidFill>
                <a:latin typeface="华文中宋"/>
                <a:ea typeface="华文中宋"/>
              </a:rPr>
              <a:t>,</a:t>
            </a:r>
            <a:r>
              <a:rPr b="1" lang="zh-CN" sz="1800" spc="-1" strike="noStrike">
                <a:solidFill>
                  <a:srgbClr val="3333cc"/>
                </a:solidFill>
                <a:latin typeface="华文中宋"/>
                <a:ea typeface="华文中宋"/>
              </a:rPr>
              <a:t>相貌平平</a:t>
            </a:r>
            <a:r>
              <a:rPr b="1" lang="en-US" sz="1800" spc="-1" strike="noStrike">
                <a:solidFill>
                  <a:srgbClr val="3333cc"/>
                </a:solidFill>
                <a:latin typeface="华文中宋"/>
                <a:ea typeface="华文中宋"/>
              </a:rPr>
              <a:t>,</a:t>
            </a:r>
            <a:r>
              <a:rPr b="1" lang="zh-CN" sz="1800" spc="-1" strike="noStrike">
                <a:solidFill>
                  <a:srgbClr val="3333cc"/>
                </a:solidFill>
                <a:latin typeface="华文中宋"/>
                <a:ea typeface="华文中宋"/>
              </a:rPr>
              <a:t>龅牙</a:t>
            </a:r>
            <a:r>
              <a:rPr b="1" lang="en-US" sz="1800" spc="-1" strike="noStrike">
                <a:solidFill>
                  <a:srgbClr val="3333cc"/>
                </a:solidFill>
                <a:latin typeface="华文中宋"/>
                <a:ea typeface="华文中宋"/>
              </a:rPr>
              <a:t>,</a:t>
            </a:r>
            <a:r>
              <a:rPr b="1" lang="zh-CN" sz="1800" spc="-1" strike="noStrike">
                <a:solidFill>
                  <a:srgbClr val="3333cc"/>
                </a:solidFill>
                <a:latin typeface="华文中宋"/>
                <a:ea typeface="华文中宋"/>
              </a:rPr>
              <a:t>锅盖头</a:t>
            </a:r>
            <a:r>
              <a:rPr b="1" lang="en-US" sz="1800" spc="-1" strike="noStrike">
                <a:solidFill>
                  <a:srgbClr val="3333cc"/>
                </a:solidFill>
                <a:latin typeface="华文中宋"/>
                <a:ea typeface="华文中宋"/>
              </a:rPr>
              <a:t>.</a:t>
            </a:r>
            <a:r>
              <a:rPr b="1" lang="zh-CN" sz="1800" spc="-1" strike="noStrike">
                <a:solidFill>
                  <a:srgbClr val="3333cc"/>
                </a:solidFill>
                <a:latin typeface="华文中宋"/>
                <a:ea typeface="华文中宋"/>
              </a:rPr>
              <a:t>在参加</a:t>
            </a:r>
            <a:r>
              <a:rPr b="1" lang="en-US" sz="1800" spc="-1" strike="noStrike">
                <a:solidFill>
                  <a:srgbClr val="3333cc"/>
                </a:solidFill>
                <a:latin typeface="华文中宋"/>
                <a:ea typeface="华文中宋"/>
              </a:rPr>
              <a:t>&lt;</a:t>
            </a:r>
            <a:r>
              <a:rPr b="1" lang="zh-CN" sz="1800" spc="-1" strike="noStrike">
                <a:solidFill>
                  <a:srgbClr val="3333cc"/>
                </a:solidFill>
                <a:latin typeface="华文中宋"/>
                <a:ea typeface="华文中宋"/>
              </a:rPr>
              <a:t>美国偶像</a:t>
            </a:r>
            <a:r>
              <a:rPr b="1" lang="en-US" sz="1800" spc="-1" strike="noStrike">
                <a:solidFill>
                  <a:srgbClr val="3333cc"/>
                </a:solidFill>
                <a:latin typeface="华文中宋"/>
                <a:ea typeface="华文中宋"/>
              </a:rPr>
              <a:t>&gt;</a:t>
            </a:r>
            <a:r>
              <a:rPr b="1" lang="zh-CN" sz="1800" spc="-1" strike="noStrike">
                <a:solidFill>
                  <a:srgbClr val="3333cc"/>
                </a:solidFill>
                <a:latin typeface="华文中宋"/>
                <a:ea typeface="华文中宋"/>
              </a:rPr>
              <a:t>歌手大赛时</a:t>
            </a:r>
            <a:r>
              <a:rPr b="1" lang="en-US" sz="1800" spc="-1" strike="noStrike">
                <a:solidFill>
                  <a:srgbClr val="3333cc"/>
                </a:solidFill>
                <a:latin typeface="华文中宋"/>
                <a:ea typeface="华文中宋"/>
              </a:rPr>
              <a:t>,</a:t>
            </a:r>
            <a:r>
              <a:rPr b="1" lang="zh-CN" sz="1800" spc="-1" strike="noStrike">
                <a:solidFill>
                  <a:srgbClr val="3333cc"/>
                </a:solidFill>
                <a:latin typeface="华文中宋"/>
                <a:ea typeface="华文中宋"/>
              </a:rPr>
              <a:t>他选择了拉丁歌王瑞奇</a:t>
            </a:r>
            <a:r>
              <a:rPr b="1" lang="en-US" sz="1800" spc="-1" strike="noStrike">
                <a:solidFill>
                  <a:srgbClr val="3333cc"/>
                </a:solidFill>
                <a:latin typeface="华文中宋"/>
                <a:ea typeface="华文中宋"/>
              </a:rPr>
              <a:t>·</a:t>
            </a:r>
            <a:r>
              <a:rPr b="1" lang="zh-CN" sz="1800" spc="-1" strike="noStrike">
                <a:solidFill>
                  <a:srgbClr val="3333cc"/>
                </a:solidFill>
                <a:latin typeface="华文中宋"/>
                <a:ea typeface="华文中宋"/>
              </a:rPr>
              <a:t>马丁的性感快歌《</a:t>
            </a:r>
            <a:r>
              <a:rPr b="1" lang="en-US" sz="1800" spc="-1" strike="noStrike">
                <a:solidFill>
                  <a:srgbClr val="3333cc"/>
                </a:solidFill>
                <a:latin typeface="华文中宋"/>
                <a:ea typeface="华文中宋"/>
              </a:rPr>
              <a:t>She Bangs</a:t>
            </a:r>
            <a:r>
              <a:rPr b="1" lang="zh-CN" sz="1800" spc="-1" strike="noStrike">
                <a:solidFill>
                  <a:srgbClr val="3333cc"/>
                </a:solidFill>
                <a:latin typeface="华文中宋"/>
                <a:ea typeface="华文中宋"/>
              </a:rPr>
              <a:t>》作为参赛曲目。他刚一开口，许多在电视机前观看这个节目的观众都差点从椅子上掉了下来：他不仅五音不全，而且台风相当滑稽，马丁诱人的摇臀动作变成了机械式的木偶摆动，台下</a:t>
            </a:r>
            <a:r>
              <a:rPr b="1" lang="en-US" sz="1800" spc="-1" strike="noStrike">
                <a:solidFill>
                  <a:srgbClr val="3333cc"/>
                </a:solidFill>
                <a:latin typeface="华文中宋"/>
                <a:ea typeface="华文中宋"/>
              </a:rPr>
              <a:t>3</a:t>
            </a:r>
            <a:r>
              <a:rPr b="1" lang="zh-CN" sz="1800" spc="-1" strike="noStrike">
                <a:solidFill>
                  <a:srgbClr val="3333cc"/>
                </a:solidFill>
                <a:latin typeface="华文中宋"/>
                <a:ea typeface="华文中宋"/>
              </a:rPr>
              <a:t>位评委似乎顿时被折磨得不成人形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12000" y="1839240"/>
            <a:ext cx="349236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一位评委终于无法忍受威廉惨不忍睹、带着浓厚异域口音的英文演唱了，他粗暴并刻薄地批评道：“你不会唱、你不会跳，你还有什么话说？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484720"/>
            <a:ext cx="9396360" cy="30186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</a:t>
            </a: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正当观众都以为威廉会羞愧得脱逃时，他却勇敢地回应：“</a:t>
            </a:r>
            <a:r>
              <a:rPr b="1" lang="zh-CN" sz="4800" spc="-1" strike="noStrike">
                <a:solidFill>
                  <a:srgbClr val="ff0000"/>
                </a:solidFill>
                <a:latin typeface="华文中宋"/>
                <a:ea typeface="华文中宋"/>
              </a:rPr>
              <a:t>我已经尽力了，所以完全没有遗憾。</a:t>
            </a:r>
            <a:r>
              <a:rPr b="1" lang="en-US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”虽然知道自己成了笑柄</a:t>
            </a:r>
            <a:r>
              <a:rPr b="1" lang="en-US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但他毫不介意</a:t>
            </a:r>
            <a:r>
              <a:rPr b="1" lang="en-US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礼貌地答谢评委</a:t>
            </a:r>
            <a:r>
              <a:rPr b="1" lang="en-US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拿起自己的黄背包</a:t>
            </a:r>
            <a:r>
              <a:rPr b="1" lang="en-US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不慌不忙走出摄影棚</a:t>
            </a:r>
            <a:r>
              <a:rPr b="1" lang="en-US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932360" y="981000"/>
            <a:ext cx="3816360" cy="2531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华文中宋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中宋"/>
              </a:rPr>
              <a:t>有人认为黄威廉是新时代的青春偶像，也有人认为他与偶像无缘，你认为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3591000"/>
            <a:ext cx="3924360" cy="3267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67560" y="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Arial"/>
                <a:ea typeface="华文琥珀"/>
              </a:rPr>
              <a:t>讨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654240" y="422100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华文琥珀"/>
              </a:rPr>
              <a:t>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680"/>
                            </p:stCondLst>
                            <p:childTnLst>
                              <p:par>
                                <p:cTn id="4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680"/>
                            </p:stCondLst>
                            <p:childTnLst>
                              <p:par>
                                <p:cTn id="45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21600000">
                                      <p:cBhvr>
                                        <p:cTn id="46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050920" y="2692440"/>
            <a:ext cx="5004000" cy="41655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1262520"/>
            <a:ext cx="9144000" cy="7034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  </a:t>
            </a:r>
            <a:r>
              <a:rPr b="0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黄威廉的出人意料处，正是这种猝然临之而不惊，无故加之而不怒，大气大勇大开大合，坦然面对嘲笑和失败，而不失彬彬有礼和不慌不忙的从容镇定。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7861320" y="5835600"/>
            <a:ext cx="1103400" cy="97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1T11:12:51Z</dcterms:created>
  <dc:creator>应晓龙</dc:creator>
  <dc:description/>
  <dc:language>en-US</dc:language>
  <cp:lastModifiedBy/>
  <cp:lastPrinted>1899-12-30T00:00:00Z</cp:lastPrinted>
  <dcterms:modified xsi:type="dcterms:W3CDTF">1899-12-30T00:00:0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