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F31-8580-4DD7-8203-C27F3CC8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54F-EC85-4354-AA5E-31551D45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ECD-60C3-4109-8960-BAFC7E4E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CBA-5668-4E6A-95A7-7DC06BC6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B70-6015-4E7B-96A2-7467969E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E93-5F98-4005-9D43-82CD788E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A9A-0423-464D-B7B7-803E1F52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600-8D5B-4DD2-8D0A-C63066EB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786-754C-4349-B731-D181808E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26F-3F8C-4D0A-9C0B-D0080022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236-F93A-49B3-BEC8-4CDD45F6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583-FC46-41DF-92F6-330581B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01CA-FE13-4414-BA17-7C65A22881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052640"/>
            <a:ext cx="5040360" cy="47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想要本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3933720"/>
            <a:ext cx="408924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高二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16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.1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0481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要学会略读和精读。略读，就是大概地看，一目十行的看。精读，就是，细细地读，慢慢地品味。这是两种不同的读书方法。对于一些精彩的地方，我们要精读，而有些写得不是很精彩的地方，我们只要用略读即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7741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课外阅读贵在坚持。“滴水穿石”，“聚沙成塔”，课外阅读也是如此，贵在坚持，如果我们每天都能抽一点时间来进行课外阅读，那么几年下来，你的语文能力一定会大有提高，写起作文来一定会笔下生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00000" y="1773360"/>
            <a:ext cx="633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他们很想要一本课外书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340000" y="2205000"/>
            <a:ext cx="454644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中学生应看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41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论语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匹克威克外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三国演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老人与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红楼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哈姆莱特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呐喊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堂吉诃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史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子夜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213200"/>
            <a:ext cx="464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巴黎圣母院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女神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围城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歌德谈话录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欧也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葛朗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家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普希金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苏菲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雷雨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复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108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谈美书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麦田里的守望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傅雷家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人类的故事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古文观止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飞鸟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富兰克林自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撒哈拉的故事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致加西亚的信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悲惨世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229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昆虫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文化苦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平凡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杰出青少年的七个习惯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余光中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果壳中的宇宙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病隙碎笔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蒙田随笔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活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我的心中每天开出一朵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20120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书涵盖了教育部推荐的中学生必读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文学名著的基础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借鉴了胡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明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毛姆等古今中外许多名家所列举的不可不读的书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取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最适合中学生阅读的书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确定这些书的过程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广泛征求了专家学者和教学经验丰富的教师意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逐一斟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筛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容包括了文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理等不同领域的精华之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0466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经常读课外书吗？你读过那些课外书呢？相信你在阅读阅读课外书的过程中，一定获得了好多知识，得到了许多的乐趣吧。今天，我就跟大家谈谈课外阅读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0920" y="206064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要读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68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多读书的人，其视野必然开阔，其志向必然高远，其追求必然执着。也就是说，多读书，不仅能使人变得视野开阔，知识丰富，而且还能使人具有远大的理想，执着的追求。我国著名的语言学家吕淑湘先生也说过，他学习语文，三分得益于课内，七分得益于课外。的确如此，我们从各种课外书中可以获取丰富的知识，通过阅读，我们可以跨越时空，了解古今中外的事情。我们还可以通过阅读和各种名人对话。不仅如此，多读课外书还能提高你的作文能力。杜甫说：读书破万卷，下笔如有神。可以这样说，凡是作文写得好的同学，都是喜欢课外阅读的，因为我们可以从课外书中学到一些好词佳句，可以学到一些写作的方法，可以积累一些写作的素材。当然，读课外书的好处还有好多，我想喜欢课外阅读的同学都能深切地体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0920" y="692280"/>
            <a:ext cx="446580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2565360"/>
            <a:ext cx="6049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读了哪些课外书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4648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人的一生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学时期是积累知识和文化的重要时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想开阔自己的视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丰富自己的人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同龄人中成为佼佼者，仅凭课本上的东西是远远不够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必须多读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好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增加我们知识的深度和广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传递人生哲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让我们树立正确的人生理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让我们拥有一个更广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更光明的世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87280" y="1773360"/>
            <a:ext cx="66247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怎样读课外书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4076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许大家要说，课外书有谁不会读呢？在这里，我们要向大家提几点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看课外书不要老是看一种书，各种书都要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同学就爱看历史的，其余的一概不看。这样做是不好的。鲁迅先生说过，读书如蜜蜂采蜜一样，倘若总是叮在一处，所得就非常有限，是酿不出什么蜜来的。读书也如吃菜一样，总是挑食，就会营养不良。老看一种书只能得到一方面的知识，其他方面的知识就得不到了，所以我们要看各种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7741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读书要学会做读书笔记。“不动笔墨不看书”，我们在读书的时候，要学会“动笔墨”。老师建议每个同学都准备一本读书笔记本，将一些好词、佳句，一些精彩的段落，一些读书的心得体会记下来，经常的去读一读，背一背。这样，时间长了，你就能积累好多的东西，对于提高你的写作水平是大有好处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4:46:44Z</dcterms:created>
  <dc:creator> </dc:creator>
  <dc:description/>
  <dc:language>en-US</dc:language>
  <cp:lastModifiedBy> </cp:lastModifiedBy>
  <dcterms:modified xsi:type="dcterms:W3CDTF">2011-10-12T13:21:40Z</dcterms:modified>
  <cp:revision>22</cp:revision>
  <dc:subject/>
  <dc:title>幻灯片 1</dc:title>
</cp:coreProperties>
</file>