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6.png" ContentType="image/png"/>
  <Override PartName="/ppt/media/image26.gif" ContentType="image/gif"/>
  <Override PartName="/ppt/media/image7.jpeg" ContentType="image/jpeg"/>
  <Override PartName="/ppt/media/image3.png" ContentType="image/png"/>
  <Override PartName="/ppt/media/image20.gif" ContentType="image/gif"/>
  <Override PartName="/ppt/media/image13.jpeg" ContentType="image/jpeg"/>
  <Override PartName="/ppt/media/image5.jpeg" ContentType="image/jpeg"/>
  <Override PartName="/ppt/media/image4.png" ContentType="image/png"/>
  <Override PartName="/ppt/media/image8.jpeg" ContentType="image/jpeg"/>
  <Override PartName="/ppt/media/image9.jpeg" ContentType="image/jpeg"/>
  <Override PartName="/ppt/media/image11.jpeg" ContentType="image/jpeg"/>
  <Override PartName="/ppt/media/image12.gif" ContentType="image/gif"/>
  <Override PartName="/ppt/media/image24.jpeg" ContentType="image/jpeg"/>
  <Override PartName="/ppt/media/image30.gif" ContentType="image/gif"/>
  <Override PartName="/ppt/media/image28.gif" ContentType="image/gif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8.jpeg" ContentType="image/jpeg"/>
  <Override PartName="/ppt/media/image2.gif" ContentType="image/gif"/>
  <Override PartName="/ppt/media/image19.jpeg" ContentType="image/jpeg"/>
  <Override PartName="/ppt/media/image21.png" ContentType="image/png"/>
  <Override PartName="/ppt/media/image23.jpeg" ContentType="image/jpeg"/>
  <Override PartName="/ppt/media/image25.jpeg" ContentType="image/jpeg"/>
  <Override PartName="/ppt/media/image17.gif" ContentType="image/gif"/>
  <Override PartName="/ppt/media/image27.jpeg" ContentType="image/jpeg"/>
  <Override PartName="/ppt/media/image29.gif" ContentType="image/gif"/>
  <Override PartName="/ppt/media/image1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B0ED-7C8E-4C47-B28F-12B11B14D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D23A3-C017-43B6-8BC3-A04EE4636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FE28-4CD8-47AA-B216-A42ACC4002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10F7-4F42-49C4-8877-C97AB4CD8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DCD74-5C25-4248-91B3-5EA95247F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CF19-4296-4DF4-9CE1-EE07E7A77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AA545-274D-4154-AC66-E38C9F983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C2975-54FB-4490-9F14-097F34C1C1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D0F4F-FE1D-4CE7-9AE0-EF34EF454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82F94-E949-48BB-969F-E3E6BEEED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AC49B-1C3E-4455-A50F-76FBD0DF9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46E89-EF98-4015-9A91-3B97C8CA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8D7FC-2566-4953-BD47-B0B4A48BD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586A1-47FD-4686-B7BA-54FCDBE85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BCAF7-3868-4069-BF85-4CECB45B2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FE7AD-0321-4638-A2CF-1B69F7C4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243A9-EC1E-4BBC-8334-4546C2763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4DD5-B14C-40D1-A605-9A06C656B2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A32021-1811-445E-9089-FFB34D29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B19C76-643A-4F2D-9531-B80AB4CE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A3C3E-C1A1-43C3-8216-EA03E80D4F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701277-F13C-40F8-A01C-8B9D82045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1EE-E817-47D2-AAE3-FCDC89D21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EFD77F-072E-4E27-890E-3BBE6CB16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213FCC-EBA7-4631-A60D-7F3AA9672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B90BBF-A1D2-4AC1-9783-77CDDB734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D3924-434D-4995-A6B7-10E9949CF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D332D-43B7-44D2-8740-591832C05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CE24D-ECDA-4BC5-A600-EAFA14D7D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B7DBC4-EF85-47EF-99A3-DA276ED49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F5BFB9-8CBE-4781-AA4C-5900FE1693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17148B-48B6-4EBB-A411-8A7B1889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26EB48-A32A-43A3-9305-301ECBDC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D632-A194-40E0-A65F-51630AB15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AE40C4-B880-41EA-B7E8-82B3F3E0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4432CF-9C52-4671-AA8C-38F9CF448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7308D-5D9B-49EB-AC14-25FE3C9A3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DD6D6-4C7C-4881-A1EA-8173278D9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83048-3AF3-41D7-9EB0-CCAC3D566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43EE6B-986D-4F5F-B793-29D8BF236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357573-A70D-4CC1-934D-E3522E1B3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13E8B6-3765-4E3F-B6AD-379BD85AE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65E870-22BD-451D-9626-378ACCCF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586E0-3461-441E-887F-1B75834CB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72F-39EB-4D3C-A9DA-D3E8289A7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F9483-046B-4236-8F04-8A4A72088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2ADC34-D734-4816-A66A-BEB48805C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7BEBE0-3A51-4C73-8166-6708EBB29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5CF1AD-9876-48A3-96B7-4B8AF3A33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D47BA4-A368-40E2-9DBB-E6C873B24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E0AB36-C952-4CE8-9B24-6721CDBD9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ACB220-7B1D-4A62-9F1C-56ABB7098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2C3B63-6807-4A3A-845F-B52F1DC2C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CB1516-8FC7-4F07-B06A-CF5C2B42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D20F8C-7682-4E79-84FF-09C33973A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8D4D0-88E9-4A97-ADBC-DA35C1984E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E6A68-6741-4154-9126-6B0F58EAA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59CFB3-0F6C-42FA-8274-26E4292C1A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5555B3-98D1-4DF3-A5CF-6302E981F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8DB1C6-F537-4EE6-B7D9-8F1C15BF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BD70E1-0F6B-46DD-B1AD-EAFB11B14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4B3D0-BD8A-4CB6-8EE7-8729AE934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F4250-1F09-4AD7-BDF4-5F2B127D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923ABB-049A-43CB-9A2A-27822EAB0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506CEC-D25C-466C-8E5A-1166D5463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676DC4-8CC2-426B-BC2F-90457CD49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AF2D-E1A6-4EC2-B2D2-6EFE3AD5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73C05A-B946-4C24-8D54-9C22B1A974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252EB-6344-4D39-B0FD-0BB7C0426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14970F-05D1-480E-B0EC-337CEC6C9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30AD49-52DA-4000-9564-9B2EBD2CE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D6B999-F6BB-4A60-BEDA-84A715F9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0D7C1B-91C8-48B7-BD83-3AEB4BB87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0FBB0D-6B0F-47DC-80F0-318DB7E82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C02D25-9462-4AF8-92F5-C6A2BA51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80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643391-A15E-4BEE-B800-EE714FA9B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3554F5-A31B-4D20-8B92-E085043D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B738-8228-4F3C-9D2E-4CFF42C1B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99AEB-9F5A-4962-B7DD-3EA8FBE0D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4CCE36-B760-4077-9C83-90D7621B2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8673674-4466-47D7-AB80-AA42415F8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419112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A81BF1-204B-4779-90B7-EC767B025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77480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4191120"/>
            <a:ext cx="264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E035D-9A1F-457B-9E70-0FD25F358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774800"/>
            <a:ext cx="40158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91120"/>
            <a:ext cx="8229600" cy="220644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02F1-EE2B-4D3C-95F3-B9157BD2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矩形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FCD75-9331-49DF-BA1D-E7B25A26115F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D1AC0-4BA0-4925-8FED-E2B6290758F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矩形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DEB79-3472-4E5B-B2A1-B67830D98C9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8793-681A-4A9A-B905-1A7C61569716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640EC-38A1-48EC-9112-C92BCCB64BDB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9"/>
          <p:cNvSpPr/>
          <p:nvPr/>
        </p:nvSpPr>
        <p:spPr>
          <a:xfrm>
            <a:off x="0" y="1436760"/>
            <a:ext cx="9144000" cy="442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6"/>
          <p:cNvSpPr/>
          <p:nvPr/>
        </p:nvSpPr>
        <p:spPr>
          <a:xfrm>
            <a:off x="0" y="0"/>
            <a:ext cx="9144000" cy="1433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矩形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C1BCC-5FDC-460B-BFC5-DBB68B553C5C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矩形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00000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2586-A0D9-4B57-9528-B35F1B4DB3AE}" type="slidenum">
              <a:rPr b="0" lang="en-US" sz="1200" spc="-1" strike="noStrike">
                <a:solidFill>
                  <a:srgbClr val="3f3f3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image" Target="../media/image17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gi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4" descr="ydzx"/>
          <p:cNvPicPr/>
          <p:nvPr/>
        </p:nvPicPr>
        <p:blipFill>
          <a:blip r:embed="rId1"/>
          <a:stretch/>
        </p:blipFill>
        <p:spPr>
          <a:xfrm>
            <a:off x="1071720" y="3286080"/>
            <a:ext cx="5562360" cy="3381480"/>
          </a:xfrm>
          <a:prstGeom prst="rect">
            <a:avLst/>
          </a:prstGeom>
          <a:ln w="0">
            <a:noFill/>
          </a:ln>
        </p:spPr>
      </p:pic>
      <p:pic>
        <p:nvPicPr>
          <p:cNvPr id="304" name="WordArt 5" descr=""/>
          <p:cNvPicPr/>
          <p:nvPr/>
        </p:nvPicPr>
        <p:blipFill>
          <a:blip r:embed="rId2"/>
          <a:stretch/>
        </p:blipFill>
        <p:spPr>
          <a:xfrm>
            <a:off x="1689120" y="706320"/>
            <a:ext cx="6175440" cy="4157640"/>
          </a:xfrm>
          <a:prstGeom prst="rect">
            <a:avLst/>
          </a:prstGeom>
          <a:ln w="0">
            <a:noFill/>
          </a:ln>
        </p:spPr>
      </p:pic>
      <p:pic>
        <p:nvPicPr>
          <p:cNvPr id="305" name="标题 5" descr=""/>
          <p:cNvPicPr/>
          <p:nvPr/>
        </p:nvPicPr>
        <p:blipFill>
          <a:blip r:embed="rId3"/>
          <a:stretch/>
        </p:blipFill>
        <p:spPr>
          <a:xfrm>
            <a:off x="493560" y="3517920"/>
            <a:ext cx="8674200" cy="156060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356760" y="1214280"/>
            <a:ext cx="8458200" cy="214344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  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春蚕到死丝方尽，蜡炬成灰泪始干。</a:t>
            </a:r>
            <a:endParaRPr b="0" lang="en-US" sz="4000" spc="-1" strike="noStrike">
              <a:solidFill>
                <a:srgbClr val="ffffff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图片 4" descr="u=3682210448,310163319&amp;fm=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0" name="标题 1" descr=""/>
          <p:cNvPicPr/>
          <p:nvPr/>
        </p:nvPicPr>
        <p:blipFill>
          <a:blip r:embed="rId2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1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吴艺宏家长：“老师平时为了孩子们辛苦了，在这里衷心祝老师节日快乐，家庭幸福。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陈柳英家长：“还是多得新班主任您的管理有方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</a:t>
            </a: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2" name="图片 5" descr="u=759978482,3297994558&amp;fm=15&amp;gp=0.jpg"/>
          <p:cNvPicPr/>
          <p:nvPr/>
        </p:nvPicPr>
        <p:blipFill>
          <a:blip r:embed="rId3"/>
          <a:stretch/>
        </p:blipFill>
        <p:spPr>
          <a:xfrm>
            <a:off x="7429680" y="4500720"/>
            <a:ext cx="1714320" cy="2357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3" name="图片 3" descr="u=3978638766,3152536410&amp;fm=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4" name="图片 6" descr="u=3068061281,2905711311&amp;fm=0&amp;gp=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55" name="图片 5" descr="u=3592275602,2425534105&amp;fm=0&amp;gp=0.jpg"/>
          <p:cNvPicPr/>
          <p:nvPr/>
        </p:nvPicPr>
        <p:blipFill>
          <a:blip r:embed="rId3"/>
          <a:stretch/>
        </p:blipFill>
        <p:spPr>
          <a:xfrm>
            <a:off x="0" y="4071960"/>
            <a:ext cx="3143160" cy="2786040"/>
          </a:xfrm>
          <a:prstGeom prst="rect">
            <a:avLst/>
          </a:prstGeom>
          <a:ln w="0">
            <a:noFill/>
          </a:ln>
        </p:spPr>
      </p:pic>
      <p:pic>
        <p:nvPicPr>
          <p:cNvPr id="356" name="标题 1" descr=""/>
          <p:cNvPicPr/>
          <p:nvPr/>
        </p:nvPicPr>
        <p:blipFill>
          <a:blip r:embed="rId4"/>
          <a:stretch/>
        </p:blipFill>
        <p:spPr>
          <a:xfrm>
            <a:off x="189000" y="152280"/>
            <a:ext cx="8504280" cy="12621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班主任为我们做了很多很多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…</a:t>
            </a: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我们应怎样回报我们的班主任？说说怎样以我们的实际行动回报班主任吧。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图片 3" descr="u=1105943546,3443710180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60" name=""/>
          <p:cNvSpPr txBox="1"/>
          <p:nvPr/>
        </p:nvSpPr>
        <p:spPr>
          <a:xfrm>
            <a:off x="457200" y="128592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10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黑体"/>
                <a:ea typeface="黑体"/>
              </a:rPr>
              <a:t>第一次月测即将来临，让我们考取优异的成绩回报我们敬爱的班主任！</a:t>
            </a:r>
            <a:endParaRPr b="0" lang="en-US" sz="5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图片 7" descr="u=724691733,2649266145&amp;fm=3&amp;gp=0.jpg"/>
          <p:cNvPicPr/>
          <p:nvPr/>
        </p:nvPicPr>
        <p:blipFill>
          <a:blip r:embed="rId1"/>
          <a:stretch/>
        </p:blipFill>
        <p:spPr>
          <a:xfrm>
            <a:off x="0" y="1643040"/>
            <a:ext cx="5357880" cy="5072040"/>
          </a:xfrm>
          <a:prstGeom prst="rect">
            <a:avLst/>
          </a:prstGeom>
          <a:ln w="0">
            <a:noFill/>
          </a:ln>
        </p:spPr>
      </p:pic>
      <p:pic>
        <p:nvPicPr>
          <p:cNvPr id="362" name="图片 6" descr="u=2160525314,386838796&amp;fm=3&amp;gp=0.jpg"/>
          <p:cNvPicPr/>
          <p:nvPr/>
        </p:nvPicPr>
        <p:blipFill>
          <a:blip r:embed="rId2"/>
          <a:stretch/>
        </p:blipFill>
        <p:spPr>
          <a:xfrm>
            <a:off x="3936960" y="2143080"/>
            <a:ext cx="5207040" cy="4714920"/>
          </a:xfrm>
          <a:prstGeom prst="rect">
            <a:avLst/>
          </a:prstGeom>
          <a:ln w="0">
            <a:noFill/>
          </a:ln>
        </p:spPr>
      </p:pic>
      <p:sp>
        <p:nvSpPr>
          <p:cNvPr id="363" name="WordArt 4"/>
          <p:cNvSpPr txBox="1"/>
          <p:nvPr/>
        </p:nvSpPr>
        <p:spPr>
          <a:xfrm>
            <a:off x="1785960" y="2786040"/>
            <a:ext cx="568944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献给老师的歌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64" name="WordArt 6"/>
          <p:cNvSpPr txBox="1"/>
          <p:nvPr/>
        </p:nvSpPr>
        <p:spPr>
          <a:xfrm>
            <a:off x="500040" y="2786040"/>
            <a:ext cx="119844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hiller"/>
              </a:rPr>
              <a:t>STEP 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  <p:sp>
        <p:nvSpPr>
          <p:cNvPr id="365" name="矩形 5"/>
          <p:cNvSpPr/>
          <p:nvPr/>
        </p:nvSpPr>
        <p:spPr>
          <a:xfrm>
            <a:off x="4017960" y="324468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2" descr="%5Bwallcoo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367" name="WordArt 6"/>
          <p:cNvSpPr txBox="1"/>
          <p:nvPr/>
        </p:nvSpPr>
        <p:spPr>
          <a:xfrm>
            <a:off x="1219320" y="1981080"/>
            <a:ext cx="66657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ff"/>
                    </a:gs>
                    <a:gs pos="100000">
                      <a:srgbClr val="ff99ff"/>
                    </a:gs>
                  </a:gsLst>
                  <a:lin ang="5400000"/>
                </a:gradFill>
                <a:latin typeface="宋体"/>
              </a:rPr>
              <a:t>祝：班主任节日快乐！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66ff"/>
                  </a:gs>
                  <a:gs pos="100000">
                    <a:srgbClr val="ff99ff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68" name="Picture 7" descr="200903042141081379"/>
          <p:cNvPicPr/>
          <p:nvPr/>
        </p:nvPicPr>
        <p:blipFill>
          <a:blip r:embed="rId2"/>
          <a:stretch/>
        </p:blipFill>
        <p:spPr>
          <a:xfrm>
            <a:off x="611280" y="4005360"/>
            <a:ext cx="2303280" cy="2303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图片 3" descr="u=3114211294,153086341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0" name="图片 7" descr="u=1355905839,4253957846&amp;fm=15&amp;gp=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71" name="WordArt 5"/>
          <p:cNvSpPr txBox="1"/>
          <p:nvPr/>
        </p:nvSpPr>
        <p:spPr>
          <a:xfrm rot="319200">
            <a:off x="1068120" y="1375920"/>
            <a:ext cx="6858000" cy="174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掌声鼓励请班主任上台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72" name="图片 4" descr="u=1254532534,2215936757&amp;fm=15&amp;gp=0.jpg"/>
          <p:cNvPicPr/>
          <p:nvPr/>
        </p:nvPicPr>
        <p:blipFill>
          <a:blip r:embed="rId3"/>
          <a:stretch/>
        </p:blipFill>
        <p:spPr>
          <a:xfrm>
            <a:off x="428760" y="214200"/>
            <a:ext cx="966600" cy="1729080"/>
          </a:xfrm>
          <a:prstGeom prst="rect">
            <a:avLst/>
          </a:prstGeom>
          <a:ln w="0">
            <a:noFill/>
          </a:ln>
        </p:spPr>
      </p:pic>
      <p:pic>
        <p:nvPicPr>
          <p:cNvPr id="373" name="图片 5" descr="2579718161553842934.jpg"/>
          <p:cNvPicPr/>
          <p:nvPr/>
        </p:nvPicPr>
        <p:blipFill>
          <a:blip r:embed="rId4"/>
          <a:stretch/>
        </p:blipFill>
        <p:spPr>
          <a:xfrm>
            <a:off x="8001000" y="4714920"/>
            <a:ext cx="976320" cy="177156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Picture 2" descr="567"/>
          <p:cNvPicPr/>
          <p:nvPr/>
        </p:nvPicPr>
        <p:blipFill>
          <a:blip r:embed="rId1"/>
          <a:stretch/>
        </p:blipFill>
        <p:spPr>
          <a:xfrm>
            <a:off x="-1044720" y="0"/>
            <a:ext cx="10550520" cy="7039080"/>
          </a:xfrm>
          <a:prstGeom prst="rect">
            <a:avLst/>
          </a:prstGeom>
          <a:ln w="0">
            <a:noFill/>
          </a:ln>
        </p:spPr>
      </p:pic>
      <p:pic>
        <p:nvPicPr>
          <p:cNvPr id="308" name="Rectangle 3" descr=""/>
          <p:cNvPicPr/>
          <p:nvPr/>
        </p:nvPicPr>
        <p:blipFill>
          <a:blip r:embed="rId2"/>
          <a:stretch/>
        </p:blipFill>
        <p:spPr>
          <a:xfrm>
            <a:off x="237960" y="2633760"/>
            <a:ext cx="8637840" cy="115236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 txBox="1"/>
          <p:nvPr/>
        </p:nvSpPr>
        <p:spPr>
          <a:xfrm>
            <a:off x="500040" y="3499920"/>
            <a:ext cx="8229600" cy="3054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33ff"/>
                </a:solidFill>
                <a:latin typeface="方正姚体"/>
                <a:ea typeface="方正姚体"/>
              </a:rPr>
              <a:t>                          </a:t>
            </a:r>
            <a:r>
              <a:rPr b="0" lang="zh-CN" sz="3600" spc="-1" strike="noStrike">
                <a:solidFill>
                  <a:srgbClr val="9933ff"/>
                </a:solidFill>
                <a:latin typeface="方正姚体"/>
                <a:ea typeface="方正姚体"/>
              </a:rPr>
              <a:t>游戏规则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方正姚体"/>
                <a:ea typeface="方正姚体"/>
              </a:rPr>
              <a:t>1.</a:t>
            </a:r>
            <a:r>
              <a:rPr b="0" lang="zh-CN" sz="2800" spc="-1" strike="noStrike">
                <a:solidFill>
                  <a:srgbClr val="9933ff"/>
                </a:solidFill>
                <a:latin typeface="方正姚体"/>
                <a:ea typeface="方正姚体"/>
              </a:rPr>
              <a:t>以小组为单位进行比赛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方正姚体"/>
                <a:ea typeface="方正姚体"/>
              </a:rPr>
              <a:t>2</a:t>
            </a:r>
            <a:r>
              <a:rPr b="0" lang="en-US" sz="2800" spc="-1" strike="noStrike">
                <a:solidFill>
                  <a:srgbClr val="9933ff"/>
                </a:solidFill>
                <a:latin typeface="方正姚体"/>
                <a:ea typeface="方正姚体"/>
              </a:rPr>
              <a:t>.</a:t>
            </a:r>
            <a:r>
              <a:rPr b="0" lang="zh-CN" sz="2800" spc="-1" strike="noStrike">
                <a:solidFill>
                  <a:srgbClr val="9933ff"/>
                </a:solidFill>
                <a:latin typeface="方正姚体"/>
                <a:ea typeface="方正姚体"/>
              </a:rPr>
              <a:t>各个小组积极抢答，每答对一题加一分。下课后，累计积分最高的小组，全组共加三十分，个人文明分加两分。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33ff"/>
                </a:solidFill>
                <a:latin typeface="方正姚体"/>
                <a:ea typeface="方正姚体"/>
              </a:rPr>
              <a:t>  </a:t>
            </a:r>
            <a:r>
              <a:rPr b="0" lang="zh-CN" sz="2800" spc="-1" strike="noStrike">
                <a:solidFill>
                  <a:srgbClr val="9933ff"/>
                </a:solidFill>
                <a:latin typeface="方正姚体"/>
                <a:ea typeface="方正姚体"/>
              </a:rPr>
              <a:t>（班主任可以自行加入某个小组，一起参加游戏）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WordArt 5"/>
          <p:cNvSpPr txBox="1"/>
          <p:nvPr/>
        </p:nvSpPr>
        <p:spPr>
          <a:xfrm>
            <a:off x="0" y="1125360"/>
            <a:ext cx="1198440" cy="1533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821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Chiller"/>
              </a:rPr>
              <a:t>STEP 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Chiller"/>
              <a:ea typeface="Chiller"/>
            </a:endParaRPr>
          </a:p>
        </p:txBody>
      </p:sp>
    </p:spTree>
  </p:cSld>
  <p:transition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" dur="1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" dur="1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1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1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2" descr="456"/>
          <p:cNvPicPr/>
          <p:nvPr/>
        </p:nvPicPr>
        <p:blipFill>
          <a:blip r:embed="rId1"/>
          <a:stretch/>
        </p:blipFill>
        <p:spPr>
          <a:xfrm>
            <a:off x="0" y="-243000"/>
            <a:ext cx="9468000" cy="7101000"/>
          </a:xfrm>
          <a:prstGeom prst="rect">
            <a:avLst/>
          </a:prstGeom>
          <a:ln w="0">
            <a:noFill/>
          </a:ln>
        </p:spPr>
      </p:pic>
      <p:sp>
        <p:nvSpPr>
          <p:cNvPr id="312" name="Text Box 5"/>
          <p:cNvSpPr/>
          <p:nvPr/>
        </p:nvSpPr>
        <p:spPr>
          <a:xfrm>
            <a:off x="1738800" y="189000"/>
            <a:ext cx="328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是什么节日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教师节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学生节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班主任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6"/>
          <p:cNvSpPr/>
          <p:nvPr/>
        </p:nvSpPr>
        <p:spPr>
          <a:xfrm>
            <a:off x="179280" y="2205000"/>
            <a:ext cx="842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你知道歌诵教师的歌曲有哪些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说出一首歌名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两首得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分，以此类推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7"/>
          <p:cNvSpPr/>
          <p:nvPr/>
        </p:nvSpPr>
        <p:spPr>
          <a:xfrm>
            <a:off x="1071360" y="1484280"/>
            <a:ext cx="497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请补充完整：一日为师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—————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8"/>
          <p:cNvSpPr/>
          <p:nvPr/>
        </p:nvSpPr>
        <p:spPr>
          <a:xfrm>
            <a:off x="1400040" y="3933720"/>
            <a:ext cx="345744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你知道对教师的称谓有哪些吗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说出一个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两个得</a:t>
            </a: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分，以此类推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9"/>
          <p:cNvSpPr/>
          <p:nvPr/>
        </p:nvSpPr>
        <p:spPr>
          <a:xfrm>
            <a:off x="5053320" y="12873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终身为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10"/>
          <p:cNvSpPr/>
          <p:nvPr/>
        </p:nvSpPr>
        <p:spPr>
          <a:xfrm>
            <a:off x="2022120" y="3141720"/>
            <a:ext cx="521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长大后我就成了你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每当我走过老师窗前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 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恩师难忘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老师你好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 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老师赞美诗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红烛之歌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《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再见老师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11"/>
          <p:cNvSpPr/>
          <p:nvPr/>
        </p:nvSpPr>
        <p:spPr>
          <a:xfrm>
            <a:off x="539640" y="4869000"/>
            <a:ext cx="7993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老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广泛流行的敬称；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先生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历史悠长的尊称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·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灵魂工程师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富哲理；   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园丁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质朴无华的褒称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·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慈母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真情感人的爱称；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春蚕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纯挚的称谓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·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蜡烛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温馨动人的称谓；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孺子牛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具中国特色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·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春雨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生动形象的默称；</a:t>
            </a:r>
            <a:r>
              <a:rPr b="0" lang="zh-CN" sz="2400" spc="-1" strike="noStrike">
                <a:solidFill>
                  <a:srgbClr val="0000ff"/>
                </a:solidFill>
                <a:latin typeface="方正姚体"/>
                <a:ea typeface="方正姚体"/>
              </a:rPr>
              <a:t>人梯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  <a:ea typeface="方正姚体"/>
              </a:rPr>
              <a:t>—</a:t>
            </a:r>
            <a:r>
              <a:rPr b="0" lang="zh-CN" sz="2400" spc="-1" strike="noStrike">
                <a:solidFill>
                  <a:srgbClr val="ff0000"/>
                </a:solidFill>
                <a:latin typeface="方正姚体"/>
                <a:ea typeface="方正姚体"/>
              </a:rPr>
              <a:t>最高评价的专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13"/>
          <p:cNvSpPr/>
          <p:nvPr/>
        </p:nvSpPr>
        <p:spPr>
          <a:xfrm>
            <a:off x="4429440" y="189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班主任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10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500" spc="-1" strike="noStrike">
              <a:solidFill>
                <a:srgbClr val="ffc800"/>
              </a:solidFill>
              <a:latin typeface="Corbel"/>
            </a:endParaRPr>
          </a:p>
        </p:txBody>
      </p:sp>
      <p:pic>
        <p:nvPicPr>
          <p:cNvPr id="321" name="Picture 4" descr="456"/>
          <p:cNvPicPr/>
          <p:nvPr/>
        </p:nvPicPr>
        <p:blipFill>
          <a:blip r:embed="rId1"/>
          <a:stretch/>
        </p:blipFill>
        <p:spPr>
          <a:xfrm>
            <a:off x="0" y="-747720"/>
            <a:ext cx="10369440" cy="7605720"/>
          </a:xfrm>
          <a:prstGeom prst="rect">
            <a:avLst/>
          </a:prstGeom>
          <a:ln w="0">
            <a:noFill/>
          </a:ln>
        </p:spPr>
      </p:pic>
      <p:sp>
        <p:nvSpPr>
          <p:cNvPr id="322" name="Text Box 5"/>
          <p:cNvSpPr/>
          <p:nvPr/>
        </p:nvSpPr>
        <p:spPr>
          <a:xfrm>
            <a:off x="1454400" y="63360"/>
            <a:ext cx="242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教师的始祖是（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老子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孔子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孟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6"/>
          <p:cNvSpPr/>
          <p:nvPr/>
        </p:nvSpPr>
        <p:spPr>
          <a:xfrm>
            <a:off x="3492000" y="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孔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7"/>
          <p:cNvSpPr/>
          <p:nvPr/>
        </p:nvSpPr>
        <p:spPr>
          <a:xfrm>
            <a:off x="1371240" y="1484280"/>
            <a:ext cx="451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是故弟子不必不如师，师不必贤于弟子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句话出于谁的作品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4475880" y="1989000"/>
            <a:ext cx="13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韩愈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《</a:t>
            </a:r>
            <a:r>
              <a:rPr b="0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师说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黑体"/>
              </a:rPr>
              <a:t>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9"/>
          <p:cNvSpPr/>
          <p:nvPr/>
        </p:nvSpPr>
        <p:spPr>
          <a:xfrm>
            <a:off x="3168720" y="2708280"/>
            <a:ext cx="2800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千教万教教人求真；千学万学学做真人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这是许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珩为我国一位著名文人撰写了一副挽联，请问他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朱自清 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巴金     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老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 Box 11"/>
          <p:cNvSpPr/>
          <p:nvPr/>
        </p:nvSpPr>
        <p:spPr>
          <a:xfrm>
            <a:off x="7165800" y="3573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朱自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3"/>
          <p:cNvSpPr/>
          <p:nvPr/>
        </p:nvSpPr>
        <p:spPr>
          <a:xfrm>
            <a:off x="69840" y="4292640"/>
            <a:ext cx="90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北宋学者杨时尊师好学，一次他和同学去洛阳拜见老师程颐。当时正值三九严寒，天空飘着雪花，来到老师门前，只见老师在打瞌睡，他们不愿打扰，就静静地肃立在门前的雪地里。程颐醒来看到他们，连忙让进厅堂，这时门外积雪已有一尺多厚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”</a:t>
            </a: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这个典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黑体"/>
                <a:ea typeface="黑体"/>
              </a:rPr>
              <a:t>被后人称为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14"/>
          <p:cNvSpPr/>
          <p:nvPr/>
        </p:nvSpPr>
        <p:spPr>
          <a:xfrm>
            <a:off x="3637080" y="5877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方正姚体"/>
              </a:rPr>
              <a:t>程门立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图片 4" descr="图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Rectangle 3"/>
          <p:cNvSpPr/>
          <p:nvPr/>
        </p:nvSpPr>
        <p:spPr>
          <a:xfrm>
            <a:off x="1332000" y="1628640"/>
            <a:ext cx="6885000" cy="4448160"/>
          </a:xfrm>
          <a:prstGeom prst="rect">
            <a:avLst/>
          </a:prstGeom>
          <a:solidFill>
            <a:srgbClr val="ccffcc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6c0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e46c0a"/>
                </a:solidFill>
                <a:latin typeface="黑体"/>
                <a:ea typeface="黑体"/>
              </a:rPr>
              <a:t>有人说老师像园丁；也有人说老师像蜡烛；她更像一支粉笔。她缩短了自己的身躯，为我们铺长了知识之路。她总是默默地在黑板上耕耘着，为我们播下了知识的种子。 叶圣陶先生早就说过：“教师就是捧着一颗心来，不带一根草去的人”。更让我深刻的理解了人们把教师比作红烛的内涵。是啊，教师如果没有红烛那种燃烧自己，照亮别人的奉献精神，我们的教育事业怎么会蒸蒸日上？四化建设的栋梁之才从何而来？国家的繁荣富强谁来创造？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2"/>
          <p:cNvSpPr/>
          <p:nvPr/>
        </p:nvSpPr>
        <p:spPr>
          <a:xfrm>
            <a:off x="673200" y="274680"/>
            <a:ext cx="8075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4000" spc="-1" strike="noStrike">
                <a:solidFill>
                  <a:srgbClr val="663300"/>
                </a:solidFill>
                <a:latin typeface="Calibri"/>
                <a:ea typeface="黑体"/>
              </a:rPr>
              <a:t>你心目中的班主任是什么样的呢？你想对她说写什么呢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3" name="图片 3" descr="u=3198212880,2561804801&amp;fm=3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5160"/>
            <a:ext cx="8229600" cy="12524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班主任是辛勤的园丁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班主任是我们的向导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班主任从事着太阳底下最光辉的职业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          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请说出班主任为我们做的点点滴滴让我们送上最真挚的祝福吧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图片 6" descr="u=544675240,2961118836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37" name="WordArt 4"/>
          <p:cNvSpPr txBox="1"/>
          <p:nvPr/>
        </p:nvSpPr>
        <p:spPr>
          <a:xfrm>
            <a:off x="2700360" y="476280"/>
            <a:ext cx="41148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班主任一日常规工作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38" name="Text Box 7"/>
          <p:cNvSpPr/>
          <p:nvPr/>
        </p:nvSpPr>
        <p:spPr>
          <a:xfrm>
            <a:off x="696960" y="1438200"/>
            <a:ext cx="45864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8"/>
          <p:cNvSpPr/>
          <p:nvPr/>
        </p:nvSpPr>
        <p:spPr>
          <a:xfrm>
            <a:off x="519120" y="1201680"/>
            <a:ext cx="8229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一、每天早上检查学生出勤情况，如有缺席，及时与家长取得联系或进行家庭访问，搞清原因，同时检查学生着装仪表情况是否符合学校要求，及时进行教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二、督促学生认真参加广播操和升旗仪式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三、检查班级清洁卫生情况，了解值日生工作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 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四、观察班级公物保管状况，发现损坏及时调查、教育和处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五、检查课代表收交作业情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六、每天观察班级课堂教学出席和上课情况，掌握班级学风的进展和变化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七、检查学生眼保健操以及学生课间文明休息的状况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八、注意和处理好班级偶发事件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九、随时发现班中的先进事迹或不良现象，及时进行表扬或批评教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、认真上好校班会课。督促学生认真收听学校教育广播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       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十一、离开教室时，检查班级卫生情况以及四关工作。（水、电、门、窗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图片 6" descr="u=1957409243,811899222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41" name="WordArt 4"/>
          <p:cNvSpPr txBox="1"/>
          <p:nvPr/>
        </p:nvSpPr>
        <p:spPr>
          <a:xfrm>
            <a:off x="179280" y="692280"/>
            <a:ext cx="82393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看完班主任的工作，大家有什么感受？</a:t>
            </a:r>
            <a:endParaRPr b="0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342" name="WordArt 5"/>
          <p:cNvSpPr txBox="1"/>
          <p:nvPr/>
        </p:nvSpPr>
        <p:spPr>
          <a:xfrm>
            <a:off x="324000" y="2133720"/>
            <a:ext cx="554328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93366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黑体"/>
              </a:rPr>
              <a:t>是否觉得繁琐和辛苦？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solidFill>
                <a:srgbClr val="993366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343" name="Text Box 7"/>
          <p:cNvSpPr/>
          <p:nvPr/>
        </p:nvSpPr>
        <p:spPr>
          <a:xfrm>
            <a:off x="3184560" y="3290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WordArt 8"/>
          <p:cNvSpPr txBox="1"/>
          <p:nvPr/>
        </p:nvSpPr>
        <p:spPr>
          <a:xfrm>
            <a:off x="3851280" y="3284640"/>
            <a:ext cx="4249800" cy="26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59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但是，我们的班主任</a:t>
            </a:r>
            <a:endParaRPr b="1" lang="en-US" sz="2800" spc="1" strike="noStrike">
              <a:ln w="0">
                <a:noFill/>
              </a:ln>
              <a:solidFill>
                <a:srgbClr val="00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却在日复一日地</a:t>
            </a:r>
            <a:endParaRPr b="1" lang="en-US" sz="2800" spc="1" strike="noStrike">
              <a:ln w="0">
                <a:noFill/>
              </a:ln>
              <a:solidFill>
                <a:srgbClr val="00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0">
                  <a:noFill/>
                </a:ln>
                <a:solidFill>
                  <a:srgbClr val="0066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重复做着这些工作！</a:t>
            </a:r>
            <a:endParaRPr b="1" lang="en-US" sz="2800" spc="1" strike="noStrike">
              <a:ln w="0">
                <a:noFill/>
              </a:ln>
              <a:solidFill>
                <a:srgbClr val="0066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345" name="Picture 12" descr="200903042141051351"/>
          <p:cNvPicPr/>
          <p:nvPr/>
        </p:nvPicPr>
        <p:blipFill>
          <a:blip r:embed="rId2"/>
          <a:stretch/>
        </p:blipFill>
        <p:spPr>
          <a:xfrm>
            <a:off x="539640" y="335772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p:transition>
    <p:wipe dir="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图片 5" descr="u=1266360788,3239628344&amp;fm=0&amp;gp=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47" name="标题 1" descr=""/>
          <p:cNvPicPr/>
          <p:nvPr/>
        </p:nvPicPr>
        <p:blipFill>
          <a:blip r:embed="rId2"/>
          <a:stretch/>
        </p:blipFill>
        <p:spPr>
          <a:xfrm>
            <a:off x="450720" y="152280"/>
            <a:ext cx="8242560" cy="1262160"/>
          </a:xfrm>
          <a:prstGeom prst="rect">
            <a:avLst/>
          </a:prstGeom>
          <a:ln w="0">
            <a:noFill/>
          </a:ln>
        </p:spPr>
      </p:pic>
      <p:sp>
        <p:nvSpPr>
          <p:cNvPr id="348" name=""/>
          <p:cNvSpPr txBox="1"/>
          <p:nvPr/>
        </p:nvSpPr>
        <p:spPr>
          <a:xfrm>
            <a:off x="457200" y="1774800"/>
            <a:ext cx="8229600" cy="46260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Corbel"/>
              </a:rPr>
              <a:t>在班主任的努力下，我们班的进步得到各科老师的肯定。班风班纪越来越好，这与班主任的汗水是不可分割的。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rbel"/>
              </a:rPr>
              <a:t>                            </a:t>
            </a:r>
            <a:endParaRPr b="0" lang="en-US" sz="36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黑体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0000ff"/>
                </a:solidFill>
                <a:latin typeface="黑体"/>
                <a:ea typeface="黑体"/>
              </a:rPr>
              <a:t>请你列举出班主任的事和你的事情，说说你想对班主任说的话，送上你真挚的祝福。</a:t>
            </a:r>
            <a:endParaRPr b="0" lang="en-US" sz="44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p:transition>
    <p:pull dir="l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11:29:12Z</dcterms:created>
  <dc:creator>shenhaiming</dc:creator>
  <dc:description/>
  <dc:language>en-US</dc:language>
  <cp:lastModifiedBy>Pan</cp:lastModifiedBy>
  <dcterms:modified xsi:type="dcterms:W3CDTF">2011-03-13T02:54:30Z</dcterms:modified>
  <cp:revision>62</cp:revision>
  <dc:subject/>
  <dc:title>幻灯片 1</dc:title>
</cp:coreProperties>
</file>