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8B6-9CCA-4A39-847C-27C64FFA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643-991C-4F28-9BEC-DE327BED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5CD-B070-425A-BE25-3C40AEBF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8DB-1910-4834-8109-FDE450FE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8690-3EAD-4AF9-9E89-DBDF222C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626C-3B6C-4C83-A42A-27F3ED0F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58BB-D01A-4697-84AE-F765F559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3462-F744-4C88-8C70-20EEC929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6BD6-2E43-438B-A00B-22C0A10E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3B7D-3A1C-4D2F-9513-997D4603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BDCC-AE15-4434-8179-D6E46C46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6E67-B4C8-4ECC-817E-7721F3EC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47BA-1B9D-4540-AC15-FD16A307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6C7B-DF57-45F9-87BD-56BE7E02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61A7-2111-4A41-8DDB-DE34CA8C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D8A6-43C5-49AB-884F-D1CE9D4C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4F30-0C88-4919-94B2-179084E4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98FB-51F7-4252-8408-E351405D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4441-3AA1-4873-8696-EBD2A171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59EB-B52F-4388-A8F6-0B908236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5CD-EE1F-4640-888B-2CF41E6E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FB4-46CA-4926-8555-CC120F2D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20F-DEDA-4932-A796-9268BAB9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D0F-46F8-460F-B13C-A1D5B101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未知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957D-BF52-4DD4-AB05-C2B89B60E40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未知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6F3F-85FE-456B-AF7F-3CDCD0C4187A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2008325145019972_2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357200" y="1643040"/>
            <a:ext cx="607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dbf"/>
                </a:solidFill>
                <a:latin typeface="Times New Roman"/>
              </a:rPr>
              <a:t>与法同行，平安相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矩形 3"/>
          <p:cNvSpPr/>
          <p:nvPr/>
        </p:nvSpPr>
        <p:spPr>
          <a:xfrm>
            <a:off x="1357200" y="3013200"/>
            <a:ext cx="57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华文隶书"/>
              </a:rPr>
              <a:t>——</a:t>
            </a: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华文隶书"/>
              </a:rPr>
              <a:t>法制安全教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1835280" y="4365720"/>
            <a:ext cx="57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西海寄校    保学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乘坐公共电汽车时，下面的行为哪个安全？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在车厢内随意站立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行车时扶好扶手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将手或身体置于车窗外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在有人行道的路上，你应该：</a:t>
            </a:r>
            <a:br>
              <a:rPr sz="131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走人行道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走非机动车道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随心所欲，哪儿没车走哪儿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我国的道路通行原则是：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右侧通行原则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左侧通行原则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中间通行原则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汽车车尾白灯闪烁时，表示汽车：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前进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倒车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1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乘坐小汽车要系安全带，下面哪个说法正确：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前排乘车人可以不系安全带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司机和前排乘车人必须系安全带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中华人民共和国道路交通管理条例规定未满（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）岁的儿童，不准在道路上骑自行车、三轮车和推拉人力车。</a:t>
            </a:r>
            <a:br>
              <a:rPr sz="131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岁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岁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4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岁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3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经过一个有信号灯的铁路道口时，应该：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直接从铁路上穿过去。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看看左右没火车就快速走过去。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在准许通过的信号灯亮时通过。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4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．爸爸开车带小红参加姑姑的婚礼，在婚礼上，爸爸喝了三瓶啤酒，婚礼结束后，小红坐爸爸的车回家。请问，下面哪些说法是正确的？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．爸爸和小红都违反了道路交通安全法的有关规定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．喝三杯啤酒没有关系，照样可以开车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．爸爸违反了道路交通安全法的有关规定，小红没有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5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当你过人行横道时，应该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: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左看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右看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一停二看三通过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Times New Roman"/>
              </a:rPr>
              <a:t>交通安全篇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3" descr="2dfd36137bb49d32cb80c46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428760" y="1714680"/>
            <a:ext cx="464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法制安全篇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feifei\桌面\jiaotong\第一册第二单元.files\2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1752480" y="13716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交通安全篇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00"/>
                </a:solidFill>
                <a:latin typeface="Times New Roman"/>
              </a:rPr>
              <a:t>校园案例辨析：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小明平时经常小偷小摸。老师告诉他的父母，他的父母虽向老师交还了赃款，却一副满不在乎的样子，总认为是小事一桩，不值得大惊小怪，还阴阳怪气说：“怎么啦？不就拿了一点钱嘛，又没犯罪。”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请问：这是不是小事？请说明理由。</a:t>
            </a:r>
            <a:br>
              <a:rPr sz="54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在学校里，我们应该注意什么呢？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、利器、易燃物品这些东西不准带进校门：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、不能往高处攀爬，更不能翻越围墙、滑楼梯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、上下楼梯靠右行。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、下课了，不能追赶打闹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、言行要文明，不说脏话，不打架骂人，不给同学取绰号。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遵纪守法别忘记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》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二是二，一是一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法律法规要学习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善恶美丑辨分明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人人夸我懂道理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害人心，不可取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防人之心别麻痹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坏人坏事不能做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多做好事为集体。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遇坏人，别着急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沉着冷静出主意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报警电话一点通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犯罪分子无处去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小朋友，听仔细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法律法规是武器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日积月累多学习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遵纪守法别忘记。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考考你：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小朋友，你们知道这些特殊的电话号码吗？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120  110  119</a:t>
            </a:r>
            <a:br>
              <a:rPr sz="6000"/>
            </a:b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6" name="图片 4" descr="2142051_195300317527_2.jpg"/>
          <p:cNvPicPr/>
          <p:nvPr/>
        </p:nvPicPr>
        <p:blipFill>
          <a:blip r:embed="rId2"/>
          <a:stretch/>
        </p:blipFill>
        <p:spPr>
          <a:xfrm>
            <a:off x="0" y="58680"/>
            <a:ext cx="9144000" cy="67406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/>
          <p:cNvSpPr/>
          <p:nvPr/>
        </p:nvSpPr>
        <p:spPr>
          <a:xfrm>
            <a:off x="1357200" y="1785960"/>
            <a:ext cx="585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4dbf"/>
                </a:solidFill>
                <a:latin typeface="Times New Roman"/>
              </a:rPr>
              <a:t>安全自护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zh-CN" sz="4000" spc="-1" strike="noStrike">
                <a:solidFill>
                  <a:srgbClr val="ba1591"/>
                </a:solidFill>
                <a:latin typeface="Times New Roman"/>
              </a:rPr>
              <a:t>见招拆招：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洋洋和小帅结伴放学回家。突然，洋洋发现后面好像有人在跟踪他们。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“小帅！你是不是觉得有人在跟踪我们啊？”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“哪有呀，开玩笑了吧？”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“真的有人跟踪我们，你偷偷回头看看！”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果然有人！两人十分害怕。可是该怎么办？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zh-CN" sz="4000" spc="-1" strike="noStrike">
                <a:solidFill>
                  <a:srgbClr val="ba1591"/>
                </a:solidFill>
                <a:latin typeface="Times New Roman"/>
              </a:rPr>
              <a:t>见招拆招：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如果发现自己被人跟踪，最好往   人多的地方走，如果附近有警察或交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警，就赶紧向他们求助。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如果找不到警察，可以走到附近商店，向售货员借电话，请家人来接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你。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千万注意，不要被坏人追到小巷子里或者死胡同里，万一碰到这样的情况，赶紧按别人家的门铃或大声叫：“救命！”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zh-CN" sz="4000" spc="-1" strike="noStrike">
                <a:solidFill>
                  <a:srgbClr val="ba1591"/>
                </a:solidFill>
                <a:latin typeface="Times New Roman"/>
              </a:rPr>
              <a:t>见招拆招：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平时可以随身携带一个哨子，遇到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坏人的时候，就用力吹哨子，引起路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人的注意，吓退坏人。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不要在脖上挂钥匙，防止被人尾随入室。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6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快到家门口时，停下看看身后，确定无人跟踪再开门进家。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/Documents and Settings/Administrator/My Documents/My Pictures/0002003.jpg0002003"/>
          <p:cNvPicPr/>
          <p:nvPr/>
        </p:nvPicPr>
        <p:blipFill>
          <a:blip r:embed="rId1"/>
          <a:stretch/>
        </p:blipFill>
        <p:spPr>
          <a:xfrm>
            <a:off x="34920" y="765000"/>
            <a:ext cx="9072720" cy="605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Object 3"/>
          <p:cNvGraphicFramePr/>
          <p:nvPr/>
        </p:nvGraphicFramePr>
        <p:xfrm>
          <a:off x="0" y="0"/>
          <a:ext cx="914400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4"/>
          <p:cNvSpPr/>
          <p:nvPr/>
        </p:nvSpPr>
        <p:spPr>
          <a:xfrm>
            <a:off x="324000" y="990720"/>
            <a:ext cx="843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00"/>
                </a:solidFill>
                <a:latin typeface="Times New Roman"/>
                <a:ea typeface="华文隶书"/>
              </a:rPr>
              <a:t>衷心祝福大家平安、快乐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Object 5"/>
          <p:cNvGraphicFramePr/>
          <p:nvPr/>
        </p:nvGraphicFramePr>
        <p:xfrm>
          <a:off x="0" y="6076800"/>
          <a:ext cx="9144000" cy="781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076800"/>
                    <a:ext cx="914400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平安是福.mp3" descr="平安是福"/>
          <p:cNvPicPr/>
          <p:nvPr/>
        </p:nvPicPr>
        <p:blipFill>
          <a:blip r:embed="rId6"/>
          <a:stretch/>
        </p:blipFill>
        <p:spPr>
          <a:xfrm>
            <a:off x="3851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/>
                </p:stCondLst>
                <p:childTnLst>
                  <p:par>
                    <p:cTn id="16" fill="hold">
                      <p:stCondLst>
                        <p:cond evt="onClick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234400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Times New Roman"/>
              </a:rPr>
              <a:t>交通知识抢答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6760" cy="664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行人在没有人行道的路上行走，应该：</a:t>
            </a:r>
            <a:br>
              <a:rPr sz="6000"/>
            </a:b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靠路边行走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随意走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通过人行横道时，红色信号灯亮了，这时应该：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抢跑过马路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等候绿灯亮后再走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汽车的转向灯左边闪烁时，汽车向：</a:t>
            </a:r>
            <a:br>
              <a:rPr sz="131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左转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右转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行人可以搭乘电动自行车、人力货运三轮车、轻便摩托车吗？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能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不能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乘坐轿车时从哪边下车最安全？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左边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右边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如果看到有汽车撞人后要逃跑了，你应该立即：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记下车牌号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告诉老师或家长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不需要做任何事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0:45:37Z</dcterms:created>
  <dc:creator>hw</dc:creator>
  <dc:description/>
  <dc:language>en-US</dc:language>
  <cp:lastModifiedBy>雨林木风</cp:lastModifiedBy>
  <cp:lastPrinted>1899-12-30T00:00:00Z</cp:lastPrinted>
  <dcterms:modified xsi:type="dcterms:W3CDTF">2013-02-26T08:43:31Z</dcterms:modified>
  <cp:revision>5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