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2.png" ContentType="image/png"/>
  <Override PartName="/ppt/media/image21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29.png" ContentType="image/png"/>
  <Override PartName="/ppt/media/image2.wmf" ContentType="image/x-wmf"/>
  <Override PartName="/ppt/media/image14.wmf" ContentType="image/x-wmf"/>
  <Override PartName="/ppt/media/image24.png" ContentType="image/png"/>
  <Override PartName="/ppt/media/image11.jpeg" ContentType="image/jpeg"/>
  <Override PartName="/ppt/media/image27.jpeg" ContentType="image/jpeg"/>
  <Override PartName="/ppt/media/image5.wmf" ContentType="image/x-wmf"/>
  <Override PartName="/ppt/media/image6.jpeg" ContentType="image/jpeg"/>
  <Override PartName="/ppt/media/image9.png" ContentType="image/png"/>
  <Override PartName="/ppt/media/image40.jpeg" ContentType="image/jpeg"/>
  <Override PartName="/ppt/media/image30.png" ContentType="image/png"/>
  <Override PartName="/ppt/media/image35.jpeg" ContentType="image/jpeg"/>
  <Override PartName="/ppt/media/image36.png" ContentType="image/png"/>
  <Override PartName="/ppt/media/image13.png" ContentType="image/png"/>
  <Override PartName="/ppt/media/image37.png" ContentType="image/png"/>
  <Override PartName="/ppt/media/image41.png" ContentType="image/png"/>
  <Override PartName="/ppt/media/image43.png" ContentType="image/png"/>
  <Override PartName="/ppt/media/image33.wmf" ContentType="image/x-wmf"/>
  <Override PartName="/ppt/media/image3.wmf" ContentType="image/x-wmf"/>
  <Override PartName="/ppt/media/image44.wmf" ContentType="image/x-wmf"/>
  <Override PartName="/ppt/media/image10.wmf" ContentType="image/x-wmf"/>
  <Override PartName="/ppt/media/image25.jpeg" ContentType="image/jpeg"/>
  <Override PartName="/ppt/media/image32.png" ContentType="image/png"/>
  <Override PartName="/ppt/media/image38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23.wmf" ContentType="image/x-wmf"/>
  <Override PartName="/ppt/media/image8.jpeg" ContentType="image/jpeg"/>
  <Override PartName="/ppt/media/image39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1.png" ContentType="image/png"/>
  <Override PartName="/ppt/media/image3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13A7-BE52-43AC-B600-34FC72114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60DF-6C82-4781-8D01-CAADB9D4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8D4B-D20D-454B-AF98-583953E5D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9616-C8ED-42A9-924C-063747BEC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EE8D3-D7BF-483C-839F-760335CBF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1AFD-8E63-4DED-A23F-14CCC798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45E4-EE53-430E-B5C1-CBEF7CB3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4300-A4AB-4C5F-9E63-4184C20A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D712-12D7-4AC5-8EA6-36F55158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48C8-8FBC-48D1-9827-5CC01BCF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916D-9DFD-4AF9-B3B8-71D66F4B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B86D-A176-473D-8423-5D9AE9F8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76102-9D80-4A9F-97CA-52386D61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9E59-4942-49C4-8B9A-7BEEA5D9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60FE-226D-443B-B668-2DD418D3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4525-4915-41CC-B842-3FE148326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166E-9E40-4183-8326-A472803E1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758A-2E18-43B2-B0E4-3E8FD5DC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69B5-E44F-4B81-A4C6-2B0D81BB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11E2-2270-46ED-8F55-1B35AF87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A5F8-F0F6-4144-B0D2-2DF5FF83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1CF3-A081-4FDC-B219-7B5508EB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EBE6-DA4F-45DA-A507-B12659EB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CD9E-5244-45CC-B154-3D1BE65E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未知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E8C7-E51B-4117-9239-6DACA2E820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55840" y="1460520"/>
            <a:ext cx="16899480" cy="10794600"/>
            <a:chOff x="-7755840" y="1460520"/>
            <a:chExt cx="16899480" cy="10794600"/>
          </a:xfrm>
        </p:grpSpPr>
        <p:sp>
          <p:nvSpPr>
            <p:cNvPr id="45" name="未知"/>
            <p:cNvSpPr/>
            <p:nvPr/>
          </p:nvSpPr>
          <p:spPr>
            <a:xfrm>
              <a:off x="3273840" y="2710080"/>
              <a:ext cx="5869800" cy="414792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55840" y="1460520"/>
              <a:ext cx="1344780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A811-5068-402A-A4F5-F06B7CBF20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971280" y="4652640"/>
            <a:ext cx="6908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ntique Olive Compact"/>
                <a:ea typeface="华文细黑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10666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539640" y="155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cc66"/>
                </a:solidFill>
                <a:latin typeface="Arial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服务和礼仪培训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676520" y="380880"/>
            <a:ext cx="5943600" cy="764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顾客的期望越来越高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2133720"/>
            <a:ext cx="6172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66"/>
                </a:solidFill>
                <a:latin typeface="Times New Roman"/>
              </a:rPr>
              <a:t>更注意自己所得到的服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66"/>
                </a:solidFill>
                <a:latin typeface="Times New Roman"/>
              </a:rPr>
              <a:t>对服务有了更多的要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66"/>
                </a:solidFill>
                <a:latin typeface="Times New Roman"/>
              </a:rPr>
              <a:t>对服务更加不满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66"/>
                </a:solidFill>
                <a:latin typeface="Times New Roman"/>
              </a:rPr>
              <a:t>需要更好的服务质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52480" y="1600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与五年前相比，顾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4876920"/>
            <a:ext cx="5486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服务水平并未完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许多员工还不在乎是否提供优质服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43434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他们认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329080" y="1700280"/>
            <a:ext cx="385128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334120" cy="39988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676520" y="380880"/>
            <a:ext cx="5943600" cy="764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提供了优质服务的员工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52680" y="1447920"/>
            <a:ext cx="266724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更容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获得提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涨工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获得好心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住工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5640" y="278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2-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Arial"/>
              </a:rPr>
              <a:t>顾客是怎样流失的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4920" y="5943600"/>
            <a:ext cx="861048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9680" y="304920"/>
            <a:ext cx="518184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顾客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华文彩云"/>
              </a:rPr>
              <a:t>流失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的原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04920" y="1447920"/>
            <a:ext cx="8610120" cy="5181120"/>
            <a:chOff x="304920" y="1447920"/>
            <a:chExt cx="8610120" cy="5181120"/>
          </a:xfrm>
        </p:grpSpPr>
        <p:grpSp>
          <p:nvGrpSpPr>
            <p:cNvPr id="122" name=""/>
            <p:cNvGrpSpPr/>
            <p:nvPr/>
          </p:nvGrpSpPr>
          <p:grpSpPr>
            <a:xfrm>
              <a:off x="313200" y="1452600"/>
              <a:ext cx="8592120" cy="5170680"/>
              <a:chOff x="313200" y="1452600"/>
              <a:chExt cx="8592120" cy="517068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313200" y="1452600"/>
                <a:ext cx="3305520" cy="645840"/>
                <a:chOff x="313200" y="1452600"/>
                <a:chExt cx="3305520" cy="64584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435600" y="1452600"/>
                  <a:ext cx="3060360" cy="64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失去的客户的百分比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13200" y="1452600"/>
                  <a:ext cx="3305520" cy="64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3619080" y="1452600"/>
                <a:ext cx="5286240" cy="645840"/>
                <a:chOff x="3619080" y="1452600"/>
                <a:chExt cx="5286240" cy="64584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3741480" y="1452600"/>
                  <a:ext cx="5041080" cy="64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原因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619080" y="1452600"/>
                  <a:ext cx="5286240" cy="64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313200" y="2098800"/>
                <a:ext cx="3305520" cy="646200"/>
                <a:chOff x="313200" y="2098800"/>
                <a:chExt cx="3305520" cy="646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35600" y="2098800"/>
                  <a:ext cx="3060360" cy="64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1%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13200" y="2098800"/>
                  <a:ext cx="3305520" cy="646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3619080" y="2098800"/>
                <a:ext cx="5286240" cy="646200"/>
                <a:chOff x="3619080" y="2098800"/>
                <a:chExt cx="5286240" cy="6462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3741480" y="2098800"/>
                  <a:ext cx="5041080" cy="64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死亡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619080" y="2098800"/>
                  <a:ext cx="5286240" cy="646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313200" y="2745360"/>
                <a:ext cx="3305520" cy="645840"/>
                <a:chOff x="313200" y="2745360"/>
                <a:chExt cx="3305520" cy="64584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35600" y="2745360"/>
                  <a:ext cx="3060360" cy="64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3%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3200" y="2745360"/>
                  <a:ext cx="3305520" cy="64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3619080" y="2745360"/>
                <a:ext cx="5286240" cy="645840"/>
                <a:chOff x="3619080" y="2745360"/>
                <a:chExt cx="5286240" cy="645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3741480" y="2745360"/>
                  <a:ext cx="5041080" cy="64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搬走了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619080" y="2745360"/>
                  <a:ext cx="5286240" cy="64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313200" y="3391560"/>
                <a:ext cx="3305520" cy="645840"/>
                <a:chOff x="313200" y="3391560"/>
                <a:chExt cx="3305520" cy="645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35600" y="3391560"/>
                  <a:ext cx="3060360" cy="64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4%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13200" y="3391560"/>
                  <a:ext cx="3305520" cy="64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3619080" y="3391560"/>
                <a:ext cx="5286240" cy="645840"/>
                <a:chOff x="3619080" y="3391560"/>
                <a:chExt cx="5286240" cy="64584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3741480" y="3391560"/>
                  <a:ext cx="5041080" cy="64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自然地改变了喜好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619080" y="3391560"/>
                  <a:ext cx="5286240" cy="64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313200" y="4037760"/>
                <a:ext cx="3305520" cy="646200"/>
                <a:chOff x="313200" y="4037760"/>
                <a:chExt cx="3305520" cy="6462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35600" y="4037760"/>
                  <a:ext cx="3060360" cy="64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5%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13200" y="4037760"/>
                  <a:ext cx="3305520" cy="646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3619080" y="4037760"/>
                <a:ext cx="5286240" cy="646200"/>
                <a:chOff x="3619080" y="4037760"/>
                <a:chExt cx="5286240" cy="6462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3741480" y="4037760"/>
                  <a:ext cx="5041080" cy="64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在朋友的推荐下换了公司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619080" y="4037760"/>
                  <a:ext cx="5286240" cy="646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13200" y="4684680"/>
                <a:ext cx="3305520" cy="645840"/>
                <a:chOff x="313200" y="4684680"/>
                <a:chExt cx="3305520" cy="6458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35600" y="4684680"/>
                  <a:ext cx="3060360" cy="64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9%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13200" y="4684680"/>
                  <a:ext cx="3305520" cy="64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3619080" y="4684680"/>
                <a:ext cx="5286240" cy="645840"/>
                <a:chOff x="3619080" y="4684680"/>
                <a:chExt cx="5286240" cy="6458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741480" y="4684680"/>
                  <a:ext cx="5041080" cy="64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在别处买到更便宜的产品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19080" y="4684680"/>
                  <a:ext cx="5286240" cy="64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13200" y="5330880"/>
                <a:ext cx="3305520" cy="645840"/>
                <a:chOff x="313200" y="5330880"/>
                <a:chExt cx="3305520" cy="64584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435600" y="5330880"/>
                  <a:ext cx="3060360" cy="64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10%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13200" y="5330880"/>
                  <a:ext cx="3305520" cy="64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3619080" y="5330880"/>
                <a:ext cx="5286240" cy="645840"/>
                <a:chOff x="3619080" y="5330880"/>
                <a:chExt cx="5286240" cy="6458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3741480" y="5330880"/>
                  <a:ext cx="5041080" cy="64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对产品不满意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619080" y="5330880"/>
                  <a:ext cx="5286240" cy="64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313200" y="5977080"/>
                <a:ext cx="3305520" cy="646200"/>
                <a:chOff x="313200" y="5977080"/>
                <a:chExt cx="3305520" cy="6462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435600" y="5977080"/>
                  <a:ext cx="3060360" cy="64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ff"/>
                      </a:solidFill>
                      <a:latin typeface="Times New Roman"/>
                    </a:rPr>
                    <a:t>68%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13200" y="5977080"/>
                  <a:ext cx="3305520" cy="646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3619080" y="5977080"/>
                <a:ext cx="5286240" cy="646200"/>
                <a:chOff x="3619080" y="5977080"/>
                <a:chExt cx="5286240" cy="64620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3741480" y="5977080"/>
                  <a:ext cx="5041080" cy="64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ff"/>
                      </a:solidFill>
                      <a:latin typeface="Times New Roman"/>
                    </a:rPr>
                    <a:t>服务人员对他们的需求漠不关心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3619080" y="5977080"/>
                  <a:ext cx="5286240" cy="646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1" name=""/>
            <p:cNvSpPr/>
            <p:nvPr/>
          </p:nvSpPr>
          <p:spPr>
            <a:xfrm>
              <a:off x="304920" y="1447920"/>
              <a:ext cx="8610120" cy="51811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362320" y="380880"/>
            <a:ext cx="5410080" cy="100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个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不满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顾客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1760" cy="19810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116000" y="2133720"/>
            <a:ext cx="763272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一个投诉不满的顾客背后有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25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个不满的顾客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24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人不满但并不投诉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一个不满的顾客会把他糟糕的经历告诉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10-20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个有严重问题但未发出抱怨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投诉者比不投诉者更有意愿继续与公司保持关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投诉者的问题得到解决，会有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60%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的投诉者愿与公司保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关系，如果迅速得到解决，会有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90-95%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的顾客会与公司保持关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39760" cy="1523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116000" y="1917720"/>
            <a:ext cx="71280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一个满意的顾客会告诉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1-5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个满意的客户会带来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25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个新顾客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维持一个老顾客的成本只有吸引一个新顾客的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1/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更多地购买并且长时间地对该公司的商品保持忠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购买公司推荐的其他产品并且提高购买产品的等级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对他人说公司和产品的好话，较少注意竞争品牌的广告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并且对价格也不敏感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给公司提供有关产品和服务的好主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14600" y="380880"/>
            <a:ext cx="449568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个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满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顾客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00000" y="292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3-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Arial"/>
              </a:rPr>
              <a:t>顾客要什么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服务的关键因素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Arial"/>
              </a:rPr>
              <a:t>服务的关键因素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5146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关键因素是企业或企业员工的行为，以及造成这些行为的原因；这些行为和行为的原因导致了顾客满意或不满意。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268920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36360" y="1057320"/>
            <a:ext cx="4464360" cy="5688000"/>
            <a:chOff x="36360" y="1057320"/>
            <a:chExt cx="4464360" cy="5688000"/>
          </a:xfrm>
        </p:grpSpPr>
        <p:grpSp>
          <p:nvGrpSpPr>
            <p:cNvPr id="183" name=""/>
            <p:cNvGrpSpPr/>
            <p:nvPr/>
          </p:nvGrpSpPr>
          <p:grpSpPr>
            <a:xfrm>
              <a:off x="39960" y="1060560"/>
              <a:ext cx="4455720" cy="5680800"/>
              <a:chOff x="39960" y="1060560"/>
              <a:chExt cx="4455720" cy="568080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39960" y="1060560"/>
                <a:ext cx="501480" cy="436680"/>
                <a:chOff x="39960" y="1060560"/>
                <a:chExt cx="501480" cy="4366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97560" y="1060560"/>
                  <a:ext cx="385920" cy="43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9960" y="1060560"/>
                  <a:ext cx="501480" cy="43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541440" y="1060560"/>
                <a:ext cx="3954240" cy="436680"/>
                <a:chOff x="541440" y="1060560"/>
                <a:chExt cx="3954240" cy="43668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599040" y="1060560"/>
                  <a:ext cx="3838680" cy="43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物美价廉的感觉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41440" y="1060560"/>
                  <a:ext cx="3954240" cy="43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39960" y="1497240"/>
                <a:ext cx="501480" cy="437040"/>
                <a:chOff x="39960" y="1497240"/>
                <a:chExt cx="501480" cy="43704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97560" y="1497240"/>
                  <a:ext cx="385920" cy="43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9960" y="1497240"/>
                  <a:ext cx="501480" cy="43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541440" y="1497240"/>
                <a:ext cx="3954240" cy="437040"/>
                <a:chOff x="541440" y="1497240"/>
                <a:chExt cx="3954240" cy="43704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599040" y="1497240"/>
                  <a:ext cx="3838680" cy="43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优雅的礼貌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41440" y="1497240"/>
                  <a:ext cx="3954240" cy="43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39960" y="1934640"/>
                <a:ext cx="501480" cy="436680"/>
                <a:chOff x="39960" y="1934640"/>
                <a:chExt cx="501480" cy="43668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97560" y="1934640"/>
                  <a:ext cx="385920" cy="43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9960" y="1934640"/>
                  <a:ext cx="501480" cy="43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541440" y="1934640"/>
                <a:ext cx="3954240" cy="436680"/>
                <a:chOff x="541440" y="1934640"/>
                <a:chExt cx="3954240" cy="43668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599040" y="1934640"/>
                  <a:ext cx="3838680" cy="43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清洁的环境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41440" y="1934640"/>
                  <a:ext cx="3954240" cy="43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39960" y="2371320"/>
                <a:ext cx="501480" cy="436680"/>
                <a:chOff x="39960" y="2371320"/>
                <a:chExt cx="501480" cy="4366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97560" y="2371320"/>
                  <a:ext cx="385920" cy="43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960" y="2371320"/>
                  <a:ext cx="501480" cy="43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541440" y="2371320"/>
                <a:ext cx="3954240" cy="436680"/>
                <a:chOff x="541440" y="2371320"/>
                <a:chExt cx="3954240" cy="4366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599040" y="2371320"/>
                  <a:ext cx="3838680" cy="43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令人感觉愉快的环境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41440" y="2371320"/>
                  <a:ext cx="3954240" cy="43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39960" y="2808360"/>
                <a:ext cx="501480" cy="437040"/>
                <a:chOff x="39960" y="2808360"/>
                <a:chExt cx="501480" cy="43704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97560" y="2808360"/>
                  <a:ext cx="385920" cy="43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5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960" y="2808360"/>
                  <a:ext cx="501480" cy="43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541440" y="2808360"/>
                <a:ext cx="3954240" cy="437040"/>
                <a:chOff x="541440" y="2808360"/>
                <a:chExt cx="3954240" cy="4370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599040" y="2808360"/>
                  <a:ext cx="3838680" cy="43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温馨的感觉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41440" y="2808360"/>
                  <a:ext cx="3954240" cy="43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9960" y="3245760"/>
                <a:ext cx="501480" cy="436680"/>
                <a:chOff x="39960" y="3245760"/>
                <a:chExt cx="501480" cy="43668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97560" y="3245760"/>
                  <a:ext cx="385920" cy="43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6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9960" y="3245760"/>
                  <a:ext cx="501480" cy="43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541440" y="3245760"/>
                <a:ext cx="3954240" cy="436680"/>
                <a:chOff x="541440" y="3245760"/>
                <a:chExt cx="3954240" cy="43668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599040" y="3245760"/>
                  <a:ext cx="3838680" cy="43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可以帮助顾客成长的事物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41440" y="3245760"/>
                  <a:ext cx="3954240" cy="43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39960" y="3682440"/>
                <a:ext cx="501480" cy="436680"/>
                <a:chOff x="39960" y="3682440"/>
                <a:chExt cx="501480" cy="43668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97560" y="3682440"/>
                  <a:ext cx="385920" cy="43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7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9960" y="3682440"/>
                  <a:ext cx="501480" cy="43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541440" y="3682440"/>
                <a:ext cx="3954240" cy="436680"/>
                <a:chOff x="541440" y="3682440"/>
                <a:chExt cx="3954240" cy="4366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599040" y="3682440"/>
                  <a:ext cx="3838680" cy="43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让顾客得到满足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41440" y="3682440"/>
                  <a:ext cx="3954240" cy="43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39960" y="4119480"/>
                <a:ext cx="501480" cy="437040"/>
                <a:chOff x="39960" y="4119480"/>
                <a:chExt cx="501480" cy="43704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97560" y="4119480"/>
                  <a:ext cx="385920" cy="43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8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9960" y="4119480"/>
                  <a:ext cx="501480" cy="43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541440" y="4119480"/>
                <a:ext cx="3954240" cy="437040"/>
                <a:chOff x="541440" y="4119480"/>
                <a:chExt cx="3954240" cy="43704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599040" y="4119480"/>
                  <a:ext cx="3838680" cy="43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方便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41440" y="4119480"/>
                  <a:ext cx="3954240" cy="43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39960" y="4556520"/>
                <a:ext cx="501480" cy="436680"/>
                <a:chOff x="39960" y="4556520"/>
                <a:chExt cx="501480" cy="43668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97560" y="4556520"/>
                  <a:ext cx="385920" cy="43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9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9960" y="4556520"/>
                  <a:ext cx="501480" cy="43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541440" y="4556520"/>
                <a:ext cx="3954240" cy="436680"/>
                <a:chOff x="541440" y="4556520"/>
                <a:chExt cx="3954240" cy="43668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599040" y="4556520"/>
                  <a:ext cx="3838680" cy="43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提供售前和售后服务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41440" y="4556520"/>
                  <a:ext cx="3954240" cy="43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39960" y="4993560"/>
                <a:ext cx="501480" cy="436680"/>
                <a:chOff x="39960" y="4993560"/>
                <a:chExt cx="501480" cy="43668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97560" y="4993560"/>
                  <a:ext cx="385920" cy="43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10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39960" y="4993560"/>
                  <a:ext cx="501480" cy="43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541440" y="4993560"/>
                <a:ext cx="3954240" cy="436680"/>
                <a:chOff x="541440" y="4993560"/>
                <a:chExt cx="3954240" cy="43668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99040" y="4993560"/>
                  <a:ext cx="3838680" cy="43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认识并熟悉顾客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41440" y="4993560"/>
                  <a:ext cx="3954240" cy="43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39960" y="5430600"/>
                <a:ext cx="501480" cy="437040"/>
                <a:chOff x="39960" y="5430600"/>
                <a:chExt cx="501480" cy="43704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97560" y="5430600"/>
                  <a:ext cx="385920" cy="43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1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9960" y="5430600"/>
                  <a:ext cx="501480" cy="43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541440" y="5430600"/>
                <a:ext cx="3954240" cy="437040"/>
                <a:chOff x="541440" y="5430600"/>
                <a:chExt cx="3954240" cy="43704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599040" y="5430600"/>
                  <a:ext cx="3838680" cy="43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商品具有吸引力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541440" y="5430600"/>
                  <a:ext cx="3954240" cy="43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39960" y="5867640"/>
                <a:ext cx="501480" cy="436680"/>
                <a:chOff x="39960" y="5867640"/>
                <a:chExt cx="501480" cy="43668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97560" y="5867640"/>
                  <a:ext cx="385920" cy="43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12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9960" y="5867640"/>
                  <a:ext cx="501480" cy="43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541440" y="5867640"/>
                <a:ext cx="3954240" cy="436680"/>
                <a:chOff x="541440" y="5867640"/>
                <a:chExt cx="3954240" cy="43668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599040" y="5867640"/>
                  <a:ext cx="3838680" cy="43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兴趣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41440" y="5867640"/>
                  <a:ext cx="3954240" cy="43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39960" y="6304680"/>
                <a:ext cx="501480" cy="436680"/>
                <a:chOff x="39960" y="6304680"/>
                <a:chExt cx="501480" cy="43668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97560" y="6304680"/>
                  <a:ext cx="385920" cy="43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1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9960" y="6304680"/>
                  <a:ext cx="501480" cy="43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541440" y="6304680"/>
                <a:ext cx="3954240" cy="436680"/>
                <a:chOff x="541440" y="6304680"/>
                <a:chExt cx="3954240" cy="43668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599040" y="6304680"/>
                  <a:ext cx="3838680" cy="43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提供完整的选择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41440" y="6304680"/>
                  <a:ext cx="3954240" cy="43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2" name=""/>
            <p:cNvSpPr/>
            <p:nvPr/>
          </p:nvSpPr>
          <p:spPr>
            <a:xfrm>
              <a:off x="36360" y="1057320"/>
              <a:ext cx="4464360" cy="5688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4502160" y="1054080"/>
            <a:ext cx="4606920" cy="5689800"/>
            <a:chOff x="4502160" y="1054080"/>
            <a:chExt cx="4606920" cy="5689800"/>
          </a:xfrm>
        </p:grpSpPr>
        <p:grpSp>
          <p:nvGrpSpPr>
            <p:cNvPr id="264" name=""/>
            <p:cNvGrpSpPr/>
            <p:nvPr/>
          </p:nvGrpSpPr>
          <p:grpSpPr>
            <a:xfrm>
              <a:off x="4506120" y="1057320"/>
              <a:ext cx="4597920" cy="5682960"/>
              <a:chOff x="4506120" y="1057320"/>
              <a:chExt cx="4597920" cy="5682960"/>
            </a:xfrm>
          </p:grpSpPr>
          <p:grpSp>
            <p:nvGrpSpPr>
              <p:cNvPr id="265" name=""/>
              <p:cNvGrpSpPr/>
              <p:nvPr/>
            </p:nvGrpSpPr>
            <p:grpSpPr>
              <a:xfrm>
                <a:off x="4506120" y="1057320"/>
                <a:ext cx="517320" cy="437040"/>
                <a:chOff x="4506120" y="1057320"/>
                <a:chExt cx="517320" cy="43704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4565520" y="1057320"/>
                  <a:ext cx="398160" cy="43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14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4506120" y="1057320"/>
                  <a:ext cx="517320" cy="43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5023440" y="1057320"/>
                <a:ext cx="4080600" cy="437040"/>
                <a:chOff x="5023440" y="1057320"/>
                <a:chExt cx="4080600" cy="43704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5082840" y="1057320"/>
                  <a:ext cx="3961080" cy="43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站在顾客的角度看问题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023440" y="1057320"/>
                  <a:ext cx="4080600" cy="43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4506120" y="1494360"/>
                <a:ext cx="517320" cy="437040"/>
                <a:chOff x="4506120" y="1494360"/>
                <a:chExt cx="517320" cy="43704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4565520" y="1494360"/>
                  <a:ext cx="398160" cy="43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15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506120" y="1494360"/>
                  <a:ext cx="517320" cy="43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5023440" y="1494360"/>
                <a:ext cx="4080600" cy="437040"/>
                <a:chOff x="5023440" y="1494360"/>
                <a:chExt cx="4080600" cy="4370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5082840" y="1494360"/>
                  <a:ext cx="3961080" cy="43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没有刁难顾客的隐藏制度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023440" y="1494360"/>
                  <a:ext cx="4080600" cy="43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4506120" y="1931400"/>
                <a:ext cx="517320" cy="437040"/>
                <a:chOff x="4506120" y="1931400"/>
                <a:chExt cx="517320" cy="4370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4565520" y="1931400"/>
                  <a:ext cx="398160" cy="43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16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506120" y="1931400"/>
                  <a:ext cx="517320" cy="43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5023440" y="1931400"/>
                <a:ext cx="4080600" cy="437040"/>
                <a:chOff x="5023440" y="1931400"/>
                <a:chExt cx="4080600" cy="43704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5082840" y="1931400"/>
                  <a:ext cx="3961080" cy="43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倾听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023440" y="1931400"/>
                  <a:ext cx="4080600" cy="43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4506120" y="2368800"/>
                <a:ext cx="517320" cy="437040"/>
                <a:chOff x="4506120" y="2368800"/>
                <a:chExt cx="517320" cy="43704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4565520" y="2368800"/>
                  <a:ext cx="398160" cy="43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17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506120" y="2368800"/>
                  <a:ext cx="517320" cy="43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5023440" y="2368800"/>
                <a:ext cx="4080600" cy="437040"/>
                <a:chOff x="5023440" y="2368800"/>
                <a:chExt cx="4080600" cy="43704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5082840" y="2368800"/>
                  <a:ext cx="3961080" cy="43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全心处理个别顾客的问题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023440" y="2368800"/>
                  <a:ext cx="4080600" cy="43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506120" y="2805840"/>
                <a:ext cx="517320" cy="437040"/>
                <a:chOff x="4506120" y="2805840"/>
                <a:chExt cx="517320" cy="43704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4565520" y="2805840"/>
                  <a:ext cx="398160" cy="43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18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4506120" y="2805840"/>
                  <a:ext cx="517320" cy="43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5023440" y="2805840"/>
                <a:ext cx="4080600" cy="437040"/>
                <a:chOff x="5023440" y="2805840"/>
                <a:chExt cx="4080600" cy="43704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082840" y="2805840"/>
                  <a:ext cx="3961080" cy="43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效率和安全的兼顾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023440" y="2805840"/>
                  <a:ext cx="4080600" cy="43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4506120" y="3242880"/>
                <a:ext cx="517320" cy="437040"/>
                <a:chOff x="4506120" y="3242880"/>
                <a:chExt cx="517320" cy="43704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4565520" y="3242880"/>
                  <a:ext cx="398160" cy="43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19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506120" y="3242880"/>
                  <a:ext cx="517320" cy="43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5023440" y="3242880"/>
                <a:ext cx="4080600" cy="437040"/>
                <a:chOff x="5023440" y="3242880"/>
                <a:chExt cx="4080600" cy="43704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5082840" y="3242880"/>
                  <a:ext cx="3961080" cy="43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放心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023440" y="3242880"/>
                  <a:ext cx="4080600" cy="43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4506120" y="3680280"/>
                <a:ext cx="517320" cy="437040"/>
                <a:chOff x="4506120" y="3680280"/>
                <a:chExt cx="517320" cy="43704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4565520" y="3680280"/>
                  <a:ext cx="398160" cy="43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20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4506120" y="3680280"/>
                  <a:ext cx="517320" cy="43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5023440" y="3680280"/>
                <a:ext cx="4080600" cy="437040"/>
                <a:chOff x="5023440" y="3680280"/>
                <a:chExt cx="4080600" cy="43704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5082840" y="3680280"/>
                  <a:ext cx="3961080" cy="43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显示自我尊严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023440" y="3680280"/>
                  <a:ext cx="4080600" cy="43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4506120" y="4117320"/>
                <a:ext cx="517320" cy="437040"/>
                <a:chOff x="4506120" y="4117320"/>
                <a:chExt cx="517320" cy="43704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4565520" y="4117320"/>
                  <a:ext cx="398160" cy="43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2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506120" y="4117320"/>
                  <a:ext cx="517320" cy="43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5023440" y="4117320"/>
                <a:ext cx="4080600" cy="437040"/>
                <a:chOff x="5023440" y="4117320"/>
                <a:chExt cx="4080600" cy="43704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5082840" y="4117320"/>
                  <a:ext cx="3961080" cy="43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能被认同与接受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023440" y="4117320"/>
                  <a:ext cx="4080600" cy="43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4506120" y="4554720"/>
                <a:ext cx="517320" cy="437040"/>
                <a:chOff x="4506120" y="4554720"/>
                <a:chExt cx="517320" cy="43704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4565520" y="4554720"/>
                  <a:ext cx="398160" cy="43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22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4506120" y="4554720"/>
                  <a:ext cx="517320" cy="43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5023440" y="4554720"/>
                <a:ext cx="4080600" cy="437040"/>
                <a:chOff x="5023440" y="4554720"/>
                <a:chExt cx="4080600" cy="43704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5082840" y="4554720"/>
                  <a:ext cx="3961080" cy="43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受到重视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023440" y="4554720"/>
                  <a:ext cx="4080600" cy="43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4506120" y="4991760"/>
                <a:ext cx="517320" cy="437040"/>
                <a:chOff x="4506120" y="4991760"/>
                <a:chExt cx="517320" cy="43704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4565520" y="4991760"/>
                  <a:ext cx="398160" cy="43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2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4506120" y="4991760"/>
                  <a:ext cx="517320" cy="43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5023440" y="4991760"/>
                <a:ext cx="4080600" cy="437040"/>
                <a:chOff x="5023440" y="4991760"/>
                <a:chExt cx="4080600" cy="43704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5082840" y="4991760"/>
                  <a:ext cx="3961080" cy="43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有合理的能迅速处理顾客抱怨的渠道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5023440" y="4991760"/>
                  <a:ext cx="4080600" cy="43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06120" y="5428800"/>
                <a:ext cx="517320" cy="437040"/>
                <a:chOff x="4506120" y="5428800"/>
                <a:chExt cx="517320" cy="43704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4565520" y="5428800"/>
                  <a:ext cx="398160" cy="43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24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06120" y="5428800"/>
                  <a:ext cx="517320" cy="43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023440" y="5428800"/>
                <a:ext cx="4080600" cy="437040"/>
                <a:chOff x="5023440" y="5428800"/>
                <a:chExt cx="4080600" cy="43704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5082840" y="5428800"/>
                  <a:ext cx="3961080" cy="43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不想等待太久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023440" y="5428800"/>
                  <a:ext cx="4080600" cy="43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4506120" y="5866200"/>
                <a:ext cx="517320" cy="437040"/>
                <a:chOff x="4506120" y="5866200"/>
                <a:chExt cx="517320" cy="43704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4565520" y="5866200"/>
                  <a:ext cx="398160" cy="43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25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4506120" y="5866200"/>
                  <a:ext cx="517320" cy="43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5023440" y="5866200"/>
                <a:ext cx="4080600" cy="437040"/>
                <a:chOff x="5023440" y="5866200"/>
                <a:chExt cx="4080600" cy="43704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5082840" y="5866200"/>
                  <a:ext cx="3961080" cy="43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专业的人员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5023440" y="5866200"/>
                  <a:ext cx="4080600" cy="43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4506120" y="6303240"/>
                <a:ext cx="517320" cy="437040"/>
                <a:chOff x="4506120" y="6303240"/>
                <a:chExt cx="517320" cy="43704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4565520" y="6303240"/>
                  <a:ext cx="398160" cy="43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26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506120" y="6303240"/>
                  <a:ext cx="517320" cy="43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5023440" y="6303240"/>
                <a:ext cx="4080600" cy="437040"/>
                <a:chOff x="5023440" y="6303240"/>
                <a:chExt cx="4080600" cy="43704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5082840" y="6303240"/>
                  <a:ext cx="3961080" cy="43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前后一致的待客态度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5023440" y="6303240"/>
                  <a:ext cx="4080600" cy="43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3" name=""/>
            <p:cNvSpPr/>
            <p:nvPr/>
          </p:nvSpPr>
          <p:spPr>
            <a:xfrm>
              <a:off x="4502160" y="1054080"/>
              <a:ext cx="4606920" cy="56898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2959200" y="52056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416400" y="2160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关键因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2819520" y="5257800"/>
            <a:ext cx="5638680" cy="53352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819520" y="3581280"/>
            <a:ext cx="5638680" cy="5335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19520" y="2514600"/>
            <a:ext cx="5638680" cy="5335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19520" y="1447920"/>
            <a:ext cx="5638680" cy="5331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914400" y="914400"/>
            <a:ext cx="7543440" cy="5943600"/>
            <a:chOff x="914400" y="914400"/>
            <a:chExt cx="7543440" cy="5943600"/>
          </a:xfrm>
        </p:grpSpPr>
        <p:grpSp>
          <p:nvGrpSpPr>
            <p:cNvPr id="351" name=""/>
            <p:cNvGrpSpPr/>
            <p:nvPr/>
          </p:nvGrpSpPr>
          <p:grpSpPr>
            <a:xfrm>
              <a:off x="920160" y="918360"/>
              <a:ext cx="7530840" cy="5934960"/>
              <a:chOff x="920160" y="918360"/>
              <a:chExt cx="7530840" cy="5934960"/>
            </a:xfrm>
          </p:grpSpPr>
          <p:grpSp>
            <p:nvGrpSpPr>
              <p:cNvPr id="352" name=""/>
              <p:cNvGrpSpPr/>
              <p:nvPr/>
            </p:nvGrpSpPr>
            <p:grpSpPr>
              <a:xfrm>
                <a:off x="920160" y="918360"/>
                <a:ext cx="1905840" cy="539280"/>
                <a:chOff x="920160" y="918360"/>
                <a:chExt cx="1905840" cy="53928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1007640" y="918360"/>
                  <a:ext cx="173016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0000"/>
                      </a:solidFill>
                      <a:latin typeface="Times New Roman"/>
                    </a:rPr>
                    <a:t>服务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920160" y="918360"/>
                  <a:ext cx="190584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2826360" y="918360"/>
                <a:ext cx="1799640" cy="539280"/>
                <a:chOff x="2826360" y="918360"/>
                <a:chExt cx="1799640" cy="53928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2913840" y="918360"/>
                  <a:ext cx="162396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0000"/>
                      </a:solidFill>
                      <a:latin typeface="Times New Roman"/>
                    </a:rPr>
                    <a:t>对顾客的重要性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2826360" y="918360"/>
                  <a:ext cx="179964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4626360" y="918360"/>
                <a:ext cx="1911600" cy="539280"/>
                <a:chOff x="4626360" y="918360"/>
                <a:chExt cx="1911600" cy="53928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4713840" y="918360"/>
                  <a:ext cx="173664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0000"/>
                      </a:solidFill>
                      <a:latin typeface="Times New Roman"/>
                    </a:rPr>
                    <a:t>实际表现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4626360" y="918360"/>
                  <a:ext cx="191160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6538680" y="918360"/>
                <a:ext cx="1912320" cy="539280"/>
                <a:chOff x="6538680" y="918360"/>
                <a:chExt cx="1912320" cy="53928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6626520" y="918360"/>
                  <a:ext cx="173700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0000"/>
                      </a:solidFill>
                      <a:latin typeface="Times New Roman"/>
                    </a:rPr>
                    <a:t>落差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538680" y="918360"/>
                  <a:ext cx="191232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920160" y="1457640"/>
                <a:ext cx="1905840" cy="539640"/>
                <a:chOff x="920160" y="1457640"/>
                <a:chExt cx="1905840" cy="53964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1007640" y="1457640"/>
                  <a:ext cx="1730160" cy="53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准时抵达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920160" y="1457640"/>
                  <a:ext cx="1905840" cy="53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2826360" y="1457640"/>
                <a:ext cx="1799640" cy="539640"/>
                <a:chOff x="2826360" y="1457640"/>
                <a:chExt cx="1799640" cy="53964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2913840" y="1457640"/>
                  <a:ext cx="1623960" cy="53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89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2826360" y="1457640"/>
                  <a:ext cx="1799640" cy="53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4626360" y="1457640"/>
                <a:ext cx="1911600" cy="539640"/>
                <a:chOff x="4626360" y="1457640"/>
                <a:chExt cx="1911600" cy="53964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4713840" y="1457640"/>
                  <a:ext cx="1736640" cy="53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39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4626360" y="1457640"/>
                  <a:ext cx="1911600" cy="53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6538680" y="1457640"/>
                <a:ext cx="1912320" cy="539640"/>
                <a:chOff x="6538680" y="1457640"/>
                <a:chExt cx="1912320" cy="53964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6626520" y="1457640"/>
                  <a:ext cx="1737000" cy="53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-50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6538680" y="1457640"/>
                  <a:ext cx="1912320" cy="53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920160" y="1997280"/>
                <a:ext cx="1905840" cy="539280"/>
                <a:chOff x="920160" y="1997280"/>
                <a:chExt cx="1905840" cy="53928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1007640" y="1997280"/>
                  <a:ext cx="173016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报到手续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920160" y="1997280"/>
                  <a:ext cx="190584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2826360" y="1997280"/>
                <a:ext cx="1799640" cy="539280"/>
                <a:chOff x="2826360" y="1997280"/>
                <a:chExt cx="1799640" cy="53928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2913840" y="1997280"/>
                  <a:ext cx="162396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75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826360" y="1997280"/>
                  <a:ext cx="179964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4626360" y="1997280"/>
                <a:ext cx="1911600" cy="539280"/>
                <a:chOff x="4626360" y="1997280"/>
                <a:chExt cx="1911600" cy="53928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4713840" y="1997280"/>
                  <a:ext cx="173664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53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4626360" y="1997280"/>
                  <a:ext cx="191160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6538680" y="1997280"/>
                <a:ext cx="1912320" cy="539280"/>
                <a:chOff x="6538680" y="1997280"/>
                <a:chExt cx="1912320" cy="53928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6626520" y="1997280"/>
                  <a:ext cx="173700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-22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538680" y="1997280"/>
                  <a:ext cx="191232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920160" y="2536920"/>
                <a:ext cx="1905840" cy="539280"/>
                <a:chOff x="920160" y="2536920"/>
                <a:chExt cx="1905840" cy="53928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1007640" y="2536920"/>
                  <a:ext cx="173016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行李运送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920160" y="2536920"/>
                  <a:ext cx="190584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2826360" y="2536920"/>
                <a:ext cx="1799640" cy="539280"/>
                <a:chOff x="2826360" y="2536920"/>
                <a:chExt cx="1799640" cy="53928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2913840" y="2536920"/>
                  <a:ext cx="162396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75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826360" y="2536920"/>
                  <a:ext cx="179964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4626360" y="2536920"/>
                <a:ext cx="1911600" cy="539280"/>
                <a:chOff x="4626360" y="2536920"/>
                <a:chExt cx="1911600" cy="53928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4713840" y="2536920"/>
                  <a:ext cx="173664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31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4626360" y="2536920"/>
                  <a:ext cx="191160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6538680" y="2536920"/>
                <a:ext cx="1912320" cy="539280"/>
                <a:chOff x="6538680" y="2536920"/>
                <a:chExt cx="1912320" cy="53928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6626520" y="2536920"/>
                  <a:ext cx="173700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-44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6538680" y="2536920"/>
                  <a:ext cx="191232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920160" y="3076200"/>
                <a:ext cx="1905840" cy="539640"/>
                <a:chOff x="920160" y="3076200"/>
                <a:chExt cx="1905840" cy="53964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1007640" y="3076200"/>
                  <a:ext cx="1730160" cy="53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预定机位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920160" y="3076200"/>
                  <a:ext cx="1905840" cy="53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2826360" y="3076200"/>
                <a:ext cx="1799640" cy="539640"/>
                <a:chOff x="2826360" y="3076200"/>
                <a:chExt cx="1799640" cy="53964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2913840" y="3076200"/>
                  <a:ext cx="1623960" cy="53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75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826360" y="3076200"/>
                  <a:ext cx="1799640" cy="53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4626360" y="3076200"/>
                <a:ext cx="1911600" cy="539640"/>
                <a:chOff x="4626360" y="3076200"/>
                <a:chExt cx="1911600" cy="53964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4713840" y="3076200"/>
                  <a:ext cx="1736640" cy="53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65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626360" y="3076200"/>
                  <a:ext cx="1911600" cy="53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6538680" y="3076200"/>
                <a:ext cx="1912320" cy="539640"/>
                <a:chOff x="6538680" y="3076200"/>
                <a:chExt cx="1912320" cy="53964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6626520" y="3076200"/>
                  <a:ext cx="1737000" cy="53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-10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538680" y="3076200"/>
                  <a:ext cx="1912320" cy="53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920160" y="3616200"/>
                <a:ext cx="1905840" cy="539280"/>
                <a:chOff x="920160" y="3616200"/>
                <a:chExt cx="1905840" cy="53928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1007640" y="3616200"/>
                  <a:ext cx="173016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对顾客关心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920160" y="3616200"/>
                  <a:ext cx="190584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2826360" y="3616200"/>
                <a:ext cx="1799640" cy="539280"/>
                <a:chOff x="2826360" y="3616200"/>
                <a:chExt cx="1799640" cy="53928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2913840" y="3616200"/>
                  <a:ext cx="162396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75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826360" y="3616200"/>
                  <a:ext cx="179964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4626360" y="3616200"/>
                <a:ext cx="1911600" cy="539280"/>
                <a:chOff x="4626360" y="3616200"/>
                <a:chExt cx="1911600" cy="53928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4713840" y="3616200"/>
                  <a:ext cx="173664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40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626360" y="3616200"/>
                  <a:ext cx="191160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6538680" y="3616200"/>
                <a:ext cx="1912320" cy="539280"/>
                <a:chOff x="6538680" y="3616200"/>
                <a:chExt cx="1912320" cy="53928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6626520" y="3616200"/>
                  <a:ext cx="173700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-35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6538680" y="3616200"/>
                  <a:ext cx="191232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920160" y="4155480"/>
                <a:ext cx="1905840" cy="539280"/>
                <a:chOff x="920160" y="4155480"/>
                <a:chExt cx="1905840" cy="53928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1007640" y="4155480"/>
                  <a:ext cx="173016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机舱整洁怡人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920160" y="4155480"/>
                  <a:ext cx="190584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2826360" y="4155480"/>
                <a:ext cx="1799640" cy="539280"/>
                <a:chOff x="2826360" y="4155480"/>
                <a:chExt cx="1799640" cy="53928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2913840" y="4155480"/>
                  <a:ext cx="162396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60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826360" y="4155480"/>
                  <a:ext cx="179964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4626360" y="4155480"/>
                <a:ext cx="1911600" cy="539280"/>
                <a:chOff x="4626360" y="4155480"/>
                <a:chExt cx="1911600" cy="53928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4713840" y="4155480"/>
                  <a:ext cx="173664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49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4626360" y="4155480"/>
                  <a:ext cx="191160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6538680" y="4155480"/>
                <a:ext cx="1912320" cy="539280"/>
                <a:chOff x="6538680" y="4155480"/>
                <a:chExt cx="1912320" cy="53928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6626520" y="4155480"/>
                  <a:ext cx="173700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-1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6538680" y="4155480"/>
                  <a:ext cx="191232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920160" y="4695120"/>
                <a:ext cx="1905840" cy="539640"/>
                <a:chOff x="920160" y="4695120"/>
                <a:chExt cx="1905840" cy="53964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1007640" y="4695120"/>
                  <a:ext cx="1730160" cy="53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座位宽敞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920160" y="4695120"/>
                  <a:ext cx="1905840" cy="53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2826360" y="4695120"/>
                <a:ext cx="1799640" cy="539640"/>
                <a:chOff x="2826360" y="4695120"/>
                <a:chExt cx="1799640" cy="53964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2913840" y="4695120"/>
                  <a:ext cx="1623960" cy="53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59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2826360" y="4695120"/>
                  <a:ext cx="1799640" cy="53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4626360" y="4695120"/>
                <a:ext cx="1911600" cy="539640"/>
                <a:chOff x="4626360" y="4695120"/>
                <a:chExt cx="1911600" cy="53964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4713840" y="4695120"/>
                  <a:ext cx="1736640" cy="53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33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626360" y="4695120"/>
                  <a:ext cx="1911600" cy="53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6538680" y="4695120"/>
                <a:ext cx="1912320" cy="539640"/>
                <a:chOff x="6538680" y="4695120"/>
                <a:chExt cx="1912320" cy="53964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6626520" y="4695120"/>
                  <a:ext cx="1737000" cy="53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-26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538680" y="4695120"/>
                  <a:ext cx="1912320" cy="53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920160" y="5234760"/>
                <a:ext cx="1905840" cy="539280"/>
                <a:chOff x="920160" y="5234760"/>
                <a:chExt cx="1905840" cy="53928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1007640" y="5234760"/>
                  <a:ext cx="173016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机上服务亲切迅速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920160" y="5234760"/>
                  <a:ext cx="190584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2826360" y="5234760"/>
                <a:ext cx="1799640" cy="539280"/>
                <a:chOff x="2826360" y="5234760"/>
                <a:chExt cx="1799640" cy="53928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2913840" y="5234760"/>
                  <a:ext cx="162396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56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2826360" y="5234760"/>
                  <a:ext cx="179964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4626360" y="5234760"/>
                <a:ext cx="1911600" cy="539280"/>
                <a:chOff x="4626360" y="5234760"/>
                <a:chExt cx="1911600" cy="53928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4713840" y="5234760"/>
                  <a:ext cx="173664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48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4626360" y="5234760"/>
                  <a:ext cx="191160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6538680" y="5234760"/>
                <a:ext cx="1912320" cy="539280"/>
                <a:chOff x="6538680" y="5234760"/>
                <a:chExt cx="1912320" cy="53928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6626520" y="5234760"/>
                  <a:ext cx="173700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-8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6538680" y="5234760"/>
                  <a:ext cx="191232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920160" y="5774400"/>
                <a:ext cx="1905840" cy="539280"/>
                <a:chOff x="920160" y="5774400"/>
                <a:chExt cx="1905840" cy="53928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1007640" y="5774400"/>
                  <a:ext cx="173016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班次密集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920160" y="5774400"/>
                  <a:ext cx="190584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2826360" y="5774400"/>
                <a:ext cx="1799640" cy="539280"/>
                <a:chOff x="2826360" y="5774400"/>
                <a:chExt cx="1799640" cy="53928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2913840" y="5774400"/>
                  <a:ext cx="162396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35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2826360" y="5774400"/>
                  <a:ext cx="179964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4626360" y="5774400"/>
                <a:ext cx="1911600" cy="539280"/>
                <a:chOff x="4626360" y="5774400"/>
                <a:chExt cx="1911600" cy="53928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4713840" y="5774400"/>
                  <a:ext cx="173664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23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4626360" y="5774400"/>
                  <a:ext cx="191160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6538680" y="5774400"/>
                <a:ext cx="1912320" cy="539280"/>
                <a:chOff x="6538680" y="5774400"/>
                <a:chExt cx="1912320" cy="53928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6626520" y="5774400"/>
                  <a:ext cx="173700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-12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6538680" y="5774400"/>
                  <a:ext cx="191232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920160" y="6313680"/>
                <a:ext cx="1905840" cy="539640"/>
                <a:chOff x="920160" y="6313680"/>
                <a:chExt cx="1905840" cy="53964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1007640" y="6313680"/>
                  <a:ext cx="1730160" cy="53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fffff"/>
                      </a:solidFill>
                      <a:latin typeface="Times New Roman"/>
                    </a:rPr>
                    <a:t>机上饮食服务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920160" y="6313680"/>
                  <a:ext cx="1905840" cy="53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2826360" y="6313680"/>
                <a:ext cx="1799640" cy="539640"/>
                <a:chOff x="2826360" y="6313680"/>
                <a:chExt cx="1799640" cy="53964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2913840" y="6313680"/>
                  <a:ext cx="1623960" cy="53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31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826360" y="6313680"/>
                  <a:ext cx="1799640" cy="53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4626360" y="6313680"/>
                <a:ext cx="1911600" cy="539640"/>
                <a:chOff x="4626360" y="6313680"/>
                <a:chExt cx="1911600" cy="53964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4713840" y="6313680"/>
                  <a:ext cx="1736640" cy="53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21%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4626360" y="6313680"/>
                  <a:ext cx="1911600" cy="53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6538680" y="6313680"/>
                <a:ext cx="1912320" cy="539640"/>
                <a:chOff x="6538680" y="6313680"/>
                <a:chExt cx="1912320" cy="53964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6626520" y="6313680"/>
                  <a:ext cx="1737000" cy="53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-10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6538680" y="6313680"/>
                  <a:ext cx="1912320" cy="53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84" name=""/>
            <p:cNvSpPr/>
            <p:nvPr/>
          </p:nvSpPr>
          <p:spPr>
            <a:xfrm>
              <a:off x="914400" y="914400"/>
              <a:ext cx="7543440" cy="5943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2438280" y="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对航空业的调查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服务意识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07160" y="1828800"/>
            <a:ext cx="1155240" cy="4191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什么要有服务意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26240" y="1828800"/>
            <a:ext cx="1155240" cy="4191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顾客是怎样失去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28080" y="1828800"/>
            <a:ext cx="667800" cy="4191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顾客要什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55040" y="1828800"/>
            <a:ext cx="1155240" cy="4191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顾客服务的等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457200" y="4800600"/>
            <a:ext cx="171288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00000" y="299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4-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Arial"/>
              </a:rPr>
              <a:t>顾客服务的等级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0" y="0"/>
            <a:ext cx="9144000" cy="6858000"/>
          </a:xfrm>
          <a:prstGeom prst="ellipse">
            <a:avLst/>
          </a:prstGeom>
          <a:gradFill rotWithShape="0">
            <a:gsLst>
              <a:gs pos="0">
                <a:srgbClr val="66ff33"/>
              </a:gs>
              <a:gs pos="100000">
                <a:srgbClr val="2f751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066680" y="4648320"/>
            <a:ext cx="7086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895480" y="533520"/>
            <a:ext cx="34290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顾客服务的等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752480" y="1981080"/>
            <a:ext cx="648000" cy="228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、有问必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666880" y="1981080"/>
            <a:ext cx="648000" cy="228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二、保持沟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581280" y="1981080"/>
            <a:ext cx="648000" cy="228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、专人负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495680" y="1981080"/>
            <a:ext cx="648000" cy="228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四、超常服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62720" y="1981080"/>
            <a:ext cx="609480" cy="228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五、专业顾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553080" y="2057400"/>
            <a:ext cx="609840" cy="22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六、长期伙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467480" y="3962520"/>
            <a:ext cx="762120" cy="52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等级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09680" y="4876920"/>
            <a:ext cx="50292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的位置在哪里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礼仪的概念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539280" y="3499920"/>
            <a:ext cx="828036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）礼仪就是以最恰当的方式来表达对他人的尊重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）礼仪就是律己、敬人的一种行为规范，是表现对他人尊重和理解的过程和手段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3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Arial"/>
                <a:ea typeface="隶书"/>
              </a:rPr>
              <a:t>外表衡量人的观念是多么的肤浅、</a:t>
            </a:r>
            <a:br>
              <a:rPr sz="3600"/>
            </a:br>
            <a:r>
              <a:rPr b="0" lang="zh-CN" sz="3600" spc="-1" strike="noStrike">
                <a:solidFill>
                  <a:srgbClr val="ffcc66"/>
                </a:solidFill>
                <a:latin typeface="Arial"/>
                <a:ea typeface="隶书"/>
              </a:rPr>
              <a:t> 愚蠢，但社会上一切人都每时每刻</a:t>
            </a:r>
            <a:br>
              <a:rPr sz="3600"/>
            </a:br>
            <a:r>
              <a:rPr b="0" lang="zh-CN" sz="3600" spc="-1" strike="noStrike">
                <a:solidFill>
                  <a:srgbClr val="ffcc66"/>
                </a:solidFill>
                <a:latin typeface="Arial"/>
                <a:ea typeface="隶书"/>
              </a:rPr>
              <a:t>    根据你的服饰、发型、手势、声调、语言判断你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5638680" y="3581280"/>
            <a:ext cx="2724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66"/>
                </a:solidFill>
                <a:latin typeface="Arial"/>
                <a:ea typeface="隶书"/>
              </a:rPr>
              <a:t>调查发现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396720" y="3862080"/>
            <a:ext cx="8444160" cy="132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世界著名的</a:t>
            </a:r>
            <a:r>
              <a:rPr b="0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300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名金融公司决策人认为形象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33"/>
                </a:solidFill>
                <a:latin typeface="隶书"/>
                <a:ea typeface="隶书"/>
              </a:rPr>
              <a:t>成功的关键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）</a:t>
            </a:r>
            <a:r>
              <a:rPr b="0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2500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名律师认为个人形象影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33"/>
                </a:solidFill>
                <a:latin typeface="隶书"/>
                <a:ea typeface="隶书"/>
              </a:rPr>
              <a:t>收入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7035840" y="0"/>
            <a:ext cx="2108160" cy="263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66"/>
                </a:solidFill>
                <a:latin typeface="Arial"/>
              </a:rPr>
              <a:t>“</a:t>
            </a:r>
            <a:r>
              <a:rPr b="0" lang="zh-CN" sz="4800" spc="-1" strike="noStrike">
                <a:solidFill>
                  <a:srgbClr val="ffcc66"/>
                </a:solidFill>
                <a:latin typeface="Arial"/>
                <a:ea typeface="隶书"/>
              </a:rPr>
              <a:t>印象管理”认为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685440" y="320040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个人形象就是公司形象。职业形象通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外表、沟通、礼仪留给客户印象，这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印象反映了公司的信誉、产品及服务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质量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6770520" y="0"/>
            <a:ext cx="23734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隶书"/>
                <a:ea typeface="隶书"/>
              </a:rPr>
              <a:t>礼节：世界上最廉价的、而且能够得到最大收益的一项品质就是礼节。</a:t>
            </a:r>
            <a:br>
              <a:rPr sz="3200"/>
            </a:br>
            <a:r>
              <a:rPr b="0" lang="zh-CN" sz="3200" spc="-1" strike="noStrike">
                <a:solidFill>
                  <a:srgbClr val="ffcc66"/>
                </a:solidFill>
                <a:latin typeface="隶书"/>
                <a:ea typeface="隶书"/>
              </a:rPr>
              <a:t>                </a:t>
            </a:r>
            <a:br>
              <a:rPr sz="3200"/>
            </a:br>
            <a:r>
              <a:rPr b="0" lang="zh-CN" sz="3200" spc="-1" strike="noStrike">
                <a:solidFill>
                  <a:srgbClr val="ffcc66"/>
                </a:solidFill>
                <a:latin typeface="隶书"/>
                <a:ea typeface="隶书"/>
              </a:rPr>
              <a:t>                 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--</a:t>
            </a:r>
            <a:r>
              <a:rPr b="0" lang="zh-CN" sz="4400" spc="-1" strike="noStrike">
                <a:solidFill>
                  <a:srgbClr val="ff0033"/>
                </a:solidFill>
                <a:latin typeface="Arial"/>
              </a:rPr>
              <a:t>拿破仑</a:t>
            </a:r>
            <a:r>
              <a:rPr b="0" lang="en-US" sz="4400" spc="-1" strike="noStrike">
                <a:solidFill>
                  <a:srgbClr val="ff0033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ff0033"/>
                </a:solidFill>
                <a:latin typeface="Arial"/>
              </a:rPr>
              <a:t>希尔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0" y="3068640"/>
            <a:ext cx="2673360" cy="378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隶书"/>
                <a:ea typeface="隶书"/>
              </a:rPr>
              <a:t>礼节 </a:t>
            </a:r>
            <a:r>
              <a:rPr b="0" lang="en-US" sz="4400" spc="-1" strike="noStrike">
                <a:solidFill>
                  <a:srgbClr val="ffcc66"/>
                </a:solidFill>
                <a:latin typeface="隶书"/>
                <a:ea typeface="隶书"/>
              </a:rPr>
              <a:t>+ </a:t>
            </a:r>
            <a:r>
              <a:rPr b="0" lang="zh-CN" sz="4400" spc="-1" strike="noStrike">
                <a:solidFill>
                  <a:srgbClr val="ffcc66"/>
                </a:solidFill>
                <a:latin typeface="隶书"/>
                <a:ea typeface="隶书"/>
              </a:rPr>
              <a:t>仪表 </a:t>
            </a:r>
            <a:r>
              <a:rPr b="0" lang="en-US" sz="4400" spc="-1" strike="noStrike">
                <a:solidFill>
                  <a:srgbClr val="ffcc66"/>
                </a:solidFill>
                <a:latin typeface="隶书"/>
                <a:ea typeface="隶书"/>
              </a:rPr>
              <a:t>= </a:t>
            </a:r>
            <a:r>
              <a:rPr b="0" lang="zh-CN" sz="4400" spc="-1" strike="noStrike">
                <a:solidFill>
                  <a:srgbClr val="ffcc66"/>
                </a:solidFill>
                <a:latin typeface="隶书"/>
                <a:ea typeface="隶书"/>
              </a:rPr>
              <a:t>礼仪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685440" y="2742840"/>
            <a:ext cx="746748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是一项建立在善良、高效和富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逻辑的基础上的一项传统习俗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它为我们生活中的活动和行为提供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一个准则，如同足球比赛的规则一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0" y="4896000"/>
            <a:ext cx="288612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8304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  <a:ea typeface="隶书"/>
              </a:rPr>
              <a:t>仪表的重要性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1599840" y="2590920"/>
            <a:ext cx="701028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隶书"/>
                <a:ea typeface="隶书"/>
              </a:rPr>
              <a:t>种类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  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隶书"/>
                <a:ea typeface="隶书"/>
              </a:rPr>
              <a:t>整体印象中所占比重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隶书"/>
                <a:ea typeface="隶书"/>
              </a:rPr>
              <a:t>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视觉信号              </a:t>
            </a: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55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声音信号              </a:t>
            </a: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38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语言信号               </a:t>
            </a: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7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而视觉信号中仪表给人留下的第一印象是最重要的因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6227640" y="0"/>
            <a:ext cx="291636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66"/>
                </a:solidFill>
                <a:latin typeface="Arial"/>
                <a:ea typeface="隶书"/>
              </a:rPr>
              <a:t>微笑的价值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1116000" y="227664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笑是一种语言。微笑是社交场合中最有吸引力、最有价值的面部表情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6858000" y="3860640"/>
            <a:ext cx="22860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ff"/>
                </a:solidFill>
                <a:uFillTx/>
                <a:latin typeface="Arial"/>
              </a:rPr>
              <a:t>１－为什么要有服务顾客的意识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cc66"/>
                </a:solidFill>
                <a:latin typeface="Arial"/>
                <a:ea typeface="隶书"/>
              </a:rPr>
              <a:t>微笑的作用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75564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微笑是一种自然的表情，微笑的意思是：我很高兴，我很喜欢你。它传递了愉悦、友好、谦恭、和蔼的信息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微笑应是常规表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6694560" y="0"/>
            <a:ext cx="244944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3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3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66"/>
                </a:solidFill>
                <a:latin typeface="Arial"/>
                <a:ea typeface="隶书"/>
              </a:rPr>
              <a:t>微笑的训练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5238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　一、嘴形笑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二、眼神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0" y="4292640"/>
            <a:ext cx="441972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75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75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75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75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cc66"/>
                </a:solidFill>
                <a:latin typeface="Arial"/>
                <a:ea typeface="隶书"/>
              </a:rPr>
              <a:t>眼神礼仪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53964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眼神礼仪 眼睛是大脑的延伸，大脑的思想动向、内心想法等都可以从眼睛中看出来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第一、不能对关系不熟或一般的人长时间凝视，否则将被视为一种无礼行为。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第二、与新客户的谈话，眼神礼仪是：眼睛看对方眼睛或嘴巴的“三角区”标准注视时间是交谈时间的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30%-60%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，这叫“社交注视”。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第三、眼睛注视对方的时间超过整个交谈时间的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60%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，属于超时注视，一般使用这种眼神看人是失礼的。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第四、眼睛注视对方的时间低于整个交谈时间的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30%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，属低时型注视，一般也是失礼的注视，表明他的内心自卑或企业掩饰什么或对人对话都不感兴趣。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第五、眼睛转动的幅度与快慢都不要太快或太慢，眼睛转动稍快表示聪明、有活力，但如果太快由表示不诚实、不成熟、给人轻浮、不庄重的印象，如“挤眉弄眼”、“贼眉鼠眼”指的就是这种情况，但是，眼睛也不能转得太慢，否则就是“死鱼眼睛”。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第六、恰当使用亲密注视，和亲近的人谈话，可以注视他的整个上身，叫：“亲密注视”。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隶书"/>
                <a:ea typeface="隶书"/>
              </a:rPr>
              <a:t>形体礼仪</a:t>
            </a:r>
            <a:br>
              <a:rPr sz="4400"/>
            </a:br>
            <a:r>
              <a:rPr b="0" lang="zh-CN" sz="4400" spc="-1" strike="noStrike">
                <a:solidFill>
                  <a:srgbClr val="ffcc66"/>
                </a:solidFill>
                <a:latin typeface="隶书"/>
                <a:ea typeface="隶书"/>
              </a:rPr>
              <a:t>         站</a:t>
            </a:r>
            <a:r>
              <a:rPr b="0" lang="en-US" sz="4400" spc="-1" strike="noStrike">
                <a:solidFill>
                  <a:srgbClr val="ffcc66"/>
                </a:solidFill>
                <a:latin typeface="隶书"/>
                <a:ea typeface="隶书"/>
              </a:rPr>
              <a:t>---</a:t>
            </a:r>
            <a:r>
              <a:rPr b="0" lang="zh-CN" sz="4400" spc="-1" strike="noStrike">
                <a:solidFill>
                  <a:srgbClr val="ffcc66"/>
                </a:solidFill>
                <a:latin typeface="隶书"/>
                <a:ea typeface="隶书"/>
              </a:rPr>
              <a:t>站如松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76212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男士的基本站姿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身体立直，抬头、挺胸、收腹，下颌微收，双目平视，两腿分开，两脚平行，宽不过肩，双手自然下垂贴近腿部或交叉于身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581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4400" spc="-1" strike="noStrike">
                <a:solidFill>
                  <a:srgbClr val="ffcc66"/>
                </a:solidFill>
                <a:latin typeface="隶书"/>
                <a:ea typeface="隶书"/>
              </a:rPr>
              <a:t>形体礼仪</a:t>
            </a:r>
            <a:br>
              <a:rPr sz="4400"/>
            </a:br>
            <a:r>
              <a:rPr b="0" lang="zh-CN" sz="4400" spc="-1" strike="noStrike">
                <a:solidFill>
                  <a:srgbClr val="ffcc66"/>
                </a:solidFill>
                <a:latin typeface="隶书"/>
                <a:ea typeface="隶书"/>
              </a:rPr>
              <a:t>         站</a:t>
            </a:r>
            <a:r>
              <a:rPr b="0" lang="en-US" sz="4400" spc="-1" strike="noStrike">
                <a:solidFill>
                  <a:srgbClr val="ffcc66"/>
                </a:solidFill>
                <a:latin typeface="隶书"/>
                <a:ea typeface="隶书"/>
              </a:rPr>
              <a:t>---</a:t>
            </a:r>
            <a:r>
              <a:rPr b="0" lang="zh-CN" sz="4400" spc="-1" strike="noStrike">
                <a:solidFill>
                  <a:srgbClr val="ffcc66"/>
                </a:solidFill>
                <a:latin typeface="隶书"/>
                <a:ea typeface="隶书"/>
              </a:rPr>
              <a:t>站如松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1218960" y="2590920"/>
            <a:ext cx="792468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女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士的基本站姿：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    身体立直，抬头、挺胸、收腹，下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颌微收，双目平视，两脚成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V”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字型，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膝和脚后跟尽量靠拢，两脚尖张开距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为两拳，双手自然放下或交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19051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68436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垂头</a:t>
            </a: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7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耸肩 </a:t>
            </a: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垂下巴</a:t>
            </a: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驼背 </a:t>
            </a: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含胸</a:t>
            </a: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9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曲腿 </a:t>
            </a: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腹部松驰</a:t>
            </a: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斜腰 </a:t>
            </a: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肚腩凸出</a:t>
            </a: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11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依靠物体 </a:t>
            </a: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臂部凸出</a:t>
            </a: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12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双手抱在胸前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25092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Arial"/>
              </a:rPr>
              <a:t>错误的站立姿势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6877080" y="3970440"/>
            <a:ext cx="22384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隶书"/>
                <a:ea typeface="隶书"/>
              </a:rPr>
              <a:t>形体礼仪</a:t>
            </a:r>
            <a:br>
              <a:rPr sz="4400"/>
            </a:br>
            <a:r>
              <a:rPr b="0" lang="zh-CN" sz="4400" spc="-1" strike="noStrike">
                <a:solidFill>
                  <a:srgbClr val="ffcc66"/>
                </a:solidFill>
                <a:latin typeface="隶书"/>
                <a:ea typeface="隶书"/>
              </a:rPr>
              <a:t>         坐</a:t>
            </a:r>
            <a:r>
              <a:rPr b="0" lang="en-US" sz="4400" spc="-1" strike="noStrike">
                <a:solidFill>
                  <a:srgbClr val="ffcc66"/>
                </a:solidFill>
                <a:latin typeface="隶书"/>
                <a:ea typeface="隶书"/>
              </a:rPr>
              <a:t>---</a:t>
            </a:r>
            <a:r>
              <a:rPr b="0" lang="zh-CN" sz="4400" spc="-1" strike="noStrike">
                <a:solidFill>
                  <a:srgbClr val="ffcc66"/>
                </a:solidFill>
                <a:latin typeface="隶书"/>
                <a:ea typeface="隶书"/>
              </a:rPr>
              <a:t>坐如钟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990720" y="25146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男士基本坐姿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上体挺直、胸部挺起，两肩放松、脖子挺直，下颌微收，双目平视，两脚分开、不超肩宽、两脚平行，两手分别放在双膝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隶书"/>
                <a:ea typeface="隶书"/>
              </a:rPr>
              <a:t>形体礼仪</a:t>
            </a:r>
            <a:br>
              <a:rPr sz="4400"/>
            </a:br>
            <a:r>
              <a:rPr b="0" lang="zh-CN" sz="4400" spc="-1" strike="noStrike">
                <a:solidFill>
                  <a:srgbClr val="ffcc66"/>
                </a:solidFill>
                <a:latin typeface="隶书"/>
                <a:ea typeface="隶书"/>
              </a:rPr>
              <a:t>         坐</a:t>
            </a:r>
            <a:r>
              <a:rPr b="0" lang="en-US" sz="4400" spc="-1" strike="noStrike">
                <a:solidFill>
                  <a:srgbClr val="ffcc66"/>
                </a:solidFill>
                <a:latin typeface="隶书"/>
                <a:ea typeface="隶书"/>
              </a:rPr>
              <a:t>---</a:t>
            </a:r>
            <a:r>
              <a:rPr b="0" lang="zh-CN" sz="4400" spc="-1" strike="noStrike">
                <a:solidFill>
                  <a:srgbClr val="ffcc66"/>
                </a:solidFill>
                <a:latin typeface="隶书"/>
                <a:ea typeface="隶书"/>
              </a:rPr>
              <a:t>坐如钟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-682560" y="2590560"/>
            <a:ext cx="89121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4" marL="1828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  <a:ea typeface="隶书"/>
              </a:rPr>
              <a:t>女士的基本坐姿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  <a:ea typeface="隶书"/>
              </a:rPr>
              <a:t>       </a:t>
            </a:r>
            <a:r>
              <a:rPr b="0" lang="zh-CN" sz="3600" spc="-1" strike="noStrike">
                <a:solidFill>
                  <a:srgbClr val="ff00ff"/>
                </a:solidFill>
                <a:latin typeface="Times New Roman"/>
                <a:ea typeface="隶书"/>
              </a:rPr>
              <a:t>可以两腿并拢，两脚同时向左放或向右放，两手相叠后放在左腿或右腿上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  <a:ea typeface="隶书"/>
              </a:rPr>
              <a:t>       </a:t>
            </a:r>
            <a:r>
              <a:rPr b="0" lang="zh-CN" sz="3600" spc="-1" strike="noStrike">
                <a:solidFill>
                  <a:srgbClr val="ff00ff"/>
                </a:solidFill>
                <a:latin typeface="Times New Roman"/>
                <a:ea typeface="隶书"/>
              </a:rPr>
              <a:t>也可以两腿并拢，两脚交叉，置于一侧，脚尖朝向地面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29000" cy="685800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5029200" y="0"/>
            <a:ext cx="327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、脊背弯曲。 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、耸肩 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、瘫坐在椅子上。 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、翘二郎腿时频繁摇腿。 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、双脚大分叉或呈八字形：双脚交叉；足尖翘起：半脱鞋；两脚在地上蹭来蹭去。 </a:t>
            </a:r>
            <a:r>
              <a:rPr b="0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7</a:t>
            </a: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、坐时手中不停地摆弄东西，如头发、饰品、手指、戒指之类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39528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不美坐姿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6977160" y="0"/>
            <a:ext cx="21668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676520" y="914400"/>
            <a:ext cx="6019560" cy="764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竞争带来的…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4419720"/>
            <a:ext cx="3429000" cy="1572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最符合自己想法的产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最适合自己的产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自己最喜欢的产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49528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隶书"/>
                <a:ea typeface="隶书"/>
              </a:rPr>
              <a:t>形体礼仪</a:t>
            </a:r>
            <a:br>
              <a:rPr sz="4400"/>
            </a:br>
            <a:r>
              <a:rPr b="0" lang="zh-CN" sz="4400" spc="-1" strike="noStrike">
                <a:solidFill>
                  <a:srgbClr val="ffcc66"/>
                </a:solidFill>
                <a:latin typeface="隶书"/>
                <a:ea typeface="隶书"/>
              </a:rPr>
              <a:t>         行</a:t>
            </a:r>
            <a:r>
              <a:rPr b="0" lang="en-US" sz="4400" spc="-1" strike="noStrike">
                <a:solidFill>
                  <a:srgbClr val="ffcc66"/>
                </a:solidFill>
                <a:latin typeface="隶书"/>
                <a:ea typeface="隶书"/>
              </a:rPr>
              <a:t>---</a:t>
            </a:r>
            <a:r>
              <a:rPr b="0" lang="zh-CN" sz="4400" spc="-1" strike="noStrike">
                <a:solidFill>
                  <a:srgbClr val="ffcc66"/>
                </a:solidFill>
                <a:latin typeface="隶书"/>
                <a:ea typeface="隶书"/>
              </a:rPr>
              <a:t>行如风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-758880" y="1980720"/>
            <a:ext cx="9369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4" marL="1828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规范的行姿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行走时，双肩平稳，目光平视，下颌微收，面带微笑。手臂伸直放松，前后自然摆动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行步速度，一般是男士</a:t>
            </a: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108-110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步</a:t>
            </a: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每分钟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，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一般是女士每分钟</a:t>
            </a: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118-120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步</a:t>
            </a: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分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错误的走姿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-758880" y="1980720"/>
            <a:ext cx="9369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4" marL="1828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速度过快或过慢 </a:t>
            </a: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笨重 </a:t>
            </a: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身体摆动不优美，上身摆动过大 </a:t>
            </a: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含胸 </a:t>
            </a: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歪脖 </a:t>
            </a: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斜腰 </a:t>
            </a: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7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挺腹 </a:t>
            </a: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扭动臂部幅度过大 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7064280" y="4221000"/>
            <a:ext cx="178452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隶书"/>
                <a:ea typeface="隶书"/>
              </a:rPr>
              <a:t>形体礼仪</a:t>
            </a:r>
            <a:br>
              <a:rPr sz="4400"/>
            </a:br>
            <a:r>
              <a:rPr b="0" lang="zh-CN" sz="4400" spc="-1" strike="noStrike">
                <a:solidFill>
                  <a:srgbClr val="ffcc66"/>
                </a:solidFill>
                <a:latin typeface="隶书"/>
                <a:ea typeface="隶书"/>
              </a:rPr>
              <a:t>    </a:t>
            </a:r>
            <a:r>
              <a:rPr b="0" lang="zh-CN" sz="4000" spc="-1" strike="noStrike">
                <a:solidFill>
                  <a:srgbClr val="ffcc66"/>
                </a:solidFill>
                <a:latin typeface="隶书"/>
                <a:ea typeface="隶书"/>
              </a:rPr>
              <a:t>蹲</a:t>
            </a:r>
            <a:r>
              <a:rPr b="0" lang="en-US" sz="4000" spc="-1" strike="noStrike">
                <a:solidFill>
                  <a:srgbClr val="ffcc66"/>
                </a:solidFill>
                <a:latin typeface="隶书"/>
                <a:ea typeface="隶书"/>
              </a:rPr>
              <a:t>---</a:t>
            </a:r>
            <a:r>
              <a:rPr b="0" lang="zh-CN" sz="4000" spc="-1" strike="noStrike">
                <a:solidFill>
                  <a:srgbClr val="ffcc66"/>
                </a:solidFill>
                <a:latin typeface="隶书"/>
                <a:ea typeface="隶书"/>
              </a:rPr>
              <a:t>蹲的几种形式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2362320" y="2437920"/>
            <a:ext cx="95248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4" marL="1828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、  高低式蹲姿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  <a:ea typeface="隶书"/>
              </a:rPr>
              <a:t>  </a:t>
            </a:r>
            <a:r>
              <a:rPr b="0" lang="en-US" sz="3600" spc="-1" strike="noStrike">
                <a:solidFill>
                  <a:srgbClr val="ff00ff"/>
                </a:solidFill>
                <a:latin typeface="Times New Roman"/>
                <a:ea typeface="隶书"/>
              </a:rPr>
              <a:t>2</a:t>
            </a:r>
            <a:r>
              <a:rPr b="0" lang="zh-CN" sz="3600" spc="-1" strike="noStrike">
                <a:solidFill>
                  <a:srgbClr val="ff00ff"/>
                </a:solidFill>
                <a:latin typeface="Times New Roman"/>
                <a:ea typeface="隶书"/>
              </a:rPr>
              <a:t>、  交叉式蹲姿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3581280" cy="403848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7308720" y="4292640"/>
            <a:ext cx="164808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Arial"/>
                <a:ea typeface="隶书"/>
              </a:rPr>
              <a:t>着装原则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-754200" y="3068640"/>
            <a:ext cx="63979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4" marL="1828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☆    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着装</a:t>
            </a:r>
            <a:r>
              <a:rPr b="0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TPO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原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5435640" y="620640"/>
            <a:ext cx="35481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Arial"/>
                <a:ea typeface="隶书"/>
              </a:rPr>
              <a:t>职业男性西服穿着：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-453960" y="2590920"/>
            <a:ext cx="929304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4" marL="1828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#  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衬衫的袖子比西装的袖子长</a:t>
            </a: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2—3C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# 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穿好衬衣，领口一定硬扎、挺括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外露部分保持平整干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# 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领带的打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# 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领带在皮带下四指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Arial"/>
                <a:ea typeface="隶书"/>
              </a:rPr>
              <a:t>职业男性西服穿着：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861048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4" marL="18288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√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内穿无领，短袖内衣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√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西裤应熨出裤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√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扣子系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√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穿皮鞋，袜子应为黑色，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中长筒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职业女性衣饰要求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0" y="297180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         </a:t>
            </a:r>
            <a:r>
              <a:rPr b="0" lang="en-US" sz="2800" spc="-1" strike="noStrike">
                <a:solidFill>
                  <a:srgbClr val="ff00ff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、重质不重量，好布料很重要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         </a:t>
            </a:r>
            <a:r>
              <a:rPr b="0" lang="en-US" sz="2800" spc="-1" strike="noStrike">
                <a:solidFill>
                  <a:srgbClr val="ff00ff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、服装要适合你的年龄、身材和职业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         </a:t>
            </a:r>
            <a:r>
              <a:rPr b="0" lang="en-US" sz="2800" spc="-1" strike="noStrike">
                <a:solidFill>
                  <a:srgbClr val="ff00ff"/>
                </a:solidFill>
                <a:latin typeface="隶书"/>
                <a:ea typeface="隶书"/>
              </a:rPr>
              <a:t>3</a:t>
            </a:r>
            <a:r>
              <a:rPr b="0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、要知道适合自己的颜色，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         </a:t>
            </a:r>
            <a:r>
              <a:rPr b="0" lang="en-US" sz="2800" spc="-1" strike="noStrike">
                <a:solidFill>
                  <a:srgbClr val="ff00ff"/>
                </a:solidFill>
                <a:latin typeface="隶书"/>
                <a:ea typeface="隶书"/>
              </a:rPr>
              <a:t>4</a:t>
            </a:r>
            <a:r>
              <a:rPr b="0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、配件同样重要。鞋子、手提包、手饰、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            </a:t>
            </a:r>
            <a:r>
              <a:rPr b="0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袜子、围巾等都应具有整体的美感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  <a:ea typeface="隶书"/>
              </a:rPr>
              <a:t>手势的礼仪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1523880" y="2361960"/>
            <a:ext cx="73152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ffff"/>
                </a:solidFill>
                <a:latin typeface="隶书"/>
                <a:ea typeface="隶书"/>
              </a:rPr>
              <a:t>指示物品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ffff"/>
                </a:solidFill>
                <a:latin typeface="隶书"/>
                <a:ea typeface="隶书"/>
              </a:rPr>
              <a:t>递送物品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ffff"/>
                </a:solidFill>
                <a:latin typeface="隶书"/>
                <a:ea typeface="隶书"/>
              </a:rPr>
              <a:t>展示物品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4427640" y="1125360"/>
            <a:ext cx="438156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75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75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75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75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75" fill="hold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75" fill="hold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579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66"/>
                </a:solidFill>
                <a:latin typeface="Arial"/>
                <a:ea typeface="隶书"/>
              </a:rPr>
              <a:t>握手的礼仪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-1445040" y="3200400"/>
            <a:ext cx="10207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4" marL="1828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A 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、男女之间：女先男后（女方先伸手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可握手），如女方不伸手，没有握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的意愿，男方可点头致意或鞠躬致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B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、 宾主之间：主先宾后（主人先伸手以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热情、客人后伸手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C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、 当年龄与性别冲突时，一般仍遵循女先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男后的次序，同性老年先伸手，年轻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应立即回握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D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、 有身份差别：高先低后（身份高先伸手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身份低的应立即回握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6400800" y="0"/>
            <a:ext cx="274320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隶书"/>
                <a:ea typeface="隶书"/>
              </a:rPr>
              <a:t>握手的注意事项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-378360" y="2743200"/>
            <a:ext cx="89125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4" marL="18288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#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握手必须用右手，并注意力度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#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跟上级或长辈握手时，只需伸过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去擎着，不能过于用力，身体可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欠，以示尊敬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#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异性间的握手，女方伸出手后，男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方应视双方的熟悉程度回握，但不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可用力，一般只象征性的轻轻一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762120"/>
            <a:ext cx="6400800" cy="703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食品、日用品、百货类、针织类及其它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42920" y="429264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以，在竞争越来越激烈的状况下，在产品日益供过于求的市场里，在商品本身的差异越来越小的情况下，我们唯有提供各种各样的服务，增加产品的附加值来满足顾客的需求，来挽留顾客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34196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Arial"/>
                <a:ea typeface="隶书"/>
              </a:rPr>
              <a:t>交换名片的礼仪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递名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双手食指和拇指执名片的两角，以文字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向对方，一边自我介绍，一边递过名片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、接名片：与他人认识后，应立即取出，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手捧接对方名片，如果同时递过名片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接过对方的名片， 仔细看一遍，不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之处请教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508720" y="0"/>
            <a:ext cx="363528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Arial"/>
                <a:ea typeface="隶书"/>
              </a:rPr>
              <a:t>名片交换的注意事项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539280" y="3573000"/>
            <a:ext cx="7696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、看到名片上的姓名如有疑问，要即时问明白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、对方人比较多时，应从领导开始交换名片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收到名片不要立刻放进包里，应放在面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桌上，谈话 时用得着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、一大堆人，应有所选择散发你的名片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5940360" y="0"/>
            <a:ext cx="33530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Arial"/>
                <a:ea typeface="隶书"/>
              </a:rPr>
              <a:t>动作的礼仪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610920" y="3429000"/>
            <a:ext cx="792468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递物品：双手拿在胸前递出，物品的尖端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可指向对方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、乘坐电梯：电梯门打开时，先等别人下电梯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、使用自动扶梯：应靠右侧站，以便让着急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人从左侧超过。</a:t>
            </a:r>
            <a:r>
              <a:rPr b="1" lang="zh-CN" sz="26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5867280" y="0"/>
            <a:ext cx="327672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Arial"/>
                <a:ea typeface="隶书"/>
              </a:rPr>
              <a:t>动作的礼仪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838080" y="11426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、取低处物品：不要弯上身，翘臀部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37306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Arial"/>
                <a:ea typeface="隶书"/>
              </a:rPr>
              <a:t>动作的礼仪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、上下卧车：上下卧车要侧着身体进入车内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3255840" cy="387324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37339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打电话的礼仪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选择好通话的时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拟好通话的要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讲究通话语言艺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6012000" y="4565520"/>
            <a:ext cx="3132000" cy="21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接电话的礼仪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电话铃响的应马上接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认真倾听对方的电话内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注意结束通话时的礼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6054840" y="2637000"/>
            <a:ext cx="308916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隶书"/>
                <a:ea typeface="隶书"/>
              </a:rPr>
              <a:t>影响服务体验的</a:t>
            </a:r>
            <a:r>
              <a:rPr b="0" lang="en-US" sz="3200" spc="-1" strike="noStrike">
                <a:solidFill>
                  <a:srgbClr val="ffcc66"/>
                </a:solidFill>
                <a:latin typeface="隶书"/>
                <a:ea typeface="隶书"/>
              </a:rPr>
              <a:t>26</a:t>
            </a:r>
            <a:r>
              <a:rPr b="0" lang="zh-CN" sz="3200" spc="-1" strike="noStrike">
                <a:solidFill>
                  <a:srgbClr val="ffcc66"/>
                </a:solidFill>
                <a:latin typeface="隶书"/>
                <a:ea typeface="隶书"/>
              </a:rPr>
              <a:t>个关键因素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685800" y="1676520"/>
          <a:ext cx="7772400" cy="4900320"/>
        </p:xfrm>
        <a:graphic>
          <a:graphicData uri="http://schemas.openxmlformats.org/drawingml/2006/table">
            <a:tbl>
              <a:tblPr/>
              <a:tblGrid>
                <a:gridCol w="1905120"/>
                <a:gridCol w="1981080"/>
                <a:gridCol w="1943280"/>
                <a:gridCol w="1942920"/>
              </a:tblGrid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物美价廉的感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优雅的礼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3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清洁的环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4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令人感觉愉快的环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5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温馨的感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6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让顾客得到满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7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方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8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可以帮助顾客成长的事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9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提供售前和售后服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1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认识并熟悉顾客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11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商品具有吸引力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12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兴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13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提供完整的选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14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站在顾客的角度看问题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15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没有刁难顾客的隐藏制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16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倾听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17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全心处理个别顾客的问题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18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效率和安全的兼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19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放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2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显示自我尊严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21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能被认同与接受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22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受到重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23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不想等待太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24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专业的人员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25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前后一致的待客态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26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有合理地处理顾客抱怨的渠道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隶书"/>
                <a:ea typeface="隶书"/>
              </a:rPr>
              <a:t>-</a:t>
            </a:r>
            <a:r>
              <a:rPr b="0" lang="zh-CN" sz="3200" spc="-1" strike="noStrike">
                <a:solidFill>
                  <a:srgbClr val="ffcc66"/>
                </a:solidFill>
                <a:latin typeface="隶书"/>
                <a:ea typeface="隶书"/>
              </a:rPr>
              <a:t>打招呼的标准</a:t>
            </a:r>
            <a:r>
              <a:rPr b="0" lang="en-US" sz="3200" spc="-1" strike="noStrike">
                <a:solidFill>
                  <a:srgbClr val="ffcc66"/>
                </a:solidFill>
                <a:latin typeface="隶书"/>
                <a:ea typeface="隶书"/>
              </a:rPr>
              <a:t>1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685800" y="1981080"/>
          <a:ext cx="7772400" cy="42051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项目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动作标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语言标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原则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基本打招呼要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&gt;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眼神接触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&gt;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微笑点头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&gt;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双手自然地摆放在身前或身后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&gt;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距离适中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&gt;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声线温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您好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请随便参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令顾客知道我们留意到他的存在并欢迎他光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与熟客打招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&gt;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眼神接触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&gt;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微笑点头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&gt;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双手自然地摆放在身前或身后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&gt;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距离可较接近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&gt;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声线热诚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&gt;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您好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李先生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&gt;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今天喜欢看点什么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让我给您介绍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以熟客的姓名称呼或以兴趣为题打开话题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令他有被重视和受欢迎的感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6443640" y="0"/>
            <a:ext cx="270036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隶书"/>
                <a:ea typeface="隶书"/>
              </a:rPr>
              <a:t>-</a:t>
            </a:r>
            <a:r>
              <a:rPr b="0" lang="zh-CN" sz="3200" spc="-1" strike="noStrike">
                <a:solidFill>
                  <a:srgbClr val="ffcc66"/>
                </a:solidFill>
                <a:latin typeface="隶书"/>
                <a:ea typeface="隶书"/>
              </a:rPr>
              <a:t>打招呼的标准</a:t>
            </a:r>
            <a:r>
              <a:rPr b="0" lang="en-US" sz="3200" spc="-1" strike="noStrike">
                <a:solidFill>
                  <a:srgbClr val="ffcc66"/>
                </a:solidFill>
                <a:latin typeface="隶书"/>
                <a:ea typeface="隶书"/>
              </a:rPr>
              <a:t>2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539640" y="1557360"/>
          <a:ext cx="7772400" cy="494028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项目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动作标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语言标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原则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4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打招呼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-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顾客需要帮忙时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&gt;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当留意到顾客东张西望时应主动上前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&gt;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眼神接触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&gt;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微笑点头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&gt;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双手自然地摆放在身前或身后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&gt;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距离适中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&gt;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声线温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您好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先生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小姐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).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有什么可以帮忙吗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令顾客知道我们留意到他的需要并愿意提供帮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打招呼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-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顾客需对货品有兴趣时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当留意到顾客对某些货品有兴趣时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,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应主动上前介绍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&gt;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眼神接触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&gt;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微笑点头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&gt;&gt;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距离可较接近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&gt;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声线热诚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&gt;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切勿过于急促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,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令顾客不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您好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先生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小姐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).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这是今年最新的款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引起顾客谈话的兴趣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并让顾客感到被关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6877080" y="0"/>
            <a:ext cx="226692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752480" y="1219320"/>
            <a:ext cx="6019920" cy="764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服务——利润的源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429000" y="2743200"/>
            <a:ext cx="2816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ff0033"/>
                </a:solidFill>
                <a:latin typeface="Arial Narrow"/>
                <a:ea typeface="隶书"/>
              </a:rPr>
              <a:t>谢谢大家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2438280" y="2209680"/>
            <a:ext cx="46641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1T11:01:27Z</dcterms:created>
  <dc:creator>HR</dc:creator>
  <dc:description/>
  <cp:keywords/>
  <dc:language>en-US</dc:language>
  <cp:lastModifiedBy>admin</cp:lastModifiedBy>
  <cp:lastPrinted>1899-12-30T00:00:00Z</cp:lastPrinted>
  <dcterms:modified xsi:type="dcterms:W3CDTF">2011-12-29T09:02:49Z</dcterms:modified>
  <cp:revision>54</cp:revision>
  <dc:subject/>
  <dc:title>服务工作面临的挑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