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0B9-83CC-47C9-9CFD-BE080603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B6F-8D56-44D3-99E3-68CB3CBA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441-7011-4C9E-8851-DCD54E22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C36-E7E6-4F9C-AABA-8E020540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13E8-C43B-4AF3-A00D-0A5164E0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E93-3D8E-4E47-8E14-336125A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A055-E1A9-46FA-85CD-B1D1FC6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3EE6-704C-4746-BFE2-024A1D4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98DE-B5EB-4F0E-9418-80A7215A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BABF-5939-4BE5-878C-5825B4B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0B4-5B28-437B-9D8C-D612BFAC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7E8-1A94-4992-869C-EAA18C0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08A0-A227-45EA-95C0-456B0FA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15B-F8A1-4EDC-9B86-CF96389E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4271-28DF-4DC8-AC8C-3325C57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A5A-0936-4CAF-82B3-15CC1ED3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E45-B5E3-459C-939B-B4A1E9FA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E6C-587C-45EC-8868-FA88E82C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151-9965-4DE9-A118-DFE0ED8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CDF-020A-403A-975C-D0BD64E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C2A-85D6-4F35-8930-9FABE588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C90-4ADF-486C-A064-D83FA84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C12-FFBB-4E25-894F-860D049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7A9-2D1C-4736-BB12-7CEE971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5F8-44C9-4F56-BDCC-B081DA6630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4BB6-9EFA-4F23-84B8-06D3316349C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1066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125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《发脾气大叫的妈妈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0104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2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Jutta Bauer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艾瑞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的《发脾气大叫的妈妈》获得过德国每年一评的最高荣誉：文学奖，儿童绘本类金奖。作者是德国当代几个风格鲜明的绘本名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括号里是艾瑞的点评和心情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34040" y="2565000"/>
            <a:ext cx="385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结果，吓得我全身都散开飞跑了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妈妈的吼叫吓得孩子魂飞魄散！？</a:t>
            </a: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54364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851200"/>
            <a:ext cx="38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脑袋飞到了宇宙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9520" y="263628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充满恐惧的孩子确实容易神游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以天马行空的神游来逃避令人恐惧的现实世界。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192720" cy="53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2560" y="37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肚子落入了大海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6520" y="278100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充满恐惧的人也容易贪食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过量进食，肚子像大海一样填不饱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19272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5880" y="263592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翅膀掉到了热带丛林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632720" cy="56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9720" y="220536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内心里的恐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害怕还会让我们紧紧抓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某人或某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形成病态互依关系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2643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4200" y="341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嘴巴插在了高山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256536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嘴巴在高山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否意味着孩子想喊又喊不出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又无法尽意表达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80960" y="781200"/>
            <a:ext cx="6382080" cy="52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96520" y="24912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的尾巴呢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?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它在街上就像是个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迷失在都市的繁华里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17520" y="1003320"/>
            <a:ext cx="8508960" cy="485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0840" y="2061360"/>
            <a:ext cx="485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就剩下了一双脚，跑啊跑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想叫，但没有嘴。我想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但没有眼睛。我想飞，但没有翅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跑啊跑，到了傍晚跑到了撒哈拉大沙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累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     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这时一个大影子罩住了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0520" y="1918080"/>
            <a:ext cx="500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孩子就像小企鹅一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看到坏脾气、大喊大叫的妈妈就想逃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，一个小小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能逃到哪里去呢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表达心声和需要，没有人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找到自己的方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是还不够有经验和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想展翅高飞，可是被妈妈爸爸挡住了去路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......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436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66440" y="270756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 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是我发脾气大叫的妈妈开着大船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她已经把那些丢掉的部分给找了回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并把他们重新缝好连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9960" y="2134440"/>
            <a:ext cx="380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伤害了孩子然后再把伤口修补好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毕竟，会留下满身伤痕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而且，我们亲爱的小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是卡通人物，摔不烂，打不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他（她）是有血有肉、有感受有情绪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有理想有抱负、有无限潜能的人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80960" y="676440"/>
            <a:ext cx="6382080" cy="55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07040" y="3273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最后找到了我的脚，这下全缝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82600" y="2923560"/>
            <a:ext cx="34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用自己的脚站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走自己的路，做最好的自己？！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6048360" cy="496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65840" y="2349000"/>
            <a:ext cx="270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对不起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!”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发脾气大叫的妈妈对我说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然后我们就开船回家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8880" y="2421360"/>
            <a:ext cx="423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（一句“对不起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就原谅了我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只要改了就还是好妈妈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孩子无条件地爱着我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我们是否也能无条件地爱着（他）她？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34592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4a"/>
                </a:solidFill>
                <a:latin typeface="Tahoma"/>
              </a:rPr>
              <a:t>一只可爱的企鹅孩子向我们讲述了它和它妈妈之间的非凡经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3040" y="242028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可爱的企鹅孩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不就是我们的可爱的孩子的化身？！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846920" cy="590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3080" y="270720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4a"/>
                </a:solidFill>
                <a:latin typeface="Tahoma"/>
              </a:rPr>
              <a:t>今天早上，我妈妈发脾气，冲着我生气地大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4a"/>
                </a:solidFill>
                <a:latin typeface="Tahoma"/>
              </a:rPr>
              <a:t>。（早上确实是妈妈容易抓狂的时间，孩子磨磨蹭蹭，早餐凉了，上学上班快要迟到了！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6262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276640"/>
            <a:ext cx="68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0766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568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04:52:56Z</dcterms:created>
  <dc:creator>zty</dc:creator>
  <dc:description/>
  <dc:language>en-US</dc:language>
  <cp:lastModifiedBy>Lenovo User</cp:lastModifiedBy>
  <dcterms:modified xsi:type="dcterms:W3CDTF">2011-05-11T05:38:44Z</dcterms:modified>
  <cp:revision>134</cp:revision>
  <dc:subject/>
  <dc:title>没有幻灯片标题</dc:title>
</cp:coreProperties>
</file>