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projctor.wav" ContentType="audio/x-wav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22.gif" ContentType="image/gif"/>
  <Override PartName="/ppt/media/image16.jpeg" ContentType="image/jpeg"/>
  <Override PartName="/ppt/media/TYPE.WAV" ContentType="audio/x-wav"/>
  <Override PartName="/ppt/media/image15.jpeg" ContentType="image/jpeg"/>
  <Override PartName="/ppt/media/image14.jpeg" ContentType="image/jpeg"/>
  <Override PartName="/ppt/media/image27.gif" ContentType="image/gif"/>
  <Override PartName="/ppt/media/image28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25.gif" ContentType="image/gif"/>
  <Override PartName="/ppt/media/image6.jpeg" ContentType="image/jpeg"/>
  <Override PartName="/ppt/media/image30.jpeg" ContentType="image/jpeg"/>
  <Override PartName="/ppt/media/image33.jpeg" ContentType="image/jpeg"/>
  <Override PartName="/ppt/media/drumroll.wav" ContentType="audio/x-wav"/>
  <Override PartName="/ppt/media/image32.jpeg" ContentType="image/jpeg"/>
  <Override PartName="/ppt/media/image5.jpeg" ContentType="image/jpeg"/>
  <Override PartName="/ppt/media/chimes.wav" ContentType="audio/x-wav"/>
  <Override PartName="/ppt/media/image37.png" ContentType="image/png"/>
  <Override PartName="/ppt/media/image34.jpeg" ContentType="image/jpeg"/>
  <Override PartName="/ppt/media/image7.jpeg" ContentType="image/jpeg"/>
  <Override PartName="/ppt/media/image36.png" ContentType="image/png"/>
  <Override PartName="/ppt/media/image31.jpeg" ContentType="image/jpeg"/>
  <Override PartName="/ppt/media/image4.jpeg" ContentType="image/jpeg"/>
  <Override PartName="/ppt/media/image38.gif" ContentType="image/gif"/>
  <Override PartName="/ppt/media/image12.jpeg" ContentType="image/jpeg"/>
  <Override PartName="/ppt/media/cashreg.wav" ContentType="audio/x-wav"/>
  <Override PartName="/ppt/media/image9.jpeg" ContentType="image/jpeg"/>
  <Override PartName="/ppt/media/image11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BAE-DA30-49C1-B4A9-B87B73D0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41C-0F30-4F6F-BA88-42A816E3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A82A-60BB-446C-AD97-24B3749D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61B-9DB4-4041-A88E-CABC70C8A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653-187B-4BB5-B14F-00DF257B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928B-6415-4C3E-B026-E2692BC1E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EADC-864B-4B1A-AFE6-71AA089E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EC67-7C45-41C6-A8A6-3194CC3F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8196-B615-4AFD-A681-B66926F1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6BA1-A4F9-46DC-8182-DF9C2EA1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CDA-115E-4137-8CC7-83849663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1543-7893-4356-B474-57D429948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99FA0-AB76-4472-8C48-42330F4E37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53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jpeg"/><Relationship Id="rId3" Type="http://schemas.openxmlformats.org/officeDocument/2006/relationships/slide" Target="slide42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" Target="slide17.xml"/><Relationship Id="rId3" Type="http://schemas.openxmlformats.org/officeDocument/2006/relationships/image" Target="../media/image29.jpeg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8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4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5.jpeg"/><Relationship Id="rId8" Type="http://schemas.openxmlformats.org/officeDocument/2006/relationships/image" Target="../media/image34.jpeg"/><Relationship Id="rId9" Type="http://schemas.openxmlformats.org/officeDocument/2006/relationships/image" Target="../media/image34.jpeg"/><Relationship Id="rId10" Type="http://schemas.openxmlformats.org/officeDocument/2006/relationships/image" Target="../media/image35.jpeg"/><Relationship Id="rId11" Type="http://schemas.openxmlformats.org/officeDocument/2006/relationships/image" Target="../media/image35.jpeg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37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 rot="5400000">
            <a:off x="5241240" y="2469960"/>
            <a:ext cx="4800600" cy="16765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>
                      <a:alpha val="80000"/>
                    </a:srgbClr>
                  </a:outerShdw>
                </a:effectLst>
                <a:latin typeface="华文行楷"/>
              </a:rPr>
              <a:t>范 进 中 举</a:t>
            </a:r>
            <a:endParaRPr b="0" lang="en-US" sz="40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3" name=""/>
          <p:cNvSpPr/>
          <p:nvPr/>
        </p:nvSpPr>
        <p:spPr>
          <a:xfrm>
            <a:off x="5748120" y="4724280"/>
            <a:ext cx="1033560" cy="16002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吴敬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62400" y="1197000"/>
            <a:ext cx="72900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十年寒窗无人问，一朝成名天下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5"/>
          <p:cNvGrpSpPr/>
          <p:nvPr/>
        </p:nvGrpSpPr>
        <p:grpSpPr>
          <a:xfrm>
            <a:off x="1116000" y="4292640"/>
            <a:ext cx="1655280" cy="1872360"/>
            <a:chOff x="1116000" y="4292640"/>
            <a:chExt cx="1655280" cy="1872360"/>
          </a:xfrm>
        </p:grpSpPr>
        <p:sp>
          <p:nvSpPr>
            <p:cNvPr id="80" name="Oval 6"/>
            <p:cNvSpPr/>
            <p:nvPr/>
          </p:nvSpPr>
          <p:spPr>
            <a:xfrm>
              <a:off x="1116000" y="4292640"/>
              <a:ext cx="1655280" cy="1361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7"/>
            <p:cNvSpPr/>
            <p:nvPr/>
          </p:nvSpPr>
          <p:spPr>
            <a:xfrm>
              <a:off x="1563840" y="4462200"/>
              <a:ext cx="850680" cy="170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d60093"/>
                  </a:solidFill>
                  <a:latin typeface="Times New Roman"/>
                </a:rPr>
                <a:t>跌倒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5"/>
          <p:cNvGrpSpPr/>
          <p:nvPr/>
        </p:nvGrpSpPr>
        <p:grpSpPr>
          <a:xfrm>
            <a:off x="-92520" y="4221000"/>
            <a:ext cx="1784520" cy="1439280"/>
            <a:chOff x="-92520" y="4221000"/>
            <a:chExt cx="1784520" cy="1439280"/>
          </a:xfrm>
        </p:grpSpPr>
        <p:sp>
          <p:nvSpPr>
            <p:cNvPr id="84" name="Oval 6"/>
            <p:cNvSpPr/>
            <p:nvPr/>
          </p:nvSpPr>
          <p:spPr>
            <a:xfrm>
              <a:off x="468360" y="4221000"/>
              <a:ext cx="1223640" cy="1439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-92520" y="4221000"/>
              <a:ext cx="152100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d60093"/>
                  </a:solidFill>
                  <a:latin typeface="Times New Roman"/>
                </a:rPr>
                <a:t>疯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a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" name="Group 5"/>
          <p:cNvGrpSpPr/>
          <p:nvPr/>
        </p:nvGrpSpPr>
        <p:grpSpPr>
          <a:xfrm>
            <a:off x="4380480" y="0"/>
            <a:ext cx="1846800" cy="1340640"/>
            <a:chOff x="4380480" y="0"/>
            <a:chExt cx="1846800" cy="1340640"/>
          </a:xfrm>
        </p:grpSpPr>
        <p:sp>
          <p:nvSpPr>
            <p:cNvPr id="88" name="Oval 6"/>
            <p:cNvSpPr/>
            <p:nvPr/>
          </p:nvSpPr>
          <p:spPr>
            <a:xfrm>
              <a:off x="4716360" y="0"/>
              <a:ext cx="1510920" cy="1340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7"/>
            <p:cNvSpPr/>
            <p:nvPr/>
          </p:nvSpPr>
          <p:spPr>
            <a:xfrm>
              <a:off x="4380480" y="0"/>
              <a:ext cx="1521000" cy="13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d60093"/>
                  </a:solidFill>
                  <a:latin typeface="Times New Roman"/>
                </a:rPr>
                <a:t>治疯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5"/>
          <p:cNvGrpSpPr/>
          <p:nvPr/>
        </p:nvGrpSpPr>
        <p:grpSpPr>
          <a:xfrm>
            <a:off x="1619280" y="1773360"/>
            <a:ext cx="1512360" cy="1944000"/>
            <a:chOff x="1619280" y="1773360"/>
            <a:chExt cx="1512360" cy="1944000"/>
          </a:xfrm>
        </p:grpSpPr>
        <p:sp>
          <p:nvSpPr>
            <p:cNvPr id="92" name="Oval 6"/>
            <p:cNvSpPr/>
            <p:nvPr/>
          </p:nvSpPr>
          <p:spPr>
            <a:xfrm>
              <a:off x="1619280" y="1773360"/>
              <a:ext cx="1512360" cy="1413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1863360" y="1949400"/>
              <a:ext cx="942480" cy="176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群媚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1366920" y="1413000"/>
            <a:ext cx="1333080" cy="1510560"/>
            <a:chOff x="1366920" y="1413000"/>
            <a:chExt cx="1333080" cy="1510560"/>
          </a:xfrm>
        </p:grpSpPr>
        <p:sp>
          <p:nvSpPr>
            <p:cNvPr id="96" name="Oval 6"/>
            <p:cNvSpPr/>
            <p:nvPr/>
          </p:nvSpPr>
          <p:spPr>
            <a:xfrm>
              <a:off x="1366920" y="1413000"/>
              <a:ext cx="1333080" cy="151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7"/>
            <p:cNvSpPr/>
            <p:nvPr/>
          </p:nvSpPr>
          <p:spPr>
            <a:xfrm>
              <a:off x="1424160" y="1413000"/>
              <a:ext cx="94248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屠谄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5"/>
          <p:cNvGrpSpPr/>
          <p:nvPr/>
        </p:nvGrpSpPr>
        <p:grpSpPr>
          <a:xfrm>
            <a:off x="1619640" y="189000"/>
            <a:ext cx="2015280" cy="1510920"/>
            <a:chOff x="1619640" y="189000"/>
            <a:chExt cx="2015280" cy="1510920"/>
          </a:xfrm>
        </p:grpSpPr>
        <p:sp>
          <p:nvSpPr>
            <p:cNvPr id="100" name="Oval 6"/>
            <p:cNvSpPr/>
            <p:nvPr/>
          </p:nvSpPr>
          <p:spPr>
            <a:xfrm>
              <a:off x="1979640" y="189000"/>
              <a:ext cx="1655280" cy="1208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7"/>
            <p:cNvSpPr/>
            <p:nvPr/>
          </p:nvSpPr>
          <p:spPr>
            <a:xfrm>
              <a:off x="1619640" y="189000"/>
              <a:ext cx="1521000" cy="151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d60093"/>
                  </a:solidFill>
                  <a:latin typeface="Times New Roman"/>
                </a:rPr>
                <a:t>贺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5"/>
          <p:cNvGrpSpPr/>
          <p:nvPr/>
        </p:nvGrpSpPr>
        <p:grpSpPr>
          <a:xfrm>
            <a:off x="1042920" y="1484280"/>
            <a:ext cx="1441080" cy="1512360"/>
            <a:chOff x="1042920" y="1484280"/>
            <a:chExt cx="1441080" cy="1512360"/>
          </a:xfrm>
        </p:grpSpPr>
        <p:sp>
          <p:nvSpPr>
            <p:cNvPr id="104" name="Oval 6"/>
            <p:cNvSpPr/>
            <p:nvPr/>
          </p:nvSpPr>
          <p:spPr>
            <a:xfrm>
              <a:off x="1042920" y="1484280"/>
              <a:ext cx="1441080" cy="134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1230840" y="1484280"/>
              <a:ext cx="942480" cy="15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收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320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5410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了解封建社会庸俗腐败的人情世态，认识封建科举制度的毒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理解对比和讽刺的写法与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品味个性鲜明的人物语言和动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8458200" y="617220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7493"/>
                </a:moveTo>
                <a:lnTo>
                  <a:pt x="14484" y="7493"/>
                </a:lnTo>
                <a:lnTo>
                  <a:pt x="14484" y="12828"/>
                </a:lnTo>
                <a:cubicBezTo>
                  <a:pt x="14484" y="13751"/>
                  <a:pt x="15285" y="14482"/>
                  <a:pt x="16321" y="14482"/>
                </a:cubicBezTo>
                <a:lnTo>
                  <a:pt x="17983" y="14482"/>
                </a:lnTo>
                <a:cubicBezTo>
                  <a:pt x="19019" y="14482"/>
                  <a:pt x="19820" y="13751"/>
                  <a:pt x="19820" y="12828"/>
                </a:cubicBezTo>
                <a:lnTo>
                  <a:pt x="19820" y="7493"/>
                </a:lnTo>
                <a:lnTo>
                  <a:pt x="17983" y="7493"/>
                </a:lnTo>
                <a:lnTo>
                  <a:pt x="21491" y="3985"/>
                </a:lnTo>
                <a:lnTo>
                  <a:pt x="25164" y="7493"/>
                </a:lnTo>
                <a:lnTo>
                  <a:pt x="23327" y="7493"/>
                </a:lnTo>
                <a:lnTo>
                  <a:pt x="23327" y="12828"/>
                </a:lnTo>
                <a:cubicBezTo>
                  <a:pt x="23327" y="15596"/>
                  <a:pt x="20751" y="18155"/>
                  <a:pt x="17983" y="18155"/>
                </a:cubicBezTo>
                <a:lnTo>
                  <a:pt x="16321" y="18155"/>
                </a:lnTo>
                <a:cubicBezTo>
                  <a:pt x="13553" y="18155"/>
                  <a:pt x="10977" y="15596"/>
                  <a:pt x="10977" y="12828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52280" y="106200"/>
            <a:ext cx="2819520" cy="58140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作家简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吴敬梓图象"/>
          <p:cNvPicPr/>
          <p:nvPr/>
        </p:nvPicPr>
        <p:blipFill>
          <a:blip r:embed="rId1"/>
          <a:stretch/>
        </p:blipFill>
        <p:spPr>
          <a:xfrm>
            <a:off x="152280" y="914400"/>
            <a:ext cx="2895840" cy="5334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124080" y="533520"/>
            <a:ext cx="601992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敬梓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01----175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敏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号粒民，晚年又号文木老人，安徽全椒人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代讽刺小说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出生于官僚地主家庭，曾祖父、祖父、叔祖均凭科举显达。其父吴霖起为人正直耿介，不慕荣利，对吴敬梓颇有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吴敬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丧母，后随父到任所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中秀才（此后即屡举不中）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丧父。家族内部因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财产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权力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展开了激烈的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-360" y="11556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斗。经历了这场变故，吴敬梓既无心做官，对虚伪的人际关系又深感厌恶。安徽巡抚推荐他应博学洪词考试，他竟装病不去。他不善持家，遇贫即施，家产卖尽，直至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5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去逝时，一直过着清贫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出身于仕宦名门，随父亲到各处做官而有机会获得包括官场内幕的大量见识，对于如官僚豪绅、纨绔子弟、举业中人、清客等卑劣的灵魂，腐朽的生活有较深刻的了解；加上他个人经济地位的剧变，使他与广大下层人民有较多的接触，这些成了他创作《儒林外史》的丰富的素材，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心血著成《儒林外史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5"/>
          <p:cNvGrpSpPr/>
          <p:nvPr/>
        </p:nvGrpSpPr>
        <p:grpSpPr>
          <a:xfrm>
            <a:off x="-177840" y="404640"/>
            <a:ext cx="1725120" cy="1943640"/>
            <a:chOff x="-177840" y="404640"/>
            <a:chExt cx="1725120" cy="1943640"/>
          </a:xfrm>
        </p:grpSpPr>
        <p:sp>
          <p:nvSpPr>
            <p:cNvPr id="47" name="Oval 6"/>
            <p:cNvSpPr/>
            <p:nvPr/>
          </p:nvSpPr>
          <p:spPr>
            <a:xfrm>
              <a:off x="324000" y="404640"/>
              <a:ext cx="1223280" cy="1701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Text Box 7"/>
            <p:cNvSpPr/>
            <p:nvPr/>
          </p:nvSpPr>
          <p:spPr>
            <a:xfrm>
              <a:off x="-177840" y="404640"/>
              <a:ext cx="1481760" cy="19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d60093"/>
                  </a:solidFill>
                  <a:latin typeface="Times New Roman"/>
                </a:rPr>
                <a:t>中</a:t>
              </a:r>
              <a:r>
                <a:rPr b="0" lang="zh-CN" sz="4000" spc="-1" strike="noStrike" u="sng">
                  <a:solidFill>
                    <a:srgbClr val="009999"/>
                  </a:solidFill>
                  <a:uFillTx/>
                  <a:latin typeface="Times New Roman"/>
                  <a:hlinkClick r:id="rId3" action="ppaction://hlinksldjump"/>
                </a:rPr>
                <a:t>秀才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6584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48360" y="260280"/>
            <a:ext cx="367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儒林外史》成书于作者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岁以前。这部长篇讽刺小说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共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55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回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刻画了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100</a:t>
            </a:r>
            <a:r>
              <a:rPr b="1" lang="zh-CN" sz="36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多个人物</a:t>
            </a:r>
            <a:r>
              <a:rPr b="1" lang="zh-CN" sz="36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，但并无一个中心人物做主干，是连缀很多故事而成的长篇小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 flipH="1" rot="10800000">
            <a:off x="914400" y="1294560"/>
            <a:ext cx="7315200" cy="109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8000" y="1752480"/>
            <a:ext cx="8712000" cy="47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儒林”指读书人这一阶层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儒林外史》是一部杰出的现实主义章回体长篇讽刺小说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书正是以封建知识分子为主要对象，描写他们的生活和精神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书用白话写成，语言准确、生动、幽默、洗练，细节描写传神，人物栩栩如生，艺术上取得了极大的成就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功的展示了一幅以封建儒生的生活和精神状态为中心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十八世纪中国社会的风俗画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600200" y="30492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6454800" y="304920"/>
            <a:ext cx="936720" cy="9032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057400" y="471600"/>
            <a:ext cx="546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关于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华文行楷"/>
              </a:rPr>
              <a:t>《儒林外史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38880" y="4724280"/>
            <a:ext cx="1560600" cy="1905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0" y="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书有一个中心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通过对科举制度的弊害和知识分子的精神生活的腐朽堕落的描绘，深刻地揭露和强烈地抨击了封建社会道德风俗的败坏和政治的黑暗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它确实是一幅刻画入微、形象逼真的封建社会儒林百丑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鲁迅先生说：“迨吴敬梓《儒林外史》出，乃秉持公心，指擿时弊，机锋所向，尤在士林；其文又感而能谐，婉而多讽；于是说部中乃始有足称讽刺之书。”（《中国小说史略》）这是对《儒林外史》进步思想和讽刺艺术的最好的概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22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由于时代的局限，作者在书中批判黑暗现实的同时，却把理想寄托在一些“品学兼优”的士大夫的身上，宣扬古礼古乐，这是应该加以批判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8000" y="981000"/>
            <a:ext cx="857088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吴敬梓，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号粒民，晚年自号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安徽全椒县人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代小说家。著有长篇讽刺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说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《文木山房诗文集》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9079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敏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67640" y="981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文木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916360" y="134136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77336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《儒林外史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2859120"/>
            <a:ext cx="8785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、《儒林外史》是一部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华文中宋"/>
                <a:ea typeface="华文中宋"/>
              </a:rPr>
              <a:t>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小说，共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55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回。主要描写封建    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生活和精神状态，揭露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_________  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腐朽和在这个制度奴役下的士人的丑恶灵魂。是我国古典文学中讽刺艺术的最高峰，给后世的谴责小说以直接的影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29242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章回体长篇讽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3284640"/>
            <a:ext cx="17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知识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3860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科举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740720" y="5661000"/>
            <a:ext cx="1168200" cy="93024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250920" y="0"/>
            <a:ext cx="3168720" cy="863640"/>
            <a:chOff x="250920" y="0"/>
            <a:chExt cx="3168720" cy="86364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250920" y="0"/>
              <a:ext cx="3162240" cy="86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1114560" y="189000"/>
              <a:ext cx="2305080" cy="5814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作家作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362320" y="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关于封建科举制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83664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科举制度始于隋唐时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清人为了取得参加正式科举考试的资格，先要参加童试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参加童试的人称为儒童或童生，录取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入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后称为生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又称为库生，俗称秀才。这是功名的起点。正式的科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考试分为三级：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乡试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常每三年在各省省城举行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次。 乡试取中后称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一名称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会试在乡试后的第二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春天在礼部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行。参加会试的是举人，取中后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第一名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殿试是皇帝主试的考试，考策问。参加殿试的是贡士，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后统称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殿试分三甲录取。第一甲踢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进士及第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第二甲赐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进士出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甲赐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同进士出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第一甲录取三名，第一名俗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第二名俗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第三名俗称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合称为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</a:rPr>
              <a:t>三鼎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以上各种考试主要是考八股文和试帖诗，考试限定由四书五经命题，考生不能有自己的见解和主张，最终成为科举考试的奴隶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48000" y="2205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乡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859280" y="2205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会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27640" y="220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殿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36000" y="2565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举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24000" y="299736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解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48360" y="335772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贡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35772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会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95640" y="40766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进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79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状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148360" y="479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榜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96360" y="479736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探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5589720"/>
            <a:ext cx="11509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696080" cy="1143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>
                <a:solidFill>
                  <a:srgbClr val="ffffff"/>
                </a:solidFill>
                <a:latin typeface="Arial"/>
                <a:ea typeface="方正舒体"/>
              </a:rPr>
              <a:t>介绍与本课有关的小说内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3716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范进中举“这个片断选自《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儒林外史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》第三回“周学道校士拔真才，胡屠户行凶查捷报”。小说描写广东学道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周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上任后在广州主考两场生员，然后主考南海、番禺两县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童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考试，其中就有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范进当时已是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54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，从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到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54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他整整考了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当花白着胡子的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在考场里，引起了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周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怜悯，因为范进与自己的遭遇非常相似。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周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初考了许多年连秀才也没有考上，最后他做生意的一个朋友替他捐钱买了一个秀才资格，他才得以考上举人，最终考上进士。正因为如此，他才对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格外关照，结果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范进在童试中考上第一名秀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紧接着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在乡试中考了第七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229600" y="60199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66680" y="1341360"/>
            <a:ext cx="7467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《范进中举》按故事情节的发展，可分为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大部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作者着意描写范进中举前后的不同遭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86440" y="2924280"/>
            <a:ext cx="3361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第一部分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范进中举之前贫困的生活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卑微的社会地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58320" y="4581360"/>
            <a:ext cx="380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第二部分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范进中举喜极发疯及中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后社会地位显著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404640"/>
            <a:ext cx="3048120" cy="8251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课文结构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4005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范进进学回家，胡屠户前来贺喜；借盘缠，遭到拒绝和辱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56610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喜极而疯；胡屠户治疯；张乡绅拜会，胡屠户受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胡屠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胡屠户对范进中举前后的态度发生了怎样的变化？（抓住人物的语言，动作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52280" y="990720"/>
          <a:ext cx="8839440" cy="5790960"/>
        </p:xfrm>
        <a:graphic>
          <a:graphicData uri="http://schemas.openxmlformats.org/drawingml/2006/table">
            <a:tbl>
              <a:tblPr/>
              <a:tblGrid>
                <a:gridCol w="1423080"/>
                <a:gridCol w="3745440"/>
                <a:gridCol w="367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隶书"/>
                        </a:rPr>
                        <a:t>中举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隶书"/>
                        </a:rPr>
                        <a:t>中举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228600" y="1752480"/>
            <a:ext cx="11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称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895480"/>
            <a:ext cx="117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长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3886200"/>
            <a:ext cx="110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学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4876920"/>
            <a:ext cx="13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动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6520" y="6093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贺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1905120"/>
            <a:ext cx="31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世宝、癞蛤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19051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贤婿老爷、文曲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2971800"/>
            <a:ext cx="229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尖嘴猴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3600" y="2971800"/>
            <a:ext cx="266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面的相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3733920"/>
            <a:ext cx="361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是你的文章好，宗师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你的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388620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才学又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4648320"/>
            <a:ext cx="3063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横披衣服、腆着肚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口啐在脸上，骂一个狗血喷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19640" y="4581360"/>
            <a:ext cx="392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连斟两碗，壮胆，手颤起来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路低着头扯了几十回。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攥在手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紧紧的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舒过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缩回去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揣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低头去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52480" y="6095880"/>
            <a:ext cx="32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副大肠，一瓶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6095880"/>
            <a:ext cx="347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七八斤肉、四五千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37920" y="100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胡屠户对范进的态度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52280" y="990720"/>
          <a:ext cx="8839440" cy="5790960"/>
        </p:xfrm>
        <a:graphic>
          <a:graphicData uri="http://schemas.openxmlformats.org/drawingml/2006/table">
            <a:tbl>
              <a:tblPr/>
              <a:tblGrid>
                <a:gridCol w="2116080"/>
                <a:gridCol w="3052800"/>
                <a:gridCol w="3670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隶书"/>
                        </a:rPr>
                        <a:t>中举前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  <a:ea typeface="隶书"/>
                        </a:rPr>
                        <a:t>中举后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"/>
          <p:cNvSpPr/>
          <p:nvPr/>
        </p:nvSpPr>
        <p:spPr>
          <a:xfrm>
            <a:off x="228600" y="1752480"/>
            <a:ext cx="1120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嫁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285264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能否考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378936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对亲家称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60930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00360" y="1773360"/>
            <a:ext cx="317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倒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92720" y="162864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养到３０多岁　　毕竟要嫁与个老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278136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癞蛤蟆就想天鹅屁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580000" y="29098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毕竟要嫁与个老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24000" y="3789360"/>
            <a:ext cx="361656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那老不死的老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80000" y="38606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家老太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37920" y="10008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胡屠户对范进的态度变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472428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话态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68360" y="4797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训斥    狗血喷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4653000"/>
            <a:ext cx="281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恭维　奉承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讨好千恩万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5"/>
          <p:cNvGrpSpPr/>
          <p:nvPr/>
        </p:nvGrpSpPr>
        <p:grpSpPr>
          <a:xfrm>
            <a:off x="3564000" y="333360"/>
            <a:ext cx="1294920" cy="1439280"/>
            <a:chOff x="3564000" y="333360"/>
            <a:chExt cx="1294920" cy="1439280"/>
          </a:xfrm>
        </p:grpSpPr>
        <p:sp>
          <p:nvSpPr>
            <p:cNvPr id="51" name="Oval 6"/>
            <p:cNvSpPr/>
            <p:nvPr/>
          </p:nvSpPr>
          <p:spPr>
            <a:xfrm>
              <a:off x="3564000" y="333360"/>
              <a:ext cx="1294920" cy="1279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 Box 7"/>
            <p:cNvSpPr/>
            <p:nvPr/>
          </p:nvSpPr>
          <p:spPr>
            <a:xfrm>
              <a:off x="3745440" y="333360"/>
              <a:ext cx="942480" cy="14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借钱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刻画胡屠户这个人物时，作者运用了什么手法来展现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08720" y="2205000"/>
            <a:ext cx="20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（对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9640" y="4076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表现了胡屠户怎样的性格特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304920" y="1295280"/>
            <a:ext cx="854064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Arial"/>
                <a:ea typeface="楷体_GB2312"/>
              </a:rPr>
              <a:t>           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胡屠户在范进中举前后截然不同的两种态度形成了鲜明的对比，形象地表现出他的前倨后恭，他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欺贫爱富、趋炎附势、嗜钱如命、庸俗自私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的典型市侩的性格跃然纸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105520" y="3505320"/>
            <a:ext cx="3595680" cy="2948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315200" y="3200400"/>
            <a:ext cx="1657440" cy="1152360"/>
          </a:xfrm>
          <a:prstGeom prst="cloudCallout">
            <a:avLst>
              <a:gd name="adj1" fmla="val -32856"/>
              <a:gd name="adj2" fmla="val 125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文曲星打得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3429000"/>
            <a:ext cx="934920" cy="1081080"/>
          </a:xfrm>
          <a:prstGeom prst="wedgeEllipseCallout">
            <a:avLst>
              <a:gd name="adj1" fmla="val 91254"/>
              <a:gd name="adj2" fmla="val 999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权变权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6737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仔细阅读文中对张乡绅和众邻居的描写，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52707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张静斋是城中望族，之前 与范进素不相识，他又是如何对待中举后的范进的？他是个怎样的人？他这么做的目的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979720" cy="4108320"/>
          </a:xfrm>
          <a:prstGeom prst="rect">
            <a:avLst/>
          </a:prstGeom>
          <a:ln w="31680">
            <a:solidFill>
              <a:srgbClr val="ff0000"/>
            </a:solidFill>
            <a:miter/>
          </a:ln>
        </p:spPr>
      </p:pic>
      <p:sp>
        <p:nvSpPr>
          <p:cNvPr id="205" name=""/>
          <p:cNvSpPr/>
          <p:nvPr/>
        </p:nvSpPr>
        <p:spPr>
          <a:xfrm>
            <a:off x="7781760" y="2971800"/>
            <a:ext cx="1362240" cy="1212840"/>
          </a:xfrm>
          <a:prstGeom prst="wedgeEllipseCallout">
            <a:avLst>
              <a:gd name="adj1" fmla="val -47087"/>
              <a:gd name="adj2" fmla="val 12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幸会！幸会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867280" y="2057400"/>
            <a:ext cx="936720" cy="1359000"/>
          </a:xfrm>
          <a:prstGeom prst="wedgeEllipseCallout">
            <a:avLst>
              <a:gd name="adj1" fmla="val 48476"/>
              <a:gd name="adj2" fmla="val 120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世先生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178920" y="3499920"/>
            <a:ext cx="473724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——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张静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的目的是为了结交新贵，巩固和扩大自己的权势，结党营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800600" y="838080"/>
            <a:ext cx="3962520" cy="525780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179280" y="620640"/>
            <a:ext cx="47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世弟兄”、”至亲骨肉“、送银送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1916280"/>
            <a:ext cx="38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尽巴结拉拢之能事，虚伪奸诈，趋炎附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众乡邻对范进中举前后的态度有什么变化？这一变化看出他们是怎样的一群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1741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众邻居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范进中举前对他漠不关心，对他的困窘不闻不问，百般奚落、嘲弄；在他中举后称他“新贵人”、“范老爷”、拿酒、拿米、拿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867280" y="2971800"/>
            <a:ext cx="2895840" cy="3422520"/>
          </a:xfrm>
          <a:prstGeom prst="rect">
            <a:avLst/>
          </a:prstGeom>
          <a:ln w="25560">
            <a:solidFill>
              <a:srgbClr val="ff0000"/>
            </a:solidFill>
            <a:miter/>
          </a:ln>
        </p:spPr>
      </p:pic>
      <p:sp>
        <p:nvSpPr>
          <p:cNvPr id="215" name=""/>
          <p:cNvSpPr/>
          <p:nvPr/>
        </p:nvSpPr>
        <p:spPr>
          <a:xfrm>
            <a:off x="395280" y="400536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嫌贫爱富、趋炎附势、冷漠势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本课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147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范进中举前后，这三类人的态度种种反映了当时怎样的社会风气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2997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当时的人们对有钱有势的人极力巴结奉承，对无钱无势的人冷漠无情，表现了科举制度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世态炎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这正是范进所生活的社会环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2760" y="76320"/>
            <a:ext cx="495288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50021"/>
                </a:solidFill>
                <a:latin typeface="Arial"/>
                <a:ea typeface="黑体"/>
              </a:rPr>
              <a:t>范进中举前后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08000" y="762120"/>
          <a:ext cx="8856720" cy="5932440"/>
        </p:xfrm>
        <a:graphic>
          <a:graphicData uri="http://schemas.openxmlformats.org/drawingml/2006/table">
            <a:tbl>
              <a:tblPr/>
              <a:tblGrid>
                <a:gridCol w="1023840"/>
                <a:gridCol w="4179960"/>
                <a:gridCol w="365292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项目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　　　　中举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　　　　中举后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146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吃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 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44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用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46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Arial"/>
                        </a:rPr>
                        <a:t>地位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471ce4"/>
                          </a:solidFill>
                          <a:latin typeface="Times New Roman"/>
                        </a:rPr>
                        <a:t>　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21" name=""/>
          <p:cNvSpPr/>
          <p:nvPr/>
        </p:nvSpPr>
        <p:spPr>
          <a:xfrm>
            <a:off x="1476360" y="1523880"/>
            <a:ext cx="37339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每日小菜饭　猪油两三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饿了两三天　没有早饭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饿得看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523880"/>
            <a:ext cx="297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众乡邻拿蛋　送酒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　　　背米　捉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胡屠户送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00200" y="3124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茅草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86400" y="31240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张乡绅送三进三间房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600200" y="4038480"/>
            <a:ext cx="2971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盘费去应考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钱打发报录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638680" y="3809880"/>
            <a:ext cx="304812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众乡邻搬桌椅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屠户送四五千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张乡绅送纹银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5300640"/>
            <a:ext cx="297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胡屠户骂得狗血淋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人理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无人帮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2560" y="5229360"/>
            <a:ext cx="29718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胡屠户奉承恭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众乡邻帮办各种事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Times New Roman"/>
              </a:rPr>
              <a:t>张乡绅拜访拉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755640" y="202896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80"/>
                </a:solidFill>
                <a:latin typeface="Calibri"/>
              </a:rPr>
              <a:t>　　</a:t>
            </a: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回忆去岁饥荒，五六七月间，柴米尽焦枯，贫无一寸铁，赊不得，欠不得，虽有近戚远亲，谁肯雪中送炭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隶书"/>
                <a:ea typeface="隶书"/>
              </a:rPr>
              <a:t>　　侥幸今朝科举，一二三场内，文章皆合式，中了五经魁，名也香，姓也香，不拘张三李四，都来锦上添花。</a:t>
            </a:r>
            <a:r>
              <a:rPr b="1" lang="zh-CN" sz="2800" spc="-1" strike="noStrike">
                <a:solidFill>
                  <a:srgbClr val="000080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WordArt 5"/>
          <p:cNvSpPr txBox="1"/>
          <p:nvPr/>
        </p:nvSpPr>
        <p:spPr>
          <a:xfrm>
            <a:off x="0" y="0"/>
            <a:ext cx="29718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对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23640" y="1295280"/>
            <a:ext cx="86295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9cc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研读“范进疯了”这一精彩片断，仔细思考下列问题</a:t>
            </a:r>
            <a:r>
              <a:rPr b="1" lang="zh-CN" sz="3600" spc="-1" strike="noStrike">
                <a:solidFill>
                  <a:srgbClr val="6600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范进发疯的过程可以分为几个部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文中运用了哪些描写来刻画范进的疯态？（找出关键的词语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、范进中举后为什么会发疯？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657600" y="228600"/>
            <a:ext cx="19810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范进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5"/>
          <p:cNvGrpSpPr/>
          <p:nvPr/>
        </p:nvGrpSpPr>
        <p:grpSpPr>
          <a:xfrm>
            <a:off x="3203640" y="4797360"/>
            <a:ext cx="1368000" cy="1510560"/>
            <a:chOff x="3203640" y="4797360"/>
            <a:chExt cx="1368000" cy="1510560"/>
          </a:xfrm>
        </p:grpSpPr>
        <p:sp>
          <p:nvSpPr>
            <p:cNvPr id="55" name="Oval 6"/>
            <p:cNvSpPr/>
            <p:nvPr/>
          </p:nvSpPr>
          <p:spPr>
            <a:xfrm>
              <a:off x="3203640" y="4797360"/>
              <a:ext cx="1368000" cy="151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7"/>
            <p:cNvSpPr/>
            <p:nvPr/>
          </p:nvSpPr>
          <p:spPr>
            <a:xfrm>
              <a:off x="3334320" y="4797360"/>
              <a:ext cx="94248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卖鸡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4360" y="260280"/>
            <a:ext cx="7848360" cy="581400"/>
          </a:xfrm>
          <a:prstGeom prst="rect">
            <a:avLst/>
          </a:prstGeom>
          <a:gradFill rotWithShape="0">
            <a:gsLst>
              <a:gs pos="0">
                <a:srgbClr val="bbe0e3">
                  <a:alpha val="54117"/>
                </a:srgbClr>
              </a:gs>
              <a:gs pos="50000">
                <a:srgbClr val="00ffff"/>
              </a:gs>
              <a:gs pos="100000">
                <a:srgbClr val="bbe0e3">
                  <a:alpha val="54117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课文是怎样描写范进的喜极发疯的过程？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116000" y="9079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范进喜极发疯的过程可分作四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87280" y="1413000"/>
            <a:ext cx="64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第一层写昏厥。用了什么描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060640"/>
            <a:ext cx="777708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用“看”“念”“拍”“笑”写范进喜极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动作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，用“往后 一交跌倒，牙关咬紧，不省人事”写范进昏厥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神态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。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语言描写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中 “噫”写出惊喜过望的心情。“好了”几十年追求功名，一旦实现，富贵荣华滚滚而来。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1640" y="4292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第二层写疯跑。又用了什么描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26920" y="5157720"/>
            <a:ext cx="760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用“爬将起来”“拍着手大笑”“飞跑”这些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动作描 写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，写足了范进的疯劲。用重复的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语言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，写狂喜的心情。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539640" y="620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第三层写跌倒。又用了什么描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1484280"/>
            <a:ext cx="75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用富有讽刺性的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外貌描写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写范进一脚端在塘里的丑态，“头发都跌散了，两手黄泥，淋淋漓漓一身的水”，包含了极其强烈的讽刺意味。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3068640"/>
            <a:ext cx="73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第四层写疯走集上。又用了什么描写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436572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拍着笑着”的</a:t>
            </a:r>
            <a:r>
              <a:rPr b="1" lang="zh-CN" sz="3600" spc="-1" strike="noStrike">
                <a:solidFill>
                  <a:srgbClr val="cc3300"/>
                </a:solidFill>
                <a:latin typeface="华文中宋"/>
                <a:ea typeface="华文中宋"/>
              </a:rPr>
              <a:t>动作描写</a:t>
            </a: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写尽范进的疯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3360" y="380520"/>
            <a:ext cx="854064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对范进疯态的描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动作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描写：看、念、拍手（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次）、笑（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次）、          跌倒、爬将起来、飞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语言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描写：“噫！好了！我中了！”（重复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神态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描写：牙关咬紧、不省人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外貌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描写：头发都跌散了，两手黄泥，淋淋漓漓 一身的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运用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夸张、正面描写与侧面描写，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生动地表现了范进中举后狂喜的心情和发疯的丑态，具有极强的讽刺意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宋体"/>
              </a:rPr>
              <a:t>范进中举后发疯的原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3360" y="1371600"/>
            <a:ext cx="85406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     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“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原来新贵人欢喜疯了。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”“</a:t>
            </a:r>
            <a:r>
              <a:rPr b="1" lang="zh-CN" sz="2800" spc="-1" strike="noStrike">
                <a:solidFill>
                  <a:srgbClr val="333300"/>
                </a:solidFill>
                <a:latin typeface="宋体"/>
              </a:rPr>
              <a:t>他只因欢喜狠了，痰涌上来，迷了心窍。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”</a:t>
            </a:r>
            <a:br>
              <a:rPr sz="2800"/>
            </a:b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       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2743200"/>
            <a:ext cx="80769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在封建社会，读书人一旦中举，那就平步青云。范进未中举前穷愁潦倒，受尽屈辱。中举后即能吐尽几十年的苦水闷气，从此将身价百倍，享尽富贵荣华。因此，这是范进梦寐以求的，一旦到手，竟喜极而疯。</a:t>
            </a:r>
            <a:r>
              <a:rPr b="1" lang="zh-CN" sz="2800" spc="-1" strike="noStrike">
                <a:solidFill>
                  <a:srgbClr val="cc3300"/>
                </a:solidFill>
                <a:latin typeface="宋体"/>
              </a:rPr>
              <a:t>文章着重刻画范进颠狂的丑态，揭露了封建科举制度对读书人的毒害</a:t>
            </a:r>
            <a:r>
              <a:rPr b="1" lang="zh-CN" sz="2800" spc="-1" strike="noStrike">
                <a:solidFill>
                  <a:srgbClr val="6600ff"/>
                </a:solidFill>
                <a:latin typeface="宋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94920" y="404640"/>
            <a:ext cx="8023320" cy="11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4644"/>
                </a:solidFill>
                <a:latin typeface="Arial"/>
                <a:ea typeface="华文中宋"/>
              </a:rPr>
              <a:t>思考：作者从哪些方面将范进中举前后的状况进行对比，并从课文中</a:t>
            </a:r>
            <a:r>
              <a:rPr b="1" lang="zh-CN" sz="3200" spc="-1" strike="noStrike">
                <a:solidFill>
                  <a:srgbClr val="004644"/>
                </a:solidFill>
                <a:latin typeface="Arial"/>
                <a:ea typeface="华文中宋"/>
              </a:rPr>
              <a:t>5~12</a:t>
            </a:r>
            <a:r>
              <a:rPr b="1" lang="zh-CN" sz="3200" spc="-1" strike="noStrike">
                <a:solidFill>
                  <a:srgbClr val="004644"/>
                </a:solidFill>
                <a:latin typeface="Arial"/>
                <a:ea typeface="华文中宋"/>
              </a:rPr>
              <a:t>段找出依据。</a:t>
            </a:r>
            <a:r>
              <a:rPr b="0" lang="zh-CN" sz="3200" spc="-1" strike="noStrike">
                <a:solidFill>
                  <a:srgbClr val="004644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258920" y="198900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）经济地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58920" y="270828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</a:rPr>
              <a:t>）社会地位（别人对他的态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543800" y="5715000"/>
            <a:ext cx="685800" cy="57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057400"/>
                <a:gridCol w="3352680"/>
                <a:gridCol w="3733920"/>
              </a:tblGrid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2819520" y="3049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中举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0" y="3049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中举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1828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活境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28600" y="3733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社会地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5638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处事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1219320"/>
            <a:ext cx="344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住茅草屋，吃小菜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09680" y="16002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不知猪油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95640" y="2060640"/>
            <a:ext cx="300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6600"/>
                </a:solidFill>
                <a:latin typeface="Times New Roman"/>
              </a:rPr>
              <a:t>饿了两三天母亲饿得两眼看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38680" y="121932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99"/>
                </a:solidFill>
                <a:latin typeface="Times New Roman"/>
              </a:rPr>
              <a:t>有拿鸡蛋送白酒的，有背斗米捉两鸡的，有搬桌拿凳的，胡屠户送肉送钱，张乡绅送银赠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3200400"/>
            <a:ext cx="3124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被丈人骂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现世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癞蛤蟆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尖嘴猴腮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195640" y="414972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138b38"/>
                </a:solidFill>
                <a:latin typeface="Times New Roman"/>
              </a:rPr>
              <a:t>邻里无人理会 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地位低微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受人歧视、辱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3048120"/>
            <a:ext cx="3733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138b38"/>
                </a:solidFill>
                <a:latin typeface="Times New Roman"/>
              </a:rPr>
              <a:t>邻居众人口口声声“范老爷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报录人献计治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丈人称他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文曲星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”“</a:t>
            </a:r>
            <a:r>
              <a:rPr b="1" lang="zh-CN" sz="2000" spc="-1" strike="noStrike">
                <a:solidFill>
                  <a:srgbClr val="d60093"/>
                </a:solidFill>
                <a:latin typeface="Times New Roman"/>
              </a:rPr>
              <a:t>贤婿老爷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”“才学高品貌好”扯衣裳后襟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张乡绅拜会，称兄联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979640" y="5013360"/>
            <a:ext cx="359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甘受屈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唯唯连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不顾一切去参加乡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5334120"/>
            <a:ext cx="2514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奉迎自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胡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势利虚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3270240"/>
            <a:ext cx="82105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范进是这篇小说的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中心人物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。作者对他的描写主要围绕两个方面：</a:t>
            </a:r>
            <a:r>
              <a:rPr b="1" lang="zh-CN" sz="2800" spc="-1" strike="noStrike">
                <a:solidFill>
                  <a:srgbClr val="cc3300"/>
                </a:solidFill>
                <a:latin typeface="黑体"/>
                <a:ea typeface="黑体"/>
              </a:rPr>
              <a:t>一是他悲苦辛酸的命运，一是他卑怯屈辱的性格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这两方面又是互相联系的、统一的，都同他热衷功名富贵却又长期落第的生活经历分不开。穷得绝粮断炊，连老婆和老母亲都不能养活，这便招致丈人胡屠户和周围人们的轻蔑和嘲笑；而这遭人白眼的处境，又形成他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自轻自贱、逆来顺受、“唯唯连声”那样怯懦、卑微和屈辱</a:t>
            </a:r>
            <a:r>
              <a:rPr b="1" lang="zh-CN" sz="2800" spc="-1" strike="noStrike">
                <a:solidFill>
                  <a:srgbClr val="333300"/>
                </a:solidFill>
                <a:latin typeface="黑体"/>
                <a:ea typeface="黑体"/>
              </a:rPr>
              <a:t>的性格。他的性格反映出科举重压下落第文人的辛酸悲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838080" y="1523880"/>
            <a:ext cx="76964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《儒林外史》精彩片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四回写到范进到知县汤奉处打秋风，当知县看到范进因守制而不用银镶杯箸，不用象箸时，很担心他不用荤酒，正在此时，却见范进“在燕窝碗里拣了一个大虾元子送在嘴里”，这才放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38080" y="51055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</a:rPr>
              <a:t>一句“大虾元子”的描述将范进虚伪的性格暴露无遗，同时也表现出封建礼教的虚伪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8240"/>
            <a:ext cx="3124080" cy="14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课外延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2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905840" y="1528920"/>
            <a:ext cx="554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思考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范进中举，喜极而疯，是喜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悲剧？结合课文具体描写，谈谈你的看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3124080"/>
            <a:ext cx="8435880" cy="23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提示：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喜剧常用</a:t>
            </a:r>
            <a:r>
              <a:rPr b="1" lang="zh-CN" sz="3600" spc="-1" strike="noStrike">
                <a:solidFill>
                  <a:srgbClr val="cc3300"/>
                </a:solidFill>
                <a:latin typeface="宋体"/>
              </a:rPr>
              <a:t>夸张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的手法揭露和嘲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现实中的丑恶事物或落后现象，而悲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常常表现有价值事物的毁灭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5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62120" y="1268280"/>
            <a:ext cx="8381880" cy="43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范进喜极而疯是一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喜剧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理由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）文中写范进发疯和胡屠户打嘴巴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运用了夸张手法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）揭露了当时士人热中功名的丑恶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魂和市侩的趋炎附势的嘴脸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8000"/>
                </a:solidFill>
                <a:latin typeface="宋体"/>
              </a:rPr>
              <a:t>）范进终于清醒过来，结局圆满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1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500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art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303228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4"/>
          <p:cNvGrpSpPr/>
          <p:nvPr/>
        </p:nvGrpSpPr>
        <p:grpSpPr>
          <a:xfrm>
            <a:off x="7020000" y="1052640"/>
            <a:ext cx="1368000" cy="1296000"/>
            <a:chOff x="7020000" y="1052640"/>
            <a:chExt cx="1368000" cy="1296000"/>
          </a:xfrm>
        </p:grpSpPr>
        <p:sp>
          <p:nvSpPr>
            <p:cNvPr id="60" name="Oval 5"/>
            <p:cNvSpPr/>
            <p:nvPr/>
          </p:nvSpPr>
          <p:spPr>
            <a:xfrm>
              <a:off x="7020000" y="1052640"/>
              <a:ext cx="1368000" cy="129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6"/>
            <p:cNvSpPr/>
            <p:nvPr/>
          </p:nvSpPr>
          <p:spPr>
            <a:xfrm>
              <a:off x="7150680" y="1052640"/>
              <a:ext cx="942480" cy="12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报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9640" y="1295280"/>
            <a:ext cx="836136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范进喜极而疯又是一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悲剧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理由是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从人物命运的角度说这是一场悲剧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把一生浪费在科举考场中，是范进的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生悲剧</a:t>
            </a: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把知识分子束缚在科举制度框架内，扼杀他的独立的人格和自由的灵魂，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国家民族的悲剧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286000" y="11430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范进中举前后状况的变化，反映了封建社会科举制度对读书人命运的主宰，以及在这种制度下人与人之间的势利关系和世态的炎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1828800" y="990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仿宋_GB2312"/>
              </a:rPr>
              <a:t>文章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0574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文通过对比描写范进中举前后社会、经济地位的变化，着重刻画范进中举癫狂的丑态及他周围各色人等趋炎附势的嘴脸，有力地抨击了封建制度对读书人心灵的荼毒，辛辣地讽刺了科举制度下人与人之间的关系，深刻地揭露了封建社会的黑暗现实和世态的炎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152280" y="2514600"/>
            <a:ext cx="99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14400" y="1371600"/>
            <a:ext cx="539640" cy="4648320"/>
          </a:xfrm>
          <a:custGeom>
            <a:avLst/>
            <a:gdLst>
              <a:gd name="textAreaLeft" fmla="*/ 344880 w 539640"/>
              <a:gd name="textAreaRight" fmla="*/ 540000 w 539640"/>
              <a:gd name="textAreaTop" fmla="*/ 120960 h 4648320"/>
              <a:gd name="textAreaBottom" fmla="*/ 4527360 h 4648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66"/>
                </a:lnTo>
                <a:cubicBezTo>
                  <a:pt x="10800" y="9966"/>
                  <a:pt x="5400" y="10866"/>
                  <a:pt x="0" y="10866"/>
                </a:cubicBezTo>
                <a:cubicBezTo>
                  <a:pt x="5400" y="10866"/>
                  <a:pt x="10800" y="11766"/>
                  <a:pt x="10800" y="12666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129528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范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371600" y="304812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胡屠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447920" y="4572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众乡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523880" y="571500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张乡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中举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92720" y="0"/>
            <a:ext cx="24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中举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90920" y="838080"/>
            <a:ext cx="287280" cy="144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048120" y="60948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家境贫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忍气吞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地位卑微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卑怯畏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105520" y="685800"/>
            <a:ext cx="187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中举发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地位顿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谦卑恭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75560" y="907920"/>
            <a:ext cx="217440" cy="1079640"/>
          </a:xfrm>
          <a:custGeom>
            <a:avLst/>
            <a:gdLst>
              <a:gd name="textAreaLeft" fmla="*/ 0 w 217440"/>
              <a:gd name="textAreaRight" fmla="*/ 78480 w 2174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1143000"/>
            <a:ext cx="1612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热衷功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590920" y="2666880"/>
            <a:ext cx="287280" cy="1440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2438280"/>
            <a:ext cx="201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随意辱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粗俗势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厉声训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蛮横倨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105520" y="2666880"/>
            <a:ext cx="187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千种夸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万般讨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阿谀奉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75560" y="2854440"/>
            <a:ext cx="217440" cy="1079280"/>
          </a:xfrm>
          <a:custGeom>
            <a:avLst/>
            <a:gdLst>
              <a:gd name="textAreaLeft" fmla="*/ 0 w 217440"/>
              <a:gd name="textAreaRight" fmla="*/ 78480 w 21744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569360" y="3125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趋炎附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495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4267080"/>
            <a:ext cx="20163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视而不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漠不关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267080"/>
            <a:ext cx="2016000" cy="10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奔走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热心帮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75560" y="4365720"/>
            <a:ext cx="144360" cy="863640"/>
          </a:xfrm>
          <a:custGeom>
            <a:avLst/>
            <a:gdLst>
              <a:gd name="textAreaLeft" fmla="*/ 0 w 144360"/>
              <a:gd name="textAreaRight" fmla="*/ 52200 w 144360"/>
              <a:gd name="textAreaTop" fmla="*/ 22320 h 863640"/>
              <a:gd name="textAreaBottom" fmla="*/ 84132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604280" y="4419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嫌贫爱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5562720"/>
            <a:ext cx="20872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登门拜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百般拉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5715000"/>
            <a:ext cx="141120" cy="685800"/>
          </a:xfrm>
          <a:custGeom>
            <a:avLst/>
            <a:gdLst>
              <a:gd name="textAreaLeft" fmla="*/ 0 w 141120"/>
              <a:gd name="textAreaRight" fmla="*/ 50760 w 1411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9360" y="5661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老奸巨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510360" y="57150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00"/>
                </a:solidFill>
                <a:latin typeface="Arial"/>
                <a:ea typeface="楷体_GB2312"/>
              </a:rPr>
              <a:t>不屑一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209520" cy="47242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048120" y="76320"/>
            <a:ext cx="3047760" cy="764280"/>
          </a:xfrm>
          <a:prstGeom prst="rect">
            <a:avLst/>
          </a:prstGeom>
          <a:solidFill>
            <a:srgbClr val="ccffcc">
              <a:alpha val="50000"/>
            </a:srgbClr>
          </a:solidFill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写 作 特 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645360" y="2286000"/>
            <a:ext cx="85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cc00ff"/>
                </a:solidFill>
                <a:latin typeface="Times New Roman"/>
              </a:rPr>
              <a:t>鲜明形象的人物语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3960" y="3429000"/>
            <a:ext cx="106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运用夸张、对比的手法进行讽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38080" y="4952880"/>
            <a:ext cx="7391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艺术特征：深刻揭露封建科举制度的腐朽以及对读书人的腐蚀和毒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5791320" y="609480"/>
            <a:ext cx="2838240" cy="227016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art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3" name="Group 4"/>
          <p:cNvGrpSpPr/>
          <p:nvPr/>
        </p:nvGrpSpPr>
        <p:grpSpPr>
          <a:xfrm>
            <a:off x="452160" y="836640"/>
            <a:ext cx="1815840" cy="1296360"/>
            <a:chOff x="452160" y="836640"/>
            <a:chExt cx="1815840" cy="1296360"/>
          </a:xfrm>
        </p:grpSpPr>
        <p:sp>
          <p:nvSpPr>
            <p:cNvPr id="64" name="Oval 5"/>
            <p:cNvSpPr/>
            <p:nvPr/>
          </p:nvSpPr>
          <p:spPr>
            <a:xfrm>
              <a:off x="900000" y="836640"/>
              <a:ext cx="1368000" cy="129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Text Box 6"/>
            <p:cNvSpPr/>
            <p:nvPr/>
          </p:nvSpPr>
          <p:spPr>
            <a:xfrm>
              <a:off x="452160" y="836640"/>
              <a:ext cx="1521000" cy="12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d60093"/>
                  </a:solidFill>
                  <a:latin typeface="Times New Roman"/>
                </a:rPr>
                <a:t>拖回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5"/>
          <p:cNvGrpSpPr/>
          <p:nvPr/>
        </p:nvGrpSpPr>
        <p:grpSpPr>
          <a:xfrm>
            <a:off x="5076720" y="981000"/>
            <a:ext cx="1510920" cy="1583640"/>
            <a:chOff x="5076720" y="981000"/>
            <a:chExt cx="1510920" cy="1583640"/>
          </a:xfrm>
        </p:grpSpPr>
        <p:sp>
          <p:nvSpPr>
            <p:cNvPr id="68" name="Oval 6"/>
            <p:cNvSpPr/>
            <p:nvPr/>
          </p:nvSpPr>
          <p:spPr>
            <a:xfrm>
              <a:off x="5076720" y="981000"/>
              <a:ext cx="1510920" cy="1407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7"/>
            <p:cNvSpPr/>
            <p:nvPr/>
          </p:nvSpPr>
          <p:spPr>
            <a:xfrm>
              <a:off x="5445720" y="981000"/>
              <a:ext cx="942480" cy="158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见喜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9"/>
          <p:cNvPicPr/>
          <p:nvPr/>
        </p:nvPicPr>
        <p:blipFill>
          <a:blip r:embed="rId1"/>
          <a:stretch/>
        </p:blipFill>
        <p:spPr>
          <a:xfrm>
            <a:off x="-757080" y="0"/>
            <a:ext cx="99010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8"/>
          <p:cNvGrpSpPr/>
          <p:nvPr/>
        </p:nvGrpSpPr>
        <p:grpSpPr>
          <a:xfrm>
            <a:off x="0" y="5013360"/>
            <a:ext cx="1547280" cy="1510560"/>
            <a:chOff x="0" y="5013360"/>
            <a:chExt cx="1547280" cy="1510560"/>
          </a:xfrm>
        </p:grpSpPr>
        <p:sp>
          <p:nvSpPr>
            <p:cNvPr id="72" name="Oval 9"/>
            <p:cNvSpPr/>
            <p:nvPr/>
          </p:nvSpPr>
          <p:spPr>
            <a:xfrm>
              <a:off x="0" y="5013360"/>
              <a:ext cx="1547280" cy="1342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0"/>
            <p:cNvSpPr/>
            <p:nvPr/>
          </p:nvSpPr>
          <p:spPr>
            <a:xfrm>
              <a:off x="271440" y="5013360"/>
              <a:ext cx="942480" cy="151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 u="sng">
                  <a:solidFill>
                    <a:srgbClr val="009999"/>
                  </a:solidFill>
                  <a:uFillTx/>
                  <a:latin typeface="Times New Roman"/>
                  <a:hlinkClick r:id="rId2" action="ppaction://hlinksldjump"/>
                </a:rPr>
                <a:t>喜昏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Image000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5" name="Group 5"/>
          <p:cNvGrpSpPr/>
          <p:nvPr/>
        </p:nvGrpSpPr>
        <p:grpSpPr>
          <a:xfrm>
            <a:off x="1850400" y="4005360"/>
            <a:ext cx="1784520" cy="1438920"/>
            <a:chOff x="1850400" y="4005360"/>
            <a:chExt cx="1784520" cy="1438920"/>
          </a:xfrm>
        </p:grpSpPr>
        <p:sp>
          <p:nvSpPr>
            <p:cNvPr id="76" name="Oval 6"/>
            <p:cNvSpPr/>
            <p:nvPr/>
          </p:nvSpPr>
          <p:spPr>
            <a:xfrm>
              <a:off x="2411280" y="4005360"/>
              <a:ext cx="1223640" cy="1438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7"/>
            <p:cNvSpPr/>
            <p:nvPr/>
          </p:nvSpPr>
          <p:spPr>
            <a:xfrm>
              <a:off x="1850400" y="4005360"/>
              <a:ext cx="1521000" cy="143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d60093"/>
                  </a:solidFill>
                  <a:latin typeface="Times New Roman"/>
                </a:rPr>
                <a:t>疯跑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8:30:21Z</dcterms:created>
  <dc:creator>china</dc:creator>
  <dc:description/>
  <dc:language>en-US</dc:language>
  <cp:lastModifiedBy>微软用户</cp:lastModifiedBy>
  <dcterms:modified xsi:type="dcterms:W3CDTF">2012-10-12T11:41:18Z</dcterms:modified>
  <cp:revision>26</cp:revision>
  <dc:subject/>
  <dc:title>幻灯片 1</dc:title>
</cp:coreProperties>
</file>