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gif" ContentType="image/gif"/>
  <Override PartName="/ppt/media/chimes.wav" ContentType="audio/x-wav"/>
  <Override PartName="/ppt/media/image5.png" ContentType="image/png"/>
  <Override PartName="/ppt/media/image8.jpeg" ContentType="image/jpe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AD5-754C-4FEA-8A81-0586ABDE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D88-AD62-42CC-A92F-83DF7FE0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3D5-7AFC-4B84-8991-D5876994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EC3-216E-4D85-AA0F-CB643361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691-CA50-4984-A648-D286F226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FE46-25FA-4651-97BE-2F2F81CF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8B82-5B60-4922-BB53-F3FDAEF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6D1D-3F2A-4BA2-9736-5B5E9DF5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0413-0235-454F-8833-D91100D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33E5-6031-447C-A389-C0DD6AF4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CC42-44D5-47C1-9831-39AE640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4A5-98AF-4FE8-851D-463F2591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5944-2338-4940-9E7B-858443D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2512-93E5-4B08-92C2-E995B422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D043-BFCE-4912-8097-823B0570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7E92-ED27-4D9F-954A-DA587217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EFBB-7821-452B-B9C3-63A62D1C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043A-BB7D-48A7-946D-13DE3095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22C6-61B3-4F98-9A38-F8074A8C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3841-0CDD-4D27-9055-4A9C96F4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5D8C-2902-4CBC-B607-284EC594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A018-967A-4360-B764-6EBA241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97A-888D-4477-BF03-EEDF5A61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9D69-B9CB-44A6-B9AC-F57C442C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FFF7-D89F-441C-A46B-885557B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3B8A-2361-4334-A374-E2E84F5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9BFA-17C6-49C0-94F5-8B75315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F219-32CF-48F5-BAF7-F04FD21C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D10A-3A00-4621-BC3E-2907EEF8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2E0C-E7C7-470D-B0E3-FCD1D5B2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2B5D-5695-40A0-9B58-F7C9B167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CDAF-D1ED-4F4D-8803-83B3DD31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4D94-FF9B-496C-9BD1-DEFDF495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A22-1B54-4C2B-8B9E-E23EB471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D12B-1F2E-4E5E-9CC2-0FBE1A4B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83D5-D867-4950-B5A2-AA3D996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8C2E-B1FF-4B55-9533-21101915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3ABE-5DA1-4F4B-8CEE-CDF6570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9F2A-08FA-41C1-944F-0CCC6BD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8467-5C65-45C2-A4D8-8E9EAE1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3172-C714-45E1-BF57-F5EB0C3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4B7F-E8A2-4B00-B850-2C3944CC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1E34-510C-4BF8-BB4F-B7B2DB06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D383-F129-49AF-A6DA-2B260EED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7FF-3D37-417C-8DF1-B6E3568F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F4BB-1B9F-4336-A3EC-25ADDEEC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03B6-BA5D-4804-96FE-41E84DEA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7EB1-7D11-4DF3-9C47-1D7676F2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9118-D376-4FAF-918E-888A0F22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C688-7A61-4973-9278-3C14FC0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F6B31-08DB-475D-8E03-3373509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F2525-2D6C-435D-BAA1-47B8A43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12FE-6E6C-442B-B2D9-F77BA8C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64886-47BB-49B4-8F5C-38ABFC02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8515B-D4F0-4DD0-BB69-02B0F019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587-6520-44B6-9491-00C22D0D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7E87-2FFC-4388-B1AF-C027D699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3B168-2FED-4F7E-9CEA-82C6D28F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F90C2-3204-4A3C-BAA3-9CBF18F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FD1E-B0CD-420A-8D55-58F88BF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993E5-91D5-4641-A2CD-7B795E3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8610-B9D2-4931-A622-B4524405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4EAFF-AB22-4347-9EE0-F3EECCC3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91F7-0CAD-4EFF-847B-49933E47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AFA4A-8600-4F3C-998D-83BBAE5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42DDA-E29B-4619-9DD5-359B24A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71C-5202-40C2-B8B1-73CB61A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1FF6-71CF-4BEE-972C-48520E72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997C-767E-4746-9564-728A4081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6B89-8D60-4585-AB12-578821B3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68CEE-5B1A-4A7B-9054-C6230A6F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0983-DF01-4273-BD92-33F8AA07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143C6-444F-4D45-9BAA-986314DB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87B91-CC84-4014-9617-AF42B227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C2CB-EDCF-4067-94B2-89EE647E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B10D-31EF-447A-8F10-837FA02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C330-A68D-4502-B059-05BCA2E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FEC-CE02-4F8D-8660-3E98A996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A7C4-0555-456A-9A7B-634CE607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F12F6-A1DA-49E0-901B-CCB60C1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49CA-3B80-46E5-8C09-22F31258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1E90B-698B-4BED-A113-CBA0D037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A84B2-B0C1-409B-8D8F-E1AE4D2A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A873-6E26-41FD-9893-433CE282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6A313-8595-441F-A649-A031F950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20020-1FC6-4425-B829-DE3B65C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B9D33-7CC1-4019-86A9-1E6D5EE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C1AEA-B2EF-4176-AAF2-83199F6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891-F82E-48A3-B565-8F8CA8E2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F1B5E-CBAB-4A21-9484-28469995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720AB-591A-459F-95B6-0F8E757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DA846-BD27-4DB5-98DD-DA479CB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1343E-E200-42B4-9940-2FAE2F0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BC1A-8F00-4704-B3AF-9EDB7716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0A2CE-B842-44F7-8781-53E71379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47961-15A2-4C3F-B27F-5F16E34D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B5F2-F853-410C-920D-5CC949D26F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0C67-7915-488E-BCE0-2C989EEEF3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3A74-9CCE-423D-8A8A-AF1057934D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7CF6-167C-4C1C-81ED-25940C2117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5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8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1F39-CF8A-4C44-9D74-69E3A4B889C9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5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8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3298-7659-4E79-AED6-7472363E6026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0F1A-D1C2-45B0-A042-A9F2D8F4DD8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EFF7-05F5-4162-8545-5BBF18FC2B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%5CProgram%20Files%5CTencent%5CQQ%5CUsers%5C2323189867%5CFileRecv%5C3" TargetMode="External"/><Relationship Id="rId3" Type="http://schemas.openxmlformats.org/officeDocument/2006/relationships/hyperlink" Target="269,3,&#24187;&#28783;&#29255; 3" TargetMode="External"/><Relationship Id="rId4" Type="http://schemas.openxmlformats.org/officeDocument/2006/relationships/hyperlink" Target="256,6,&#24187;&#28783;&#29255; 6" TargetMode="External"/><Relationship Id="rId5" Type="http://schemas.openxmlformats.org/officeDocument/2006/relationships/hyperlink" Target="256,6,&#24187;&#28783;&#29255; 6" TargetMode="External"/><Relationship Id="rId6" Type="http://schemas.openxmlformats.org/officeDocument/2006/relationships/hyperlink" Target="256,6,&#24187;&#28783;&#29255; 6" TargetMode="External"/><Relationship Id="rId7" Type="http://schemas.openxmlformats.org/officeDocument/2006/relationships/hyperlink" Target="260,7,&#24187;&#28783;&#29255; 7" TargetMode="External"/><Relationship Id="rId8" Type="http://schemas.openxmlformats.org/officeDocument/2006/relationships/hyperlink" Target="256,8,&#24187;&#28783;&#29255; 8" TargetMode="External"/><Relationship Id="rId9" Type="http://schemas.openxmlformats.org/officeDocument/2006/relationships/hyperlink" Target="256,8,&#24187;&#28783;&#29255; 8" TargetMode="External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050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班主任：李殿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时间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-360" y="533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二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班家长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1558800"/>
            <a:ext cx="9074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家校共育，你我同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培养孩子良好的习惯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Dotum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95280" y="7650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  有些题目孩子不懂，家长要耐心地解释题目的意思，鼓励孩子不懂就问。但是家长最好不要直接把答案告诉他，我想只要你把题目解释清楚孩子是能够自己解答的，我发现成绩不够理想的孩子，往往依赖性比较强，不愿独立思考，课堂上要么等老师讲解，要么转来转去偷看。这样的孩子在家里做作业也肯定很拖拉。家长要注意正确引导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  为孩子创设祥和安临的学习环境，鼓励孩子静心学习，当孩子做作业时，不要在他身边大声讲话，争论，看电视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我们了解到很多家长为了孩子安静地学习，在孩子做作业时从来不看电视，等孩子睡了再看，我很赞同这样的做法，只要孩子能听到电视的声音，是无法认真思考的，如果他在抄写，他能记住这几个字吗；如果他在做数学题，我想再简单的题也会做错的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?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79280" y="395640"/>
            <a:ext cx="7704360" cy="762120"/>
          </a:xfrm>
          <a:prstGeom prst="rect">
            <a:avLst/>
          </a:prstGeom>
          <a:solidFill>
            <a:srgbClr val="0075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50920" y="-31428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11280" y="1197000"/>
            <a:ext cx="8076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给孩子树立自信、鼓励点滴进步，在很大程度上，学生的学习积极性靠外部驱动，尤其低段孩子，他们更需要得到大人的赏识，有一位家长做得很好，只要有亲戚朋友来家做客，就把孩子画的画拿来给大家欣赏，客人们都把孩子夸奖了一番，后来孩子越画越好，取得了不少成绩。有家长注重孩子学习环境的布置，有专门的书架，放上孩子的书，让孩子能向别人展示自己的书，还有日记本需要准备专门的，以便能很快展示自己的作品。在别人面前，我们应该夸奖自己的孩子，孩子犯错误我们要关起门来耐心教育，给孩子面子。尤其在学习上，任何一个孩子都愿意取得好成绩，只是因为方法不当或是努力不够而暂时落后，教师和家长要为他们树立自信、指导方法，花时间帮助他克服困难、解决问题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多与孩子交流，多关注孩子的学习，检查孩子的作业，询问孩子在校的学习。抽读、抽背、听写、考题等。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79280" y="395640"/>
            <a:ext cx="7704360" cy="762120"/>
          </a:xfrm>
          <a:prstGeom prst="rect">
            <a:avLst/>
          </a:prstGeom>
          <a:solidFill>
            <a:srgbClr val="0075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280" y="306828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743120" y="1130400"/>
            <a:ext cx="614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5640" y="981000"/>
            <a:ext cx="7632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孩子学习特点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监管孩子的学习情况，直到自觉性的形成，这是前期是较为重要。开始主要依赖校迅通，逐渐过渡到孩子慢慢能够独立记作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孩子书面作业有错必须改正，背颂背写的内容家长监督到位，坚持口算卡训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深切希望，孩子在学习上，能够在爸爸妈妈配合下齐抓共管，课堂教学占五成因素，还要排除孩子因为注意力不集中，不会听课效果打折等，所以知识在课后巩固消除差异显得更加重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需家长配合的工作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紧跟老师的进度，真正关注孩子的学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每天要记得提醒孩子带课本和学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每天亲子交流，多问问学校表现，我比较重视孩子阅读习惯的培养。每天看十五分钟的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我在教学中当然会向你反映出孩子身上存在的问题，想办法目的是改进，不是告状，家长大可不必有心理压力，我们是成人尚会有错的时候，何况是那么小的孩子，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楷体_GB2312"/>
              </a:rPr>
              <a:t>我们之间本来就是合作者，彼此信任、相互交流对学生全面进步很有帮助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我以前教过一个小孩子，他比较顽皮，偷过同学的东西，上课玩东西不听讲，我打了几次电话给家长，后来他爸看到我还找地方躲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注重生活中自理能力的培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851120" cy="23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按时上学，不迟到，有事请假，纪律意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讲究卫生，不乱扔垃圾。文明有礼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作业一般情况下要求签名。特别是家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总结起来三句话：思想上继续引导孩子；行为上继续辅导孩子；学习上要帮助孩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260280"/>
            <a:ext cx="8136000" cy="59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81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送给家长的话（与家长共勉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分靠教，七分靠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分靠学，七分靠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分靠批评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七分靠表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天花一定的时间与孩子交流玩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周留一点和孩子一起看书，看电视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月腾一点和孩子外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身教者从，以言教者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是孩子最好的老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可以不是天才，但你可以成为天才的父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24000" y="1916280"/>
            <a:ext cx="55450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284640"/>
            <a:ext cx="41767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1916280"/>
            <a:ext cx="64087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7775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隶书"/>
                <a:ea typeface="隶书"/>
              </a:rPr>
              <a:t>再次感谢各位家长对我们工作的支持，望在新学期共创佳绩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7596360" y="551664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611280" y="4005000"/>
            <a:ext cx="8229960" cy="1368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3333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11280" y="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>
            <a:hlinkClick r:id="rId2"/>
          </p:cNvPr>
          <p:cNvSpPr/>
          <p:nvPr/>
        </p:nvSpPr>
        <p:spPr>
          <a:xfrm>
            <a:off x="1403280" y="1125360"/>
            <a:ext cx="4800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1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家长会召开的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03280" y="1916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2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关于作息时间、课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03280" y="2565360"/>
            <a:ext cx="4343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3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关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于作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3284640"/>
            <a:ext cx="4648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4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关于卫生方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03280" y="4005360"/>
            <a:ext cx="4953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</a:rPr>
              <a:t>5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给家长的一些建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6237360"/>
            <a:ext cx="513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11280" y="1052640"/>
            <a:ext cx="51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是连结家庭教育与学校教育的纽带，在家庭与学校之间架起了一座金色的桥梁，使学校教育与家庭教育有机地结合起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53280" y="6019920"/>
            <a:ext cx="990720" cy="838080"/>
          </a:xfrm>
          <a:custGeom>
            <a:avLst/>
            <a:gdLst>
              <a:gd name="textAreaLeft" fmla="*/ 52200 w 990720"/>
              <a:gd name="textAreaRight" fmla="*/ 938520 w 99072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82" y="1350"/>
                </a:lnTo>
                <a:lnTo>
                  <a:pt x="1350" y="135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82" y="20250"/>
                </a:lnTo>
                <a:lnTo>
                  <a:pt x="24182" y="135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182" y="2025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532" h="21600">
                <a:moveTo>
                  <a:pt x="5722" y="3756"/>
                </a:moveTo>
                <a:lnTo>
                  <a:pt x="19810" y="10800"/>
                </a:lnTo>
                <a:lnTo>
                  <a:pt x="5722" y="1784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476280"/>
            <a:ext cx="914400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温馨提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校开始早读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要求：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上午、下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式上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上学要及时到校，不迟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放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为不影响学校教学放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下午到校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 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要提前到校接学生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下午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放学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注意安全！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关于作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回家作业一定有的，但量不会很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天都要给孩子检查后再签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一是有无完成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二是有无正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-5544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404280"/>
            <a:ext cx="807696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有的孩子发下作业从不看看自己做的怎么样，直接就往下做。其实孩子的错误正是他正是他知识上的缺陷，正是应加强的地方，请家长在检查时翻翻以前的作业，如有错误一定要他及时改正、弄明白，才会学的更扎实。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   有的孩子依赖性很强，一有不明白的就想问，这时家长一定要帮孩子养成好的习惯。不会的可以先看看书、查查资料自己独立解决，确实不会才请教家长。培养孩子遇事动脑筋的好习惯。对于拖拖拉拉的孩子来说家长就需要让孩子限时写作业，必须在规定的时间内完成。这需要家长狠下心来管理才能收到好的效果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33720" y="1905120"/>
            <a:ext cx="25905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洗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剪指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刷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勤换衣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个人卫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72400" y="5562720"/>
            <a:ext cx="990720" cy="838080"/>
          </a:xfrm>
          <a:custGeom>
            <a:avLst/>
            <a:gdLst>
              <a:gd name="textAreaLeft" fmla="*/ 52200 w 990720"/>
              <a:gd name="textAreaRight" fmla="*/ 938520 w 99072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82" y="1350"/>
                </a:lnTo>
                <a:lnTo>
                  <a:pt x="1350" y="135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82" y="20250"/>
                </a:lnTo>
                <a:lnTo>
                  <a:pt x="24182" y="135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182" y="2025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532" h="21600">
                <a:moveTo>
                  <a:pt x="5722" y="3756"/>
                </a:moveTo>
                <a:lnTo>
                  <a:pt x="19810" y="10800"/>
                </a:lnTo>
                <a:lnTo>
                  <a:pt x="5722" y="17844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80880" y="1628640"/>
            <a:ext cx="807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态度。要求学习专心、认真、细心，勇于克服学习中的困难，书写要工整，清洁、准确，不能虎头蛇尾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作业。要保质保量，规定放学必须先写作业，自己检查，确任无误后家长在检查，培养孩子的责任心。家长辅导一定要有耐心，不要间断，成绩的提高才有保证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技能。如想问题，做作业时要准确、迅速，在质中求快。语言表达要清楚、生动。手工操作、口头背诵要求熟练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 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抓能力。主要是观察力、注意力、记忆力、想象力与思维力，在课余时间要鼓励孩子学会观察与思考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   孩子年龄小，培养的开始应带有一定的强制性，即具体要求、具体督促、具体检查、有的家长要求一大堆，却不认真检查落实，时间长了，孩子摸透了家长的脾气，进而钻了家长得空子。只有对孩子具体要求，认真检查，才能使孩子感觉家长要求的严肃性，进而要约束自己把要求化为行动。实践证明，对孩子的学习只能坚持正确要求，好的学习习惯定能够养成，学习成绩也能得到提高。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476280"/>
            <a:ext cx="7704360" cy="1434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个建议仅供参考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39640" y="134136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、  发现问题及时与老师联系，尤其是孩子思想上的问题，有时家长说的话孩子不听，孩子一般比较听老师的话，所以可以跟老师说说，让老师跟孩子说，效果还是比较好的。作为家长不要怕麻烦老师，教育孩子是我们大家的职责。但是，有些孩子比较调皮，对老师的话表面很听的，而背着老师想干什么就干什么，所以，需要我们经常联系，多交流孩子的情况，双方互相配合，让小问题消灭于萌芽状态，不要等问题严重了再找老师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、 督促孩子认真完成回家作业，动作迅速，对书写质量严格要求。很多孩子的回家作业比课堂作业要差很多，因为不认真，所以错误多，而从培养孩子良好的学习习惯是非常重要的。习惯包括认真、及时作业，作业完成后能认真检查，遇到问题爱动脑筋、写字姿势正确，不睡懒觉，自己的事情自己做等等。有时也可以用一些策略来培养孩子的好习惯。例如：孩子喜欢晚上看动画片，就给他约定：今天你做作业时没有错题，你就可以看动画片，超过两个错，动画片不能看。这就是说，达不到这个标准的时候，一定要有限制，要惩罚，这个惩罚一定要剥夺他最喜欢的事情，这个时候不能心疼孩子，他达到这个标准之后，你就的奖励他最喜欢的事情，孩子通过这样的调整，慢慢地就习惯了，习惯培养的奥秘，可以总结出一句话：培养好习惯用加法，改正坏习惯用减法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189000"/>
            <a:ext cx="7704000" cy="1434600"/>
          </a:xfrm>
          <a:prstGeom prst="rect">
            <a:avLst/>
          </a:prstGeom>
          <a:solidFill>
            <a:srgbClr val="0075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1:53:05Z</dcterms:created>
  <dc:creator>12</dc:creator>
  <dc:description/>
  <dc:language>en-US</dc:language>
  <cp:lastModifiedBy>微软用户</cp:lastModifiedBy>
  <cp:lastPrinted>1899-12-30T00:00:00Z</cp:lastPrinted>
  <dcterms:modified xsi:type="dcterms:W3CDTF">2013-02-28T12:31:59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