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66BD-FF70-403D-8EB5-0E7D93CACE42}" type="slidenum">
              <a:rPr b="1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1A00-80A6-4389-9D3D-D5B704A0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69C-BF89-4CEB-946B-342C019A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E89E-341B-4154-A083-7128D534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B483-5896-428A-8903-FE197A2A3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D744-FD43-4358-9E44-811B5BD4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471D-67FE-4C5E-ADDB-2D5392FD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8BBF-B458-472D-A9AE-C708C8CE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FAE6-BDDD-473B-98C4-5E7B04A7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F3FB-5F77-4A1D-A072-AA3CDCF1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BA6B-3BD9-44AF-A53D-45043F9F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35D5-7801-4467-B119-23236423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253-C4A6-444D-A089-080AE948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04EF-1C5C-451C-AA88-0B58FCA5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6837-33C8-45D3-BD8C-9B856210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FD55-1C99-425C-BD93-0E2120EF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8D61-2E6E-45AE-A1B0-7E12169B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278D-FF5B-44E2-98BD-F136E86D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926-A8CA-4D45-A110-3C802E6E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AFFA-0D93-4164-AEDB-A6090EB9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A598-D12A-4E44-84D4-A5CDAD0D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1E71-53D2-4465-A0A9-002DD4B7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1E70-63FE-4057-96EC-200C7086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03B-F6AC-49CA-AED0-2347CFC7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2ADD-582C-41E1-B516-9B1C4DDD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A8B3-2BA3-4CDE-93C2-2427B29CA8F2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5CD9-2DDE-48A0-8B92-0D3E21174762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3348000" y="443700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——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0701</a:t>
            </a: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服装班主题班会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835280" y="1700280"/>
            <a:ext cx="5029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仿宋_GB2312"/>
              </a:rPr>
              <a:t>团结友爱共创和谐班级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68360" y="40464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484360" y="4076640"/>
            <a:ext cx="6659640" cy="27813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90720" y="914400"/>
            <a:ext cx="72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、要有不为小利益斤斤计较的思想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19051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做事时是否有这样一种思想，觉得自己可能会吃亏，结果为自己的一点小利而损害的班集体的利益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68360" y="40464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484360" y="4076640"/>
            <a:ext cx="6659640" cy="27813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556000" y="765000"/>
            <a:ext cx="28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11970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、要时刻把集体的利益放在第一位的思想 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24382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要有主动“吃亏”的意识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84360" y="2421000"/>
            <a:ext cx="540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1" lang="zh-CN" sz="4400" spc="-1" strike="noStrike">
                <a:solidFill>
                  <a:srgbClr val="40458c"/>
                </a:solidFill>
                <a:latin typeface="Tahoma"/>
              </a:rPr>
              <a:t>诗歌朗诵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7833"/>
                </a:solidFill>
                <a:latin typeface="Tahoma"/>
                <a:ea typeface="黑体"/>
              </a:rPr>
              <a:t>团结起来到明天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400560" y="241308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29760" y="2249640"/>
            <a:ext cx="550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58c"/>
                </a:solidFill>
                <a:latin typeface="Tahoma"/>
              </a:rPr>
              <a:t>舞蹈</a:t>
            </a:r>
            <a:r>
              <a:rPr b="1" lang="zh-CN" sz="96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1" lang="zh-CN" sz="9600" spc="-1" strike="noStrike">
                <a:solidFill>
                  <a:srgbClr val="40458c"/>
                </a:solidFill>
                <a:latin typeface="Tahoma"/>
              </a:rPr>
              <a:t>七十二变</a:t>
            </a:r>
            <a:endParaRPr b="0" lang="en-US" sz="9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84360" y="4076640"/>
            <a:ext cx="6659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-39672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295280" y="0"/>
            <a:ext cx="740268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结束语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我们生活在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世纪，是充满竞争的世纪，同时更是一个需要广泛联系和密切合作的世纪。没有合作意识的人是不可能适应新世纪的社会的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124080" y="234936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969fff"/>
                </a:solidFill>
                <a:latin typeface="文鼎中行书简"/>
                <a:ea typeface="文鼎中行书简"/>
              </a:rPr>
              <a:t>さよらら！</a:t>
            </a:r>
            <a:endParaRPr b="0" lang="en-US" sz="8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132000" y="7029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3348000" y="1341360"/>
            <a:ext cx="413388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Thank you!</a:t>
            </a:r>
            <a:endParaRPr b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79280" y="2421000"/>
            <a:ext cx="86868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58c"/>
                </a:solidFill>
                <a:latin typeface="Tahoma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一支竹篙哟轻轻被折断，十双筷子哟牢牢抱成团，一加十，十加百，百加千千万，你加我，我加你大家心相边，同舟共济海让路，号子喊嘛浪靠边，波涛在后岸在前……”</a:t>
            </a:r>
            <a:r>
              <a:rPr b="0" lang="zh-CN" sz="2800" spc="-1" strike="noStrike">
                <a:solidFill>
                  <a:srgbClr val="b7c1eb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b7c1eb"/>
                </a:solidFill>
                <a:latin typeface="Tahoma"/>
              </a:rPr>
              <a:t>       </a:t>
            </a:r>
            <a:endParaRPr b="0" lang="en-US" sz="9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2286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ff"/>
                </a:solidFill>
                <a:latin typeface="Tahoma"/>
              </a:rPr>
              <a:t>导入——</a:t>
            </a:r>
            <a:r>
              <a:rPr b="1" lang="zh-CN" sz="3600" spc="-1" strike="noStrike">
                <a:solidFill>
                  <a:srgbClr val="ff99ff"/>
                </a:solidFill>
                <a:latin typeface="Tahoma"/>
              </a:rPr>
              <a:t>(</a:t>
            </a:r>
            <a:r>
              <a:rPr b="1" lang="zh-CN" sz="3600" spc="-1" strike="noStrike">
                <a:solidFill>
                  <a:srgbClr val="ff99ff"/>
                </a:solidFill>
                <a:latin typeface="Tahoma"/>
              </a:rPr>
              <a:t>大家一起唱</a:t>
            </a:r>
            <a:r>
              <a:rPr b="1" lang="zh-CN" sz="3600" spc="-1" strike="noStrike">
                <a:solidFill>
                  <a:srgbClr val="ff99ff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340000" y="36450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小品</a:t>
            </a: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团结就是力量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43640" y="0"/>
            <a:ext cx="2305080" cy="1584360"/>
          </a:xfrm>
          <a:prstGeom prst="cloudCallout">
            <a:avLst>
              <a:gd name="adj1" fmla="val -68458"/>
              <a:gd name="adj2" fmla="val 60421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26400" y="105264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40458c"/>
                </a:solidFill>
                <a:latin typeface="Tahoma"/>
              </a:rPr>
              <a:t>生活感悟</a:t>
            </a:r>
            <a:endParaRPr b="0" lang="en-US" sz="9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508720" y="4343400"/>
            <a:ext cx="2620800" cy="21477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474920" y="333360"/>
            <a:ext cx="4392360" cy="1224000"/>
          </a:xfrm>
          <a:custGeom>
            <a:avLst/>
            <a:gdLst>
              <a:gd name="textAreaLeft" fmla="*/ 0 w 4392360"/>
              <a:gd name="textAreaRight" fmla="*/ 4392720 w 4392360"/>
              <a:gd name="textAreaTop" fmla="*/ 158400 h 1224000"/>
              <a:gd name="textAreaBottom" fmla="*/ 10656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54936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58c"/>
                </a:solidFill>
                <a:latin typeface="Tahoma"/>
                <a:ea typeface="黑体"/>
              </a:rPr>
              <a:t>七嘴八舌大家谈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937400">
            <a:off x="6073920" y="541440"/>
            <a:ext cx="1008000" cy="1441440"/>
          </a:xfrm>
          <a:prstGeom prst="wedgeEllipseCallout">
            <a:avLst>
              <a:gd name="adj1" fmla="val -89074"/>
              <a:gd name="adj2" fmla="val 57592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539280" y="2421000"/>
            <a:ext cx="828036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40458c"/>
                </a:solidFill>
                <a:latin typeface="Tahoma"/>
              </a:rPr>
              <a:t>在一个班集体中如何体现自己的集体意识？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042920" y="62064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ahoma"/>
              </a:rPr>
              <a:t>集体力量</a:t>
            </a:r>
            <a:r>
              <a:rPr b="1" lang="zh-CN" sz="4000" spc="-1" strike="noStrike">
                <a:solidFill>
                  <a:srgbClr val="003399"/>
                </a:solidFill>
                <a:latin typeface="Tahoma"/>
              </a:rPr>
              <a:t>=</a:t>
            </a:r>
            <a:r>
              <a:rPr b="1" lang="zh-CN" sz="4000" spc="-1" strike="noStrike">
                <a:solidFill>
                  <a:srgbClr val="003399"/>
                </a:solidFill>
                <a:latin typeface="Tahoma"/>
              </a:rPr>
              <a:t>个人力量之和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76993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1" lang="zh-CN" sz="4000" spc="-1" strike="noStrike">
                <a:solidFill>
                  <a:srgbClr val="40458c"/>
                </a:solidFill>
                <a:latin typeface="Tahoma"/>
              </a:rPr>
              <a:t>不要只强调个人，更多要考虑集体……” 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724360" y="3284640"/>
            <a:ext cx="2621160" cy="3349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68360" y="40464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484360" y="4076640"/>
            <a:ext cx="6659640" cy="27813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403280" y="1052640"/>
            <a:ext cx="60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40458c"/>
                </a:solidFill>
                <a:latin typeface="Tahoma"/>
              </a:rPr>
              <a:t>、要有一个健康的出发点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22096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每做一件事都要首先考虑是否正确，是不会影响班集体的荣誉？当可能会对集体造成影响时又该如何做？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1:22:18Z</dcterms:created>
  <dc:creator>AAAAA</dc:creator>
  <dc:description/>
  <dc:language>en-US</dc:language>
  <cp:lastModifiedBy>qinwei2</cp:lastModifiedBy>
  <dcterms:modified xsi:type="dcterms:W3CDTF">2007-11-13T11:38:43Z</dcterms:modified>
  <cp:revision>336</cp:revision>
  <dc:subject/>
  <dc:title>没有幻灯片标题</dc:title>
</cp:coreProperties>
</file>