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4828-A468-4DE5-92BB-AEB84D9F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F40A-3078-4AD7-B360-004A38FE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4CD6-06C4-49EA-8A8F-DE65F1DD2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0CA3-C53D-4BA5-A80D-E52953DE6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7CEC-13E6-4CE7-A50A-731E379CE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5BB9-62B5-461C-A8DF-5EAAD2F6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9FFB-805D-4F26-972E-5E6BD139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19DE-06DA-4DF9-B10F-65F4CBDD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D741-9E5A-4E62-BB5A-ECA1EA0B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B712-941C-4EE7-8097-2C1868F1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6340D-CC00-44D4-8030-F97E77DF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4A01-3304-4244-84EF-FED15B3A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A8A3-4C8B-4479-92E4-B16BB88A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BED6-6BE9-461E-8648-CE6D25A0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92B3-E80B-447D-B5E5-CC32214B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1B5C-E8A2-4685-9F58-ECBB31953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7978-C14F-48B0-AAB4-187BFDEF1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F798-C4B4-4895-90D2-80AD4BF5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59FC-D1BA-45F6-96D1-F9AEA8AE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DB57-6216-4838-B123-E7D8082E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16A6-424B-4B20-9C78-3C9EE1F6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3A87-CB70-4348-9B4E-E3C26BE1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1461-2E40-4A2B-89F1-CD810659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1A2A-914B-4EA4-92CB-6E8F8354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4EB7-BD43-486E-B61F-CC0EC5CA925E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7D24-586E-4072-A53B-FCDCB846E705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3141360"/>
            <a:ext cx="8229600" cy="29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增加目的性与计划性，提升成功的机会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484360" y="549360"/>
            <a:ext cx="4176720" cy="1079280"/>
          </a:xfrm>
          <a:custGeom>
            <a:avLst/>
            <a:gdLst>
              <a:gd name="textAreaLeft" fmla="*/ 1044000 w 4176720"/>
              <a:gd name="textAreaRight" fmla="*/ 3132720 w 4176720"/>
              <a:gd name="textAreaTop" fmla="*/ 12276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15" stAng="16200000" swAng="5400000"/>
                <a:lnTo>
                  <a:pt x="8100" y="2459"/>
                </a:lnTo>
                <a:lnTo>
                  <a:pt x="13500" y="2459"/>
                </a:lnTo>
                <a:lnTo>
                  <a:pt x="13500" y="615"/>
                </a:lnTo>
                <a:arcTo wR="675" hR="615" stAng="10800000" swAng="5400000"/>
                <a:lnTo>
                  <a:pt x="21600" y="0"/>
                </a:lnTo>
                <a:lnTo>
                  <a:pt x="18900" y="9571"/>
                </a:lnTo>
                <a:lnTo>
                  <a:pt x="21600" y="19141"/>
                </a:lnTo>
                <a:lnTo>
                  <a:pt x="16200" y="19141"/>
                </a:lnTo>
                <a:lnTo>
                  <a:pt x="16200" y="20985"/>
                </a:lnTo>
                <a:arcTo wR="675" hR="615" stAng="0" swAng="5400000"/>
                <a:lnTo>
                  <a:pt x="6075" y="21600"/>
                </a:lnTo>
                <a:arcTo wR="675" hR="615" stAng="5400000" swAng="5400000"/>
                <a:lnTo>
                  <a:pt x="5400" y="19141"/>
                </a:lnTo>
                <a:lnTo>
                  <a:pt x="0" y="19141"/>
                </a:lnTo>
                <a:lnTo>
                  <a:pt x="2700" y="9571"/>
                </a:lnTo>
                <a:close/>
              </a:path>
              <a:path fill="none" w="21600" h="21600">
                <a:moveTo>
                  <a:pt x="8100" y="615"/>
                </a:moveTo>
                <a:arcTo wR="675" hR="615" stAng="0" swAng="5400000"/>
                <a:lnTo>
                  <a:pt x="6075" y="1230"/>
                </a:lnTo>
                <a:arcTo wR="675" hR="615" stAng="16200000" swAng="-5400000"/>
                <a:arcTo wR="675" hR="615" stAng="10800000" swAng="-5400000"/>
                <a:lnTo>
                  <a:pt x="8100" y="2459"/>
                </a:lnTo>
              </a:path>
              <a:path fill="none" w="21600" h="21600">
                <a:moveTo>
                  <a:pt x="13500" y="615"/>
                </a:moveTo>
                <a:arcTo wR="675" hR="615" stAng="10800000" swAng="-5400000"/>
                <a:lnTo>
                  <a:pt x="15525" y="1230"/>
                </a:lnTo>
                <a:arcTo wR="675" hR="615" stAng="16200000" swAng="5400000"/>
                <a:arcTo wR="675" hR="615" stAng="0" swAng="5400000"/>
                <a:lnTo>
                  <a:pt x="13500" y="2459"/>
                </a:lnTo>
              </a:path>
              <a:path fill="none" w="21600" h="21600">
                <a:moveTo>
                  <a:pt x="5400" y="1844"/>
                </a:moveTo>
                <a:lnTo>
                  <a:pt x="5400" y="19141"/>
                </a:lnTo>
              </a:path>
              <a:path fill="none" w="21600" h="21600">
                <a:moveTo>
                  <a:pt x="16200" y="1844"/>
                </a:moveTo>
                <a:lnTo>
                  <a:pt x="16200" y="19141"/>
                </a:lnTo>
              </a:path>
            </a:pathLst>
          </a:cu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80000" y="69228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cc00"/>
                </a:solidFill>
                <a:latin typeface="Arial"/>
                <a:ea typeface="楷体_GB2312"/>
              </a:rPr>
              <a:t>前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332000" y="4221000"/>
            <a:ext cx="6768720" cy="609840"/>
            <a:chOff x="1332000" y="4221000"/>
            <a:chExt cx="6768720" cy="609840"/>
          </a:xfrm>
        </p:grpSpPr>
        <p:sp>
          <p:nvSpPr>
            <p:cNvPr id="154" name=""/>
            <p:cNvSpPr/>
            <p:nvPr/>
          </p:nvSpPr>
          <p:spPr>
            <a:xfrm>
              <a:off x="1917720" y="4525920"/>
              <a:ext cx="329760" cy="0"/>
            </a:xfrm>
            <a:prstGeom prst="line">
              <a:avLst/>
            </a:prstGeom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35600" y="4221000"/>
              <a:ext cx="5865120" cy="6098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32000" y="4221000"/>
              <a:ext cx="656280" cy="606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 Narrow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692360" y="5300640"/>
            <a:ext cx="6766920" cy="609480"/>
            <a:chOff x="1692360" y="5300640"/>
            <a:chExt cx="6766920" cy="609480"/>
          </a:xfrm>
        </p:grpSpPr>
        <p:sp>
          <p:nvSpPr>
            <p:cNvPr id="158" name=""/>
            <p:cNvSpPr/>
            <p:nvPr/>
          </p:nvSpPr>
          <p:spPr>
            <a:xfrm>
              <a:off x="2277720" y="5605200"/>
              <a:ext cx="329760" cy="0"/>
            </a:xfrm>
            <a:prstGeom prst="line">
              <a:avLst/>
            </a:prstGeom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95600" y="5300640"/>
              <a:ext cx="5863680" cy="6094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92360" y="5300640"/>
              <a:ext cx="655920" cy="6062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 Narrow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042920" y="3141720"/>
            <a:ext cx="6256440" cy="609480"/>
            <a:chOff x="1042920" y="3141720"/>
            <a:chExt cx="6256440" cy="609480"/>
          </a:xfrm>
        </p:grpSpPr>
        <p:sp>
          <p:nvSpPr>
            <p:cNvPr id="162" name=""/>
            <p:cNvSpPr/>
            <p:nvPr/>
          </p:nvSpPr>
          <p:spPr>
            <a:xfrm>
              <a:off x="1584360" y="3446280"/>
              <a:ext cx="304920" cy="0"/>
            </a:xfrm>
            <a:prstGeom prst="line">
              <a:avLst/>
            </a:prstGeom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78120" y="3141720"/>
              <a:ext cx="5421240" cy="6094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042920" y="3141720"/>
              <a:ext cx="606600" cy="6062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 Narrow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124000" y="321300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发掘自我潜能，增强个人实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 rot="10800000">
            <a:off x="2771280" y="530028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提高应对人力需求市场变化的竞争能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40000" y="429264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增加目的性与计划性，提升成功的机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213372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00"/>
                </a:solidFill>
                <a:latin typeface="Arial"/>
              </a:rPr>
              <a:t>职业规划的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250920" y="26028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e9ce8"/>
                </a:solidFill>
                <a:latin typeface="Arial"/>
              </a:rPr>
              <a:t>实施评估与反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0920" y="1125360"/>
            <a:ext cx="853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cccc00"/>
                </a:solidFill>
                <a:latin typeface="Arial"/>
              </a:rPr>
              <a:t>纵观规划，我看到了自己哪些做到了，哪些存在欠缺，哪些对我的家人产生了影响，哪些对我的老师朋友产生了问题，在这之中我可以很好的改正，也可以很好的学习，改正自己那些不好的毛病，学习别人做的比自己好的部分。在这其中我也可以看出自己在哪些方面取得了成功，自己成功的原因是什么。也可以知道自己以后该往哪个方面以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cc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cccc00"/>
                </a:solidFill>
                <a:latin typeface="Arial"/>
              </a:rPr>
              <a:t>看着自己的规划，自己得到了很多。同时我也看到了自己家人的人脸上的笑容，和我老师同学的赞誉，想着自己的成功，我很是激动，同时我自己也得想着我的规划，它对我也起到了很大的作用，它是我的指南针，是我的方向盘，没有它我的路是没有这么容易走下来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cc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cccc00"/>
                </a:solidFill>
                <a:latin typeface="Arial"/>
              </a:rPr>
              <a:t>拿着自己的规划，想想其中的种种事情，我得出一个人还是要有着自己的规划，那样的话自己在前进的路上才不容易迷路</a:t>
            </a:r>
            <a:r>
              <a:rPr b="1" lang="zh-CN" sz="2000" spc="-1" strike="noStrike">
                <a:solidFill>
                  <a:srgbClr val="cccc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268360" y="2205000"/>
            <a:ext cx="42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755640" y="76500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24000" y="1125360"/>
            <a:ext cx="6840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66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40c1d"/>
                </a:solidFill>
                <a:latin typeface="Arial"/>
              </a:rPr>
              <a:t>梦想是一种责任，当每个人用自己微薄的力量在黑暗中发出一束光时，黎明的来临就会更近一些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b913ed"/>
                </a:solidFill>
                <a:latin typeface="Arial"/>
              </a:rPr>
              <a:t>谢谢大家的聆听！</a:t>
            </a:r>
            <a:r>
              <a:rPr b="1" lang="zh-CN" sz="3200" spc="-1" strike="noStrike">
                <a:solidFill>
                  <a:srgbClr val="b913ed"/>
                </a:solidFill>
                <a:latin typeface="Wingdings"/>
                <a:ea typeface="Wingdings"/>
              </a:rPr>
              <a:t>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40c1d"/>
                </a:solidFill>
                <a:latin typeface="Arial"/>
              </a:rPr>
              <a:t>从现在开始让我们一起为梦想努力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3"/>
          <p:cNvSpPr/>
          <p:nvPr/>
        </p:nvSpPr>
        <p:spPr>
          <a:xfrm>
            <a:off x="250920" y="0"/>
            <a:ext cx="6095880" cy="6858000"/>
          </a:xfrm>
          <a:prstGeom prst="rightArrow">
            <a:avLst>
              <a:gd name="adj1" fmla="val 79306"/>
              <a:gd name="adj2" fmla="val 24769"/>
            </a:avLst>
          </a:prstGeom>
          <a:gradFill rotWithShape="0">
            <a:gsLst>
              <a:gs pos="0">
                <a:srgbClr val="002570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179280" y="0"/>
            <a:ext cx="417672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ccc00"/>
              </a:gs>
              <a:gs pos="100000">
                <a:srgbClr val="52551a"/>
              </a:gs>
            </a:gsLst>
            <a:lin ang="5400000"/>
          </a:gradFill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、明确职业方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179280" y="5867280"/>
            <a:ext cx="417672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7e9ce8"/>
              </a:gs>
              <a:gs pos="100000">
                <a:srgbClr val="1d523b"/>
              </a:gs>
            </a:gsLst>
            <a:lin ang="5400000"/>
          </a:gradFill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七、实施、评估与反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179280" y="3860640"/>
            <a:ext cx="417672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9999"/>
              </a:gs>
              <a:gs pos="100000">
                <a:srgbClr val="6a4016"/>
              </a:gs>
            </a:gsLst>
            <a:lin ang="5400000"/>
          </a:gradFill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五、设定职业生涯发展路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594360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8"/>
          <p:cNvSpPr/>
          <p:nvPr/>
        </p:nvSpPr>
        <p:spPr>
          <a:xfrm>
            <a:off x="179280" y="981000"/>
            <a:ext cx="417672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9999"/>
              </a:gs>
              <a:gs pos="100000">
                <a:srgbClr val="6a4016"/>
              </a:gs>
            </a:gsLst>
            <a:lin ang="5400000"/>
          </a:gradFill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二、自我评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6227640" y="22050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0066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330066"/>
                </a:solidFill>
                <a:latin typeface="Arial"/>
              </a:rPr>
              <a:t>职业生涯规划的基本步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1"/>
          <p:cNvSpPr/>
          <p:nvPr/>
        </p:nvSpPr>
        <p:spPr>
          <a:xfrm>
            <a:off x="179280" y="4869000"/>
            <a:ext cx="417672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ccc00"/>
              </a:gs>
              <a:gs pos="100000">
                <a:srgbClr val="52551a"/>
              </a:gs>
            </a:gsLst>
            <a:lin ang="5400000"/>
          </a:gradFill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六、备选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2"/>
          <p:cNvSpPr/>
          <p:nvPr/>
        </p:nvSpPr>
        <p:spPr>
          <a:xfrm>
            <a:off x="179280" y="1989000"/>
            <a:ext cx="417672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7e9ce8"/>
              </a:gs>
              <a:gs pos="100000">
                <a:srgbClr val="1d523b"/>
              </a:gs>
            </a:gsLst>
            <a:lin ang="5400000"/>
          </a:gradFill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、环境评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5"/>
          <p:cNvSpPr/>
          <p:nvPr/>
        </p:nvSpPr>
        <p:spPr>
          <a:xfrm>
            <a:off x="179280" y="2852640"/>
            <a:ext cx="417672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ccc00"/>
              </a:gs>
              <a:gs pos="100000">
                <a:srgbClr val="52551a"/>
              </a:gs>
            </a:gsLst>
            <a:lin ang="5400000"/>
          </a:gradFill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四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SWO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析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227640" y="0"/>
            <a:ext cx="29163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971640" y="90792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楷体_GB2312"/>
              </a:rPr>
              <a:t>职业目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03280" y="242100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楷体_GB2312"/>
              </a:rPr>
              <a:t>优秀的中学语文教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32000" y="4292640"/>
            <a:ext cx="6119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文学院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级汉语言文学一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76160" y="907920"/>
            <a:ext cx="91620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89" idx="1"/>
            <a:endCxn id="189" idx="0"/>
          </p:cNvCxnSpPr>
          <p:nvPr/>
        </p:nvCxnSpPr>
        <p:spPr>
          <a:xfrm flipH="1" rot="10800000">
            <a:off x="-360" y="-720"/>
            <a:ext cx="4572720" cy="3429720"/>
          </a:xfrm>
          <a:prstGeom prst="bentConnector4">
            <a:avLst>
              <a:gd name="adj1" fmla="val -4999"/>
              <a:gd name="adj2" fmla="val 1066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-181080" y="260280"/>
            <a:ext cx="1079640" cy="5473800"/>
          </a:xfrm>
          <a:prstGeom prst="verticalScroll">
            <a:avLst>
              <a:gd name="adj" fmla="val 125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-544320" y="1125360"/>
            <a:ext cx="12776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自   我   评   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4360" y="836640"/>
            <a:ext cx="7488000" cy="863640"/>
          </a:xfrm>
          <a:custGeom>
            <a:avLst/>
            <a:gdLst>
              <a:gd name="textAreaLeft" fmla="*/ 1872000 w 7488000"/>
              <a:gd name="textAreaRight" fmla="*/ 5616000 w 7488000"/>
              <a:gd name="textAreaTop" fmla="*/ 10800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4360" y="2133720"/>
            <a:ext cx="7488000" cy="863640"/>
          </a:xfrm>
          <a:custGeom>
            <a:avLst/>
            <a:gdLst>
              <a:gd name="textAreaLeft" fmla="*/ 1872000 w 7488000"/>
              <a:gd name="textAreaRight" fmla="*/ 5616000 w 7488000"/>
              <a:gd name="textAreaTop" fmla="*/ 10800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5640" y="3357720"/>
            <a:ext cx="7488360" cy="863280"/>
          </a:xfrm>
          <a:custGeom>
            <a:avLst/>
            <a:gdLst>
              <a:gd name="textAreaLeft" fmla="*/ 1872000 w 7488360"/>
              <a:gd name="textAreaRight" fmla="*/ 5616360 w 7488360"/>
              <a:gd name="textAreaTop" fmla="*/ 10764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4360" y="4581360"/>
            <a:ext cx="7488000" cy="863640"/>
          </a:xfrm>
          <a:custGeom>
            <a:avLst/>
            <a:gdLst>
              <a:gd name="textAreaLeft" fmla="*/ 1872000 w 7488000"/>
              <a:gd name="textAreaRight" fmla="*/ 5616000 w 7488000"/>
              <a:gd name="textAreaTop" fmla="*/ 10800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47640" y="90792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ff"/>
                </a:solidFill>
                <a:latin typeface="Arial"/>
              </a:rPr>
              <a:t>兴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47640" y="220500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ff"/>
                </a:solidFill>
                <a:latin typeface="Arial"/>
              </a:rPr>
              <a:t>性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19280" y="3284640"/>
            <a:ext cx="8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ff"/>
                </a:solidFill>
                <a:latin typeface="Arial"/>
              </a:rPr>
              <a:t>学习成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47640" y="458136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ff"/>
                </a:solidFill>
                <a:latin typeface="Arial"/>
              </a:rPr>
              <a:t>价值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981000"/>
            <a:ext cx="47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ff"/>
                </a:solidFill>
                <a:latin typeface="Arial"/>
                <a:ea typeface="楷体_GB2312"/>
              </a:rPr>
              <a:t>看书、看电影、交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56000" y="213372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ff"/>
                </a:solidFill>
                <a:latin typeface="Arial"/>
                <a:ea typeface="楷体_GB2312"/>
              </a:rPr>
              <a:t>乐观、细心、有耐心、有点内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00360" y="3573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ff"/>
                </a:solidFill>
                <a:latin typeface="Arial"/>
                <a:ea typeface="楷体_GB2312"/>
              </a:rPr>
              <a:t>掌握了基本文学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771640" y="479736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ff"/>
                </a:solidFill>
                <a:latin typeface="Arial"/>
                <a:ea typeface="楷体_GB2312"/>
              </a:rPr>
              <a:t>天生我材必有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3"/>
          <p:cNvSpPr/>
          <p:nvPr/>
        </p:nvSpPr>
        <p:spPr>
          <a:xfrm>
            <a:off x="693720" y="1822320"/>
            <a:ext cx="2163960" cy="271620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716200"/>
              <a:gd name="textAreaBottom" fmla="*/ 2605320 h 2716200"/>
            </a:gdLst>
            <a:ahLst/>
            <a:rect l="textAreaLeft" t="textAreaTop" r="textAreaRight" b="textAreaBottom"/>
            <a:pathLst>
              <a:path w="21600" h="27111">
                <a:moveTo>
                  <a:pt x="3782" y="0"/>
                </a:moveTo>
                <a:arcTo wR="3782" hR="3782" stAng="16200000" swAng="-5400000"/>
                <a:lnTo>
                  <a:pt x="0" y="23329"/>
                </a:lnTo>
                <a:arcTo wR="3782" hR="3782" stAng="10800000" swAng="-5400000"/>
                <a:lnTo>
                  <a:pt x="17818" y="27111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809640" y="1878120"/>
            <a:ext cx="2098800" cy="266544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665440"/>
              <a:gd name="textAreaBottom" fmla="*/ 2563200 h 2665440"/>
            </a:gdLst>
            <a:ahLst/>
            <a:rect l="textAreaLeft" t="textAreaTop" r="textAreaRight" b="textAreaBottom"/>
            <a:pathLst>
              <a:path w="21600" h="27431">
                <a:moveTo>
                  <a:pt x="3600" y="0"/>
                </a:moveTo>
                <a:arcTo wR="3600" hR="3600" stAng="16200000" swAng="-5400000"/>
                <a:lnTo>
                  <a:pt x="0" y="23831"/>
                </a:lnTo>
                <a:arcTo wR="3600" hR="3600" stAng="10800000" swAng="-5400000"/>
                <a:lnTo>
                  <a:pt x="18000" y="274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5"/>
          <p:cNvSpPr/>
          <p:nvPr/>
        </p:nvSpPr>
        <p:spPr>
          <a:xfrm>
            <a:off x="744480" y="3894120"/>
            <a:ext cx="2070000" cy="674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738360" y="1878120"/>
            <a:ext cx="2070000" cy="6728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7"/>
          <p:cNvSpPr/>
          <p:nvPr/>
        </p:nvSpPr>
        <p:spPr>
          <a:xfrm>
            <a:off x="700200" y="4680000"/>
            <a:ext cx="2163600" cy="75240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808080"/>
              </a:gs>
              <a:gs pos="100000">
                <a:srgbClr val="002a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8"/>
          <p:cNvSpPr/>
          <p:nvPr/>
        </p:nvSpPr>
        <p:spPr>
          <a:xfrm>
            <a:off x="770040" y="4714920"/>
            <a:ext cx="2070000" cy="668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2a7f6"/>
              </a:gs>
              <a:gs pos="100000">
                <a:srgbClr val="002a7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家庭环境因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9"/>
          <p:cNvGrpSpPr/>
          <p:nvPr/>
        </p:nvGrpSpPr>
        <p:grpSpPr>
          <a:xfrm>
            <a:off x="1460520" y="1507680"/>
            <a:ext cx="592200" cy="622440"/>
            <a:chOff x="1460520" y="1507680"/>
            <a:chExt cx="592200" cy="622440"/>
          </a:xfrm>
        </p:grpSpPr>
        <p:sp>
          <p:nvSpPr>
            <p:cNvPr id="217" name="Oval 10"/>
            <p:cNvSpPr/>
            <p:nvPr/>
          </p:nvSpPr>
          <p:spPr>
            <a:xfrm rot="16200000">
              <a:off x="1476000" y="1571400"/>
              <a:ext cx="573120" cy="48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1"/>
            <p:cNvSpPr/>
            <p:nvPr/>
          </p:nvSpPr>
          <p:spPr>
            <a:xfrm rot="16200000">
              <a:off x="1445400" y="1522800"/>
              <a:ext cx="622440" cy="592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12"/>
            <p:cNvSpPr/>
            <p:nvPr/>
          </p:nvSpPr>
          <p:spPr>
            <a:xfrm rot="16200000">
              <a:off x="1448640" y="1529640"/>
              <a:ext cx="608040" cy="5778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13"/>
            <p:cNvSpPr/>
            <p:nvPr/>
          </p:nvSpPr>
          <p:spPr>
            <a:xfrm rot="16200000">
              <a:off x="1449720" y="1557000"/>
              <a:ext cx="578160" cy="538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14"/>
            <p:cNvSpPr/>
            <p:nvPr/>
          </p:nvSpPr>
          <p:spPr>
            <a:xfrm rot="16200000">
              <a:off x="1446120" y="1605960"/>
              <a:ext cx="513720" cy="438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AutoShape 17"/>
          <p:cNvSpPr/>
          <p:nvPr/>
        </p:nvSpPr>
        <p:spPr>
          <a:xfrm>
            <a:off x="3056040" y="1822320"/>
            <a:ext cx="2163600" cy="271620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716200"/>
              <a:gd name="textAreaBottom" fmla="*/ 2605320 h 2716200"/>
            </a:gdLst>
            <a:ahLst/>
            <a:rect l="textAreaLeft" t="textAreaTop" r="textAreaRight" b="textAreaBottom"/>
            <a:pathLst>
              <a:path w="21600" h="27116">
                <a:moveTo>
                  <a:pt x="3782" y="0"/>
                </a:moveTo>
                <a:arcTo wR="3782" hR="3782" stAng="16200000" swAng="-5400000"/>
                <a:lnTo>
                  <a:pt x="0" y="23334"/>
                </a:lnTo>
                <a:arcTo wR="3782" hR="3782" stAng="10800000" swAng="-5400000"/>
                <a:lnTo>
                  <a:pt x="17818" y="27116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b034"/>
              </a:gs>
              <a:gs pos="100000">
                <a:srgbClr val="3f8b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8"/>
          <p:cNvSpPr/>
          <p:nvPr/>
        </p:nvSpPr>
        <p:spPr>
          <a:xfrm>
            <a:off x="3089160" y="1830240"/>
            <a:ext cx="2098800" cy="266544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665440"/>
              <a:gd name="textAreaBottom" fmla="*/ 2563200 h 2665440"/>
            </a:gdLst>
            <a:ahLst/>
            <a:rect l="textAreaLeft" t="textAreaTop" r="textAreaRight" b="textAreaBottom"/>
            <a:pathLst>
              <a:path w="21600" h="27431">
                <a:moveTo>
                  <a:pt x="3600" y="0"/>
                </a:moveTo>
                <a:arcTo wR="3600" hR="3600" stAng="16200000" swAng="-5400000"/>
                <a:lnTo>
                  <a:pt x="0" y="23831"/>
                </a:lnTo>
                <a:arcTo wR="3600" hR="3600" stAng="10800000" swAng="-5400000"/>
                <a:lnTo>
                  <a:pt x="18000" y="274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9"/>
          <p:cNvSpPr/>
          <p:nvPr/>
        </p:nvSpPr>
        <p:spPr>
          <a:xfrm>
            <a:off x="3106800" y="3894120"/>
            <a:ext cx="2070000" cy="674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0"/>
          <p:cNvSpPr/>
          <p:nvPr/>
        </p:nvSpPr>
        <p:spPr>
          <a:xfrm>
            <a:off x="3106800" y="1852560"/>
            <a:ext cx="2070000" cy="673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21"/>
          <p:cNvSpPr/>
          <p:nvPr/>
        </p:nvSpPr>
        <p:spPr>
          <a:xfrm>
            <a:off x="3801960" y="1579680"/>
            <a:ext cx="641520" cy="480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22"/>
          <p:cNvSpPr/>
          <p:nvPr/>
        </p:nvSpPr>
        <p:spPr>
          <a:xfrm>
            <a:off x="3807000" y="1519200"/>
            <a:ext cx="622080" cy="592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23"/>
          <p:cNvSpPr/>
          <p:nvPr/>
        </p:nvSpPr>
        <p:spPr>
          <a:xfrm>
            <a:off x="3814920" y="1522440"/>
            <a:ext cx="607680" cy="57780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24"/>
          <p:cNvSpPr/>
          <p:nvPr/>
        </p:nvSpPr>
        <p:spPr>
          <a:xfrm>
            <a:off x="3821040" y="1528920"/>
            <a:ext cx="577800" cy="5378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25"/>
          <p:cNvSpPr/>
          <p:nvPr/>
        </p:nvSpPr>
        <p:spPr>
          <a:xfrm rot="16200000">
            <a:off x="3856680" y="1543680"/>
            <a:ext cx="512640" cy="438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7"/>
          <p:cNvSpPr/>
          <p:nvPr/>
        </p:nvSpPr>
        <p:spPr>
          <a:xfrm>
            <a:off x="3132000" y="227664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8"/>
          <p:cNvSpPr/>
          <p:nvPr/>
        </p:nvSpPr>
        <p:spPr>
          <a:xfrm>
            <a:off x="3059280" y="4680000"/>
            <a:ext cx="2163600" cy="75240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669900"/>
              </a:gs>
              <a:gs pos="100000">
                <a:srgbClr val="002f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29"/>
          <p:cNvSpPr/>
          <p:nvPr/>
        </p:nvSpPr>
        <p:spPr>
          <a:xfrm>
            <a:off x="3132000" y="4724280"/>
            <a:ext cx="2070360" cy="735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002f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教育环境因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0"/>
          <p:cNvSpPr/>
          <p:nvPr/>
        </p:nvSpPr>
        <p:spPr>
          <a:xfrm>
            <a:off x="5418000" y="1822320"/>
            <a:ext cx="2163960" cy="271620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716200"/>
              <a:gd name="textAreaBottom" fmla="*/ 2605320 h 2716200"/>
            </a:gdLst>
            <a:ahLst/>
            <a:rect l="textAreaLeft" t="textAreaTop" r="textAreaRight" b="textAreaBottom"/>
            <a:pathLst>
              <a:path w="21600" h="27111">
                <a:moveTo>
                  <a:pt x="3782" y="0"/>
                </a:moveTo>
                <a:arcTo wR="3782" hR="3782" stAng="16200000" swAng="-5400000"/>
                <a:lnTo>
                  <a:pt x="0" y="23329"/>
                </a:lnTo>
                <a:arcTo wR="3782" hR="3782" stAng="10800000" swAng="-5400000"/>
                <a:lnTo>
                  <a:pt x="17818" y="27111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b59f43"/>
              </a:gs>
              <a:gs pos="100000">
                <a:srgbClr val="8f884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31"/>
          <p:cNvSpPr/>
          <p:nvPr/>
        </p:nvSpPr>
        <p:spPr>
          <a:xfrm>
            <a:off x="5451480" y="1830240"/>
            <a:ext cx="2098800" cy="266544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665440"/>
              <a:gd name="textAreaBottom" fmla="*/ 2563200 h 2665440"/>
            </a:gdLst>
            <a:ahLst/>
            <a:rect l="textAreaLeft" t="textAreaTop" r="textAreaRight" b="textAreaBottom"/>
            <a:pathLst>
              <a:path w="21600" h="27431">
                <a:moveTo>
                  <a:pt x="3600" y="0"/>
                </a:moveTo>
                <a:arcTo wR="3600" hR="3600" stAng="16200000" swAng="-5400000"/>
                <a:lnTo>
                  <a:pt x="0" y="23831"/>
                </a:lnTo>
                <a:arcTo wR="3600" hR="3600" stAng="10800000" swAng="-5400000"/>
                <a:lnTo>
                  <a:pt x="18000" y="274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32"/>
          <p:cNvSpPr/>
          <p:nvPr/>
        </p:nvSpPr>
        <p:spPr>
          <a:xfrm>
            <a:off x="5468760" y="3894120"/>
            <a:ext cx="2070360" cy="674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33"/>
          <p:cNvSpPr/>
          <p:nvPr/>
        </p:nvSpPr>
        <p:spPr>
          <a:xfrm>
            <a:off x="5468760" y="1852560"/>
            <a:ext cx="2070360" cy="673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34"/>
          <p:cNvGrpSpPr/>
          <p:nvPr/>
        </p:nvGrpSpPr>
        <p:grpSpPr>
          <a:xfrm>
            <a:off x="6156360" y="1468440"/>
            <a:ext cx="592200" cy="642600"/>
            <a:chOff x="6156360" y="1468440"/>
            <a:chExt cx="592200" cy="642600"/>
          </a:xfrm>
        </p:grpSpPr>
        <p:sp>
          <p:nvSpPr>
            <p:cNvPr id="239" name="Oval 35"/>
            <p:cNvSpPr/>
            <p:nvPr/>
          </p:nvSpPr>
          <p:spPr>
            <a:xfrm rot="16200000">
              <a:off x="6134040" y="1549080"/>
              <a:ext cx="642600" cy="4813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36"/>
            <p:cNvSpPr/>
            <p:nvPr/>
          </p:nvSpPr>
          <p:spPr>
            <a:xfrm rot="16200000">
              <a:off x="6141240" y="1499040"/>
              <a:ext cx="622440" cy="592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37"/>
            <p:cNvSpPr/>
            <p:nvPr/>
          </p:nvSpPr>
          <p:spPr>
            <a:xfrm rot="16200000">
              <a:off x="6144480" y="1505880"/>
              <a:ext cx="608040" cy="5778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38"/>
            <p:cNvSpPr/>
            <p:nvPr/>
          </p:nvSpPr>
          <p:spPr>
            <a:xfrm rot="16200000">
              <a:off x="6145560" y="1533240"/>
              <a:ext cx="578160" cy="5389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39"/>
            <p:cNvSpPr/>
            <p:nvPr/>
          </p:nvSpPr>
          <p:spPr>
            <a:xfrm rot="16200000">
              <a:off x="6141960" y="1582200"/>
              <a:ext cx="513720" cy="438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AutoShape 42"/>
          <p:cNvSpPr/>
          <p:nvPr/>
        </p:nvSpPr>
        <p:spPr>
          <a:xfrm>
            <a:off x="5411880" y="4680000"/>
            <a:ext cx="2163600" cy="75240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a39446"/>
              </a:gs>
              <a:gs pos="100000">
                <a:srgbClr val="00329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3"/>
          <p:cNvSpPr/>
          <p:nvPr/>
        </p:nvSpPr>
        <p:spPr>
          <a:xfrm>
            <a:off x="5456160" y="4703760"/>
            <a:ext cx="2070000" cy="735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00329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社会环境因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0920" y="47628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9999"/>
                </a:solidFill>
                <a:latin typeface="Arial"/>
                <a:ea typeface="楷体_GB2312"/>
              </a:rPr>
              <a:t>环境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6877080" y="0"/>
            <a:ext cx="2266920" cy="17002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826920" y="20606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出生在农村了解农村教育状况，爸妈对我的教育，家庭支持我的志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2133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学专业为师范类，符合教师专业，阜阳师范学院汉语言文学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508720" y="1989000"/>
            <a:ext cx="20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教师为恒星职业，工作环境待遇提高，社会对教育的重视，需要大量优秀教师，但竞争激烈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2"/>
          <p:cNvSpPr/>
          <p:nvPr/>
        </p:nvSpPr>
        <p:spPr>
          <a:xfrm>
            <a:off x="250920" y="2602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920" indent="-10159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   </a:t>
            </a: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SWOT </a:t>
            </a: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法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d8d8ec"/>
              </a:gs>
              <a:gs pos="100000">
                <a:srgbClr val="1b4d69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7318440" y="2708280"/>
            <a:ext cx="106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代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h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威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 rot="3418800">
            <a:off x="507600" y="1589040"/>
            <a:ext cx="924120" cy="100332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100000">
                <a:srgbClr val="52551a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611280" y="177336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 rot="3418800">
            <a:off x="2739600" y="2525760"/>
            <a:ext cx="924120" cy="1003320"/>
          </a:xfrm>
          <a:prstGeom prst="rect">
            <a:avLst/>
          </a:prstGeom>
          <a:gradFill rotWithShape="0">
            <a:gsLst>
              <a:gs pos="0">
                <a:srgbClr val="669999"/>
              </a:gs>
              <a:gs pos="100000">
                <a:srgbClr val="6a401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2843280" y="2708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9"/>
          <p:cNvSpPr/>
          <p:nvPr/>
        </p:nvSpPr>
        <p:spPr>
          <a:xfrm rot="3418800">
            <a:off x="5042880" y="3317760"/>
            <a:ext cx="923760" cy="1003320"/>
          </a:xfrm>
          <a:prstGeom prst="rect">
            <a:avLst/>
          </a:prstGeom>
          <a:gradFill rotWithShape="0">
            <a:gsLst>
              <a:gs pos="0">
                <a:srgbClr val="7e9ce8"/>
              </a:gs>
              <a:gs pos="100000">
                <a:srgbClr val="1d523b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5221800" y="3500280"/>
            <a:ext cx="5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7423200" y="166356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2"/>
          <p:cNvSpPr/>
          <p:nvPr/>
        </p:nvSpPr>
        <p:spPr>
          <a:xfrm>
            <a:off x="1763640" y="2133720"/>
            <a:ext cx="1152720" cy="5032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3"/>
          <p:cNvSpPr/>
          <p:nvPr/>
        </p:nvSpPr>
        <p:spPr>
          <a:xfrm>
            <a:off x="3564000" y="2708280"/>
            <a:ext cx="1728720" cy="6494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4"/>
          <p:cNvSpPr/>
          <p:nvPr/>
        </p:nvSpPr>
        <p:spPr>
          <a:xfrm flipV="1">
            <a:off x="6012000" y="2387160"/>
            <a:ext cx="1189080" cy="111276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6"/>
          <p:cNvSpPr/>
          <p:nvPr/>
        </p:nvSpPr>
        <p:spPr>
          <a:xfrm>
            <a:off x="2413800" y="3716280"/>
            <a:ext cx="160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代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eak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弱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7"/>
          <p:cNvSpPr/>
          <p:nvPr/>
        </p:nvSpPr>
        <p:spPr>
          <a:xfrm>
            <a:off x="4718520" y="4437000"/>
            <a:ext cx="175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代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pport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机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8"/>
          <p:cNvSpPr/>
          <p:nvPr/>
        </p:nvSpPr>
        <p:spPr>
          <a:xfrm>
            <a:off x="252720" y="2708280"/>
            <a:ext cx="13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代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优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4292640"/>
            <a:ext cx="20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33"/>
                </a:solidFill>
                <a:latin typeface="Arial"/>
              </a:rPr>
              <a:t>受过高等教育，参加过未教赛，善于与学生交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268360" y="522936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99ff"/>
                </a:solidFill>
                <a:latin typeface="Arial"/>
              </a:rPr>
              <a:t>实践经验不足，有点情绪化，做事有点犹豫，信息不畅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356000" y="595008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00"/>
                </a:solidFill>
                <a:latin typeface="Arial"/>
              </a:rPr>
              <a:t>社会重视教育，国家的鼓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732720" y="4292640"/>
            <a:ext cx="24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14ec"/>
                </a:solidFill>
                <a:latin typeface="Arial"/>
              </a:rPr>
              <a:t>大学生就业严峻，竞争激烈，现在学生太过娇嫩，不易管教，未来政策充满变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708360" y="260280"/>
            <a:ext cx="2554200" cy="19162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2843280" y="4797360"/>
            <a:ext cx="216000" cy="504720"/>
          </a:xfrm>
          <a:prstGeom prst="downArrow">
            <a:avLst>
              <a:gd name="adj1" fmla="val 50000"/>
              <a:gd name="adj2" fmla="val 5841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55640" y="3860640"/>
            <a:ext cx="216000" cy="505080"/>
          </a:xfrm>
          <a:prstGeom prst="downArrow">
            <a:avLst>
              <a:gd name="adj1" fmla="val 50000"/>
              <a:gd name="adj2" fmla="val 5845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67640" y="3860640"/>
            <a:ext cx="216000" cy="505080"/>
          </a:xfrm>
          <a:prstGeom prst="downArrow">
            <a:avLst>
              <a:gd name="adj1" fmla="val 50000"/>
              <a:gd name="adj2" fmla="val 5845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076720" y="5516640"/>
            <a:ext cx="216000" cy="504720"/>
          </a:xfrm>
          <a:prstGeom prst="downArrow">
            <a:avLst>
              <a:gd name="adj1" fmla="val 50000"/>
              <a:gd name="adj2" fmla="val 5841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619280" y="1268280"/>
            <a:ext cx="1871640" cy="935280"/>
          </a:xfrm>
          <a:custGeom>
            <a:avLst/>
            <a:gdLst>
              <a:gd name="textAreaLeft" fmla="*/ 234000 w 1871640"/>
              <a:gd name="textAreaRight" fmla="*/ 1638000 w 1871640"/>
              <a:gd name="textAreaTop" fmla="*/ 233640 h 935280"/>
              <a:gd name="textAreaBottom" fmla="*/ 701640 h 935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19280" y="3860640"/>
            <a:ext cx="1728720" cy="935280"/>
          </a:xfrm>
          <a:custGeom>
            <a:avLst/>
            <a:gdLst>
              <a:gd name="textAreaLeft" fmla="*/ 216000 w 1728720"/>
              <a:gd name="textAreaRight" fmla="*/ 1512720 w 1728720"/>
              <a:gd name="textAreaTop" fmla="*/ 233640 h 935280"/>
              <a:gd name="textAreaBottom" fmla="*/ 701640 h 935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780000" y="1483560"/>
            <a:ext cx="55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0066"/>
                </a:solidFill>
                <a:latin typeface="Arial"/>
              </a:rPr>
              <a:t>多与人沟通习得交流技巧，做好心理准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456000" y="76500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0066"/>
                </a:solidFill>
                <a:latin typeface="Arial"/>
              </a:rPr>
              <a:t>利用寒暑假带家教、向老师请教等获得教学经验。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356000" y="2276640"/>
            <a:ext cx="35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427640" y="220500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564000" y="2205000"/>
            <a:ext cx="53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0066"/>
                </a:solidFill>
                <a:latin typeface="Arial"/>
              </a:rPr>
              <a:t>利用网络、报刊、人际关系等了解教育动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2000" y="836640"/>
            <a:ext cx="360360" cy="216000"/>
          </a:xfrm>
          <a:custGeom>
            <a:avLst/>
            <a:gdLst>
              <a:gd name="textAreaLeft" fmla="*/ 90000 w 360360"/>
              <a:gd name="textAreaRight" fmla="*/ 270360 w 360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76720" y="2276640"/>
            <a:ext cx="360360" cy="288720"/>
          </a:xfrm>
          <a:custGeom>
            <a:avLst/>
            <a:gdLst>
              <a:gd name="textAreaLeft" fmla="*/ 90000 w 360360"/>
              <a:gd name="textAreaRight" fmla="*/ 270360 w 36036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492360" y="1557360"/>
            <a:ext cx="360360" cy="216000"/>
          </a:xfrm>
          <a:custGeom>
            <a:avLst/>
            <a:gdLst>
              <a:gd name="textAreaLeft" fmla="*/ 90000 w 360360"/>
              <a:gd name="textAreaRight" fmla="*/ 270360 w 360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348000" y="350028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0066"/>
                </a:solidFill>
                <a:latin typeface="Arial"/>
              </a:rPr>
              <a:t>增强竞争力，保持乐观心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635280" y="414972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0066"/>
                </a:solidFill>
                <a:latin typeface="Arial"/>
              </a:rPr>
              <a:t>多学些教育技巧，寓教于乐，同时增加威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419640" y="4941720"/>
            <a:ext cx="63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0066"/>
                </a:solidFill>
                <a:latin typeface="Arial"/>
              </a:rPr>
              <a:t>多涉及些别的领域，适时选择其他行业，应对政策变化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2000" y="5013360"/>
            <a:ext cx="360360" cy="216000"/>
          </a:xfrm>
          <a:custGeom>
            <a:avLst/>
            <a:gdLst>
              <a:gd name="textAreaLeft" fmla="*/ 90000 w 360360"/>
              <a:gd name="textAreaRight" fmla="*/ 270360 w 360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348000" y="4292640"/>
            <a:ext cx="360360" cy="216000"/>
          </a:xfrm>
          <a:custGeom>
            <a:avLst/>
            <a:gdLst>
              <a:gd name="textAreaLeft" fmla="*/ 90000 w 360360"/>
              <a:gd name="textAreaRight" fmla="*/ 270360 w 360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059280" y="3573360"/>
            <a:ext cx="361800" cy="216000"/>
          </a:xfrm>
          <a:custGeom>
            <a:avLst/>
            <a:gdLst>
              <a:gd name="textAreaLeft" fmla="*/ 90360 w 361800"/>
              <a:gd name="textAreaRight" fmla="*/ 271440 w 3618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11280" y="26028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应对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0920" y="14842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应对弱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0920" y="4076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应对威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2"/>
          <p:cNvSpPr/>
          <p:nvPr/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目标的分类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33"/>
          <p:cNvSpPr/>
          <p:nvPr/>
        </p:nvSpPr>
        <p:spPr>
          <a:xfrm>
            <a:off x="990720" y="1676520"/>
            <a:ext cx="5943600" cy="4038480"/>
          </a:xfrm>
          <a:prstGeom prst="pie">
            <a:avLst/>
          </a:prstGeom>
          <a:gradFill rotWithShape="0">
            <a:gsLst>
              <a:gs pos="0">
                <a:srgbClr val="669999"/>
              </a:gs>
              <a:gs pos="100000">
                <a:srgbClr val="7e9ce8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62"/>
          <p:cNvSpPr/>
          <p:nvPr/>
        </p:nvSpPr>
        <p:spPr>
          <a:xfrm>
            <a:off x="4211640" y="1890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短期目标为一至二年，中期目标一般为三至五年，长期目标一般分为五至十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4"/>
          <p:cNvSpPr/>
          <p:nvPr/>
        </p:nvSpPr>
        <p:spPr>
          <a:xfrm rot="20876400">
            <a:off x="2986200" y="47307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65"/>
          <p:cNvSpPr/>
          <p:nvPr/>
        </p:nvSpPr>
        <p:spPr>
          <a:xfrm>
            <a:off x="2917800" y="3511440"/>
            <a:ext cx="1704960" cy="17067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66"/>
          <p:cNvSpPr/>
          <p:nvPr/>
        </p:nvSpPr>
        <p:spPr>
          <a:xfrm>
            <a:off x="2938320" y="352116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67"/>
          <p:cNvSpPr/>
          <p:nvPr/>
        </p:nvSpPr>
        <p:spPr>
          <a:xfrm>
            <a:off x="2955960" y="353700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9"/>
          <p:cNvSpPr/>
          <p:nvPr/>
        </p:nvSpPr>
        <p:spPr>
          <a:xfrm>
            <a:off x="3228840" y="415296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幼圆"/>
              </a:rPr>
              <a:t>人生目标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70"/>
          <p:cNvSpPr/>
          <p:nvPr/>
        </p:nvSpPr>
        <p:spPr>
          <a:xfrm rot="20826600">
            <a:off x="1157400" y="412092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71"/>
          <p:cNvGrpSpPr/>
          <p:nvPr/>
        </p:nvGrpSpPr>
        <p:grpSpPr>
          <a:xfrm>
            <a:off x="1081080" y="3130560"/>
            <a:ext cx="1371240" cy="1441080"/>
            <a:chOff x="1081080" y="3130560"/>
            <a:chExt cx="1371240" cy="1441080"/>
          </a:xfrm>
        </p:grpSpPr>
        <p:sp>
          <p:nvSpPr>
            <p:cNvPr id="313" name="Oval 72"/>
            <p:cNvSpPr/>
            <p:nvPr/>
          </p:nvSpPr>
          <p:spPr>
            <a:xfrm>
              <a:off x="1081080" y="31305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73"/>
            <p:cNvSpPr/>
            <p:nvPr/>
          </p:nvSpPr>
          <p:spPr>
            <a:xfrm>
              <a:off x="1098720" y="313884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74"/>
            <p:cNvSpPr/>
            <p:nvPr/>
          </p:nvSpPr>
          <p:spPr>
            <a:xfrm>
              <a:off x="1112040" y="315252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75"/>
            <p:cNvSpPr/>
            <p:nvPr/>
          </p:nvSpPr>
          <p:spPr>
            <a:xfrm>
              <a:off x="1183680" y="318924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76"/>
            <p:cNvSpPr/>
            <p:nvPr/>
          </p:nvSpPr>
          <p:spPr>
            <a:xfrm>
              <a:off x="1352880" y="366984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6600cc"/>
                  </a:solidFill>
                  <a:latin typeface="Arial"/>
                  <a:ea typeface="幼圆"/>
                </a:rPr>
                <a:t>长期目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Oval 77"/>
          <p:cNvSpPr/>
          <p:nvPr/>
        </p:nvSpPr>
        <p:spPr>
          <a:xfrm>
            <a:off x="1033560" y="236520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78"/>
          <p:cNvSpPr/>
          <p:nvPr/>
        </p:nvSpPr>
        <p:spPr>
          <a:xfrm>
            <a:off x="1109520" y="1758960"/>
            <a:ext cx="1024200" cy="10238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79"/>
          <p:cNvSpPr/>
          <p:nvPr/>
        </p:nvSpPr>
        <p:spPr>
          <a:xfrm>
            <a:off x="1122480" y="176364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80"/>
          <p:cNvSpPr/>
          <p:nvPr/>
        </p:nvSpPr>
        <p:spPr>
          <a:xfrm>
            <a:off x="1133640" y="1774800"/>
            <a:ext cx="95076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81"/>
          <p:cNvSpPr/>
          <p:nvPr/>
        </p:nvSpPr>
        <p:spPr>
          <a:xfrm>
            <a:off x="1187280" y="18003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82"/>
          <p:cNvSpPr/>
          <p:nvPr/>
        </p:nvSpPr>
        <p:spPr>
          <a:xfrm>
            <a:off x="1267200" y="2093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cc"/>
                </a:solidFill>
                <a:latin typeface="Arial"/>
                <a:ea typeface="幼圆"/>
              </a:rPr>
              <a:t>中期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83"/>
          <p:cNvSpPr/>
          <p:nvPr/>
        </p:nvSpPr>
        <p:spPr>
          <a:xfrm>
            <a:off x="2300400" y="18352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84"/>
          <p:cNvSpPr/>
          <p:nvPr/>
        </p:nvSpPr>
        <p:spPr>
          <a:xfrm>
            <a:off x="2422440" y="13017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85"/>
          <p:cNvSpPr/>
          <p:nvPr/>
        </p:nvSpPr>
        <p:spPr>
          <a:xfrm>
            <a:off x="2432160" y="130500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86"/>
          <p:cNvSpPr/>
          <p:nvPr/>
        </p:nvSpPr>
        <p:spPr>
          <a:xfrm>
            <a:off x="2438280" y="1311120"/>
            <a:ext cx="63360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87"/>
          <p:cNvSpPr/>
          <p:nvPr/>
        </p:nvSpPr>
        <p:spPr>
          <a:xfrm>
            <a:off x="2475000" y="133020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88"/>
          <p:cNvSpPr/>
          <p:nvPr/>
        </p:nvSpPr>
        <p:spPr>
          <a:xfrm>
            <a:off x="2532960" y="129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cc"/>
                </a:solidFill>
                <a:latin typeface="Arial"/>
                <a:ea typeface="幼圆"/>
              </a:rPr>
              <a:t>短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cc"/>
                </a:solidFill>
                <a:latin typeface="Arial"/>
                <a:ea typeface="幼圆"/>
              </a:rPr>
              <a:t>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987640" y="148428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cc00"/>
                </a:solidFill>
                <a:latin typeface="Arial"/>
              </a:rPr>
              <a:t>大学四年习得应有的知识，通过各门考试</a:t>
            </a:r>
            <a:r>
              <a:rPr b="1" i="1" lang="zh-CN" sz="2400" spc="-1" strike="noStrike">
                <a:solidFill>
                  <a:srgbClr val="cccc00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050920" y="220500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cc00"/>
                </a:solidFill>
                <a:latin typeface="Arial"/>
              </a:rPr>
              <a:t>实习中表现优秀，能找到中学语文教师职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195640" y="299736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cc00"/>
                </a:solidFill>
                <a:latin typeface="Arial"/>
              </a:rPr>
              <a:t>成为工作能力强，具有影响的教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0" y="386064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cc00"/>
                </a:solidFill>
                <a:latin typeface="Arial"/>
              </a:rPr>
              <a:t>成为教育家，桃李满天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4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AutoShape 3"/>
          <p:cNvSpPr/>
          <p:nvPr/>
        </p:nvSpPr>
        <p:spPr>
          <a:xfrm>
            <a:off x="3925800" y="2419200"/>
            <a:ext cx="505080" cy="576360"/>
          </a:xfrm>
          <a:custGeom>
            <a:avLst/>
            <a:gdLst>
              <a:gd name="textAreaLeft" fmla="*/ 0 w 505080"/>
              <a:gd name="textAreaRight" fmla="*/ 505440 w 5050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b2b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10"/>
          <p:cNvSpPr/>
          <p:nvPr/>
        </p:nvSpPr>
        <p:spPr>
          <a:xfrm>
            <a:off x="2779560" y="2460600"/>
            <a:ext cx="184320" cy="480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ba7e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1"/>
          <p:cNvSpPr/>
          <p:nvPr/>
        </p:nvSpPr>
        <p:spPr>
          <a:xfrm>
            <a:off x="2779560" y="2460600"/>
            <a:ext cx="184320" cy="480960"/>
          </a:xfrm>
          <a:prstGeom prst="ellipse">
            <a:avLst/>
          </a:prstGeom>
          <a:gradFill rotWithShape="0">
            <a:gsLst>
              <a:gs pos="0">
                <a:srgbClr val="3ba7e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2"/>
          <p:cNvSpPr/>
          <p:nvPr/>
        </p:nvSpPr>
        <p:spPr>
          <a:xfrm>
            <a:off x="1906560" y="2460600"/>
            <a:ext cx="1876320" cy="480960"/>
          </a:xfrm>
          <a:prstGeom prst="ellipse">
            <a:avLst/>
          </a:prstGeom>
          <a:gradFill rotWithShape="0">
            <a:gsLst>
              <a:gs pos="0">
                <a:srgbClr val="205a7b"/>
              </a:gs>
              <a:gs pos="50000">
                <a:srgbClr val="3ba7e3"/>
              </a:gs>
              <a:gs pos="100000">
                <a:srgbClr val="205a7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3"/>
          <p:cNvSpPr/>
          <p:nvPr/>
        </p:nvSpPr>
        <p:spPr>
          <a:xfrm>
            <a:off x="1908000" y="2463840"/>
            <a:ext cx="1876680" cy="480960"/>
          </a:xfrm>
          <a:prstGeom prst="ellipse">
            <a:avLst/>
          </a:prstGeom>
          <a:gradFill rotWithShape="0">
            <a:gsLst>
              <a:gs pos="0">
                <a:srgbClr val="256a90"/>
              </a:gs>
              <a:gs pos="100000">
                <a:srgbClr val="3ba7e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4"/>
          <p:cNvSpPr/>
          <p:nvPr/>
        </p:nvSpPr>
        <p:spPr>
          <a:xfrm>
            <a:off x="1998720" y="2460600"/>
            <a:ext cx="1690560" cy="480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15"/>
          <p:cNvGrpSpPr/>
          <p:nvPr/>
        </p:nvGrpSpPr>
        <p:grpSpPr>
          <a:xfrm>
            <a:off x="2027160" y="1881360"/>
            <a:ext cx="1635120" cy="1636560"/>
            <a:chOff x="2027160" y="1881360"/>
            <a:chExt cx="1635120" cy="1636560"/>
          </a:xfrm>
        </p:grpSpPr>
        <p:sp>
          <p:nvSpPr>
            <p:cNvPr id="342" name="Oval 16"/>
            <p:cNvSpPr/>
            <p:nvPr/>
          </p:nvSpPr>
          <p:spPr>
            <a:xfrm>
              <a:off x="2027160" y="1881360"/>
              <a:ext cx="163512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17"/>
            <p:cNvSpPr/>
            <p:nvPr/>
          </p:nvSpPr>
          <p:spPr>
            <a:xfrm>
              <a:off x="2047680" y="1890360"/>
              <a:ext cx="159588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18"/>
            <p:cNvSpPr/>
            <p:nvPr/>
          </p:nvSpPr>
          <p:spPr>
            <a:xfrm>
              <a:off x="2064960" y="1906200"/>
              <a:ext cx="151740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19"/>
            <p:cNvSpPr/>
            <p:nvPr/>
          </p:nvSpPr>
          <p:spPr>
            <a:xfrm>
              <a:off x="2153880" y="1947960"/>
              <a:ext cx="134892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Oval 20"/>
          <p:cNvSpPr/>
          <p:nvPr/>
        </p:nvSpPr>
        <p:spPr>
          <a:xfrm>
            <a:off x="5516640" y="2467080"/>
            <a:ext cx="183960" cy="480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b2b83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21"/>
          <p:cNvSpPr/>
          <p:nvPr/>
        </p:nvSpPr>
        <p:spPr>
          <a:xfrm>
            <a:off x="5516640" y="2467080"/>
            <a:ext cx="183960" cy="480960"/>
          </a:xfrm>
          <a:prstGeom prst="ellipse">
            <a:avLst/>
          </a:prstGeom>
          <a:gradFill rotWithShape="0">
            <a:gsLst>
              <a:gs pos="0">
                <a:srgbClr val="b2b838">
                  <a:alpha val="32156"/>
                </a:srgbClr>
              </a:gs>
              <a:gs pos="100000">
                <a:srgbClr val="52551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22"/>
          <p:cNvSpPr/>
          <p:nvPr/>
        </p:nvSpPr>
        <p:spPr>
          <a:xfrm>
            <a:off x="4643280" y="2467080"/>
            <a:ext cx="1876680" cy="480960"/>
          </a:xfrm>
          <a:prstGeom prst="ellipse">
            <a:avLst/>
          </a:prstGeom>
          <a:gradFill rotWithShape="0">
            <a:gsLst>
              <a:gs pos="0">
                <a:srgbClr val="60641e"/>
              </a:gs>
              <a:gs pos="50000">
                <a:srgbClr val="b2b838"/>
              </a:gs>
              <a:gs pos="100000">
                <a:srgbClr val="60641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23"/>
          <p:cNvSpPr/>
          <p:nvPr/>
        </p:nvSpPr>
        <p:spPr>
          <a:xfrm>
            <a:off x="4645080" y="2470320"/>
            <a:ext cx="1876320" cy="480960"/>
          </a:xfrm>
          <a:prstGeom prst="ellipse">
            <a:avLst/>
          </a:prstGeom>
          <a:gradFill rotWithShape="0">
            <a:gsLst>
              <a:gs pos="0">
                <a:srgbClr val="717524"/>
              </a:gs>
              <a:gs pos="100000">
                <a:srgbClr val="b2b83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24"/>
          <p:cNvSpPr/>
          <p:nvPr/>
        </p:nvSpPr>
        <p:spPr>
          <a:xfrm>
            <a:off x="4735440" y="2467080"/>
            <a:ext cx="1690920" cy="480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25"/>
          <p:cNvGrpSpPr/>
          <p:nvPr/>
        </p:nvGrpSpPr>
        <p:grpSpPr>
          <a:xfrm>
            <a:off x="4764240" y="1881360"/>
            <a:ext cx="1635120" cy="1636560"/>
            <a:chOff x="4764240" y="1881360"/>
            <a:chExt cx="1635120" cy="1636560"/>
          </a:xfrm>
        </p:grpSpPr>
        <p:sp>
          <p:nvSpPr>
            <p:cNvPr id="352" name="Oval 26"/>
            <p:cNvSpPr/>
            <p:nvPr/>
          </p:nvSpPr>
          <p:spPr>
            <a:xfrm>
              <a:off x="4764240" y="1881360"/>
              <a:ext cx="163512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27"/>
            <p:cNvSpPr/>
            <p:nvPr/>
          </p:nvSpPr>
          <p:spPr>
            <a:xfrm>
              <a:off x="4784760" y="1890360"/>
              <a:ext cx="159588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28"/>
            <p:cNvSpPr/>
            <p:nvPr/>
          </p:nvSpPr>
          <p:spPr>
            <a:xfrm>
              <a:off x="4802040" y="1906200"/>
              <a:ext cx="151740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29"/>
            <p:cNvSpPr/>
            <p:nvPr/>
          </p:nvSpPr>
          <p:spPr>
            <a:xfrm>
              <a:off x="4890960" y="1947960"/>
              <a:ext cx="134892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Text Box 38"/>
          <p:cNvSpPr/>
          <p:nvPr/>
        </p:nvSpPr>
        <p:spPr>
          <a:xfrm>
            <a:off x="2751120" y="2446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41"/>
          <p:cNvSpPr/>
          <p:nvPr/>
        </p:nvSpPr>
        <p:spPr>
          <a:xfrm>
            <a:off x="2268360" y="2060640"/>
            <a:ext cx="119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学语文教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076720" y="2060640"/>
            <a:ext cx="112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学语文教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900000" y="69228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41ee2"/>
                </a:solidFill>
                <a:latin typeface="Arial"/>
              </a:rPr>
              <a:t>备选方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042920" y="3860640"/>
            <a:ext cx="67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b4315"/>
                </a:solidFill>
                <a:latin typeface="Arial"/>
              </a:rPr>
              <a:t>如果中学教师的目标没能实现，我会降低要求，当一名优秀的小学语文教师，把我的知识传授给他们，同时努力改变农村教育低下的状况，实现自我价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443640" y="0"/>
            <a:ext cx="270036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8:27:19Z</dcterms:created>
  <dc:creator>番茄花园</dc:creator>
  <dc:description/>
  <dc:language>en-US</dc:language>
  <cp:lastModifiedBy>user</cp:lastModifiedBy>
  <dcterms:modified xsi:type="dcterms:W3CDTF">2011-05-04T13:53:06Z</dcterms:modified>
  <cp:revision>45</cp:revision>
  <dc:subject/>
  <dc:title>幻灯片 1</dc:title>
</cp:coreProperties>
</file>