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416-CD11-4483-9328-EDF9FBC5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688-6741-444B-8FFB-F55F47AD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343-73B0-4715-BFB5-0DB1CE3E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25F-15A0-4653-BCBE-80113873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F93-2FFC-4C9D-A179-54B667C2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48D-B759-4331-BF90-0FAB8F30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D2E-5381-4CF1-BACB-7609B376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FEB9-1EC7-4D8D-8FE9-4A12AB14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1B5-4A6A-4D97-8570-D4753A14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F01-CE27-4425-B640-122405C3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0F1-3C93-4E1D-BB27-1D8B6D19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078-658E-4E10-BB28-25C59E42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0DD6-C53E-4C57-9703-D2B0FAACBC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6,3,&#24187;&#28783;&#29255; 3" TargetMode="External"/><Relationship Id="rId3" Type="http://schemas.openxmlformats.org/officeDocument/2006/relationships/hyperlink" Target="276,3,&#24187;&#28783;&#29255; 3" TargetMode="External"/><Relationship Id="rId4" Type="http://schemas.openxmlformats.org/officeDocument/2006/relationships/hyperlink" Target="276,3,&#24187;&#28783;&#29255; 3" TargetMode="External"/><Relationship Id="rId5" Type="http://schemas.openxmlformats.org/officeDocument/2006/relationships/hyperlink" Target="279,4,&#25105;&#30340;&#32844;&#19994;&#36873;&#25321;&#65306;" TargetMode="External"/><Relationship Id="rId6" Type="http://schemas.openxmlformats.org/officeDocument/2006/relationships/hyperlink" Target="280,5,&#24187;&#28783;&#29255; 5" TargetMode="External"/><Relationship Id="rId7" Type="http://schemas.openxmlformats.org/officeDocument/2006/relationships/hyperlink" Target="307,23,&#24187;&#28783;&#29255; 23" TargetMode="External"/><Relationship Id="rId8" Type="http://schemas.openxmlformats.org/officeDocument/2006/relationships/hyperlink" Target="303,35,&#24187;&#28783;&#29255; 35" TargetMode="External"/><Relationship Id="rId9" Type="http://schemas.openxmlformats.org/officeDocument/2006/relationships/hyperlink" Target="303,35,&#24187;&#28783;&#29255; 35" TargetMode="External"/><Relationship Id="rId10" Type="http://schemas.openxmlformats.org/officeDocument/2006/relationships/hyperlink" Target="303,35,&#24187;&#28783;&#29255; 35" TargetMode="Externa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299,29,&#24187;&#28783;&#29255; 29" TargetMode="External"/><Relationship Id="rId5" Type="http://schemas.openxmlformats.org/officeDocument/2006/relationships/hyperlink" Target="304,30,&#24187;&#28783;&#29255; 30" TargetMode="External"/><Relationship Id="rId6" Type="http://schemas.openxmlformats.org/officeDocument/2006/relationships/hyperlink" Target="267,31,&#24187;&#28783;&#29255; 31" TargetMode="External"/><Relationship Id="rId7" Type="http://schemas.openxmlformats.org/officeDocument/2006/relationships/hyperlink" Target="305,32,&#24187;&#28783;&#29255; 32" TargetMode="External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85,10,&#24187;&#28783;&#29255; 10" TargetMode="External"/><Relationship Id="rId3" Type="http://schemas.openxmlformats.org/officeDocument/2006/relationships/hyperlink" Target="257,11,&#24187;&#28783;&#29255; 11" TargetMode="External"/><Relationship Id="rId4" Type="http://schemas.openxmlformats.org/officeDocument/2006/relationships/hyperlink" Target="258,12,&#24187;&#28783;&#29255; 12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5867280" cy="14702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Arial"/>
              </a:rPr>
              <a:t>我的未来不是</a:t>
            </a:r>
            <a:r>
              <a:rPr b="1" lang="zh-CN" sz="9600" spc="-1" strike="noStrike" baseline="12000">
                <a:solidFill>
                  <a:srgbClr val="6600cc"/>
                </a:solidFill>
                <a:latin typeface="Arial"/>
              </a:rPr>
              <a:t>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14440" y="297144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5400" spc="-1" strike="noStrike" baseline="10000">
                <a:solidFill>
                  <a:srgbClr val="ff6600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职业生涯规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</a:rPr>
              <a:t>广州大学美术与设计学院艺术设计</a:t>
            </a:r>
            <a:r>
              <a:rPr b="1" lang="zh-CN" sz="1600" spc="-1" strike="noStrike">
                <a:solidFill>
                  <a:srgbClr val="4d4d4d"/>
                </a:solidFill>
                <a:latin typeface="Arial"/>
              </a:rPr>
              <a:t>113</a:t>
            </a:r>
            <a:r>
              <a:rPr b="1" lang="zh-CN" sz="1600" spc="-1" strike="noStrike">
                <a:solidFill>
                  <a:srgbClr val="4d4d4d"/>
                </a:solidFill>
                <a:latin typeface="Arial"/>
              </a:rPr>
              <a:t>班姚小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228600"/>
            <a:ext cx="1752480" cy="1905120"/>
          </a:xfrm>
          <a:prstGeom prst="flowChartDe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905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完美主义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常三省吾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时冲动时冷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刚强亦有软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谦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随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乐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思想复杂兼简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喜安定也喜挑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容易宽容自己和他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热爱生命，热爱生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喜欢集体，更喜欢一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时很孤僻，有时很健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容易被误解，误解时常疏于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较起真来很倔，不到黄河心不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怀疑论者，对人对事要亲眼所见或亲身经历为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93840" y="10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28600"/>
            <a:ext cx="1752480" cy="1905120"/>
          </a:xfrm>
          <a:prstGeom prst="flowChartDe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交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752480"/>
            <a:ext cx="5943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头之交广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尊重上级和长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常处于中立立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较少参加集体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陌生人相处时随意时局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虽少交心，但还是相对真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交心朋友与年龄的增长成反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除事情外少与上级或下级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行动上是主动派，内心上是被动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228600"/>
            <a:ext cx="1752480" cy="1905120"/>
          </a:xfrm>
          <a:prstGeom prst="flowChartDe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处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74284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能接受他人意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处事及管理经验不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不在乎的事漫不经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冲动时常不顾细节，只有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事前有计划，不喜计划受扰或中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当计划需变动时，能较快做出调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生活随意且随兴，对事喜欢有备无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事情与人界限明确，做事严肃，待人随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较常一个人做事，不喜被打扰，属踏实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是最佳的出谋划策者，但有一定组织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自身的事想到什么就做什么，对集体的事三思后行，按部就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057400" y="1828800"/>
            <a:ext cx="6448320" cy="4324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93280" y="646200"/>
            <a:ext cx="5546160" cy="947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卡特尔十六种个性因素测试结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            —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敏感性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分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幻想聪慧性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61160" y="533520"/>
            <a:ext cx="80856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敏感性</a:t>
            </a:r>
            <a:r>
              <a:rPr b="0" lang="zh-CN" sz="2400" spc="-1" strike="noStrike">
                <a:solidFill>
                  <a:srgbClr val="33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61360" y="533520"/>
            <a:ext cx="80856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幻想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85240" y="533520"/>
            <a:ext cx="80856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聪慧性</a:t>
            </a:r>
            <a:r>
              <a:rPr b="0" lang="zh-CN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23520" y="1752480"/>
            <a:ext cx="6705720" cy="4525920"/>
          </a:xfrm>
          <a:prstGeom prst="rect">
            <a:avLst/>
          </a:prstGeom>
          <a:blipFill rotWithShape="0">
            <a:blip r:embed="rId2">
              <a:alphaModFix amt="66000"/>
            </a:blip>
            <a:tile tx="0" ty="0" sx="100000" sy="100000" algn="ctr"/>
          </a:blipFill>
          <a:ln cap="rnd" w="28440">
            <a:solidFill>
              <a:srgbClr val="ff66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通常学习能力强，思维敏捷、正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通常多疑心，不信任别人，与人相处常斤斤计较，不顾别人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通常不掩饰，不畏缩，有敢作敢为的精神，能经历艰辛而保持毅力；有时可能粗心大意，忽视细节；也可能无聊多事，喜欢向异性献殷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971800" y="990720"/>
            <a:ext cx="5335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990720"/>
            <a:ext cx="3812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990720"/>
            <a:ext cx="8380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362320" y="152280"/>
            <a:ext cx="640080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14600" y="1752480"/>
          <a:ext cx="2743200" cy="454356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78948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优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独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乐观积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灵活随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图像敏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模仿能力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擅长短期记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较好的倾听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能专注做一件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有耐心，对事负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我控制能力日趋成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常检讨自身并承认错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172200" y="1735200"/>
          <a:ext cx="2743200" cy="454320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78912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缺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际上被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格弱点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处事严肃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数字不敏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缺乏创造能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擅长期记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常觉得无话想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难同时处理事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被打扰时会不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够沉稳偶尔个性张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常犯错误常懊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184560" y="457200"/>
            <a:ext cx="5121360" cy="8251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</a:rPr>
              <a:t>优点与缺点的对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/>
          <p:nvPr/>
        </p:nvCxnSpPr>
        <p:spPr>
          <a:xfrm>
            <a:off x="5333760" y="22093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/>
          <p:nvPr/>
        </p:nvCxnSpPr>
        <p:spPr>
          <a:xfrm>
            <a:off x="5333760" y="27428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/>
          <p:nvPr/>
        </p:nvCxnSpPr>
        <p:spPr>
          <a:xfrm>
            <a:off x="5333760" y="34286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/>
          <p:nvPr/>
        </p:nvCxnSpPr>
        <p:spPr>
          <a:xfrm>
            <a:off x="5333760" y="37335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"/>
          <p:cNvCxnSpPr/>
          <p:nvPr/>
        </p:nvCxnSpPr>
        <p:spPr>
          <a:xfrm>
            <a:off x="5333760" y="57909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/>
          <p:nvPr/>
        </p:nvCxnSpPr>
        <p:spPr>
          <a:xfrm>
            <a:off x="5333760" y="5409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/>
          <p:nvPr/>
        </p:nvCxnSpPr>
        <p:spPr>
          <a:xfrm>
            <a:off x="5333760" y="51051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/>
          <p:nvPr/>
        </p:nvCxnSpPr>
        <p:spPr>
          <a:xfrm>
            <a:off x="5333760" y="48002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/>
          <p:nvPr/>
        </p:nvCxnSpPr>
        <p:spPr>
          <a:xfrm>
            <a:off x="5333760" y="44193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/>
          <p:nvPr/>
        </p:nvCxnSpPr>
        <p:spPr>
          <a:xfrm>
            <a:off x="5333760" y="411444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/>
          <p:nvPr/>
        </p:nvCxnSpPr>
        <p:spPr>
          <a:xfrm>
            <a:off x="5333760" y="60955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/>
          <p:nvPr/>
        </p:nvCxnSpPr>
        <p:spPr>
          <a:xfrm>
            <a:off x="5333760" y="30477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133720" y="1905120"/>
            <a:ext cx="4952880" cy="21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4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8120" y="23590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cc"/>
                </a:solidFill>
                <a:latin typeface="Arial"/>
              </a:rPr>
              <a:t>职业与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666880" y="1447920"/>
            <a:ext cx="5943600" cy="5197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826360" y="380880"/>
            <a:ext cx="52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霍兰德职业倾向测量得分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现实型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分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艺术与社会型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438280" y="228600"/>
            <a:ext cx="6553440" cy="946440"/>
          </a:xfrm>
          <a:prstGeom prst="rect">
            <a:avLst/>
          </a:prstGeom>
          <a:noFill/>
          <a:ln w="63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特点】愿意使用工具从事操作性工作，动手能力强，做事手脚灵活，动作协调。偏好于具体任务，不善言辞，做事保守，较为谦虚。缺乏社交能力，通常喜欢独立做事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性格特点】感觉迟钝、不讲究、谦逊的。踏实稳重、诚实可靠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职业建议】喜欢使用工具、机器，需要基本操作技能的工作。要求具备机械方面才能、体力、或从事与物件、机器、工具、运动器材、植物、动物相关的职业有兴趣并具备相应能力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如：技术性职业（计算机硬件人员、摄影师、制图员、机械装配工），技能性职业（木匠、厨师、技工、修理工、农民、一般劳动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5080" y="2994120"/>
            <a:ext cx="6188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2666880"/>
            <a:ext cx="6629400" cy="946440"/>
          </a:xfrm>
          <a:prstGeom prst="rect">
            <a:avLst/>
          </a:prstGeom>
          <a:noFill/>
          <a:ln w="63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特点】喜欢与人交往、不断结交新的朋友、善言谈、愿意教导别人。关心社会问题、渴望发挥自己的社会作用。寻求广泛的人际关系，比较看重社会义务和社会道德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性格特点】为人友好、热情、善解人意、乐于助人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职业建议】喜欢要求与人打交道的工作，能够不断结交新的朋友，从事提供信息、启迪、帮助、培训、开发或治疗等事务，并具备相应能力。</a:t>
            </a:r>
            <a:br>
              <a:rPr sz="1400"/>
            </a:b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</a:rPr>
              <a:t>教育工作者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（教师、教育行政人员）， 社会工作者（咨询人员、公关人员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7760" y="685800"/>
            <a:ext cx="1003680" cy="6426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现实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4648320"/>
            <a:ext cx="6629400" cy="733320"/>
          </a:xfrm>
          <a:prstGeom prst="rect">
            <a:avLst/>
          </a:prstGeom>
          <a:noFill/>
          <a:ln w="63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  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特点】不善交际；回避高度结构化和需要纯物理技术的问题；与研究型相比，在内感受性和不善交际方面相似，但在个性表达的需要上有差别；自我的力量较弱，女性化程度较深，容易陷入感情困扰；喜欢用过艺术媒体进行自我表现出来解决问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【职业建议】艺术品商人、作家、卡通画家、</a:t>
            </a:r>
            <a:r>
              <a:rPr b="1" lang="zh-CN" sz="1400" spc="-1" strike="noStrike">
                <a:solidFill>
                  <a:srgbClr val="cc3300"/>
                </a:solidFill>
                <a:latin typeface="Arial"/>
              </a:rPr>
              <a:t>商业艺术家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作曲家、歌唱家、戏剧表演教练、自由撰稿人、音乐编导、音乐家、剧作家、诗人、舞台导演和交响指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11800" y="3124080"/>
            <a:ext cx="1003680" cy="6426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社会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1800" y="5105520"/>
            <a:ext cx="1003680" cy="6426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艺术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43200" y="1828800"/>
            <a:ext cx="6095880" cy="4791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98240" y="533520"/>
            <a:ext cx="556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MBTI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职业性格测试结果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          ——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INFJ</a:t>
            </a:r>
            <a:r>
              <a:rPr b="0" lang="zh-CN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（内向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直觉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情感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800000"/>
                </a:solidFill>
                <a:latin typeface="Arial"/>
              </a:rPr>
              <a:t>判断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65240" y="2460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4320" y="4572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Arial"/>
                <a:ea typeface="黑体"/>
              </a:rPr>
              <a:t>目录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59800" y="457200"/>
            <a:ext cx="4353120" cy="64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2"/>
              </a:rPr>
              <a:t>开篇语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3"/>
              </a:rPr>
              <a:t>——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4"/>
              </a:rPr>
              <a:t>规划职业生涯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5"/>
              </a:rPr>
              <a:t>职业的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6"/>
              </a:rPr>
              <a:t>职业与个性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个人爱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自我认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本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交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处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职业与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7"/>
              </a:rPr>
              <a:t>就职前的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我的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大学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 研究生之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职业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高管人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高级设计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                    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9900"/>
                </a:solidFill>
                <a:latin typeface="Arial"/>
              </a:rPr>
              <a:t>）翻译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</a:rPr>
              <a:t>就职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8"/>
              </a:rPr>
              <a:t>结语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9"/>
              </a:rPr>
              <a:t>——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10"/>
              </a:rPr>
              <a:t>前进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43800" y="6095880"/>
            <a:ext cx="1447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76320"/>
            <a:ext cx="152388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609480"/>
            <a:ext cx="7010640" cy="267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人生活在思想的世界里。他们是独立的、有独创性的思想家，具有强烈的感情、坚定的原则和正直的人性。即使面对怀疑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仍相信自己的看法与决定。他们对自己的评价高于其他的一切，包括流行观点 和存在的权威，这种内在的观念激发着他们的积极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通常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具有本能的洞察力，能够看到事物更深层的含义。即使他人无法分享他们的热情，但灵感对于他们重要而令人信服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忠诚、坚定、富有理想 。他们珍视正直十分坚定以至达到倔强的地步。因为他们的说服能力，以及对于什么对公共利益最有利有清楚的看法，所以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会成为伟大的领导者。由于他们的贡献，他们通常会受到尊重或敬佩。因为珍视友谊 和和睦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喜欢说服别人，使之相信他们的观点是正确的。通过运用嘉许和赞扬，而不是争吵和威胁，他们赢得了他人的合作。他们愿意毫无保留地激励同伴，避免争吵。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通常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是深思熟虑的决策者，他 们觉得问题使人兴奋，在行动之前他们通常要仔细地考虑。他们喜欢每次全神贯注于一件事情，这会造成一段时期的专心致志。满怀热情与同情心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强烈地渴望为他人的幸福做贡献。他们注意其他人的情感和利 益，能够很好地处理复杂的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型的人本身具有深厚复杂的性格，既敏感又热切。他们内向，很难被人了解，但是愿意同自己信任的人分享内在的自我。他们往往有一个交往深厚、持久的小规模的朋友圈，在合适的氛 围中能产生充分的个人热情和激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98360" y="282600"/>
            <a:ext cx="124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705720" y="4419720"/>
            <a:ext cx="182880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57200"/>
            <a:ext cx="32004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1600200"/>
            <a:ext cx="5639040" cy="3386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适合的领域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咨询、教育、科研等领域 文化、艺术、设计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适合的职业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变革管理顾问            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大学教授</a:t>
            </a:r>
            <a:br>
              <a:rPr sz="2000"/>
            </a:b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科研机构研究人员      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历史学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证券分析师                 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律师</a:t>
            </a:r>
            <a:br>
              <a:rPr sz="2000"/>
            </a:b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作家                            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设计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电脑软件设计师          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· 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系统分析人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01200" y="762120"/>
            <a:ext cx="201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INFJ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0"/>
            <a:ext cx="7467480" cy="5943600"/>
          </a:xfrm>
          <a:prstGeom prst="rect">
            <a:avLst/>
          </a:prstGeom>
          <a:solidFill>
            <a:srgbClr val="99cc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838080"/>
            <a:ext cx="5715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以上在自我认知基础上的测试，大概了解符合自身的职业方向，再根据个人兴趣，我选择出了：教师、管理人员、设计师和翻译家这四种职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18240" y="2971800"/>
            <a:ext cx="3655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这四种职业目前的就业、待遇情况又是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我本人的能力及意愿相符？在就职前，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该具备怎样的资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505320" y="5029200"/>
            <a:ext cx="2971800" cy="1219320"/>
          </a:xfrm>
          <a:prstGeom prst="rect">
            <a:avLst/>
          </a:prstGeom>
          <a:solidFill>
            <a:srgbClr val="46a1a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职业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209680"/>
            <a:ext cx="3353040" cy="2514600"/>
          </a:xfrm>
          <a:custGeom>
            <a:avLst/>
            <a:gdLst>
              <a:gd name="textAreaLeft" fmla="*/ 0 w 3353040"/>
              <a:gd name="textAreaRight" fmla="*/ 3353400 w 3353040"/>
              <a:gd name="textAreaTop" fmla="*/ 628560 h 2514600"/>
              <a:gd name="textAreaBottom" fmla="*/ 1886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就职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533520"/>
            <a:ext cx="2971800" cy="1218960"/>
          </a:xfrm>
          <a:prstGeom prst="rect">
            <a:avLst/>
          </a:prstGeom>
          <a:solidFill>
            <a:srgbClr val="46a1a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"/>
              </a:rPr>
              <a:t>我的大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61480" y="51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7880" y="169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50800" y="515880"/>
            <a:ext cx="100332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就业前的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133720" y="1905120"/>
            <a:ext cx="4952880" cy="21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4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8120" y="23590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cc"/>
                </a:solidFill>
                <a:latin typeface="Arial"/>
              </a:rPr>
              <a:t>我的大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38280" y="60948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半年多的大学生活过去了，看似过去了段短短的时间，其实整个大学生涯真的很短，因为要学的做的东西太多，总觉时间过得太快。白天上完课做完兼职，很快天就黑了，而社团活动也开始了，很快灯该熄了，而没有完成的自己的事，必须在黑夜里埋头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我想要什么？常常在想，这样的生活是为了什么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要学习还是要锻炼？我终究不是能兼得二者的人。在这迷茫与反思中，终于明白了取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对我来说，最重要的是获得精神世界的满足。而锻炼，需要，但必须有所舍弃。因为，在毕业后，不会有这么一个可以抛下大多世事，沉浸在学习中的环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我，渴望知识的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34760" y="2286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23800" y="304920"/>
            <a:ext cx="450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大四前过英语六级，并在此前接触托福雅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大四中，通过培训及自学，考取托福雅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喜欢的室内方向，提高手绘技能、发掘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、开阔眼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考取教师资格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08760" y="2971800"/>
            <a:ext cx="422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顺其自然，保持自己的独立体，但不孤立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锻炼组织能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心理素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70320" y="5181480"/>
            <a:ext cx="440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大四时考取研究生，在研究生基础上毕业后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取更高学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1160" y="873000"/>
            <a:ext cx="10947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学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32040" y="480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内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32040" y="139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82960" y="457200"/>
            <a:ext cx="2224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华南师范大学，圆当初的第一志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cc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3366cc"/>
                </a:solidFill>
                <a:latin typeface="Arial"/>
              </a:rPr>
              <a:t>（需要提高专业水平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95000" y="1447920"/>
            <a:ext cx="2619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西班牙及加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cc"/>
                </a:solidFill>
                <a:latin typeface="Arial"/>
              </a:rPr>
              <a:t>（需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经济的支持</a:t>
            </a:r>
            <a:r>
              <a:rPr b="0" lang="zh-CN" sz="2000" spc="-1" strike="noStrike">
                <a:solidFill>
                  <a:srgbClr val="3366cc"/>
                </a:solidFill>
                <a:latin typeface="Arial"/>
              </a:rPr>
              <a:t>和通过雅思与托福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8880" y="-421200"/>
            <a:ext cx="100332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研究生之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68580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152388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2743200"/>
            <a:ext cx="3124080" cy="28954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25680" y="2971800"/>
            <a:ext cx="1033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庭状况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5884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54640" y="37339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半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4609800" y="232416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0800000">
            <a:off x="3123720" y="388584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380988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6533640" y="3181320"/>
            <a:ext cx="3200400" cy="1866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685800" y="3276360"/>
            <a:ext cx="3276360" cy="190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1880" y="2819520"/>
            <a:ext cx="1277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劳动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个万元学费大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84760" y="2666880"/>
            <a:ext cx="2374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中一个毕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减少学费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寻到工作增加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需负担其生活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75360" y="604044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家庭经济将得到好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4609800" y="560052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47920" y="1676520"/>
            <a:ext cx="6781680" cy="21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4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17800" y="17524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cc"/>
                </a:solidFill>
                <a:latin typeface="Arial"/>
              </a:rPr>
              <a:t>职业分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3240" y="3124080"/>
            <a:ext cx="429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4"/>
              </a:rPr>
              <a:t>教师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5"/>
              </a:rPr>
              <a:t>高管人员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6"/>
              </a:rPr>
              <a:t>高级室内设计师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zh-CN" sz="2400" spc="-1" strike="noStrike" u="sng">
                <a:solidFill>
                  <a:srgbClr val="660066"/>
                </a:solidFill>
                <a:uFillTx/>
                <a:latin typeface="Arial"/>
                <a:hlinkClick r:id="rId7"/>
              </a:rPr>
              <a:t>翻译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096640" y="498600"/>
            <a:ext cx="29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教师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——首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1752480"/>
            <a:ext cx="6324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目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成为高中、大专或本科生中英文或美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专业教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需求状况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国各地区教育资源不断整合优化，教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师需求量不断缩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待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工资较稳定， 收入高低有等级差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需具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历越高越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专业知识、健康的心理、负责任、关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心学生、耐心及耐力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考取教师资格证：普通话水平过二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《教育学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《心理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380880"/>
            <a:ext cx="76212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76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05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34800" y="6094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规划职业生涯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1828800"/>
            <a:ext cx="611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《职业生涯》，让我联想到未来。对于未来我们有太多的疑问和不确定。小时候，我们各自有着自己的梦想，有着自己想成为的人，而现在的我们，是否走儿时梦想的路上？还是早已远远地与儿时的梦想背道而驰了？又或者，早已忘了曾经有过怎样的梦想。纪伯伦说：我们已经走得太远，忘了为什么而出发。小时候的我们，凭着喜好谈着梦想，怎么能知道今天的我们又是怎样？未来如此不可预测，下一秒也许就是世界末日，更何况三年半后毕业的我们，要踏入一个怎样日新月异的社会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但是，不正因为未来如此难以预料，我们才更要确立自己的目标吗？而这正是规划职业生涯的意义——以不变应万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560" y="60948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下纯属个人观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71000" y="228600"/>
            <a:ext cx="390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高管人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第三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2133720"/>
            <a:ext cx="5943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目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成为企业或公司的高层管理人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计划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直接应聘中、高层职位，应聘中层职位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要明确在该企业公司有晋升的机会，避免从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低层做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待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个人能力和企业公司发展而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需具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研究生以上学历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习相关课程及参加相关培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定的管理经验、受压力强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工作认真努力、有一定的人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魅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04200" y="152280"/>
            <a:ext cx="521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高级室内设计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最高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133720"/>
            <a:ext cx="5943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目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高级室内设计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计划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从小设计师做起，积累经验，直至晋升为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级室内设计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行业情况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优秀室内设计师较缺乏，薪资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必备条件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本科学历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工作经验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           主持设计室内装饰大型公共工程项目 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以上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           在省级以上报刊上发表过论文，或有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著，或在全国室内设计大展获得过金奖或银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           能熟练掌握一门外语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39440" y="609480"/>
            <a:ext cx="342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翻译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后备职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2133720"/>
            <a:ext cx="5943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目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企业中当英语或小语种翻译人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计划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短期计划：在国内小企业当文案翻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长期计划：积累经验，提高语言水平，走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企业大公司，或在国外发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选择的原因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浪费学到的语言知识，个人对语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较感兴趣，国内外就业情况较好。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0000"/>
                </a:solidFill>
                <a:uFillTx/>
                <a:latin typeface="Arial"/>
              </a:rPr>
              <a:t>需具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英语或小语种的精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209680" y="1523880"/>
            <a:ext cx="4953240" cy="21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4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62080" y="20574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cc"/>
                </a:solidFill>
                <a:latin typeface="Arial"/>
              </a:rPr>
              <a:t>就职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9640" y="329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04920"/>
            <a:ext cx="4800600" cy="35049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457200"/>
            <a:ext cx="4038480" cy="2438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4343400"/>
            <a:ext cx="3657600" cy="2514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0"/>
            <a:ext cx="3809880" cy="22096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1788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4080" y="2695680"/>
            <a:ext cx="1278000" cy="1191240"/>
          </a:xfrm>
          <a:prstGeom prst="rect">
            <a:avLst/>
          </a:prstGeom>
          <a:solidFill>
            <a:srgbClr val="ff9966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cc"/>
                </a:solidFill>
                <a:latin typeface="Arial"/>
              </a:rPr>
              <a:t>大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85760" y="2509920"/>
            <a:ext cx="1278000" cy="1191240"/>
          </a:xfrm>
          <a:prstGeom prst="rect">
            <a:avLst/>
          </a:prstGeom>
          <a:solidFill>
            <a:srgbClr val="ff9966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cc"/>
                </a:solidFill>
                <a:latin typeface="Arial"/>
              </a:rPr>
              <a:t>职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124080" y="762120"/>
          <a:ext cx="3124080" cy="515592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英语</a:t>
                      </a: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级以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适用四个职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学生干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高管人员、教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兼职、专业学习、实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高级室内设计师、教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教师资格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教师、高管人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研究生以上学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适用四个职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cc"/>
                    </a:solidFill>
                  </a:tcPr>
                </a:tc>
              </a:tr>
            </a:tbl>
          </a:graphicData>
        </a:graphic>
      </p:graphicFrame>
      <p:cxnSp>
        <p:nvCxnSpPr>
          <p:cNvPr id="202" name=""/>
          <p:cNvCxnSpPr>
            <a:stCxn id="199" idx="3"/>
          </p:cNvCxnSpPr>
          <p:nvPr/>
        </p:nvCxnSpPr>
        <p:spPr>
          <a:xfrm flipV="1">
            <a:off x="2257200" y="747720"/>
            <a:ext cx="867240" cy="254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9" idx="3"/>
          </p:cNvCxnSpPr>
          <p:nvPr/>
        </p:nvCxnSpPr>
        <p:spPr>
          <a:xfrm flipV="1">
            <a:off x="2257200" y="2361600"/>
            <a:ext cx="867240" cy="9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9" idx="3"/>
          </p:cNvCxnSpPr>
          <p:nvPr/>
        </p:nvCxnSpPr>
        <p:spPr>
          <a:xfrm>
            <a:off x="2257200" y="3295800"/>
            <a:ext cx="867240" cy="263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99" idx="3"/>
          </p:cNvCxnSpPr>
          <p:nvPr/>
        </p:nvCxnSpPr>
        <p:spPr>
          <a:xfrm>
            <a:off x="2257200" y="3295800"/>
            <a:ext cx="56268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9" idx="3"/>
          </p:cNvCxnSpPr>
          <p:nvPr/>
        </p:nvCxnSpPr>
        <p:spPr>
          <a:xfrm>
            <a:off x="2257200" y="3295440"/>
            <a:ext cx="562680" cy="63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200" idx="1"/>
          </p:cNvCxnSpPr>
          <p:nvPr/>
        </p:nvCxnSpPr>
        <p:spPr>
          <a:xfrm flipH="1" flipV="1">
            <a:off x="6248160" y="747360"/>
            <a:ext cx="762480" cy="2363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0" idx="1"/>
          </p:cNvCxnSpPr>
          <p:nvPr/>
        </p:nvCxnSpPr>
        <p:spPr>
          <a:xfrm flipH="1" flipV="1">
            <a:off x="6323760" y="2373120"/>
            <a:ext cx="686520" cy="737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" name=""/>
          <p:cNvCxnSpPr>
            <a:stCxn id="200" idx="1"/>
          </p:cNvCxnSpPr>
          <p:nvPr/>
        </p:nvCxnSpPr>
        <p:spPr>
          <a:xfrm flipH="1">
            <a:off x="6323760" y="3110040"/>
            <a:ext cx="686520" cy="10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200" idx="1"/>
          </p:cNvCxnSpPr>
          <p:nvPr/>
        </p:nvCxnSpPr>
        <p:spPr>
          <a:xfrm flipH="1">
            <a:off x="6248160" y="3109680"/>
            <a:ext cx="762480" cy="128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200" idx="1"/>
          </p:cNvCxnSpPr>
          <p:nvPr/>
        </p:nvCxnSpPr>
        <p:spPr>
          <a:xfrm flipH="1">
            <a:off x="6248160" y="3110040"/>
            <a:ext cx="762480" cy="28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08040" y="8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1143000"/>
            <a:ext cx="7010280" cy="15570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如果人生用十年来度量，第一个十年，我是个躲在母亲身后怯弱的孩子；第二个十年，我在成长的苦与泪中明白只有自己才能拯救自己；而现在，我终于到了曾经无数次期盼的第三个十年，却感到无限的苍凉。这年轻、珍贵的十年，我能握住多少，才能让它流逝地有价值，才能让我以后的每个十年，都能保持年轻的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时间如此让人无奈。我想珍惜现在的时刻，可是此刻，当下，它正流逝着，每分，每秒地流逝，鞭长莫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3366cc"/>
                </a:solidFill>
                <a:latin typeface="Arial"/>
              </a:rPr>
              <a:t>现在我能做的，唯有定位好我的人生，确立目标，努力地前进，在人生唯一的第三个十年里——笑傲江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43480" y="6095880"/>
            <a:ext cx="33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EN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12/04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0307000">
            <a:off x="501120" y="954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cc"/>
                </a:solidFill>
                <a:latin typeface="Arial"/>
              </a:rPr>
              <a:t>前进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1447920"/>
            <a:ext cx="647712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32280" y="2079720"/>
            <a:ext cx="481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4495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没有规划前，我并没有确立自己的职业目标，更不敢去想，将要在此前取得怎样的成绩，才能能达到目标。可是，正是这些犹豫让我不敢放手去努力。现在，就当渺小的我在做着一个异想天开的梦好了，我要规划属于自己的伟大的职业生涯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职业选择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623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中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英文或美术专业高中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专科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本科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企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公司高层管理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高级室内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英语或小语种翻译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05320" y="5105520"/>
            <a:ext cx="2971800" cy="1218960"/>
          </a:xfrm>
          <a:prstGeom prst="rect">
            <a:avLst/>
          </a:prstGeom>
          <a:solidFill>
            <a:srgbClr val="46a1a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自我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209680"/>
            <a:ext cx="3353040" cy="2514600"/>
          </a:xfrm>
          <a:custGeom>
            <a:avLst/>
            <a:gdLst>
              <a:gd name="textAreaLeft" fmla="*/ 0 w 3353040"/>
              <a:gd name="textAreaRight" fmla="*/ 3353400 w 3353040"/>
              <a:gd name="textAreaTop" fmla="*/ 628560 h 2514600"/>
              <a:gd name="textAreaBottom" fmla="*/ 1886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职业与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533520"/>
            <a:ext cx="2971800" cy="1218960"/>
          </a:xfrm>
          <a:prstGeom prst="rect">
            <a:avLst/>
          </a:prstGeom>
          <a:solidFill>
            <a:srgbClr val="46a1a8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"/>
              </a:rPr>
              <a:t>个人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爱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"/>
              </a:rPr>
              <a:t>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61480" y="5127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17880" y="169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4520" y="48744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职业与个性分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133720" y="1905120"/>
            <a:ext cx="4952880" cy="21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4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82640" y="2438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Arial"/>
              </a:rPr>
              <a:t>个人爱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9880" y="1981080"/>
            <a:ext cx="1447920" cy="1371600"/>
          </a:xfrm>
          <a:prstGeom prst="rect">
            <a:avLst/>
          </a:prstGeom>
          <a:solidFill>
            <a:srgbClr val="ffcc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Arial"/>
              </a:rPr>
              <a:t>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209680"/>
            <a:ext cx="2057400" cy="2057400"/>
          </a:xfrm>
          <a:prstGeom prst="rect">
            <a:avLst/>
          </a:prstGeom>
          <a:solidFill>
            <a:srgbClr val="ffcc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9900"/>
                </a:solidFill>
                <a:latin typeface="Arial"/>
              </a:rPr>
              <a:t>走南闯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4419720"/>
            <a:ext cx="1447560" cy="1371600"/>
          </a:xfrm>
          <a:prstGeom prst="rect">
            <a:avLst/>
          </a:prstGeom>
          <a:solidFill>
            <a:srgbClr val="ffcc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9900"/>
                </a:solidFill>
                <a:latin typeface="Arial"/>
              </a:rPr>
              <a:t>娱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733920"/>
            <a:ext cx="1676520" cy="1447560"/>
          </a:xfrm>
          <a:prstGeom prst="rect">
            <a:avLst/>
          </a:prstGeom>
          <a:solidFill>
            <a:srgbClr val="ffcc9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9900"/>
                </a:solidFill>
                <a:latin typeface="Arial"/>
              </a:rPr>
              <a:t>文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609480"/>
            <a:ext cx="3043440" cy="1008360"/>
          </a:xfrm>
          <a:prstGeom prst="rect">
            <a:avLst/>
          </a:prstGeom>
          <a:solidFill>
            <a:srgbClr val="ff99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66"/>
                </a:solidFill>
                <a:latin typeface="Arial"/>
                <a:ea typeface="方正毡笔黑简体"/>
              </a:rPr>
              <a:t> </a:t>
            </a:r>
            <a:r>
              <a:rPr b="1" lang="zh-CN" sz="6000" spc="-1" strike="noStrike">
                <a:solidFill>
                  <a:srgbClr val="660066"/>
                </a:solidFill>
                <a:latin typeface="Arial"/>
                <a:ea typeface="方正毡笔黑简体"/>
              </a:rPr>
              <a:t>我喜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7760" y="61722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6600"/>
                </a:solidFill>
                <a:uFillTx/>
                <a:latin typeface="Arial"/>
              </a:rPr>
              <a:t>特点：涉猎范围广，会主动增进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33720" y="1905120"/>
            <a:ext cx="4952880" cy="21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4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82640" y="2438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Arial"/>
              </a:rPr>
              <a:t>认识自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52280"/>
            <a:ext cx="3276720" cy="2438640"/>
          </a:xfrm>
          <a:prstGeom prst="wedgeEllipseCallout">
            <a:avLst>
              <a:gd name="adj1" fmla="val -50143"/>
              <a:gd name="adj2" fmla="val 6855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533520"/>
            <a:ext cx="1447920" cy="1295280"/>
          </a:xfrm>
          <a:prstGeom prst="rect">
            <a:avLst/>
          </a:prstGeom>
          <a:solidFill>
            <a:srgbClr val="9999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838080"/>
            <a:ext cx="3200400" cy="381240"/>
          </a:xfrm>
          <a:prstGeom prst="rightArrow">
            <a:avLst>
              <a:gd name="adj1" fmla="val 50000"/>
              <a:gd name="adj2" fmla="val 2098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320000">
            <a:off x="3276360" y="2209320"/>
            <a:ext cx="2743200" cy="439920"/>
          </a:xfrm>
          <a:prstGeom prst="rightArrow">
            <a:avLst>
              <a:gd name="adj1" fmla="val 50000"/>
              <a:gd name="adj2" fmla="val 1558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689200">
            <a:off x="2514240" y="3276720"/>
            <a:ext cx="2514600" cy="480960"/>
          </a:xfrm>
          <a:prstGeom prst="rightArrow">
            <a:avLst>
              <a:gd name="adj1" fmla="val 50000"/>
              <a:gd name="adj2" fmla="val 1307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612080" y="-139680"/>
            <a:ext cx="729000" cy="28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now My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25000" y="762120"/>
            <a:ext cx="729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660066"/>
                </a:solidFill>
                <a:uFillTx/>
                <a:latin typeface="Arial"/>
                <a:hlinkClick r:id="rId2"/>
              </a:rPr>
              <a:t>本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479000">
            <a:off x="6400800" y="2895480"/>
            <a:ext cx="1392120" cy="1289160"/>
          </a:xfrm>
          <a:prstGeom prst="rect">
            <a:avLst/>
          </a:prstGeom>
          <a:solidFill>
            <a:srgbClr val="99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660066"/>
                </a:solidFill>
                <a:uFillTx/>
                <a:latin typeface="Arial"/>
                <a:hlinkClick r:id="rId3"/>
              </a:rPr>
              <a:t>交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3201600">
            <a:off x="4478760" y="4664880"/>
            <a:ext cx="1509480" cy="1476360"/>
          </a:xfrm>
          <a:prstGeom prst="rect">
            <a:avLst/>
          </a:prstGeom>
          <a:solidFill>
            <a:srgbClr val="9999ff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660066"/>
                </a:solidFill>
                <a:uFillTx/>
                <a:latin typeface="Arial"/>
                <a:hlinkClick r:id="rId4"/>
              </a:rPr>
              <a:t>处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4-08T10:06:27Z</dcterms:modified>
  <cp:revision>1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