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9.gif" ContentType="image/gif"/>
  <Override PartName="/ppt/media/image13.jpeg" ContentType="image/jpeg"/>
  <Override PartName="/ppt/media/image20.gif" ContentType="image/gif"/>
  <Override PartName="/ppt/media/image6.jpeg" ContentType="image/jpeg"/>
  <Override PartName="/ppt/media/image5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5.gif" ContentType="image/gif"/>
  <Override PartName="/ppt/media/image7.jpeg" ContentType="image/jpeg"/>
  <Override PartName="/ppt/media/image11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B1A-EFCC-4D05-BCAE-284D4643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010-13DC-4EAC-8F32-A31E483D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A28-D461-441A-ACE0-6BF42E62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2C4-6086-4292-94F4-00FDDB47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1A4-556E-48FA-B9AB-253803EA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C05-B3BE-42BA-9ECC-F37CE96D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747-5C14-421C-8430-C2896B25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4E2-F3AD-42D6-9D62-99362209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ACF-B466-4DA2-97B0-E525F476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43C-F96A-467F-AC1E-68600AA3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295-1BF3-49B6-A737-EB9C1FC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2C7-D75A-475E-9A0F-0E20BFD1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238-C0C2-4C73-9C0D-1BC46D6353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5F3E-1A2F-4F8A-8304-DC16FBAE5C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1885" t="5604" r="6676" b="11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482920" y="112392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我和我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大学生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7" descr=""/>
          <p:cNvPicPr/>
          <p:nvPr/>
        </p:nvPicPr>
        <p:blipFill>
          <a:blip r:embed="rId2"/>
          <a:stretch/>
        </p:blipFill>
        <p:spPr>
          <a:xfrm>
            <a:off x="5060880" y="3789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Sunshine Girl - moumoon.mp3" descr=""/>
          <p:cNvPicPr/>
          <p:nvPr/>
        </p:nvPicPr>
        <p:blipFill>
          <a:blip r:embed="rId3"/>
          <a:stretch/>
        </p:blipFill>
        <p:spPr>
          <a:xfrm>
            <a:off x="108000" y="6089760"/>
            <a:ext cx="73656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2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2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30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15">
                                          <p:stCondLst>
                                            <p:cond delay="16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5">
                                          <p:stCondLst>
                                            <p:cond delay="20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33" fill="hold">
                                          <p:stCondLst>
                                            <p:cond delay="8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207" fill="hold">
                                          <p:stCondLst>
                                            <p:cond delay="84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3" fill="hold">
                                          <p:stCondLst>
                                            <p:cond delay="164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207" fill="hold">
                                          <p:stCondLst>
                                            <p:cond delay="1673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3" fill="hold">
                                          <p:stCondLst>
                                            <p:cond delay="205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207" fill="hold">
                                          <p:stCondLst>
                                            <p:cond delay="20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33" fill="hold">
                                          <p:stCondLst>
                                            <p:cond delay="226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207" fill="hold">
                                          <p:stCondLst>
                                            <p:cond delay="2293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6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6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18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97">
                                          <p:stCondLst>
                                            <p:cond delay="797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98">
                                          <p:stCondLst>
                                            <p:cond delay="158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97">
                                          <p:stCondLst>
                                            <p:cond delay="1987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1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99" fill="hold">
                                          <p:stCondLst>
                                            <p:cond delay="811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" fill="hold">
                                          <p:stCondLst>
                                            <p:cond delay="15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99" fill="hold">
                                          <p:stCondLst>
                                            <p:cond delay="160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" fill="hold">
                                          <p:stCondLst>
                                            <p:cond delay="19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99" fill="hold">
                                          <p:stCondLst>
                                            <p:cond delay="2001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" fill="hold">
                                          <p:stCondLst>
                                            <p:cond delay="21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99" fill="hold">
                                          <p:stCondLst>
                                            <p:cond delay="2201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101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736000" y="37180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我的大学生活似乎已经开始了</a:t>
            </a:r>
            <a:r>
              <a:rPr b="0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22120" y="5300640"/>
            <a:ext cx="874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erlin Sans FB"/>
              </a:rPr>
              <a:t>New life begin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060800" y="66024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踏上火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4290840" y="1484280"/>
            <a:ext cx="16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离开了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4366800" y="2205000"/>
            <a:ext cx="36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离开了我的</a:t>
            </a:r>
            <a:r>
              <a:rPr b="0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old friends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1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dur="indefinite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500"/>
                            </p:stCondLst>
                            <p:childTnLst>
                              <p:par>
                                <p:cTn id="84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" dur="indefinite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dur="indefinite" nodeType="afterEffect" fill="hold" presetClass="exit" presetID="47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4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3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3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6" descr=""/>
          <p:cNvPicPr/>
          <p:nvPr/>
        </p:nvPicPr>
        <p:blipFill>
          <a:blip r:embed="rId1"/>
          <a:stretch/>
        </p:blipFill>
        <p:spPr>
          <a:xfrm>
            <a:off x="8028000" y="522144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925200" y="3940200"/>
            <a:ext cx="35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多亏了他们，我才能很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找到宿舍，他们还帮我把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李搬上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4" descr=""/>
          <p:cNvPicPr/>
          <p:nvPr/>
        </p:nvPicPr>
        <p:blipFill>
          <a:blip r:embed="rId2"/>
          <a:srcRect l="22085" t="0" r="24252" b="0"/>
          <a:stretch/>
        </p:blipFill>
        <p:spPr>
          <a:xfrm>
            <a:off x="6599160" y="830160"/>
            <a:ext cx="172872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" descr=""/>
          <p:cNvPicPr/>
          <p:nvPr/>
        </p:nvPicPr>
        <p:blipFill>
          <a:blip r:embed="rId3"/>
          <a:srcRect l="15214" t="0" r="17157" b="0"/>
          <a:stretch/>
        </p:blipFill>
        <p:spPr>
          <a:xfrm>
            <a:off x="5292720" y="843120"/>
            <a:ext cx="1943280" cy="3144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11280" y="692280"/>
            <a:ext cx="583236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d050"/>
                </a:solidFill>
                <a:latin typeface="华文琥珀"/>
                <a:ea typeface="华文琥珀"/>
              </a:rPr>
              <a:t>报到的那天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Harlow Solid Italic"/>
              </a:rPr>
              <a:t>The first day at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5" descr=""/>
          <p:cNvPicPr/>
          <p:nvPr/>
        </p:nvPicPr>
        <p:blipFill>
          <a:blip r:embed="rId4"/>
          <a:srcRect l="9235" t="3449" r="3912" b="0"/>
          <a:stretch/>
        </p:blipFill>
        <p:spPr>
          <a:xfrm>
            <a:off x="5580000" y="24163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00" y="1371600"/>
            <a:ext cx="507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所幸正当我为如山的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李发愁时，马上就有好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学长学姐来帮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1" descr=""/>
          <p:cNvPicPr/>
          <p:nvPr/>
        </p:nvPicPr>
        <p:blipFill>
          <a:blip r:embed="rId5"/>
          <a:stretch/>
        </p:blipFill>
        <p:spPr>
          <a:xfrm rot="1336800">
            <a:off x="3677760" y="2049480"/>
            <a:ext cx="1260720" cy="1260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4836240" y="938160"/>
            <a:ext cx="352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告别家人，本以为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自理能力已经很强了，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现，事实并非如此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730080" y="2165400"/>
            <a:ext cx="24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感动啊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~~~~~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dur="indefinite" nodeType="afterEffect" fill="hold" presetClass="exit" presetID="55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1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200"/>
                            </p:stCondLst>
                            <p:childTnLst>
                              <p:par>
                                <p:cTn id="127" dur="indefinite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" dur="indefinite" nodeType="after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700"/>
                            </p:stCondLst>
                            <p:childTnLst>
                              <p:par>
                                <p:cTn id="135" dur="indefinite" nodeType="afterEffect" fill="hold" presetClass="entr" presetID="2" presetSubtype="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350"/>
                            </p:stCondLst>
                            <p:childTnLst>
                              <p:par>
                                <p:cTn id="140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600"/>
                            </p:stCondLst>
                            <p:childTnLst>
                              <p:par>
                                <p:cTn id="1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850"/>
                            </p:stCondLst>
                            <p:childTnLst>
                              <p:par>
                                <p:cTn id="1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851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901"/>
                            </p:stCondLst>
                            <p:childTnLst>
                              <p:par>
                                <p:cTn id="157" dur="indefinite" nodeType="afterEffect" fill="hold" presetClass="exit" presetID="10">
                                  <p:stCondLst>
                                    <p:cond delay="3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1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451"/>
                            </p:stCondLst>
                            <p:childTnLst>
                              <p:par>
                                <p:cTn id="16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7452"/>
                            </p:stCondLst>
                            <p:childTnLst>
                              <p:par>
                                <p:cTn id="164" dur="indefinite" nodeType="after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1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9252"/>
                            </p:stCondLst>
                            <p:childTnLst>
                              <p:par>
                                <p:cTn id="168" dur="indefinite" nodeType="afterEffect" fill="hold" presetClass="exit" presetID="10">
                                  <p:stCondLst>
                                    <p:cond delay="2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952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952"/>
                            </p:stCondLst>
                            <p:childTnLst>
                              <p:par>
                                <p:cTn id="17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-9360" y="0"/>
            <a:ext cx="91422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768240" y="1700280"/>
            <a:ext cx="7797960" cy="749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4618440" y="342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3300"/>
                </a:solidFill>
                <a:latin typeface="微软雅黑"/>
                <a:ea typeface="微软雅黑"/>
              </a:rPr>
              <a:t>起初，对身边的一切事物都很好奇，因为对于我来说，处处都是新鲜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2" descr=""/>
          <p:cNvPicPr/>
          <p:nvPr/>
        </p:nvPicPr>
        <p:blipFill>
          <a:blip r:embed="rId3"/>
          <a:stretch/>
        </p:blipFill>
        <p:spPr>
          <a:xfrm>
            <a:off x="7791480" y="141300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6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4063320" y="256536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舒体"/>
                <a:ea typeface="方正舒体"/>
              </a:rPr>
              <a:t>几乎每一天都有活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078200" y="120960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才艺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161600" y="1278000"/>
            <a:ext cx="82080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楷体"/>
                <a:ea typeface="华文楷体"/>
              </a:rPr>
              <a:t>辩论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6872760" y="123660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楷体"/>
                <a:ea typeface="楷体"/>
              </a:rPr>
              <a:t>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112400" y="435276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各种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6954480" y="4378320"/>
            <a:ext cx="10342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各种讲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3933000" y="3854520"/>
            <a:ext cx="1278000" cy="459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华文楷体"/>
                <a:ea typeface="华文楷体"/>
              </a:rPr>
              <a:t>各种社团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1" descr=""/>
          <p:cNvPicPr/>
          <p:nvPr/>
        </p:nvPicPr>
        <p:blipFill>
          <a:blip r:embed="rId2"/>
          <a:stretch/>
        </p:blipFill>
        <p:spPr>
          <a:xfrm>
            <a:off x="2724120" y="1619280"/>
            <a:ext cx="727200" cy="7286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2" descr=""/>
          <p:cNvPicPr/>
          <p:nvPr/>
        </p:nvPicPr>
        <p:blipFill>
          <a:blip r:embed="rId3"/>
          <a:stretch/>
        </p:blipFill>
        <p:spPr>
          <a:xfrm>
            <a:off x="5619600" y="1531800"/>
            <a:ext cx="741600" cy="7430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3" descr=""/>
          <p:cNvPicPr/>
          <p:nvPr/>
        </p:nvPicPr>
        <p:blipFill>
          <a:blip r:embed="rId4"/>
          <a:stretch/>
        </p:blipFill>
        <p:spPr>
          <a:xfrm>
            <a:off x="2724120" y="47973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6" descr=""/>
          <p:cNvPicPr/>
          <p:nvPr/>
        </p:nvPicPr>
        <p:blipFill>
          <a:blip r:embed="rId5"/>
          <a:stretch/>
        </p:blipFill>
        <p:spPr>
          <a:xfrm>
            <a:off x="5629320" y="4797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rcRect l="2848" t="5101" r="2698" b="6282"/>
          <a:stretch/>
        </p:blipFill>
        <p:spPr>
          <a:xfrm>
            <a:off x="1547640" y="169920"/>
            <a:ext cx="6120000" cy="459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1729080" y="4761000"/>
            <a:ext cx="518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终于，问题出现了，那些最初以为不怎么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课程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终于让我抓狂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每到交作业的前一晚，我就有一夜回到高考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的感觉</a:t>
            </a:r>
            <a:r>
              <a:rPr b="1" lang="en-US" sz="2800" spc="-1" strike="noStrike">
                <a:solidFill>
                  <a:srgbClr val="7030a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2"/>
          <a:stretch/>
        </p:blipFill>
        <p:spPr>
          <a:xfrm>
            <a:off x="8028000" y="313992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" descr=""/>
          <p:cNvPicPr/>
          <p:nvPr/>
        </p:nvPicPr>
        <p:blipFill>
          <a:blip r:embed="rId3"/>
          <a:stretch/>
        </p:blipFill>
        <p:spPr>
          <a:xfrm>
            <a:off x="322200" y="69228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600"/>
                            </p:stCondLst>
                            <p:childTnLst>
                              <p:par>
                                <p:cTn id="26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600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601"/>
                            </p:stCondLst>
                            <p:childTnLst>
                              <p:par>
                                <p:cTn id="27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201"/>
                            </p:stCondLst>
                            <p:childTnLst>
                              <p:par>
                                <p:cTn id="27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2601"/>
                            </p:stCondLst>
                            <p:childTnLst>
                              <p:par>
                                <p:cTn id="286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3601"/>
                            </p:stCondLst>
                            <p:childTnLst>
                              <p:par>
                                <p:cTn id="29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755640" y="76500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-221760" y="620640"/>
            <a:ext cx="957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Calibri"/>
                <a:ea typeface="宋体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65d"/>
                </a:solidFill>
                <a:latin typeface="Calibri"/>
                <a:ea typeface="Calibri"/>
              </a:rPr>
              <a:t>    </a:t>
            </a:r>
            <a:r>
              <a:rPr b="0" lang="zh-CN" sz="1800" spc="-1" strike="noStrike">
                <a:solidFill>
                  <a:srgbClr val="17365d"/>
                </a:solidFill>
                <a:latin typeface="Calibri"/>
                <a:ea typeface="宋体"/>
              </a:rPr>
              <a:t>    </a:t>
            </a: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现在，我明白不该再让自己迷失，要找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自己最初的梦想，找到自己的方向，让每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都过得有意义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65d"/>
                </a:solidFill>
                <a:latin typeface="Bradley Hand ITC"/>
                <a:ea typeface="华文琥珀"/>
              </a:rPr>
              <a:t>I  will  greet  this  day  with  love  in  my 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65d"/>
                </a:solidFill>
                <a:latin typeface="Bradley Hand ITC"/>
                <a:ea typeface="华文琥珀"/>
              </a:rPr>
              <a:t>How   about   you   ? </a:t>
            </a:r>
            <a:r>
              <a:rPr b="0" lang="en-US" sz="2000" spc="-1" strike="noStrike">
                <a:solidFill>
                  <a:srgbClr val="17365d"/>
                </a:solidFill>
                <a:latin typeface="华文琥珀"/>
                <a:ea typeface="华文琥珀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65d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6300720" y="1133640"/>
            <a:ext cx="2452680" cy="244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25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250"/>
                            </p:stCondLst>
                            <p:childTnLst>
                              <p:par>
                                <p:cTn id="30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25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25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750"/>
                            </p:stCondLst>
                            <p:childTnLst>
                              <p:par>
                                <p:cTn id="31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25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250"/>
                            </p:stCondLst>
                            <p:childTnLst>
                              <p:par>
                                <p:cTn id="32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25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00"/>
                            </p:stCondLst>
                            <p:childTnLst>
                              <p:par>
                                <p:cTn id="32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2:23:00Z</dcterms:created>
  <dc:creator>samsung</dc:creator>
  <dc:description/>
  <dc:language>en-US</dc:language>
  <cp:lastModifiedBy>samsung</cp:lastModifiedBy>
  <cp:lastPrinted>1899-12-30T00:00:00Z</cp:lastPrinted>
  <dcterms:modified xsi:type="dcterms:W3CDTF">2011-11-08T10:06:00Z</dcterms:modified>
  <cp:revision>7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