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</p:sldIdLst>
  <p:sldSz cx="9144000" cy="6858000"/>
  <p:notesSz cx="6858000" cy="9144000"/>
  <p:custShowLst>
    <p:custShow name="自定义放映 1" id="0">
      <p:sldLst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9D9B-A4F2-483C-B6A4-BF939719C81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C1D1-D646-4B2C-9F90-8D23C9E0277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B59B-5DD8-449A-BD8A-A8600FD0039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4ED9-6F3D-4E13-AA37-39EFEFD2682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A4B3-B06C-488C-8AB8-A000D85856E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009-F077-49A7-A48B-019D36DB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CBB-477D-4CB7-A870-F9FE4B35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912CB-B1D4-4FAD-A3AA-44257599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6E9A1-C875-4A87-A44A-79F73DA1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7DB1A-504E-49EB-8A64-9AF34025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E0202-0A54-4996-B8FC-BC7C3FAD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398C0-AB52-4E7A-983C-6BAD22DC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3CC80-4FD7-460E-9704-CA573675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2E689-D6F7-4BF4-8860-D0B7A31A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38556-1396-48BB-8DEC-05DD4844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7232F-20B9-4025-9A1E-70AC2DA6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2DB93-22D6-4C64-A87A-A6271431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24A-E9CA-4944-AA5B-46F7D85A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D0C60-923C-4998-8963-AB3E7993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616C7-E4BA-48FC-8BC6-3CC91DE6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84C7D-C8F5-4783-AD39-C60CBB37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A96C4-C6C0-408B-ABC7-E457C4F8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ED115-B5D1-4E1F-B77E-7CD7ED8F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9A6AC-522F-49A1-AD73-CE9551FE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2C732-38ED-4BCF-8A94-0084C992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A5D2F-0BA5-4AAE-B098-E22D6586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8450D-F820-45BC-BB94-A3BF4A8B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15AA2-355B-4912-9155-2975FAB4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477-DE03-40D8-9E6B-ADB02B3A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EDD3F-A0AA-4AD2-B421-AF8F6BF5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25B21-5361-41E0-89EB-DDCB9CC8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03C62-C90D-43D1-9AC1-BBA9EE65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5FF32-57FA-41E1-A548-38EA4F74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60D60-7814-42A2-A561-924D8E07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DA6AC-4E79-42D9-BB31-CF622745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7301F-452F-48B3-883C-ED484C39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F8168-4D5E-4D95-8828-D641396D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32604-C94A-47D7-A26E-B9025FAF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443B7-873C-46B8-A507-258B3562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9508-DDFE-4112-9211-B0D7B217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FB4AC-706C-465A-8DFC-365CECD3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9F9B2-6AF4-4794-8C15-300FCA3C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53770-DD4E-47A5-B0A8-DC688FF0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74D67-A75E-444A-A5A6-DAF2F963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369E3-CA8F-4537-80F5-755E15D5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02EF5-0BED-478F-BA7B-7E2C3AF1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69D11-ADB6-4FC4-A8AF-472F713A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15C43-46A4-4F57-BA5F-12900104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C0B97-1565-48E8-B9B3-AF4A7069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D72A8-ACB5-4631-9082-249B12F9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EF99-6CF3-4019-86BA-82034740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2CD44-DA0E-43F5-8BE0-EA815ADC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4CE99-CF5F-49DF-A582-D8E54A16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9A969-73DA-452E-B7BF-57B9AE11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DE77B-34B2-42D8-884A-2A827EEE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4AFB7-D27F-4098-818A-D38BA26E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39E15-935D-4F1A-B5AD-7EE7E8D6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14960-19B7-4FAC-B48C-249B69EF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1EBA1-55C6-493E-9B23-BCB7316A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1AD5C-9877-480A-93F8-C669EB6B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5D1E8-0FBF-4B56-90B4-5F0394A8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502B-7A59-4BD6-8506-F58505AD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04CAC-1E4B-4059-B0AB-BEA29E51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3415C-FE18-4741-9792-E3A8EBA3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57429-0FC9-4B8D-B0EE-5AFDBBA8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575DA-2FFD-4AED-B162-4BA73402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6BFD0-DF71-47A0-841F-E7F3FDB7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63F28-B101-4297-8C70-E9C60139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69366-8C87-4F66-BE8D-6341DC29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DC6CF-8358-45F0-8248-93982E36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5138C-1C8C-4A28-8D84-019DA1CA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49F51D-780E-4769-98F2-07AA9AFE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EC40-9AFC-4897-A0B0-BEFE9789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4AD89-919F-4BBD-914F-53E6D48B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BF4E03-A080-4003-A5DA-F6E69EA6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E5F0CB-11C7-48F2-9C64-3768F4FB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0FC94-C662-4F1B-A799-35CB7BDE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EE985-0581-407A-9EDC-FAAA2655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C614F-D742-4A6C-8EDB-A2D3E264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E3899-9E31-4A98-B404-24FE86F0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0A088-4D45-4912-B871-E312DF14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41886-4985-404C-A897-35ACA88C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3393-E174-45F4-AF9F-35C2B02A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E739-DF0D-4775-96D2-F2012B31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E57F-01B4-4FE0-A3B1-C46E4D32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624-E6AC-4856-B638-F5CF8D6A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9D6D-1D0C-47A8-B8D9-8FA23EAF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BB04-356D-4CCD-A67F-8B24E0DC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E062-E5FD-48F9-A32A-89050FFD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F81C-8837-40CC-B1F6-2075F96B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76E0-F18B-4696-8982-8AB1567E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78CDD-5838-4F13-B877-CAFAB383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A56F6-546B-4CD0-85A0-934C5BFB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8D121-E5C4-4965-80D2-A7F5CCCF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97A1A-06D7-4CAC-AADC-86AD81A9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71AC1-EC7A-4A9C-BA72-AB2B7897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F43-BA16-4ADB-BFE6-DA9EB6D2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0679B-A870-4457-B8F9-62E63FDB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1C6EF-C62C-4926-9C62-9777CE7A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BCF09-4E66-4C56-A232-F52361BF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B15CF-E166-4DBA-8825-27D9E0EC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DCE9C-81BD-4436-8028-279A47C4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61023-F333-47D5-98F4-79434F2B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4B0B1-1DDA-4AA3-8EC7-686A1468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884A-6AEC-410B-B0D7-E465863F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EE958-BF47-4C13-91C9-5E4118E1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55646-8D1B-405D-88C4-18C13B17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474-D027-4F76-9FED-31F96D83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175CC-3E33-487E-8214-1074F7DF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5717D-76B6-43E3-A7B2-D5C93C55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7D272-2E08-4EAF-94B5-EB231D76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2C3B8-B0FA-4D19-AF08-3C6188EF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BA39F-6D58-4EE1-981A-D3FA8DE3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52F13-D72C-4E0B-B5E5-59292F4D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ED86C-C595-470F-954B-D254DC2D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D4EF5-F2D2-4A1D-BBAC-913D0DFE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38153-84BC-4A15-9870-A5D09324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A1D8D-A6E9-49A9-8573-5B9828C9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544-F88F-4B9E-9261-025655E4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20071-F22E-40D4-BE1E-31B19FE6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BB502-1997-4693-AB46-FDC32DF3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EBBE3-B21C-43D6-B7E2-3411C06F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22D98-B754-4B41-B004-70963C9F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6F015-7B3C-487C-8801-6213211C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DF49E-D55D-4977-AC8B-2216DC45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99DBD-CABF-4891-A2F7-114F91E1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83567-0E24-4707-8DF7-D25CB4C1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24F2F-0949-4D2B-B2B6-E34A1752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DACDD-B840-44E0-956E-398F6443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D76-6714-493B-AE4A-AA16D859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92FEF-E904-4B08-8CBD-17B05497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C9A14-4D11-4725-AA69-0CFBA174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AFE52-BA3F-4D2C-B701-629AE2D4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0A60B-68AC-4618-8173-51D9FB73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F7BC0-D14E-485D-8F2D-8CFD234E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A49B0-205E-48FC-AB07-2591F668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149FC-8E10-472C-8C2C-0679B7B6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A6053-F551-4282-9C74-1FB00262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C0E3D-59DB-457D-B3C4-430AE201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D4459-591E-49C1-A6F2-D2EE2D36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1D2-965D-42FE-BFA6-F03129D4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A27EE-E96F-4C37-A0A4-C1F41B59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674E9-3C49-44D1-BB38-9D7CD5D2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1A0E3-93AC-4141-9DB5-12AE509E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0D36F-353E-4F66-997F-F0F4C5DF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6E9F5-97FF-4473-89B3-149F7EDC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6CBC2-12F2-4689-A418-BA45B1D6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5CDD0-8FB9-4171-A5F0-D64F08B9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E11F6-1DA2-4C27-8D59-40368843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B1170-E2E4-41C6-BAD4-DFC88850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87CB2-2C30-493D-B115-D7A411A7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13D-5F16-47B5-ADAD-AA2EA2AB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C5217-89C2-4A3E-94FC-A75047D0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7A342-74E1-4898-BDB1-04BA2607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04915-EA09-4C2E-AE8A-BBEBE54F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72BC4-5524-40E9-A162-1DD02611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CB431-4ABC-44B9-A804-21D17804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657D3-F877-458F-9D47-70C4B04A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2DAF1-B932-4A00-99E6-C54E604B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D957B-586C-4D9F-957D-DDDA1412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984A9-C6FD-4FE4-90A3-1F0593B5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24354-1571-4516-A5C1-2BDE0110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358-22FE-45B1-B917-3FBE7526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94B26-2315-459A-B688-EA09F766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C9DF3-77A3-4E6D-A2C9-3901FD5E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EABC8-AB58-4147-B999-98486AFC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72507-AC5E-4755-945F-2597D505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82D52-74A4-4AF6-B5C1-B4372BF7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C152F-3035-4C43-B38F-75368A7C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CED68-2247-4AA9-B439-CF1B4116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1898A-7314-4A6A-BAF0-550092D4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7CF77-681B-4F0F-A1C4-B880F637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1CF25-95D0-4A4A-9CD2-CA4A0EFC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A804-D83F-413D-AE99-08AD0FE4BCA5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F9CD-C41A-4C3B-9480-D82410B6945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19B1-4DA4-4B1D-9CE6-32792ABCA7B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9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信息安全技术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9FBC-7313-4777-95CB-9B2457F09F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978D-36A7-4637-81B6-01D824A36EE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9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信息安全技术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E592-5897-4F90-8106-97AE84A02D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44F0-C678-4258-A084-FCFE3806CE9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9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信息安全技术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DEDC-47A0-4FE2-B4C9-5A467DCB7B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E871-8627-4DCC-BA55-055804706C2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9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信息安全技术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7825-E36E-4C32-B28A-40168472BA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E71A-CAA1-4CBC-B2B7-DFD49D5D055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9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信息安全技术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9C78-B130-4276-A8D7-59C81228B8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8519-EF9B-4A9B-B6C1-84BED8EF729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张永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7882-EB12-4452-90E6-6BD6708A114C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63A1-E2FA-4596-9A3F-312D02020FA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FF50-7FF2-4309-A461-B29823DDC3E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9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信息安全技术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CA06-3DE9-4D01-914C-5143725BDF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78A3-D188-461A-94B8-2B1021AC89D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9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信息安全技术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F6ED-3331-4740-8C85-DE2BB0EE30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573C-ED2A-4446-83C9-BE63E5F513E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9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信息安全技术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48D0-C4CE-45C8-9181-BD7371FF57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CF9D-C61A-453C-8399-CDAA18531A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9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信息安全技术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4D73-940E-4BD2-B4A5-F5683B96E8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C03D-7682-4A86-9832-29CD9FD8424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9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信息安全技术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8A4D-C431-4657-9874-E71802C8B8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5B15-0F71-4DE2-8F13-BA980AFFEDF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9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信息安全技术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754C-DED2-4967-88DA-1950AB658C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Box 3"/>
          <p:cNvSpPr/>
          <p:nvPr/>
        </p:nvSpPr>
        <p:spPr>
          <a:xfrm>
            <a:off x="826920" y="5805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隶书"/>
                <a:ea typeface="华文隶书"/>
              </a:rPr>
              <a:t>—— </a:t>
            </a:r>
            <a:r>
              <a:rPr b="1" lang="en-US" sz="2800" spc="-1" strike="noStrike">
                <a:solidFill>
                  <a:srgbClr val="7030a0"/>
                </a:solidFill>
                <a:latin typeface="华文隶书"/>
                <a:ea typeface="华文隶书"/>
              </a:rPr>
              <a:t>2011</a:t>
            </a:r>
            <a:r>
              <a:rPr b="1" lang="zh-CN" sz="2800" spc="-1" strike="noStrike">
                <a:solidFill>
                  <a:srgbClr val="7030a0"/>
                </a:solidFill>
                <a:latin typeface="华文隶书"/>
                <a:ea typeface="华文隶书"/>
              </a:rPr>
              <a:t>级工程造价二班          主题班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bacc6"/>
                </a:solidFill>
                <a:latin typeface="隶书"/>
                <a:ea typeface="隶书"/>
              </a:rPr>
              <a:t>大学生安全教育</a:t>
            </a: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           </a:t>
            </a: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之冬季防火防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希望大家能够有所收获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23880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不私拉乱接电源线，不使用超负荷大功率电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不乱扔烟头，不躺在床上吸烟，不在蚊帐内点蜡烛看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不在室内焚烧杂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台灯不要靠近枕头、蚊帐和被褥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在寝室内不得随意存放易燃易爆物品，不使用电炉、煤油炉、酒精炉、热得快及其它电器升温设备等可能引发火灾的器具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不在校园内燃放烟花爆竹，未经允许不准燃点篝火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不得挪用和损坏消防器材，不得堵塞消防通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必须使用各种安全电器，离开时务必切断电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一旦发现火情，应立即拨打火灾报警电话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9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时迅速使用灭火器等开展初始火灾的扑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68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很多学校都即将放假，但同时又是各种盗窃和诈骗案件发生的高峰期。有的以找同学的名义混进宿舍进行盗窃作案，有的是以招寒假工伟幌子进行诈骗等等。在这里重点强调一下寒假工的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案例：一个多月前，郑大工学院的张伟应聘花园路的一家公司做抄写员，每万字能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元，但公司说要先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元押金。觉得工作轻松，报酬又高，小张和几个同学都去报了名。但几天后，当小张和同学拿着抄写完毕的文章一起去领工资时，却发现公司所在的办公室大门紧锁，早没了人影，这才知道上当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30607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3ff"/>
                </a:solidFill>
                <a:latin typeface="Arial"/>
              </a:rPr>
              <a:t>如果你遇上这样的事怎么办？？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分析：一些用人单位声称为了方便管理，向应聘者收取一定数额的押金或者保证金，并承诺工作结束后退还，然而工作结束时大学生只能领到工资，保证金却不见了踪影。更有甚者，有时学生交钱以后，招聘单位又推托说职位暂时已满，或者暂时没有工作可做，要学生等消息，接下来便再也没有消息了。还有就是发工资时总是找理由拖欠不给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428760" y="85716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发现上当应先想办法把钱追回来，如果不行就到当地劳动监察部门投诉或报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其实，只要小心谨慎点，很容易识破片子的骗局。有关人士提醒，大学生防止受骗主要应把握两点：一是按有关规定，用人单位不能以任何理由收取应聘者押金；二是面对易于赚钱，薪酬超出劳动付出的工作要小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同学们切记，进工厂上班时一定要签劳动合同的，不管长期还是短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1"/>
          <p:cNvSpPr/>
          <p:nvPr/>
        </p:nvSpPr>
        <p:spPr>
          <a:xfrm>
            <a:off x="1928880" y="1619280"/>
            <a:ext cx="678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为：是非题、选择题、问答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Box 2"/>
          <p:cNvSpPr/>
          <p:nvPr/>
        </p:nvSpPr>
        <p:spPr>
          <a:xfrm>
            <a:off x="571680" y="428760"/>
            <a:ext cx="760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安全知识题 </a:t>
            </a:r>
            <a:r>
              <a:rPr b="1" lang="en-US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1"/>
          <p:cNvSpPr/>
          <p:nvPr/>
        </p:nvSpPr>
        <p:spPr>
          <a:xfrm>
            <a:off x="928800" y="28584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选 择 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Box 4"/>
          <p:cNvSpPr/>
          <p:nvPr/>
        </p:nvSpPr>
        <p:spPr>
          <a:xfrm>
            <a:off x="928800" y="1357200"/>
            <a:ext cx="7429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、电器起火时，要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打家里电话报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切断电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用灭火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928800" y="371484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、火灾发生时应马上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沿防火通道朝楼下跑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乘电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跳下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笑脸 6"/>
          <p:cNvSpPr/>
          <p:nvPr/>
        </p:nvSpPr>
        <p:spPr>
          <a:xfrm>
            <a:off x="5214960" y="2286000"/>
            <a:ext cx="500040" cy="4287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笑脸 7"/>
          <p:cNvSpPr/>
          <p:nvPr/>
        </p:nvSpPr>
        <p:spPr>
          <a:xfrm>
            <a:off x="1000080" y="4643280"/>
            <a:ext cx="500040" cy="4287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Box 5"/>
          <p:cNvSpPr/>
          <p:nvPr/>
        </p:nvSpPr>
        <p:spPr>
          <a:xfrm>
            <a:off x="785880" y="1428840"/>
            <a:ext cx="77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、火灾时不正确的脱身做法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Ａ、降低姿势，沿墙壁边缘爬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Ｂ、遇火灾时朝下风方向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Ｃ、逃生过程中一路关闭身后的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Ｄ、可用湿棉被等披在身上从火中冲出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笑脸 6"/>
          <p:cNvSpPr/>
          <p:nvPr/>
        </p:nvSpPr>
        <p:spPr>
          <a:xfrm>
            <a:off x="785880" y="3143160"/>
            <a:ext cx="571320" cy="4287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Box 8"/>
          <p:cNvSpPr/>
          <p:nvPr/>
        </p:nvSpPr>
        <p:spPr>
          <a:xfrm>
            <a:off x="928800" y="28584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选 择 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3"/>
          <p:cNvSpPr/>
          <p:nvPr/>
        </p:nvSpPr>
        <p:spPr>
          <a:xfrm>
            <a:off x="928800" y="28584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问 答 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Box 4"/>
          <p:cNvSpPr/>
          <p:nvPr/>
        </p:nvSpPr>
        <p:spPr>
          <a:xfrm>
            <a:off x="928800" y="1487520"/>
            <a:ext cx="51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、燃烧的三要素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1714680" y="226224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可燃物、助燃物、点火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4"/>
          <p:cNvSpPr/>
          <p:nvPr/>
        </p:nvSpPr>
        <p:spPr>
          <a:xfrm>
            <a:off x="900000" y="328464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、应对偷窃你有什么好办法？（答出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种以上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5"/>
          <p:cNvSpPr/>
          <p:nvPr/>
        </p:nvSpPr>
        <p:spPr>
          <a:xfrm>
            <a:off x="1214280" y="4832280"/>
            <a:ext cx="714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贵重物品保管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注意随时关好窗户、锁好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注意不要用包、手机占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提高警惕防止被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1"/>
          <p:cNvSpPr/>
          <p:nvPr/>
        </p:nvSpPr>
        <p:spPr>
          <a:xfrm>
            <a:off x="928800" y="28584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是 非 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Box 8"/>
          <p:cNvSpPr/>
          <p:nvPr/>
        </p:nvSpPr>
        <p:spPr>
          <a:xfrm>
            <a:off x="785880" y="15019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干粉灭火器用于扑救图书档案、珍贵设备、精密仪器、和其它一般物质的初起火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乘号 10"/>
          <p:cNvGrpSpPr/>
          <p:nvPr/>
        </p:nvGrpSpPr>
        <p:grpSpPr>
          <a:xfrm>
            <a:off x="3402000" y="1305000"/>
            <a:ext cx="1676520" cy="1523880"/>
            <a:chOff x="3402000" y="1305000"/>
            <a:chExt cx="1676520" cy="1523880"/>
          </a:xfrm>
        </p:grpSpPr>
        <p:pic>
          <p:nvPicPr>
            <p:cNvPr id="662" name="乘号 10" descr=""/>
            <p:cNvPicPr/>
            <p:nvPr/>
          </p:nvPicPr>
          <p:blipFill>
            <a:blip r:embed="rId2"/>
            <a:stretch/>
          </p:blipFill>
          <p:spPr>
            <a:xfrm>
              <a:off x="3402000" y="1305000"/>
              <a:ext cx="1676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3916440" y="1558800"/>
              <a:ext cx="8827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4" name="TextBox 6"/>
          <p:cNvSpPr/>
          <p:nvPr/>
        </p:nvSpPr>
        <p:spPr>
          <a:xfrm>
            <a:off x="928800" y="385776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大学生假期勤工俭学做临时工，时间比较短，不用签订书面用工协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乘号 7"/>
          <p:cNvGrpSpPr/>
          <p:nvPr/>
        </p:nvGrpSpPr>
        <p:grpSpPr>
          <a:xfrm>
            <a:off x="3548160" y="3803760"/>
            <a:ext cx="1676160" cy="1523880"/>
            <a:chOff x="3548160" y="3803760"/>
            <a:chExt cx="1676160" cy="1523880"/>
          </a:xfrm>
        </p:grpSpPr>
        <p:pic>
          <p:nvPicPr>
            <p:cNvPr id="666" name="乘号 7" descr=""/>
            <p:cNvPicPr/>
            <p:nvPr/>
          </p:nvPicPr>
          <p:blipFill>
            <a:blip r:embed="rId3"/>
            <a:stretch/>
          </p:blipFill>
          <p:spPr>
            <a:xfrm>
              <a:off x="3548160" y="3803760"/>
              <a:ext cx="16761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4059360" y="4059360"/>
              <a:ext cx="88236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前    言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校园安全问题涉及到大学生学习生活的方方面面，这中间，有关系到国家法律法规的安全问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关系到日常生活中的安全防范问题，如防火、防盗、防意外伤害，在人际交往、社团活动、求职择业等活动中防骗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进入冬季，比较干燥的天气极容易因为各种原因引发火灾，所以进入冬季后防火是校园安全的重要工作之一，此次班会重点关注校园放火防盗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Box 1"/>
          <p:cNvSpPr/>
          <p:nvPr/>
        </p:nvSpPr>
        <p:spPr>
          <a:xfrm>
            <a:off x="928800" y="28584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问 答 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84360" y="436572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、液化气着火时在周围余火未熄之前，要将着火气源的火焰熄灭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Box 5"/>
          <p:cNvSpPr/>
          <p:nvPr/>
        </p:nvSpPr>
        <p:spPr>
          <a:xfrm>
            <a:off x="1042920" y="5661000"/>
            <a:ext cx="12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不能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左箭头 9">
            <a:hlinkClick r:id="rId2" action="ppaction://hlinksldjump"/>
          </p:cNvPr>
          <p:cNvSpPr/>
          <p:nvPr/>
        </p:nvSpPr>
        <p:spPr>
          <a:xfrm>
            <a:off x="8572680" y="6500880"/>
            <a:ext cx="428400" cy="3571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Box 2"/>
          <p:cNvSpPr/>
          <p:nvPr/>
        </p:nvSpPr>
        <p:spPr>
          <a:xfrm>
            <a:off x="1116000" y="14842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、常用的灭火器有哪几种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Box 3"/>
          <p:cNvSpPr/>
          <p:nvPr/>
        </p:nvSpPr>
        <p:spPr>
          <a:xfrm>
            <a:off x="826920" y="2205000"/>
            <a:ext cx="671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泡 沫 灭 火 器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干 粉 灭 火 器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二 氧 化 碳 灭 火 器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TextBox 1"/>
          <p:cNvGrpSpPr/>
          <p:nvPr/>
        </p:nvGrpSpPr>
        <p:grpSpPr>
          <a:xfrm>
            <a:off x="146160" y="1085760"/>
            <a:ext cx="6211800" cy="1968480"/>
            <a:chOff x="146160" y="1085760"/>
            <a:chExt cx="6211800" cy="1968480"/>
          </a:xfrm>
        </p:grpSpPr>
        <p:pic>
          <p:nvPicPr>
            <p:cNvPr id="675" name="TextBox 1" descr=""/>
            <p:cNvPicPr/>
            <p:nvPr/>
          </p:nvPicPr>
          <p:blipFill>
            <a:blip r:embed="rId2"/>
            <a:stretch/>
          </p:blipFill>
          <p:spPr>
            <a:xfrm>
              <a:off x="146160" y="1085760"/>
              <a:ext cx="621180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571680" y="1357200"/>
              <a:ext cx="50720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知识守护</a:t>
              </a:r>
              <a:r>
                <a:rPr b="1" lang="zh-CN" sz="66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生命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7" name="TextBox 2"/>
          <p:cNvGrpSpPr/>
          <p:nvPr/>
        </p:nvGrpSpPr>
        <p:grpSpPr>
          <a:xfrm>
            <a:off x="1792440" y="2498760"/>
            <a:ext cx="6205320" cy="1749240"/>
            <a:chOff x="1792440" y="2498760"/>
            <a:chExt cx="6205320" cy="1749240"/>
          </a:xfrm>
        </p:grpSpPr>
        <p:pic>
          <p:nvPicPr>
            <p:cNvPr id="678" name="TextBox 2" descr=""/>
            <p:cNvPicPr/>
            <p:nvPr/>
          </p:nvPicPr>
          <p:blipFill>
            <a:blip r:embed="rId3"/>
            <a:stretch/>
          </p:blipFill>
          <p:spPr>
            <a:xfrm>
              <a:off x="1792440" y="2498760"/>
              <a:ext cx="620532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2214720" y="2770200"/>
              <a:ext cx="5286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安全铸就</a:t>
              </a:r>
              <a:r>
                <a:rPr b="1" lang="zh-CN" sz="66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成长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动作按钮: 声音 4">
            <a:hlinkClick r:id="rId4"/>
          </p:cNvPr>
          <p:cNvSpPr/>
          <p:nvPr/>
        </p:nvSpPr>
        <p:spPr>
          <a:xfrm>
            <a:off x="8572680" y="650088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8406"/>
                </a:moveTo>
                <a:lnTo>
                  <a:pt x="10377" y="8406"/>
                </a:lnTo>
                <a:lnTo>
                  <a:pt x="14799" y="3794"/>
                </a:lnTo>
                <a:lnTo>
                  <a:pt x="14799" y="17806"/>
                </a:lnTo>
                <a:lnTo>
                  <a:pt x="10377" y="13194"/>
                </a:lnTo>
                <a:lnTo>
                  <a:pt x="5947" y="13194"/>
                </a:lnTo>
                <a:close/>
              </a:path>
              <a:path fill="darken" w="25907" h="21600">
                <a:moveTo>
                  <a:pt x="16452" y="10800"/>
                </a:moveTo>
                <a:lnTo>
                  <a:pt x="19960" y="10800"/>
                </a:lnTo>
              </a:path>
              <a:path fill="darken" w="25907" h="21600">
                <a:moveTo>
                  <a:pt x="16452" y="8406"/>
                </a:moveTo>
                <a:lnTo>
                  <a:pt x="19960" y="5639"/>
                </a:lnTo>
              </a:path>
              <a:path fill="darken" w="25907" h="21600">
                <a:moveTo>
                  <a:pt x="16452" y="13194"/>
                </a:moveTo>
                <a:lnTo>
                  <a:pt x="19960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TextBox 1"/>
          <p:cNvGrpSpPr/>
          <p:nvPr/>
        </p:nvGrpSpPr>
        <p:grpSpPr>
          <a:xfrm>
            <a:off x="146160" y="981000"/>
            <a:ext cx="4297320" cy="1884600"/>
            <a:chOff x="146160" y="981000"/>
            <a:chExt cx="4297320" cy="1884600"/>
          </a:xfrm>
        </p:grpSpPr>
        <p:pic>
          <p:nvPicPr>
            <p:cNvPr id="682" name="TextBox 1" descr=""/>
            <p:cNvPicPr/>
            <p:nvPr/>
          </p:nvPicPr>
          <p:blipFill>
            <a:blip r:embed="rId2"/>
            <a:stretch/>
          </p:blipFill>
          <p:spPr>
            <a:xfrm>
              <a:off x="146160" y="981000"/>
              <a:ext cx="4297320" cy="18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422280" y="1255680"/>
              <a:ext cx="3429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  </a:t>
              </a:r>
              <a:r>
                <a:rPr b="1" lang="zh-CN" sz="6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珍爱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4" name="TextBox 2"/>
          <p:cNvGrpSpPr/>
          <p:nvPr/>
        </p:nvGrpSpPr>
        <p:grpSpPr>
          <a:xfrm>
            <a:off x="1116000" y="3071880"/>
            <a:ext cx="4473720" cy="1622520"/>
            <a:chOff x="1116000" y="3071880"/>
            <a:chExt cx="4473720" cy="1622520"/>
          </a:xfrm>
        </p:grpSpPr>
        <p:pic>
          <p:nvPicPr>
            <p:cNvPr id="685" name="TextBox 2" descr=""/>
            <p:cNvPicPr/>
            <p:nvPr/>
          </p:nvPicPr>
          <p:blipFill>
            <a:blip r:embed="rId3"/>
            <a:stretch/>
          </p:blipFill>
          <p:spPr>
            <a:xfrm>
              <a:off x="1116000" y="3071880"/>
              <a:ext cx="44737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1541520" y="330660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构建和谐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7" name="TextBox 5"/>
          <p:cNvGrpSpPr/>
          <p:nvPr/>
        </p:nvGrpSpPr>
        <p:grpSpPr>
          <a:xfrm>
            <a:off x="3060720" y="268200"/>
            <a:ext cx="4578480" cy="2475000"/>
            <a:chOff x="3060720" y="268200"/>
            <a:chExt cx="4578480" cy="2475000"/>
          </a:xfrm>
        </p:grpSpPr>
        <p:pic>
          <p:nvPicPr>
            <p:cNvPr id="688" name="TextBox 5" descr=""/>
            <p:cNvPicPr/>
            <p:nvPr/>
          </p:nvPicPr>
          <p:blipFill>
            <a:blip r:embed="rId4"/>
            <a:stretch/>
          </p:blipFill>
          <p:spPr>
            <a:xfrm>
              <a:off x="3060720" y="268200"/>
              <a:ext cx="457848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3790800" y="725400"/>
              <a:ext cx="314352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生命</a:t>
              </a:r>
              <a:endParaRPr b="0" lang="en-US" sz="10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0" name="TextBox 6"/>
          <p:cNvGrpSpPr/>
          <p:nvPr/>
        </p:nvGrpSpPr>
        <p:grpSpPr>
          <a:xfrm>
            <a:off x="4065480" y="2279520"/>
            <a:ext cx="4584960" cy="3535560"/>
            <a:chOff x="4065480" y="2279520"/>
            <a:chExt cx="4584960" cy="3535560"/>
          </a:xfrm>
        </p:grpSpPr>
        <p:pic>
          <p:nvPicPr>
            <p:cNvPr id="691" name="TextBox 6" descr=""/>
            <p:cNvPicPr/>
            <p:nvPr/>
          </p:nvPicPr>
          <p:blipFill>
            <a:blip r:embed="rId5"/>
            <a:stretch/>
          </p:blipFill>
          <p:spPr>
            <a:xfrm>
              <a:off x="4065480" y="2279520"/>
              <a:ext cx="4584960" cy="26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4799160" y="2673360"/>
              <a:ext cx="2928960" cy="31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校园</a:t>
              </a:r>
              <a:endParaRPr b="0" lang="en-US" sz="10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4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7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TextBox 4"/>
          <p:cNvGrpSpPr/>
          <p:nvPr/>
        </p:nvGrpSpPr>
        <p:grpSpPr>
          <a:xfrm>
            <a:off x="92160" y="1908000"/>
            <a:ext cx="9045360" cy="2414880"/>
            <a:chOff x="92160" y="1908000"/>
            <a:chExt cx="9045360" cy="2414880"/>
          </a:xfrm>
        </p:grpSpPr>
        <p:pic>
          <p:nvPicPr>
            <p:cNvPr id="694" name="TextBox 4" descr=""/>
            <p:cNvPicPr/>
            <p:nvPr/>
          </p:nvPicPr>
          <p:blipFill>
            <a:blip r:embed="rId2"/>
            <a:stretch/>
          </p:blipFill>
          <p:spPr>
            <a:xfrm>
              <a:off x="92160" y="1908000"/>
              <a:ext cx="9045360" cy="24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824040" y="2303640"/>
              <a:ext cx="734832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到 此 结 束</a:t>
              </a:r>
              <a:endParaRPr b="0" lang="en-US" sz="10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5840" y="2282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3ff"/>
                </a:solidFill>
                <a:latin typeface="Arial"/>
              </a:rPr>
              <a:t>高校发生火灾的原因都有哪些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使用明火不慎，引起火灾。如违章点蜡烛、点蚊香、吸烟、使用液化气和焚烧垃圾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电气火灾。如违章用电、使用电器不当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违反实验室操作规程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高校火灾盗窃案例：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北京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0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１１月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凌晨，北京清华大学内清华学堂修缮工地起火，消防部门出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部消防车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名官兵，经过两个多小时的扑救将大火扑灭，现场无人员伤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起火原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“事发前有学生在学堂附近放烟花和点孔明灯。”昨日，一名学生推测，有可能是学生在庆祝“男生节”时燃放烟花散出的火星，将学堂内部的木质结构引燃导致的火灾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13840" y="1447560"/>
            <a:ext cx="8643960" cy="390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如果你突遇火灾时，你的第一                             反应是什么，你又会怎么做？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6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e3e3ff"/>
                </a:solidFill>
                <a:latin typeface="Arial"/>
              </a:rPr>
              <a:t>、熟悉环境，临危不乱。当火势较小时，应利用身边的灭火工具将火扑灭，防止火势的蔓延和减少损失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。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32" name="Picture 2" descr="C:\Users\Administrator\Desktop\7716b8ed261ef7c2c53315594caeff07.jpg"/>
          <p:cNvPicPr/>
          <p:nvPr/>
        </p:nvPicPr>
        <p:blipFill>
          <a:blip r:embed="rId1"/>
          <a:stretch/>
        </p:blipFill>
        <p:spPr>
          <a:xfrm>
            <a:off x="285840" y="2071800"/>
            <a:ext cx="84294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57120" y="17859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如果身边的火势较大并难以控制时又该怎么办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28760" y="15717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保持镇静，明辨方向，迅速撤离。突遇火灾时，首先要强令自己保持镇静，千万不要盲目地服从人流和相互拥挤、乱冲乱撞。撤离时要注意朝明亮处或外面空旷地方跑，要尽量往楼层下面跑，若通道已被烟火封阻，则应背向烟火方向离开，通过阳台、窗台等通往室外的出口逃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不入险地，不贪财物。在火场中，人的生命最重要，不要因害羞或顾及贵重物品，把宝贵的逃生时间浪费在穿衣服或寻找、搬运贵重物品上。已逃离火场的人，千万不要重返险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362800" cy="399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8000"/>
                </a:solidFill>
                <a:latin typeface="Arial"/>
              </a:rPr>
              <a:t>为了预防火灾的发生我们该怎么做呢？？？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02:49:14Z</dcterms:created>
  <dc:creator>wangbin</dc:creator>
  <dc:description/>
  <dc:language>en-US</dc:language>
  <cp:lastModifiedBy>Sky123.Org</cp:lastModifiedBy>
  <dcterms:modified xsi:type="dcterms:W3CDTF">2012-12-16T15:07:48Z</dcterms:modified>
  <cp:revision>155</cp:revision>
  <dc:subject/>
  <dc:title>幻灯片 1</dc:title>
</cp:coreProperties>
</file>