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%E4%BA%A1%E7%81%B5%E5%BA%8F%E6%9B%B2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78E-ABC2-4FF8-9FD3-E72A171B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734-7500-47F3-8F1E-9C4CDAF8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93DBF-0503-4015-850D-BADAFA7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D775B-4947-4412-A308-B6CCCD21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513B2-6084-44E7-9D1B-695808C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65E64-83C4-40EB-A77E-D02501A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6268D-7084-4E7C-B98C-A1A0ADF4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CA5F8-A15B-4475-A33A-E874F95A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F5BFD-7302-494C-B0D8-18FDCDC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27167-D6C1-48D4-BA33-80AC83DE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F0689-DF75-4042-ACAC-91918C7A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E7DF5-F401-4135-B855-49ECF9E9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75C-F570-496C-BAFE-1BD016DD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D29F1-7CF0-46D0-A54E-85827BC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E7CCF-AD34-47E2-A547-D8D373E4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DBAB0-A711-40E5-952B-F2E1BE61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7FCC0-0D3D-48D3-B555-DC393173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EB17D-FAFC-41CE-BD08-6AE02D3B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23217-ACF2-4AD2-81B9-4B12F5D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B58E0-A15C-4708-8E7B-78915EB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B7127-6E9C-427A-9936-1EA6A49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DB617-A20B-4AAF-B3E4-B62D619C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6957A-348B-44C6-8642-B9797E71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F70-D3F9-4CE7-A042-D85D290E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7C77B-D162-433B-9B4A-73A069E8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E26A1-8FB1-4546-9F4E-0F0A1377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AFBE0-91F6-4840-94D6-9A6AF81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82C82-943C-4451-BE13-C5477D99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2690C-5904-4DBF-BE81-0214784B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7F43B-FB70-44AD-B201-4D4FBFA5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B3596-233E-4034-BED8-0A40793C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2454B-B84F-4867-A22C-32108D2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1669B-9A1C-41D4-BAFF-D6185CE9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16697-3C3B-4B03-9A8F-F7EF544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F5EA-A4A2-4B39-B226-F2288500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39C61-9181-4053-B52A-F31C85D3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4821F-E61F-4956-AF48-34D2DEA8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70405-6447-467E-A405-6B72B2B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C715C-A3A5-464E-992A-48164476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35253-C270-427B-B67F-BB0B4DA6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A3775-13B0-4889-BB7C-3FFF4D56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8954A-F841-4B31-8D69-34DC4B77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A194B-CC85-4F51-8694-EB2EDD93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47E58-9464-4605-BC78-023B92A9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3AFA0-CFA0-45E3-B228-537EA7C6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CDCF-7D2D-46E3-8214-13F6797B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B2518-BA3E-4500-81F5-B67A1C4E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23E8F-2402-42A8-BE4A-94EE27EF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9B1B6-3B56-4547-9EB5-56789546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FB3BC-A8D3-4AB2-9147-A53F7840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BA7EA-9872-4A33-AA85-D6975C38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6BFAA-1432-4F3D-9EFD-B850FA03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8BCBC-4C3F-4B7C-AFC9-9C1604E8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807F5-6D57-42DE-B834-AF89EC98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1C8C5-326B-47C7-96F3-DE0878D5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B0D77-6925-4458-904A-47BF170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3035-19B4-44DE-9FAC-341CC729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3B2D0-2222-42F2-83A4-1391E55F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621AB-89DE-4CAD-AEEB-2D9122EC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8DC04-7495-4E07-9B83-12BB7848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91CB2-B1E9-4EBE-B668-901A14FC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751BF-C203-4915-90E2-11EC4BE4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6E918-0966-46C0-A47E-01FF5FD2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DE692-6290-4DAE-88D2-D3FB2356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9298-DAAC-4275-925D-C5A8090F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6E15-82E3-4B9F-8EA5-4808A93C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0BC8-67F3-4084-8EC0-5B654511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0D2B-6C7A-41E9-A1CF-F03173E1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048-0AF1-4410-A57A-A43410D5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A627-925F-4419-B712-3494773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4564-BEE7-4B54-994A-674ADEA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872F-1BE3-4994-A434-46668B2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9114-8468-47D1-90DB-46D9BDCB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4EEB-1B47-40F9-A314-3EEC18FB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E1D5-4384-478D-8724-F250088B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69F2-45A4-4EB6-B0DD-765C2CEA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2ED9-7ACD-4E88-B85C-1FA1D3B6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C7C1-D4C1-47B3-897D-B99728EA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BC96-1CEC-4801-8F07-FBD440B2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AD5-0C1D-4A7B-A280-03A725D8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0D1AB-6C18-4B0D-87F0-0DE1E087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F07F-DBAA-4E83-A12D-4560448C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79BB-106E-4A6D-9D4D-36971B6E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55CF-44DC-4EE7-9BE3-E138C537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7072-C480-4F18-8BCF-0EA1FA8F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00C0-8CF6-40D7-9E3D-FD2A9D81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61FE-284B-4AFC-AE16-5B97639D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A788E-EFBF-4240-8CA3-F02574C0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81D1-34AF-4D41-86A9-80C81B2C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6123-44E2-4795-BBD2-1A3F6186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F69-F5B2-4B5F-82A8-D60AB398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C700-C9AE-4F6C-8BA2-B054191B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77C3-BDB0-4BAD-B757-E903B4F4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90069-8BFA-478B-8217-EFFDC399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3E4A-58BE-4E56-A975-0555D75A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016E-1809-48F8-9608-F2CA4C05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33C29-F8F2-4633-B5FE-5B4C8A2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BB65-12FC-47B1-B9E0-3552C7C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66E4-85C0-43D8-9897-3C2271DF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AC28-456F-45F5-8C14-D9D12167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4C807-73B9-4170-886C-0D35BCEC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209-FEA6-4A30-9E12-590A9222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25DEC-C6A1-4058-A323-821032F2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6B75D-7116-4182-87EF-4FC334C5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8DD2F-19B8-4792-B3C2-4575842F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722C-3C80-47F5-8489-E3B22301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E79C5-DE6A-4B0F-9BC8-3800EAB2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3B4CC-761A-45AE-A489-9B85AD2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A6180-E7C7-4AD3-BADE-0CB6F48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FE70-8A87-498A-A698-2D1642CD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AE58-57CE-4F7F-B18E-44595600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73606-1A5D-4ED8-9CC7-695AE53B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1E1-6FAD-4B0C-A9A0-979C7478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5AE69-6636-4FDB-844C-7D66BC77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5DB3-C7C5-469C-BD1D-AF9EEDFB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9BA53-61F1-45F8-90E6-598A353C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8E173-53F1-4D84-9FBA-A4E043BA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CD767-AFBC-47AA-BBF5-E55291F4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53D5B-508A-470D-8073-2309A4E7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E3B8-1912-43CC-BC36-FB81C9FF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4638-A139-4BE1-AA76-69C633FF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D189-8730-42C1-B9B9-2E4275E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4741F-B117-4BC4-8F75-0021BD79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821-3EB0-4304-BB40-7230D30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6376A-EA2D-422D-B9A8-77DDDAD8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1EA11-326A-438E-A65C-AB5388D9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6F618-E897-4200-9AAD-DC148E33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13665-F84B-4CEF-A631-4F99A190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86E6E-32ED-43A2-B54C-3345363B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B138C-6327-4E87-A949-EAECC16D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F6E16-AFE2-47F4-902B-EE48D005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4B946-A431-4846-A2A1-98C66566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5BC3-1613-4941-948D-A19ECA76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D3FD2-E20F-4D00-8605-70DDFE3A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6AA-8879-408D-ABA4-717F5123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2C0A1-9C55-44C3-910E-D0320E8C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2F18C-3DE1-440E-ABE9-6C6AFC13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ADBE5-25B9-4C69-BBF8-AE01F2FB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A6485-C301-4639-A058-E4943D16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3E8A2-D263-43F0-A28F-192052D0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2F295-80CE-421C-B41B-106EBF4E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79308-F676-4C2B-A5B3-7F8CEBB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1FDC9-5FBE-4ACD-B9B1-FEE706DB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44D55-0E70-439C-B7D3-B283E26A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2503-C1CC-4E4B-ACCE-A6E984ED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2CF-EFBF-4F51-A21E-1EF7DD24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FA609-55EA-4242-8D0A-1386F742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889DF-3027-4A69-9B40-FD5383C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553EC-D725-4A02-9322-C6C4857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AE8A0-A035-4512-8207-2B920E19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76447-9F4C-4ADA-8FD5-127AAE6D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58B80-A372-428A-8324-D61B68CA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169B1-4C7B-47CF-A122-564A6354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CFB72-9E7F-4E76-976F-9612A1E1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C5E1B-15AF-472E-AB5E-D2AC4FF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8D79F-3696-4BE0-9764-EFAD561F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E769-00F2-46E2-BC04-CF2896D6A1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25C1-92DF-43BF-8B8B-517662E410B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E036-DE27-4C2C-969C-DB939D01766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92A3-CCAA-4716-9E7C-2BEB663B2E7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0FDC-7787-42BF-8E5E-DEC4D9EF3A4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8488-BC7B-4B51-9F12-B9BD24D6C9F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B4D6-3230-4FFA-9985-24A3F2C648D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B56E-3DE9-475F-B4B5-E19FD3C46CF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782C-6943-4BCB-BEE0-AE905B9E4E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BEA8-2E6E-4515-90C4-F8084142230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9B9D-DFAB-4234-9263-FACD820BF6C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5384-B886-43CD-870A-CE93319E233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2AD3-2D64-44F1-8AE3-9B6977A31E8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C5F0-6B3C-4AA3-8535-62B39DCC7CB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9EB8-4DA0-4E6F-BC65-A055EF5618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8064-66D8-4A18-9E9C-305872704F0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17A6-18B6-449C-A934-DF35B837B92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7098-5ACF-411C-AA64-781E2A28601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EF2D-DD92-4AD8-A6E5-E19CC35A4F7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CABE-DCE7-4CB3-9F9B-63808CCCDAF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7D7-373D-4E92-AEAE-527508F826D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29F7-C8F9-411C-A2B2-6B80329EB9C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3412-1178-431F-B3AB-850ECCFA58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27B8-F957-4DFA-B14D-C2249CFC1CC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8483-3C59-4D03-AEA1-0C3F2C048B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audio" Target="../media/&#20129;&#28789;&#24207;&#26354;.wav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6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17" descr="5.pn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421488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18" descr="4.png"/>
          <p:cNvPicPr/>
          <p:nvPr/>
        </p:nvPicPr>
        <p:blipFill>
          <a:blip r:embed="rId3"/>
          <a:stretch/>
        </p:blipFill>
        <p:spPr>
          <a:xfrm>
            <a:off x="0" y="2541600"/>
            <a:ext cx="9144000" cy="31734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9" descr="3.png"/>
          <p:cNvPicPr/>
          <p:nvPr/>
        </p:nvPicPr>
        <p:blipFill>
          <a:blip r:embed="rId4"/>
          <a:stretch/>
        </p:blipFill>
        <p:spPr>
          <a:xfrm>
            <a:off x="-214200" y="4114800"/>
            <a:ext cx="9574200" cy="16574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20" descr="12.png"/>
          <p:cNvPicPr/>
          <p:nvPr/>
        </p:nvPicPr>
        <p:blipFill>
          <a:blip r:embed="rId5"/>
          <a:stretch/>
        </p:blipFill>
        <p:spPr>
          <a:xfrm>
            <a:off x="0" y="1554120"/>
            <a:ext cx="9144000" cy="41608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5" descr="1.png"/>
          <p:cNvPicPr/>
          <p:nvPr/>
        </p:nvPicPr>
        <p:blipFill>
          <a:blip r:embed="rId6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23"/>
          <p:cNvSpPr/>
          <p:nvPr/>
        </p:nvSpPr>
        <p:spPr>
          <a:xfrm>
            <a:off x="4140360" y="157464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祖国</a:t>
            </a:r>
            <a:r>
              <a:rPr b="0" lang="en-US" sz="4000" spc="-1" strike="noStrike">
                <a:solidFill>
                  <a:srgbClr val="c00000"/>
                </a:solidFill>
                <a:latin typeface="方正大标宋简体"/>
                <a:ea typeface="方正大标宋简体"/>
              </a:rPr>
              <a:t>6</a:t>
            </a:r>
            <a:r>
              <a:rPr b="0" lang="zh-CN" sz="4000" spc="-1" strike="noStrike">
                <a:solidFill>
                  <a:srgbClr val="c00000"/>
                </a:solidFill>
                <a:latin typeface="方正大标宋简体"/>
                <a:ea typeface="方正大标宋简体"/>
              </a:rPr>
              <a:t>4</a:t>
            </a:r>
            <a:r>
              <a:rPr b="0" lang="zh-CN" sz="4000" spc="-1" strike="noStrike">
                <a:solidFill>
                  <a:srgbClr val="c00000"/>
                </a:solidFill>
                <a:latin typeface="方正大标宋简体"/>
                <a:ea typeface="方正大标宋简体"/>
              </a:rPr>
              <a:t>华诞</a:t>
            </a:r>
            <a:r>
              <a:rPr b="0" lang="zh-CN" sz="22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举国欢腾</a:t>
            </a:r>
            <a:r>
              <a:rPr b="0" lang="zh-CN" sz="22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庆国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0"/>
          <p:cNvSpPr/>
          <p:nvPr/>
        </p:nvSpPr>
        <p:spPr>
          <a:xfrm>
            <a:off x="3260880" y="2673360"/>
            <a:ext cx="30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4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4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28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9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900"/>
                            </p:stCondLst>
                            <p:childTnLst>
                              <p:par>
                                <p:cTn id="43" nodeType="afterEffect" fill="hold" presetClass="exit" presetID="23" presetSubtype="20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2">
                                  <p:stCondLst>
                                    <p:cond delay="2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" dur="6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4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15" descr="5.pn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421488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16" descr="4.png"/>
          <p:cNvPicPr/>
          <p:nvPr/>
        </p:nvPicPr>
        <p:blipFill>
          <a:blip r:embed="rId3"/>
          <a:stretch/>
        </p:blipFill>
        <p:spPr>
          <a:xfrm>
            <a:off x="108000" y="2541600"/>
            <a:ext cx="9144000" cy="3173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17" descr="3.png"/>
          <p:cNvPicPr/>
          <p:nvPr/>
        </p:nvPicPr>
        <p:blipFill>
          <a:blip r:embed="rId4"/>
          <a:stretch/>
        </p:blipFill>
        <p:spPr>
          <a:xfrm>
            <a:off x="0" y="4057560"/>
            <a:ext cx="9575640" cy="165744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27" descr="6.png"/>
          <p:cNvPicPr/>
          <p:nvPr/>
        </p:nvPicPr>
        <p:blipFill>
          <a:blip r:embed="rId5"/>
          <a:stretch/>
        </p:blipFill>
        <p:spPr>
          <a:xfrm>
            <a:off x="0" y="858960"/>
            <a:ext cx="2341440" cy="48560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8" descr="7.png"/>
          <p:cNvPicPr/>
          <p:nvPr/>
        </p:nvPicPr>
        <p:blipFill>
          <a:blip r:embed="rId6"/>
          <a:stretch/>
        </p:blipFill>
        <p:spPr>
          <a:xfrm>
            <a:off x="0" y="4379760"/>
            <a:ext cx="9144000" cy="133524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4"/>
          <p:cNvSpPr/>
          <p:nvPr/>
        </p:nvSpPr>
        <p:spPr>
          <a:xfrm>
            <a:off x="4441680" y="185724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中华人民共和国成立</a:t>
            </a:r>
            <a:r>
              <a:rPr b="0" lang="en-US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周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5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7D44-2568-40C1-A8BF-2883872321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1" descr=""/>
          <p:cNvPicPr/>
          <p:nvPr/>
        </p:nvPicPr>
        <p:blipFill>
          <a:blip r:embed="rId1"/>
          <a:stretch/>
        </p:blipFill>
        <p:spPr>
          <a:xfrm>
            <a:off x="0" y="1130400"/>
            <a:ext cx="9144000" cy="3862440"/>
          </a:xfrm>
          <a:prstGeom prst="rect">
            <a:avLst/>
          </a:prstGeom>
          <a:ln w="0">
            <a:noFill/>
          </a:ln>
        </p:spPr>
      </p:pic>
      <p:sp>
        <p:nvSpPr>
          <p:cNvPr id="550" name="Line 7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-20520" y="1047600"/>
            <a:ext cx="913896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0" y="496404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3"/>
          <p:cNvSpPr/>
          <p:nvPr/>
        </p:nvSpPr>
        <p:spPr>
          <a:xfrm>
            <a:off x="-2019240" y="0"/>
            <a:ext cx="9144000" cy="99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5" descr="热气球"/>
          <p:cNvPicPr/>
          <p:nvPr/>
        </p:nvPicPr>
        <p:blipFill>
          <a:blip r:embed="rId2"/>
          <a:stretch/>
        </p:blipFill>
        <p:spPr>
          <a:xfrm>
            <a:off x="7164360" y="301680"/>
            <a:ext cx="1428840" cy="165564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8" descr="07.png"/>
          <p:cNvPicPr/>
          <p:nvPr/>
        </p:nvPicPr>
        <p:blipFill>
          <a:blip r:embed="rId3"/>
          <a:stretch/>
        </p:blipFill>
        <p:spPr>
          <a:xfrm>
            <a:off x="2147760" y="-58680"/>
            <a:ext cx="984240" cy="8143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美女跳舞2"/>
          <p:cNvPicPr/>
          <p:nvPr/>
        </p:nvPicPr>
        <p:blipFill>
          <a:blip r:embed="rId4"/>
          <a:stretch/>
        </p:blipFill>
        <p:spPr>
          <a:xfrm>
            <a:off x="179280" y="1117440"/>
            <a:ext cx="2297160" cy="4373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0" descr="绿风车棍子"/>
          <p:cNvPicPr/>
          <p:nvPr/>
        </p:nvPicPr>
        <p:blipFill>
          <a:blip r:embed="rId5"/>
          <a:stretch/>
        </p:blipFill>
        <p:spPr>
          <a:xfrm>
            <a:off x="8461440" y="3516480"/>
            <a:ext cx="71280" cy="1380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9" descr="绿风车"/>
          <p:cNvPicPr/>
          <p:nvPr/>
        </p:nvPicPr>
        <p:blipFill>
          <a:blip r:embed="rId6"/>
          <a:stretch/>
        </p:blipFill>
        <p:spPr>
          <a:xfrm>
            <a:off x="7850160" y="3103560"/>
            <a:ext cx="1217520" cy="10159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55" descr=""/>
          <p:cNvPicPr/>
          <p:nvPr/>
        </p:nvPicPr>
        <p:blipFill>
          <a:blip r:embed="rId7"/>
          <a:stretch/>
        </p:blipFill>
        <p:spPr>
          <a:xfrm rot="2305200">
            <a:off x="5455800" y="28893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56" descr=""/>
          <p:cNvPicPr/>
          <p:nvPr/>
        </p:nvPicPr>
        <p:blipFill>
          <a:blip r:embed="rId8"/>
          <a:stretch/>
        </p:blipFill>
        <p:spPr>
          <a:xfrm rot="2305200">
            <a:off x="2293560" y="24591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7" descr=""/>
          <p:cNvPicPr/>
          <p:nvPr/>
        </p:nvPicPr>
        <p:blipFill>
          <a:blip r:embed="rId9"/>
          <a:stretch/>
        </p:blipFill>
        <p:spPr>
          <a:xfrm rot="2305200">
            <a:off x="2293560" y="29401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8" descr=""/>
          <p:cNvPicPr/>
          <p:nvPr/>
        </p:nvPicPr>
        <p:blipFill>
          <a:blip r:embed="rId10"/>
          <a:stretch/>
        </p:blipFill>
        <p:spPr>
          <a:xfrm rot="2305200">
            <a:off x="2293560" y="342108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9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7:41:21Z</dcterms:created>
  <dc:creator>ppt宝藏</dc:creator>
  <dc:description/>
  <cp:keywords/>
  <dc:language>en-US</dc:language>
  <cp:lastModifiedBy>clf2015</cp:lastModifiedBy>
  <dcterms:modified xsi:type="dcterms:W3CDTF">2015-08-30T03:17:05Z</dcterms:modified>
  <cp:revision>3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