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34.jpeg" ContentType="image/jpeg"/>
  <Override PartName="/ppt/media/image36.jpeg" ContentType="image/jpeg"/>
  <Override PartName="/ppt/media/image20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30.jpeg" ContentType="image/jpeg"/>
  <Override PartName="/ppt/media/image31.png" ContentType="image/png"/>
  <Override PartName="/ppt/media/image3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42.gif" ContentType="image/gif"/>
  <Override PartName="/ppt/media/image43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8.wmf" ContentType="image/x-wmf"/>
  <Override PartName="/ppt/media/image4.jpeg" ContentType="image/jpeg"/>
  <Override PartName="/ppt/media/image2.png" ContentType="image/png"/>
  <Override PartName="/ppt/media/image32.png" ContentType="image/pn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C35-9349-43FD-AA2D-AFD6256D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3BCA-94B1-47F6-8DE7-6FB1E847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766F-BBC3-479A-9F47-EA6B38CB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9021-63E6-4EF5-BDBB-8DA72226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F70-86A4-4796-8508-9885A537F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85B2-971E-4C0B-BB5F-ADF7E935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13B5-BDFC-47D6-84CE-A7D483BD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CE2C-F734-455D-9C49-65E7B24C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E04-0188-490E-BFA2-94972EDD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2A7-5992-43F9-9363-868D0D1B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A2F-A0B1-4F48-8B16-4D2941DB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D019-1E26-4A2F-AECD-FF903CF2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D68-81A2-46E2-A281-928F5EE655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image" Target="../media/image14.jpeg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" Target="slide15.xml"/><Relationship Id="rId10" Type="http://schemas.openxmlformats.org/officeDocument/2006/relationships/image" Target="../media/image8.wmf"/><Relationship Id="rId11" Type="http://schemas.openxmlformats.org/officeDocument/2006/relationships/slide" Target="slide12.xml"/><Relationship Id="rId12" Type="http://schemas.openxmlformats.org/officeDocument/2006/relationships/image" Target="../media/image8.wmf"/><Relationship Id="rId13" Type="http://schemas.openxmlformats.org/officeDocument/2006/relationships/slide" Target="slide13.xml"/><Relationship Id="rId14" Type="http://schemas.openxmlformats.org/officeDocument/2006/relationships/image" Target="../media/image8.wmf"/><Relationship Id="rId15" Type="http://schemas.openxmlformats.org/officeDocument/2006/relationships/slide" Target="slide14.xml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1.xml"/><Relationship Id="rId3" Type="http://schemas.openxmlformats.org/officeDocument/2006/relationships/image" Target="../media/image8.wmf"/><Relationship Id="rId4" Type="http://schemas.openxmlformats.org/officeDocument/2006/relationships/slide" Target="slide11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8.wmf"/><Relationship Id="rId3" Type="http://schemas.openxmlformats.org/officeDocument/2006/relationships/slide" Target="slide11.xm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19.jpeg"/><Relationship Id="rId6" Type="http://schemas.openxmlformats.org/officeDocument/2006/relationships/slide" Target="slide21.xml"/><Relationship Id="rId7" Type="http://schemas.openxmlformats.org/officeDocument/2006/relationships/image" Target="../media/image8.wmf"/><Relationship Id="rId8" Type="http://schemas.openxmlformats.org/officeDocument/2006/relationships/slide" Target="slide18.xml"/><Relationship Id="rId9" Type="http://schemas.openxmlformats.org/officeDocument/2006/relationships/image" Target="../media/image8.wmf"/><Relationship Id="rId10" Type="http://schemas.openxmlformats.org/officeDocument/2006/relationships/slide" Target="slide19.xml"/><Relationship Id="rId11" Type="http://schemas.openxmlformats.org/officeDocument/2006/relationships/image" Target="../media/image8.wmf"/><Relationship Id="rId12" Type="http://schemas.openxmlformats.org/officeDocument/2006/relationships/slide" Target="slide20.xml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8.wmf"/><Relationship Id="rId3" Type="http://schemas.openxmlformats.org/officeDocument/2006/relationships/slide" Target="slide17.xml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6.xml"/><Relationship Id="rId4" Type="http://schemas.openxmlformats.org/officeDocument/2006/relationships/slide" Target="slide27.xml"/><Relationship Id="rId5" Type="http://schemas.openxmlformats.org/officeDocument/2006/relationships/image" Target="../media/image27.jpeg"/><Relationship Id="rId6" Type="http://schemas.openxmlformats.org/officeDocument/2006/relationships/image" Target="../media/image8.wmf"/><Relationship Id="rId7" Type="http://schemas.openxmlformats.org/officeDocument/2006/relationships/slide" Target="slide24.xml"/><Relationship Id="rId8" Type="http://schemas.openxmlformats.org/officeDocument/2006/relationships/image" Target="../media/image8.wmf"/><Relationship Id="rId9" Type="http://schemas.openxmlformats.org/officeDocument/2006/relationships/slide" Target="slide25.xml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8.wmf"/><Relationship Id="rId3" Type="http://schemas.openxmlformats.org/officeDocument/2006/relationships/slide" Target="slide23.xml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image" Target="../media/image33.jpeg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8.wmf"/><Relationship Id="rId3" Type="http://schemas.openxmlformats.org/officeDocument/2006/relationships/slide" Target="slide29.xml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9.xml"/><Relationship Id="rId3" Type="http://schemas.openxmlformats.org/officeDocument/2006/relationships/image" Target="../media/image8.wm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8.wmf"/><Relationship Id="rId3" Type="http://schemas.openxmlformats.org/officeDocument/2006/relationships/slide" Target="slide29.xml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1.xml"/><Relationship Id="rId3" Type="http://schemas.openxmlformats.org/officeDocument/2006/relationships/slide" Target="slide17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image" Target="../media/image7.jpeg"/><Relationship Id="rId7" Type="http://schemas.openxmlformats.org/officeDocument/2006/relationships/image" Target="../media/image8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gif"/><Relationship Id="rId3" Type="http://schemas.openxmlformats.org/officeDocument/2006/relationships/image" Target="../media/image42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image" Target="../media/image9.jpeg"/><Relationship Id="rId6" Type="http://schemas.openxmlformats.org/officeDocument/2006/relationships/image" Target="../media/image8.wmf"/><Relationship Id="rId7" Type="http://schemas.openxmlformats.org/officeDocument/2006/relationships/slide" Target="slide6.xml"/><Relationship Id="rId8" Type="http://schemas.openxmlformats.org/officeDocument/2006/relationships/image" Target="../media/image8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8.xml"/><Relationship Id="rId12" Type="http://schemas.openxmlformats.org/officeDocument/2006/relationships/image" Target="../media/image8.wmf"/><Relationship Id="rId13" Type="http://schemas.openxmlformats.org/officeDocument/2006/relationships/slide" Target="slide9.xml"/><Relationship Id="rId14" Type="http://schemas.openxmlformats.org/officeDocument/2006/relationships/image" Target="../media/image8.wmf"/><Relationship Id="rId15" Type="http://schemas.openxmlformats.org/officeDocument/2006/relationships/slide" Target="slide6.xml"/><Relationship Id="rId16" Type="http://schemas.openxmlformats.org/officeDocument/2006/relationships/image" Target="../media/image8.wmf"/><Relationship Id="rId17" Type="http://schemas.openxmlformats.org/officeDocument/2006/relationships/slide" Target="slide7.xml"/><Relationship Id="rId18" Type="http://schemas.openxmlformats.org/officeDocument/2006/relationships/image" Target="../media/image8.wmf"/><Relationship Id="rId19" Type="http://schemas.openxmlformats.org/officeDocument/2006/relationships/slide" Target="slide8.xml"/><Relationship Id="rId20" Type="http://schemas.openxmlformats.org/officeDocument/2006/relationships/image" Target="../media/image8.wmf"/><Relationship Id="rId21" Type="http://schemas.openxmlformats.org/officeDocument/2006/relationships/slide" Target="slide6.xml"/><Relationship Id="rId22" Type="http://schemas.openxmlformats.org/officeDocument/2006/relationships/image" Target="../media/image8.wmf"/><Relationship Id="rId23" Type="http://schemas.openxmlformats.org/officeDocument/2006/relationships/slide" Target="slide7.xml"/><Relationship Id="rId24" Type="http://schemas.openxmlformats.org/officeDocument/2006/relationships/image" Target="../media/image8.wmf"/><Relationship Id="rId25" Type="http://schemas.openxmlformats.org/officeDocument/2006/relationships/slide" Target="slide9.xml"/><Relationship Id="rId26" Type="http://schemas.openxmlformats.org/officeDocument/2006/relationships/image" Target="../media/image8.wmf"/><Relationship Id="rId27" Type="http://schemas.openxmlformats.org/officeDocument/2006/relationships/slide" Target="slide8.xml"/><Relationship Id="rId28" Type="http://schemas.openxmlformats.org/officeDocument/2006/relationships/image" Target="../media/image8.wmf"/><Relationship Id="rId29" Type="http://schemas.openxmlformats.org/officeDocument/2006/relationships/slide" Target="slide6.xml"/><Relationship Id="rId30" Type="http://schemas.openxmlformats.org/officeDocument/2006/relationships/image" Target="../media/image8.wmf"/><Relationship Id="rId31" Type="http://schemas.openxmlformats.org/officeDocument/2006/relationships/slide" Target="slide7.xml"/><Relationship Id="rId32" Type="http://schemas.openxmlformats.org/officeDocument/2006/relationships/image" Target="../media/image8.wmf"/><Relationship Id="rId33" Type="http://schemas.openxmlformats.org/officeDocument/2006/relationships/image" Target="../media/image8.wmf"/><Relationship Id="rId3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5.xml"/><Relationship Id="rId3" Type="http://schemas.openxmlformats.org/officeDocument/2006/relationships/image" Target="../media/image8.wmf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8.wmf"/><Relationship Id="rId3" Type="http://schemas.openxmlformats.org/officeDocument/2006/relationships/slide" Target="slide5.xm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矩形 4" descr=""/>
          <p:cNvPicPr/>
          <p:nvPr/>
        </p:nvPicPr>
        <p:blipFill>
          <a:blip r:embed="rId2"/>
          <a:stretch/>
        </p:blipFill>
        <p:spPr>
          <a:xfrm>
            <a:off x="1908000" y="981000"/>
            <a:ext cx="7444080" cy="1633680"/>
          </a:xfrm>
          <a:prstGeom prst="rect">
            <a:avLst/>
          </a:prstGeom>
          <a:ln w="0">
            <a:noFill/>
          </a:ln>
        </p:spPr>
      </p:pic>
      <p:pic>
        <p:nvPicPr>
          <p:cNvPr id="42" name="矩形 6" descr=""/>
          <p:cNvPicPr/>
          <p:nvPr/>
        </p:nvPicPr>
        <p:blipFill>
          <a:blip r:embed="rId3"/>
          <a:stretch/>
        </p:blipFill>
        <p:spPr>
          <a:xfrm>
            <a:off x="2411280" y="2565360"/>
            <a:ext cx="6962760" cy="1884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6400800" y="4572000"/>
            <a:ext cx="27432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流程图: 顺序访问存储器 10"/>
          <p:cNvSpPr/>
          <p:nvPr/>
        </p:nvSpPr>
        <p:spPr>
          <a:xfrm>
            <a:off x="2050920" y="5373720"/>
            <a:ext cx="4681800" cy="1171440"/>
          </a:xfrm>
          <a:prstGeom prst="flowChartMagneticTape">
            <a:avLst/>
          </a:prstGeom>
          <a:solidFill>
            <a:srgbClr val="ffffff"/>
          </a:solidFill>
          <a:ln w="1908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Gill Sans MT"/>
                <a:ea typeface="华文新魏"/>
              </a:rPr>
              <a:t>徐庄实验小学五（</a:t>
            </a:r>
            <a:r>
              <a:rPr b="0" lang="zh-CN" sz="3600" spc="-1" strike="noStrike">
                <a:solidFill>
                  <a:srgbClr val="333399"/>
                </a:solidFill>
                <a:latin typeface="Gill Sans MT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333399"/>
                </a:solidFill>
                <a:latin typeface="Gill Sans MT"/>
                <a:ea typeface="华文新魏"/>
              </a:rPr>
              <a:t>）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84360" y="620640"/>
            <a:ext cx="426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708360" y="47628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179640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1794960" y="4076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179496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4" action="ppaction://hlinksldjump"/>
          </p:cNvPr>
          <p:cNvSpPr/>
          <p:nvPr/>
        </p:nvSpPr>
        <p:spPr>
          <a:xfrm>
            <a:off x="1796400" y="5372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436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痘是一种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水痘带状疱疹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所引起的急性传染病。水痘患者多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-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岁的孩子。在幼儿园和小学最容易发生和流行。水痘属于急性传染病，但通常比较温和，不会引起严重的并发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4356000" y="3429000"/>
            <a:ext cx="2895840" cy="265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971640" y="3645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971640" y="4221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971640" y="4869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71640" y="551664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971640" y="3645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71640" y="4221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971640" y="4869000"/>
            <a:ext cx="647640" cy="25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859280" y="6222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826920" y="6237360"/>
            <a:ext cx="648000" cy="253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403280" y="616572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风疹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5640" y="1197000"/>
            <a:ext cx="770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水痘主要通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经呼吸道传染，接触被病毒污染的尘土、衣服、用具等也可能被传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900000" y="2997360"/>
            <a:ext cx="547704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08360" y="620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00000" y="907920"/>
            <a:ext cx="7188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水痘病毒感染人体后，经过大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周的潜伏期，患者可出现头痛、全身不适、发热、食欲下降等前期症状，继而出现有特征性的红色斑疹，后变为丘疹、再发展为水疱、常伴有瘙痒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天后开始干枯结痂，持续一周左右痂皮脱落。皮疹躯干部最多，头面部次之，四肢较少，手掌、足底更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411280" y="3860640"/>
            <a:ext cx="3810240" cy="23720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35280" y="404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3810240" cy="31622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16000" y="1197000"/>
            <a:ext cx="691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群普遍易感。常见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2-10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儿    童，一次发病可终身获得较高的免疫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0836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00000" y="11253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接种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水痘疫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最有效、最经济的预防措施。流行期间小孩子不去人多的公共场所，经常开窗通风等也很重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23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64" name="">
            <a:hlinkClick r:id="rId3" action="ppaction://hlinksldjump"/>
          </p:cNvPr>
          <p:cNvSpPr/>
          <p:nvPr/>
        </p:nvSpPr>
        <p:spPr>
          <a:xfrm>
            <a:off x="774072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2124000" y="3141720"/>
            <a:ext cx="4681440" cy="3117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08360" y="4762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水  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2484360" y="692280"/>
            <a:ext cx="4267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174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995640" y="54936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141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风疹是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风疹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的急性呼吸道传染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2083680" y="29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2082240" y="350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3" action="ppaction://hlinksldjump"/>
          </p:cNvPr>
          <p:cNvSpPr/>
          <p:nvPr/>
        </p:nvSpPr>
        <p:spPr>
          <a:xfrm>
            <a:off x="2082240" y="414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4" action="ppaction://hlinksldjump"/>
          </p:cNvPr>
          <p:cNvSpPr/>
          <p:nvPr/>
        </p:nvSpPr>
        <p:spPr>
          <a:xfrm>
            <a:off x="2083680" y="4795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716360" y="2492280"/>
            <a:ext cx="2818080" cy="3600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258920" y="494028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1258920" y="3068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258920" y="3645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1258920" y="4292640"/>
            <a:ext cx="647640" cy="25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859280" y="6222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4"/>
          <a:stretch/>
        </p:blipFill>
        <p:spPr>
          <a:xfrm>
            <a:off x="826920" y="6308640"/>
            <a:ext cx="648000" cy="2541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783080" y="623736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流行性腮腺炎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55640" y="98100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染源主要是病人和先天性风疹的患儿，病人鼻咽部分泌物（如鼻涕、痰等）、血及尿中均带有病毒，主要经空气飞沫传播，一年四季均可传染得病，以冬春季为多。风疹病毒还可通过胎盘感染胎儿，如果孕妇在怀孕期间感染本病，可导致胎儿畸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94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2916360" y="3860640"/>
            <a:ext cx="2663640" cy="2613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924360" y="333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84360" y="83664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低热、上呼吸道轻度炎症、全身散布红色斑丘疹及耳后、枕部淋巴结肿大为特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2664000" cy="1717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627280" y="4005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435640" y="2565360"/>
            <a:ext cx="2430360" cy="2951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995640" y="4046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68360" y="2637000"/>
            <a:ext cx="4608720" cy="367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280" y="13809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cc"/>
                </a:solidFill>
                <a:latin typeface="Arial"/>
              </a:rPr>
              <a:t>冬</a:t>
            </a:r>
            <a:r>
              <a:rPr b="1" lang="zh-CN" sz="2400" spc="-1" strike="noStrike">
                <a:solidFill>
                  <a:srgbClr val="d60093"/>
                </a:solidFill>
                <a:latin typeface="黑体"/>
                <a:ea typeface="黑体"/>
              </a:rPr>
              <a:t>季是呼吸道传染病的高发季节，由于天气多变，时暖时寒，气候仍然寒冷、干燥，特别容易引起流感、流脑、流腮等呼吸道传染病，同时随着气温转暖，手足口病等传染病也逐渐抬头。若平时不注意锻炼，再加上室内空气不流通，很容易发生呼吸道传染性疾病的流行。</a:t>
            </a:r>
            <a:r>
              <a:rPr b="1" lang="zh-CN" sz="2800" spc="-1" strike="noStrike">
                <a:solidFill>
                  <a:srgbClr val="d60093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042920" y="1052640"/>
            <a:ext cx="69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好发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1-5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儿童，育龄妇女；成人偶见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5076720" y="2276640"/>
            <a:ext cx="2395800" cy="33112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1187280" y="2637000"/>
            <a:ext cx="2916360" cy="2916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95640" y="333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71640" y="9810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风疹最可靠的手段是接种风疹疫苗。在春季风疹高发期，尽量少到人群密集的场所，如商场、影院等地，避免与风疹病人接触。保持室内开窗通风，空气流通，增加户外活动，加强体育锻炼，讲究个人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556000" y="3284640"/>
            <a:ext cx="3382920" cy="3011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95640" y="476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风 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484360" y="692280"/>
            <a:ext cx="4267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222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348000" y="5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172512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1723320" y="378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172332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>
            <a:hlinkClick r:id="rId4" action="ppaction://hlinksldjump"/>
          </p:cNvPr>
          <p:cNvSpPr/>
          <p:nvPr/>
        </p:nvSpPr>
        <p:spPr>
          <a:xfrm>
            <a:off x="1725120" y="50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155736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流行性腮腺炎简称腮腺炎，亦称“痄腮”，是一种通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的急性呼吸道传染病。冬春季节容易发生，多发生于儿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4500720" y="3213000"/>
            <a:ext cx="2879640" cy="26481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900000" y="5229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900000" y="335772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900000" y="393372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1"/>
          <a:stretch/>
        </p:blipFill>
        <p:spPr>
          <a:xfrm>
            <a:off x="900000" y="458136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4859280" y="62229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826920" y="6308640"/>
            <a:ext cx="648000" cy="2541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403280" y="6237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手足口病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042920" y="1341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病人是唯一的传染源，主要通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染，少数通过用具间接传染，传染性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77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627280" y="2997360"/>
            <a:ext cx="3745080" cy="28764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03640" y="4046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9640" y="836640"/>
            <a:ext cx="532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本病大多数起病较急，有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发热、畏寒、头痛、咽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等全身不适症状。患者一侧或双侧耳下腮腺肿大、疼痛，咀嚼时更痛。并发症有脑膜炎、心肌炎等。整个病程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-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2411280" y="3860640"/>
            <a:ext cx="4373640" cy="2575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132000" y="476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6588000" y="333360"/>
            <a:ext cx="2362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55640" y="1197000"/>
            <a:ext cx="791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多见于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５到１５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儿童和青少年。一次感染后可获终生免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9308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53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059280" y="2708280"/>
            <a:ext cx="3019320" cy="3527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132000" y="549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1484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及时隔离患者至消肿为止。接种腮腺炎疫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2700360" y="2852640"/>
            <a:ext cx="3456000" cy="3130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276720" y="692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腮腺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484360" y="692280"/>
            <a:ext cx="4267440" cy="76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268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564000" y="692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222840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2226600" y="378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3" action="ppaction://hlinksldjump"/>
          </p:cNvPr>
          <p:cNvSpPr/>
          <p:nvPr/>
        </p:nvSpPr>
        <p:spPr>
          <a:xfrm>
            <a:off x="2226600" y="4437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4" action="ppaction://hlinksldjump"/>
          </p:cNvPr>
          <p:cNvSpPr/>
          <p:nvPr/>
        </p:nvSpPr>
        <p:spPr>
          <a:xfrm>
            <a:off x="2228400" y="50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58920" y="170028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手足口病是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多种肠道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的一种儿童常见传染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4067280" y="3141720"/>
            <a:ext cx="3809880" cy="2543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1332000" y="5229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332000" y="335772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8"/>
          <a:stretch/>
        </p:blipFill>
        <p:spPr>
          <a:xfrm>
            <a:off x="1332000" y="393372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9"/>
          <a:stretch/>
        </p:blipFill>
        <p:spPr>
          <a:xfrm>
            <a:off x="1332000" y="458136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25"/>
          <p:cNvGrpSpPr/>
          <p:nvPr/>
        </p:nvGrpSpPr>
        <p:grpSpPr>
          <a:xfrm>
            <a:off x="3733920" y="2209680"/>
            <a:ext cx="1643040" cy="3463560"/>
            <a:chOff x="3733920" y="2209680"/>
            <a:chExt cx="1643040" cy="3463560"/>
          </a:xfrm>
        </p:grpSpPr>
        <p:sp>
          <p:nvSpPr>
            <p:cNvPr id="49" name="AutoShape 12"/>
            <p:cNvSpPr/>
            <p:nvPr/>
          </p:nvSpPr>
          <p:spPr>
            <a:xfrm>
              <a:off x="3733920" y="2469960"/>
              <a:ext cx="1640520" cy="2455920"/>
            </a:xfrm>
            <a:custGeom>
              <a:avLst/>
              <a:gdLst>
                <a:gd name="textAreaLeft" fmla="*/ 83880 w 1640520"/>
                <a:gd name="textAreaRight" fmla="*/ 1556640 w 1640520"/>
                <a:gd name="textAreaTop" fmla="*/ 83880 h 2455920"/>
                <a:gd name="textAreaBottom" fmla="*/ 2372040 h 2455920"/>
              </a:gdLst>
              <a:ahLst/>
              <a:rect l="textAreaLeft" t="textAreaTop" r="textAreaRight" b="textAreaBottom"/>
              <a:pathLst>
                <a:path w="21600" h="32334">
                  <a:moveTo>
                    <a:pt x="3782" y="0"/>
                  </a:moveTo>
                  <a:arcTo wR="3782" hR="3782" stAng="16200000" swAng="-5400000"/>
                  <a:lnTo>
                    <a:pt x="0" y="28552"/>
                  </a:lnTo>
                  <a:arcTo wR="3782" hR="3782" stAng="10800000" swAng="-5400000"/>
                  <a:lnTo>
                    <a:pt x="17818" y="32334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13"/>
            <p:cNvSpPr/>
            <p:nvPr/>
          </p:nvSpPr>
          <p:spPr>
            <a:xfrm>
              <a:off x="3758760" y="2476800"/>
              <a:ext cx="1591200" cy="2409480"/>
            </a:xfrm>
            <a:custGeom>
              <a:avLst/>
              <a:gdLst>
                <a:gd name="textAreaLeft" fmla="*/ 77400 w 1591200"/>
                <a:gd name="textAreaRight" fmla="*/ 1513800 w 1591200"/>
                <a:gd name="textAreaTop" fmla="*/ 77400 h 2409480"/>
                <a:gd name="textAreaBottom" fmla="*/ 2332080 h 2409480"/>
              </a:gdLst>
              <a:ahLst/>
              <a:rect l="textAreaLeft" t="textAreaTop" r="textAreaRight" b="textAreaBottom"/>
              <a:pathLst>
                <a:path w="21600" h="32705">
                  <a:moveTo>
                    <a:pt x="3600" y="0"/>
                  </a:moveTo>
                  <a:arcTo wR="3600" hR="3600" stAng="16200000" swAng="-5400000"/>
                  <a:lnTo>
                    <a:pt x="0" y="29105"/>
                  </a:lnTo>
                  <a:arcTo wR="3600" hR="3600" stAng="10800000" swAng="-5400000"/>
                  <a:lnTo>
                    <a:pt x="18000" y="327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AutoShape 14"/>
            <p:cNvSpPr/>
            <p:nvPr/>
          </p:nvSpPr>
          <p:spPr>
            <a:xfrm>
              <a:off x="3772080" y="4250520"/>
              <a:ext cx="1569600" cy="60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15"/>
            <p:cNvSpPr/>
            <p:nvPr/>
          </p:nvSpPr>
          <p:spPr>
            <a:xfrm>
              <a:off x="3772080" y="2495880"/>
              <a:ext cx="1569600" cy="608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6"/>
            <p:cNvSpPr/>
            <p:nvPr/>
          </p:nvSpPr>
          <p:spPr>
            <a:xfrm>
              <a:off x="4299480" y="2242440"/>
              <a:ext cx="486360" cy="4798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7"/>
            <p:cNvSpPr/>
            <p:nvPr/>
          </p:nvSpPr>
          <p:spPr>
            <a:xfrm>
              <a:off x="4303080" y="2209680"/>
              <a:ext cx="471960" cy="5346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8"/>
            <p:cNvSpPr/>
            <p:nvPr/>
          </p:nvSpPr>
          <p:spPr>
            <a:xfrm>
              <a:off x="4309200" y="2212200"/>
              <a:ext cx="460800" cy="522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9"/>
            <p:cNvSpPr/>
            <p:nvPr/>
          </p:nvSpPr>
          <p:spPr>
            <a:xfrm>
              <a:off x="4313880" y="2217960"/>
              <a:ext cx="438120" cy="4867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20"/>
            <p:cNvSpPr/>
            <p:nvPr/>
          </p:nvSpPr>
          <p:spPr>
            <a:xfrm>
              <a:off x="4340160" y="2231640"/>
              <a:ext cx="388800" cy="395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1"/>
            <p:cNvSpPr/>
            <p:nvPr/>
          </p:nvSpPr>
          <p:spPr>
            <a:xfrm>
              <a:off x="4446360" y="22654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22"/>
            <p:cNvSpPr/>
            <p:nvPr/>
          </p:nvSpPr>
          <p:spPr>
            <a:xfrm>
              <a:off x="3736080" y="4925880"/>
              <a:ext cx="1640880" cy="74736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3"/>
            <p:cNvSpPr/>
            <p:nvPr/>
          </p:nvSpPr>
          <p:spPr>
            <a:xfrm>
              <a:off x="3769920" y="4946400"/>
              <a:ext cx="1569600" cy="66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4"/>
            <p:cNvSpPr/>
            <p:nvPr/>
          </p:nvSpPr>
          <p:spPr>
            <a:xfrm>
              <a:off x="3778200" y="2835720"/>
              <a:ext cx="15598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a684c"/>
                  </a:solidFill>
                  <a:latin typeface="Verdana"/>
                  <a:ea typeface="黑体"/>
                </a:rPr>
                <a:t>病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a684c"/>
                  </a:solidFill>
                  <a:latin typeface="Verdana"/>
                  <a:ea typeface="黑体"/>
                </a:rPr>
                <a:t>介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27"/>
          <p:cNvSpPr/>
          <p:nvPr/>
        </p:nvSpPr>
        <p:spPr>
          <a:xfrm>
            <a:off x="3903840" y="307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8"/>
          <p:cNvSpPr/>
          <p:nvPr/>
        </p:nvSpPr>
        <p:spPr>
          <a:xfrm>
            <a:off x="3419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187280" y="1341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经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消化道或呼吸道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，亦可经接触病人皮肤、粘膜疱疹液而感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85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3276720" y="2924280"/>
            <a:ext cx="2385720" cy="3457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3564000" y="692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203640" y="3500280"/>
            <a:ext cx="3166920" cy="2719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042920" y="112536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先出现发烧症状，</a:t>
            </a:r>
            <a:r>
              <a:rPr b="1" lang="zh-CN" sz="2400" spc="-1" strike="noStrike">
                <a:solidFill>
                  <a:srgbClr val="d60093"/>
                </a:solidFill>
                <a:latin typeface="Arial"/>
                <a:ea typeface="楷体_GB2312"/>
              </a:rPr>
              <a:t>手心、脚心出现斑丘疹和疱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疹子周围可发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口腔粘膜出现疱疹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或溃疡，疼痛明显。部分患者可伴有咳嗽、流涕、食欲不振、恶心、呕吐和头疼等症状。少数患者病情较重，可并发脑炎、脑膜炎、心肌炎、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4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35280" y="5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042920" y="112536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婴幼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儿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普遍多发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岁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岁以下婴幼儿更容易得。成人感染后一般不发病，但会将病毒传播给孩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295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2627280" y="2870280"/>
            <a:ext cx="4146480" cy="3109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635280" y="549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826920" y="1125360"/>
            <a:ext cx="746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勤洗手、勤通风，流行期间避免去人群聚集、空气流通差的公共场所。儿童出现相关症状要及时到正规医疗机构就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2700360" y="3141720"/>
            <a:ext cx="3936960" cy="27288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564000" y="476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手足口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传播途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-360" y="1457280"/>
            <a:ext cx="878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空气、飞沫、尘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以呼吸道为进入门户的传染病，如麻疹、流感、水痘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水、食物、苍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以肠道为进入门户的传染病，如菌痢、伤寒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手、用具、玩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又称日常生活接触传播，如手足口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虫媒 传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蚊子、跳蚤等，如乙脑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血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体液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血制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见于乙肝、艾滋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土壤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    ——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</a:rPr>
              <a:t>被虫卵、芽孢等污染时，成为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67881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2411280" y="4005360"/>
            <a:ext cx="4175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加强锻炼，讲究卫生，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远离疾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体卫生行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条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饭前便后要洗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每天早晚刷牙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定期洗澡、理发、剪指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服装整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勤晒被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讲卫生，讲公德，不乱扔乱倒，不随地吐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每天进行一次锻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不吸烟，不酗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按时让孩子参加计划免疫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主动学习卫生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620120" y="6172200"/>
            <a:ext cx="152388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505320" y="533520"/>
            <a:ext cx="236196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养成良好的卫生习惯，是预防秋季传染病的关键。要保持学习、生活场所的卫生，不要堆放垃圾。饭前便后、以及外出归来一定要按规定程序洗手，打喷嚏、咳嗽和清洁鼻子应用卫生纸掩盖，用过的卫生纸不要随地乱仍，勤换、勤洗、勤晒衣服、被褥，不随地吐痰，个人卫生用品切勿混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 rot="18114600">
            <a:off x="3686760" y="454248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762120" y="5638680"/>
            <a:ext cx="1647720" cy="85104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685800" y="-76320"/>
            <a:ext cx="8077320" cy="693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天扫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常擦桌椅和门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乱扔纸屑果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随地吐痰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5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桌椅摆放整齐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通风换气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6858000" y="6026040"/>
            <a:ext cx="2286000" cy="8319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怎样保持教室的清洁卫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加强锻炼，增强免疫力。应积极参加体育锻炼，多到郊外、户外呼吸新鲜空气，每天锻炼能使身体气血畅通，筋骨舒展，体质增强。在锻炼的时候，必须注意气候变化，要避开晨雾风沙，要合理安排运动量，进行自我监护身体状况等，以免对身体造成不利影响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1464120" y="1772640"/>
            <a:ext cx="178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感冒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1934280" y="2565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痘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934280" y="335700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1510920" y="422064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流行性腮腺炎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5" action="ppaction://hlinksldjump"/>
          </p:cNvPr>
          <p:cNvSpPr/>
          <p:nvPr/>
        </p:nvSpPr>
        <p:spPr>
          <a:xfrm>
            <a:off x="1685160" y="508428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手足口病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3995640" y="1844640"/>
            <a:ext cx="4535640" cy="36655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2484360" y="620640"/>
            <a:ext cx="4267440" cy="7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d60093"/>
                  </a:solidFill>
                  <a:miter/>
                </a:ln>
                <a:solidFill>
                  <a:srgbClr val="d60093"/>
                </a:solidFill>
                <a:latin typeface="黑体"/>
              </a:rPr>
              <a:t>冬季常见传染病</a:t>
            </a:r>
            <a:endParaRPr b="1" lang="en-US" sz="4800" spc="1" strike="noStrike">
              <a:ln w="9360">
                <a:solidFill>
                  <a:srgbClr val="d60093"/>
                </a:solidFill>
                <a:miter/>
              </a:ln>
              <a:solidFill>
                <a:srgbClr val="d60093"/>
              </a:solidFill>
              <a:latin typeface="黑体"/>
              <a:ea typeface="黑体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03640" y="609300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提示：点击文字，链接相关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8"/>
          <a:stretch/>
        </p:blipFill>
        <p:spPr>
          <a:xfrm>
            <a:off x="4356000" y="6165720"/>
            <a:ext cx="647640" cy="2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有规律。 睡眠休息要好。生活有规律，保持充分的睡眠，对提高自身的抵抗力相当重要。要合理安排好作息，每天的睡眠时间不应少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个小时。做到生活有规律，劳逸结合，无论学习或其他活动使身体劳累过度，必然导致抵御疾病的能力下降，容易受到病毒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、食细节要注意。秋冬季气候多变，早晚温差较大，极易降低人体呼吸道免疫力，使得病原体极易侵入。同学们必须根据天气变化，适时增减衣服，合理安排好饮食，饮食上不宜太过辛辣，太过则助火气，也不宜过食油腻。要减少对呼吸道的刺激，如不吸烟、不喝酒，要多饮水，摄入足够的维生素，宜多食些富含优质蛋白、糖类及微量元素的食物，如瘦肉、禽蛋、大枣、蜂蜜和新鲜蔬菜、水果等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       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切莫讳疾忌医。由于秋冬季呼吸道传染病初期多有类似感冒的症状，易被忽视，因此身体有不适应及时告诉父母亲带你看医生，特别是有发热、皮疹症状，应尽早明确诊断，及时进行治疗。如有传染病的情况，应立刻隔离、绝对不可到带病坚持上课。采取隔离措施，以免范围扩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 flipH="1" rot="10800000">
            <a:off x="5580000" y="4581000"/>
            <a:ext cx="1238400" cy="17290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 rot="18114600">
            <a:off x="3677400" y="4539240"/>
            <a:ext cx="1341360" cy="18572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55640" y="5661000"/>
            <a:ext cx="1647720" cy="85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59280" y="40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2156760" y="328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2155320" y="386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2155320" y="4508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4" action="ppaction://hlinksldjump"/>
          </p:cNvPr>
          <p:cNvSpPr/>
          <p:nvPr/>
        </p:nvSpPr>
        <p:spPr>
          <a:xfrm>
            <a:off x="2156760" y="5156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1341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流行性感冒简称流感，是由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流感病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引起的急性呼吸道传染病，具有很强的传染性。流感病毒分为甲、乙、丙三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4643280" y="3141720"/>
            <a:ext cx="2794320" cy="2952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59280" y="623736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提示：点击文字，链接相关内容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684360" y="6308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332000" y="4653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332000" y="5300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1332000" y="4653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1332000" y="530064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1332000" y="465300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1332000" y="3429000"/>
            <a:ext cx="647640" cy="25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1332000" y="4005360"/>
            <a:ext cx="647640" cy="2538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3"/>
          <a:stretch/>
        </p:blipFill>
        <p:spPr>
          <a:xfrm>
            <a:off x="826920" y="6308640"/>
            <a:ext cx="648000" cy="254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03280" y="623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99"/>
                </a:solidFill>
                <a:latin typeface="Arial"/>
              </a:rPr>
              <a:t>跳到“水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10526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以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楷体_GB2312"/>
              </a:rPr>
              <a:t>空气飞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直接传播为主，也可通过被病毒污染的物品间接传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627280" y="2492280"/>
            <a:ext cx="3594240" cy="344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32000" y="47628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5640" y="155736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主要症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发热、全身酸痛、咽痛、咳嗽等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2411280" y="2862360"/>
            <a:ext cx="4392720" cy="2755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59280" y="620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2708280"/>
            <a:ext cx="4762440" cy="376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42920" y="105264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易感人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群对流感普遍易感，病后有一定的免疫力，但维持的时间不长，病毒不断发生变异，可引起反复感染发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40464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26920" y="119700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预防措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接种流感疫苗被国际医学界公认是防范流感的最有效的武器。由于流感病毒变异很快，通常每年的流行类型都有所不同。因此，每年接种最新的流感疫苗才能达到预防的效果。另外，锻炼身体，增强体质，在流感季节经常开窗通风，保持室内空气新鲜，尽量少去人群密集的地方等等，也是预防流感的有效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64360" y="6165720"/>
            <a:ext cx="647640" cy="254160"/>
          </a:xfrm>
          <a:prstGeom prst="rect">
            <a:avLst/>
          </a:prstGeom>
          <a:ln w="0">
            <a:noFill/>
          </a:ln>
        </p:spPr>
      </p:pic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7667640" y="6021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返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340000" y="3933720"/>
            <a:ext cx="3960720" cy="2725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203640" y="54936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流行性感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3T01:25:12Z</dcterms:created>
  <dc:creator>MC SYSTEM</dc:creator>
  <dc:description/>
  <dc:language>en-US</dc:language>
  <cp:lastModifiedBy>admin</cp:lastModifiedBy>
  <dcterms:modified xsi:type="dcterms:W3CDTF">2013-12-20T10:40:48Z</dcterms:modified>
  <cp:revision>25</cp:revision>
  <dc:subject/>
  <dc:title>幻灯片 1</dc:title>
</cp:coreProperties>
</file>