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png" ContentType="image/png"/>
  <Override PartName="/ppt/media/image9.gif" ContentType="image/gif"/>
  <Override PartName="/ppt/media/image8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wmf" ContentType="image/x-wmf"/>
  <Override PartName="/ppt/media/image19.jpeg" ContentType="image/jpeg"/>
  <Override PartName="/ppt/media/image4.wmf" ContentType="image/x-wm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5.jpeg" ContentType="image/jpeg"/>
  <Override PartName="/ppt/media/image11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296-2B3E-4E81-A779-793711A3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B23-2554-4628-A14F-61D0C17A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0A2-446E-432B-8653-F8D90A11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D2A-7FEC-49EF-8221-A83D02B3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911-4E85-4946-85B2-1F0D44FB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BBD-CAF3-4622-A66B-1EFC67ED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A77-A59F-4DE8-A315-9CDE0124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C6D-7750-4636-8E54-DBD2E066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5A6-3F34-45F0-B633-5C80D4CD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775-F2E9-4E97-AD33-2E7CE881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B9F-8674-4663-AA03-6EF9B7BA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F4B-E826-4B3A-9D10-B381DB80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4BE7-44D6-437D-B8D6-4AB49228F7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2893850&amp;tn=baiduimagedetail&amp;word=&#38046;&#31080;&amp;in=85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557360"/>
            <a:ext cx="7921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华文彩云"/>
                <a:ea typeface="华文彩云"/>
              </a:rPr>
              <a:t>电话行销概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3645000"/>
            <a:ext cx="703440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 u="sng">
                <a:solidFill>
                  <a:srgbClr val="e00468"/>
                </a:solidFill>
                <a:uFillTx/>
                <a:latin typeface="Arial"/>
              </a:rPr>
              <a:t>电话是你桌上的一座宝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87" descr=""/>
          <p:cNvPicPr/>
          <p:nvPr/>
        </p:nvPicPr>
        <p:blipFill>
          <a:blip r:embed="rId1"/>
          <a:stretch/>
        </p:blipFill>
        <p:spPr>
          <a:xfrm>
            <a:off x="1017720" y="3897360"/>
            <a:ext cx="2390760" cy="266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828800" y="-76320"/>
            <a:ext cx="5867280" cy="510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24680" y="914400"/>
            <a:ext cx="381240" cy="38088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6172200"/>
            <a:ext cx="152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1371600"/>
            <a:ext cx="152280" cy="1522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276720"/>
            <a:ext cx="5867280" cy="5105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914400"/>
          <a:ext cx="228600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2286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828800" y="3429000"/>
          <a:ext cx="2290680" cy="342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3429000"/>
                    <a:ext cx="22906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676520" y="3352680"/>
            <a:ext cx="380880" cy="381240"/>
          </a:xfrm>
          <a:prstGeom prst="rect">
            <a:avLst/>
          </a:prstGeom>
          <a:solidFill>
            <a:srgbClr val="006699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5715000"/>
            <a:ext cx="4419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Century Gothic"/>
              </a:rPr>
              <a:t>把握每次客户联络的商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1880" y="6400800"/>
            <a:ext cx="381240" cy="3808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231624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Century Gothic"/>
                <a:ea typeface="PMingLiU"/>
              </a:rPr>
              <a:t>电话行销概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准客户标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老客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意愿有兴趣的客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通过看广告打进电话的客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购买力有财物支配能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能帮我们转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88000" y="3645000"/>
            <a:ext cx="19386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电话行销准备工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57280" y="1916280"/>
            <a:ext cx="8308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物品：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笔、笔记本、话术、条款、镜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心态：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热情、自信、真诚、最佳状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77080" y="3716280"/>
            <a:ext cx="15350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1280" y="836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成功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2133720"/>
            <a:ext cx="820872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拒绝被拒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自我催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产品是最好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只要记得产品的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说服自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激励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推荐非推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下一个客户会更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失败是找借口不找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正面思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很可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他没买我的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检讨自我并修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651640" y="3398760"/>
            <a:ext cx="2974680" cy="26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52800" y="8366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成功的人格品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4200" y="1989000"/>
            <a:ext cx="41050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乐意分享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乐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积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成交使他有成就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强烈的企图心积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主导性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善表达、喜欢说服他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热忱、负责、具时间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行事稳健、思绪清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324648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电话行销人员的六大成功因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1511280"/>
            <a:ext cx="8532720" cy="53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9920" y="836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沟通的技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89920" y="2236680"/>
            <a:ext cx="23792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倾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澄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再确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14784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78480" y="83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销售技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35400" y="1844640"/>
            <a:ext cx="30380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数字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比拟和描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费用极少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利益极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将折扣或百分比换算为明确的金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举例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条列式的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将空洞的形容词改为具体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26924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0160" y="1989000"/>
            <a:ext cx="45068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专属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烘托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促成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: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最后时间促成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如：最后一天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机会促成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如：只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个名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客户的想法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异议处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问题忽略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化反对为卖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以退为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举专业第三者实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8480" y="83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销售技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3860640"/>
            <a:ext cx="233676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48360" y="3141720"/>
            <a:ext cx="3456000" cy="2459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78480" y="83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客户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2205000"/>
            <a:ext cx="532908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虎型（性急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鸽子型（难沟通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孔雀型（爱说话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猫头鹰型（被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低参与度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50720" y="836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老虎型（性急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3473280"/>
            <a:ext cx="622800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需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是的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PMingLiU"/>
              </a:rPr>
              <a:t>XX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先生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小姐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我不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PMingLiU"/>
              </a:rPr>
              <a:t>会花费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您太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PMingLiU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是的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PMingLiU"/>
              </a:rPr>
              <a:t>XX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先生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小姐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PMingLiU"/>
              </a:rPr>
              <a:t>简单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扼要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PMingLiU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是的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PMingLiU"/>
              </a:rPr>
              <a:t>XX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先生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小姐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我了解您非常的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是的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PMingLiU"/>
              </a:rPr>
              <a:t>XX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先生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小姐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PMingLiU"/>
              </a:rPr>
              <a:t>其实重点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PMingLiU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773360"/>
            <a:ext cx="45720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声音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音量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不友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主导需求：权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6360" y="3860640"/>
            <a:ext cx="9507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5640" y="1125360"/>
            <a:ext cx="80596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电话行销是</a:t>
            </a:r>
            <a:r>
              <a:rPr b="0" lang="zh-CN" sz="4800" spc="-1" strike="noStrike">
                <a:solidFill>
                  <a:srgbClr val="33cc33"/>
                </a:solidFill>
                <a:latin typeface="宋体"/>
              </a:rPr>
              <a:t>世界上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最普遍、最迅捷的营销工具，是你办公桌上的</a:t>
            </a:r>
            <a:r>
              <a:rPr b="0" lang="zh-CN" sz="4800" spc="-1" strike="noStrike">
                <a:solidFill>
                  <a:srgbClr val="e00468"/>
                </a:solidFill>
                <a:latin typeface="黑体"/>
                <a:ea typeface="黑体"/>
              </a:rPr>
              <a:t>一座资源丰富的宝藏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技术迅速发展的今天，信息的交换与传递的速度也需要不断升级，电话因其独特的优势已被很多企业所重视，并以</a:t>
            </a:r>
            <a:r>
              <a:rPr b="0" lang="zh-CN" sz="4800" spc="-1" strike="noStrike">
                <a:solidFill>
                  <a:srgbClr val="e00468"/>
                </a:solidFill>
                <a:latin typeface="黑体"/>
                <a:ea typeface="黑体"/>
              </a:rPr>
              <a:t>成为一门很重要的技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19640" y="4292640"/>
            <a:ext cx="280800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2880" y="836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鸽子型（难沟通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84720" y="2924280"/>
            <a:ext cx="45291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需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更多的耐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讲慢一点但是不降低声音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音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只要机会传达所有的话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表示了解并表达想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勿急着澄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1773360"/>
            <a:ext cx="29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声音小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语速不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友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主导需求：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32000" y="393372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2880" y="836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孔雀型（爱说话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48480" y="2924280"/>
            <a:ext cx="303804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需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避免过多的开放性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如果叉开主题，礼貌性地导回正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二句话中间不要停顿太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集中主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1844640"/>
            <a:ext cx="292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声音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友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主导需求：热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58920" y="393372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65800" y="836640"/>
            <a:ext cx="41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猫头鹰型（被动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低参与度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2781360"/>
            <a:ext cx="45370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需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尽量探测客户的倾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放慢讲话的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对于客户之地参与度要有耐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勿主观的加入你的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采用开放式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84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声音小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语速不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不友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主导需求：尊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2592360" cy="20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34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愉悦</a:t>
            </a: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的上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情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增强</a:t>
            </a: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自信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给自己设定明确的目标                            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业绩周</a:t>
            </a: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平均增加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0-20%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867280" y="4076640"/>
            <a:ext cx="2924280" cy="2192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97400" y="83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32000" y="1916280"/>
            <a:ext cx="64800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次直接访问顾客的成本将是电话拜访的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倍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3141720"/>
            <a:ext cx="612144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1280" y="836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课程概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773360"/>
            <a:ext cx="425268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电话行销的基本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电话行销崛起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电话行销的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电话行销前的准备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电话行销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不同客户的应对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35640" y="3500280"/>
            <a:ext cx="3294000" cy="26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83664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电话行销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16880" y="2205000"/>
            <a:ext cx="475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定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专业的、计划的、通过科技、电话的整和、节约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趋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产品导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V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客户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市场占有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V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客户占有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客户成长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V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客户维持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电话行销崛起的原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电话行销就是通过专业的呼叫中心针对目标客户进行销售。电话行销，对中国消费者来说还是个比较新的概念，事实上该行销方式在许多国家已经成功运行多年，并逐渐形成一定规模：全美国的电话行销相关行业年产值高达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千亿美元，全英国有超过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千家电话行销中心，从业人员高达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万人，台湾已有超过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种行业单用电话行销即获得高产能与高绩效。在保险行销方面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电话营销方式的发展也很迅猛，在香港、台湾，电话行销保险已经取得了很大成功，从数字上看，电话行销的人均业绩远远超过其他保险营销渠道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     中国加入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WTO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以后，保险市场进一步开放。面对变化的市场，仅仅依赖传统营销模式已很难在市场竞争中居于领先地位。开拓保险营销新模式、降低营销成本、剖析客户消费行为，成为当今保险公司十分关注的问题。新型营销模式包括电话营销、网络保险、银行保险、邮政保险、媒体营销、整体方案营销、保险超市等多种方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836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电话行销建立的模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2205000"/>
            <a:ext cx="698508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追求正确的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发展有价值的客户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利用对客户的了解，增进彼此关系的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在客户需要时，以客户想要的方式提供专业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1280" y="836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电话行销的七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1943280"/>
            <a:ext cx="8137440" cy="30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通话前的准备：客户的基本资料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通话目标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心理准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途径与定位：你是何人来自何方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通话目的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创造吸引客户的陈述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找到决策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收集资料：由一般性问题走向特定性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询问问题的技术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确认客户的需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产生解答：为特定客户的需求量身打造沟通的解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为成本利益收集资料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为客户准备建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提出建议：得到客户对需求范围的同意，以清晰简洁的方式提出建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成交（尝试成交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何时提交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购买讯息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处理反对意见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成交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总结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感谢客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确认客户的承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留下姓名电话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安排下一次通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电话行销的法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916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兴奋度法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50000"/>
              </a:lnSpc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兴趣法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50000"/>
              </a:lnSpc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珍珠法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50000"/>
              </a:lnSpc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回应法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50000"/>
              </a:lnSpc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准客户法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356000" y="3213000"/>
            <a:ext cx="4179960" cy="31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08-14T06:39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