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301E-811E-4BFF-A8FA-9F3C026E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6B56-6497-4673-ABF6-6DC9529C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8D4E1-2BC2-4BDE-8E4B-BFE700C4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84E14-4B97-4CC4-96B6-8A97726C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68E95-435E-4887-8B7D-A976942C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84922-F2B8-4FA0-95B8-57FD5DC9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BDE75-9B6C-4DD6-AF60-1EB831D4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C34E4-31AF-465D-9C7D-3A6D914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5D24A3-4A53-4B82-9C73-AB1F4F7A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B12B0-BE47-432C-84BC-7DBB16E7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85F30-6503-4DA2-9A6C-1B1BB10D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C801B-B382-4A50-BD18-F7A871B7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C14A-AEA6-4A4A-AEDE-64A3327E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61418-B4F6-4077-A5C3-0B0474CA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734C4-C3D5-49DB-9167-B4240AFF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74A0B-30EB-4365-A654-E512B0DF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11E6AA-299B-4BD6-8F16-D352A443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95C9C-9EEA-4625-9BA4-5581F8BD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12DE5-2A00-46FF-A433-EAEFE6B6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36959-AC7A-4EA8-9FEF-37C3502C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C4BB7-25D2-4B5F-BA30-0D34B5E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B1C2A-D005-49F8-A928-7B0799875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3560B-9982-446F-B2A1-8F38387F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294-B696-4E3F-B2E5-E2C00D1DA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CBE0A4-57F0-41E1-8835-E62D3EA8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8296C-102C-41AF-8DE5-A959E141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1D88A-8FDC-4161-80F6-00910697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01BA29-F3B2-42DE-94E1-2108C60B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87088-52C9-46B5-9B73-7A6F5EA8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5B739E-5FD4-47F8-B59D-4D4B443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275EC3-AC43-40A2-B982-CDD4C657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5F8BD-0303-4FBA-88B7-43488B3A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56722-F0C4-4F79-A151-F61CAA47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6863A-9A7B-468C-BB0E-756E802D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6312-B755-49E5-9197-48D7B253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764AC-8F07-42BA-8EA3-6998FEB21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294F4-F648-4D3C-9059-9D8F7335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4D45A-6265-4901-8C99-340D144F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7F4184-35B9-4A2D-9D24-842278FF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699FA-CC6E-4EEE-9677-C741DAD69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B23CF-B3EC-4D05-A987-BBF42963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8D16A-8CC9-4D97-9798-02C76C35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5AA7F-B6AD-496E-BD92-F5879CBB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CF64A-6E0F-4D89-AEF5-B5C93AA2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3202B-DDA3-4E18-9519-ADFF7460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11E2-CFBC-4619-B9E9-7AF1C798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D6178-8647-4B29-BCA0-B9D219A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55B60E-E188-4423-BAA3-E9D7B327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A937C-AA04-45AE-BF15-AAEF516D8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6F935-7BB4-4142-A62D-0520CD34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E08EB2-D881-4F13-8AA3-6E6C4B56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03D502-645D-4554-BAFE-55450EF48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571C08-170E-4BE8-A22D-99A4B611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E3F58-5915-434E-A4BE-397CD50C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5C5EE2-290C-4650-AECD-138FD478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6EA68-01E5-42F3-9CC0-EF6A8CA1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E81A9-DE15-482A-B342-93EB83E5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14498B-5345-4CCB-AB83-41CAEDD92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90319-5F02-4F41-8774-58A09A2A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2EB41D-77CD-44A9-A565-39944380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A5287C-AB11-49CC-B039-834E0991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C6EE1-C5CF-40DA-88C5-213D2228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01120-795B-4F11-A1FF-504459B0B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5A76C-A801-4BE0-9068-6DDA951DF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ED3065-2F5D-4468-940A-283BAF19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83BE9-B384-480F-9BC6-2343085D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518F4-0770-4C12-AE3F-1AFBEC25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57B7-223D-45EF-8313-25618E34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88B538-9E5D-4EFB-99A0-11A09DD1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AB1D56-0278-4ACD-A99A-36E82DA3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D836D6-BEE2-4930-A803-061A98F6D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C9C5D7-965D-42E9-9277-1746982E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F7AE0-AA9C-4D91-A926-285D9ECF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ECFAC7-A153-4935-9A06-B5E06744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E56AC-5F35-4D15-A11C-44C8B0E8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DFDD66-E4B6-4ECF-911B-3462DB9F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5C7CB-CA47-40F9-A658-0C2BF61B9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0A15-757D-4EB9-9187-326271EA2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1D6B-D9AD-4F1A-AFE1-91A0B432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053D9-FBC4-4A01-9BEB-394C699D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880-E033-43F5-825B-DBDD6B3E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F01F-5127-414D-A7BB-25C5FE72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A71A6-0CC5-4E0C-B462-F0C27C5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8480-3435-403F-BD67-BAA58215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045B8-C09E-4C8A-A463-C6F2CC8E5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4B98-C148-4016-A126-678F76AB9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4894-9483-4E7E-924B-03894D19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80FB9-50A6-4EDC-9B4B-2CEA8D37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1DD04-6038-4F7E-B451-26D348E6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F308-63D8-452B-BB97-89AAFA0A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50D4B-7ABB-4F8C-A888-FC093DD8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7BF-D3A3-4DE5-B7CA-8F6D942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7A4B0-4ABC-4C56-AF3A-5D58DFD6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D920F-A752-4FB8-8C18-52525D05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E532-53DB-451B-93D0-2A389BA9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1D395-22BC-45A3-87A7-01D86266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F0591-1DA4-4461-BFA0-9FC6021CC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9AB73-2B61-46BA-B33A-831E1BE3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556E-DE80-49FF-A882-DA0D2DF56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F39B5-0C79-48AD-AE01-9E1A4606A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2113A-2DA0-45CF-A7C8-4663CC89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23CA0-F542-4B58-B736-A1A11C5E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5143-F763-432F-9B95-F9458C992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6B68E-D1DB-4829-9555-F95ACDC4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948A4-E48D-4E48-8F2F-53CAB4C87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6ED69-6B5A-4C7B-B13B-FD6109E3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182D1-5FAB-4E47-BC32-4F4BE698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4F6A6-59A7-4961-8936-D8D8E1A0E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8E683-5A45-4EA0-A814-CC2BADA6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2DE1-F08F-4306-A2E6-825158B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C772D-4413-4B8E-B8E7-2FF61EB97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F44A8-A490-47B2-BC75-06AAF486E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6DA68-7EE2-4BD5-84E9-4A5536A1A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112-F718-4432-920C-CEBF3D09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4F342-33DD-4662-9C1C-97DAA3D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D2D42-F92C-4E5E-B2DF-AE07EB3C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A5B4B-CAE2-48D3-863A-6BC79F4C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45D24-1C79-430A-92D3-2ABC3BDA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FFF62-D35A-4C4E-90EF-01CC53C9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CDC0B-81AA-455D-BFCF-8C6D9CC7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C9008-58D2-41E8-9044-44682C65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47DA-54C9-4660-855E-D63E9F13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74A40-6D51-4F2A-9BA2-1F3D4B174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FC230-64A7-490A-A95F-EABDA386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D680-7855-4FD9-B623-24A559BB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00B05-93FA-4EC2-A1AC-EDCB44F0C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E382A-F560-44B1-A545-6F8D5A027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35D23-075A-430B-9F77-F5A3D813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FE6BB-DFB2-475B-A146-6899E0E8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9C93D-497A-49EF-88BC-D8DFDC34A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95994-9EFF-4E14-999B-34414C52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4872B-46B6-4C28-B6B0-8FD00E482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BF9CC-CC71-4627-B6D4-5C5D4DC6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C45AC-16A9-4B72-9600-09717AB8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D4CD7-0B81-40B5-A89B-6589419F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EFD3-68B7-4423-8E5D-D638BC4A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1984F-EC57-4ABA-B659-3914614C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0280-5BBF-44C3-95A9-F98A5F47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3C6B9-5730-411C-8FBE-77893F25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859F3-C5A4-479E-AEC2-8A78008A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78DB3-EF7A-4FF8-9B91-3076E1E7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37D5C-50A4-49F5-B7EB-1CF3086A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D6F90-D76D-4F88-9CF6-BA290B41E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723A0-D325-4D73-BB0D-016AA3DB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17BDC-1D56-4AE0-9269-2E965C4B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4D25B-1350-4071-BDD7-23C65A08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7C7-AFE3-4E19-9565-20DA85D3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53A900-7AC2-4F60-8A2A-12D2AE81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6179B-C65B-453B-9A0E-6014392B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C34A4-88B4-4D29-BC12-3D1A9274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1B3E9-8C03-4B7C-8859-39568EA56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9A2DC-6542-47B7-8354-569CE634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CD6AF-7D9D-42E9-BFDE-CD9CE20D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77765-0AF2-4EE9-BD96-6B7739CE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87886-DA41-4C02-B47A-659646A1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68820-0DAA-4262-8AF4-C5FC7571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89DD0F-5538-4B40-9CC8-A429A08F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929-9441-4A2D-A6C4-B060E8CE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C633C0-8E8A-4089-83EB-491981D4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7EE5B-F188-42C8-BC81-CAC4A82F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ED55E-E249-41DF-8CA7-01D97936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398A7-3133-4682-8C41-C72981D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F0AAC-1D06-4437-9BEC-68E6DFEF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13FFD-016B-415D-82AF-F5BF1F7DF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21660C-E6C9-4575-BB0B-33A932749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F45A5F-170C-40E5-9A75-D07B7829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0D082-5328-4E15-B309-882D319F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69DCB-ABD1-40AE-889D-A7EDC97B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D6D2-7250-4D86-A0DA-6CDD5D8E89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474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477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480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483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FE2F0-C49A-4BA3-9A07-9B34EAAB4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528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531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534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537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C504-2410-49FE-B140-5ED86EA43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582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585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588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591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0430-5AFB-4E46-B738-9DA5A391D3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636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639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642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645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125-0186-495D-BA94-CDDFD459B02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690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69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696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699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434D-07C2-4206-A95D-3897A6B1FE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226F-CC61-4044-9AEE-85D2B68D947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47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50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53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56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96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99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102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105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AD1B-880D-41F6-9BB7-C8E4837E4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150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15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156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159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484C-8E2A-4E6D-81F3-CC9D31837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204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207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210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213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72EF-0323-40A6-B66E-8FA18423DF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258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261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264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267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127C-CBC0-4A0B-B901-7B9BF24051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312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315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318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321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A735-EBE5-4EEC-BAAB-F11365BBD1D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366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369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372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375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6448-E5B5-4597-90E0-F5AC72CF56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420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42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426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429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F518F-0E10-48F2-A3E6-EB3A520E3A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 rot="5400000">
            <a:off x="2261880" y="2970360"/>
            <a:ext cx="4619520" cy="923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这样的我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AutoShape 35"/>
          <p:cNvSpPr/>
          <p:nvPr/>
        </p:nvSpPr>
        <p:spPr>
          <a:xfrm>
            <a:off x="1619280" y="1341360"/>
            <a:ext cx="2819520" cy="3812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7"/>
          <p:cNvSpPr/>
          <p:nvPr/>
        </p:nvSpPr>
        <p:spPr>
          <a:xfrm>
            <a:off x="2340000" y="1628640"/>
            <a:ext cx="252108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1875"/>
                </a:solidFill>
                <a:latin typeface="Arial"/>
              </a:rPr>
              <a:t>个人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38"/>
          <p:cNvSpPr/>
          <p:nvPr/>
        </p:nvSpPr>
        <p:spPr>
          <a:xfrm>
            <a:off x="1476360" y="2349360"/>
            <a:ext cx="259236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学习经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9"/>
          <p:cNvSpPr/>
          <p:nvPr/>
        </p:nvSpPr>
        <p:spPr>
          <a:xfrm>
            <a:off x="900000" y="4076640"/>
            <a:ext cx="266400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个人爱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0"/>
          <p:cNvSpPr/>
          <p:nvPr/>
        </p:nvSpPr>
        <p:spPr>
          <a:xfrm>
            <a:off x="1619280" y="4797360"/>
            <a:ext cx="244944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1875"/>
                </a:solidFill>
                <a:latin typeface="Arial"/>
              </a:rPr>
              <a:t>我的理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41"/>
          <p:cNvSpPr/>
          <p:nvPr/>
        </p:nvSpPr>
        <p:spPr>
          <a:xfrm>
            <a:off x="2124000" y="5661000"/>
            <a:ext cx="266400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人生格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47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8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9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AutoShape 64"/>
          <p:cNvGrpSpPr/>
          <p:nvPr/>
        </p:nvGrpSpPr>
        <p:grpSpPr>
          <a:xfrm>
            <a:off x="-255600" y="755640"/>
            <a:ext cx="2852640" cy="1023840"/>
            <a:chOff x="-255600" y="755640"/>
            <a:chExt cx="2852640" cy="1023840"/>
          </a:xfrm>
        </p:grpSpPr>
        <p:pic>
          <p:nvPicPr>
            <p:cNvPr id="755" name="AutoShape 64" descr=""/>
            <p:cNvPicPr/>
            <p:nvPr/>
          </p:nvPicPr>
          <p:blipFill>
            <a:blip r:embed="rId2"/>
            <a:stretch/>
          </p:blipFill>
          <p:spPr>
            <a:xfrm>
              <a:off x="-255600" y="755640"/>
              <a:ext cx="2852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65240" y="912960"/>
              <a:ext cx="20080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AutoShape 39"/>
          <p:cNvSpPr/>
          <p:nvPr/>
        </p:nvSpPr>
        <p:spPr>
          <a:xfrm>
            <a:off x="1187280" y="3213000"/>
            <a:ext cx="266400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1875"/>
                </a:solidFill>
                <a:latin typeface="Arial"/>
              </a:rPr>
              <a:t>我的母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AutoShape 2"/>
          <p:cNvSpPr/>
          <p:nvPr/>
        </p:nvSpPr>
        <p:spPr>
          <a:xfrm>
            <a:off x="0" y="549360"/>
            <a:ext cx="3168720" cy="1439640"/>
          </a:xfrm>
          <a:custGeom>
            <a:avLst/>
            <a:gdLst>
              <a:gd name="textAreaLeft" fmla="*/ 396000 w 3168720"/>
              <a:gd name="textAreaRight" fmla="*/ 2772720 w 31687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99" y="5400"/>
                </a:lnTo>
                <a:lnTo>
                  <a:pt x="16199" y="0"/>
                </a:lnTo>
                <a:lnTo>
                  <a:pt x="21600" y="10800"/>
                </a:lnTo>
                <a:lnTo>
                  <a:pt x="16199" y="21600"/>
                </a:lnTo>
                <a:lnTo>
                  <a:pt x="16199" y="16200"/>
                </a:lnTo>
                <a:lnTo>
                  <a:pt x="0" y="16200"/>
                </a:lnTo>
                <a:lnTo>
                  <a:pt x="2701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华文行楷"/>
                <a:ea typeface="华文行楷"/>
              </a:rPr>
              <a:t>我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3"/>
          <p:cNvSpPr/>
          <p:nvPr/>
        </p:nvSpPr>
        <p:spPr>
          <a:xfrm>
            <a:off x="0" y="1700280"/>
            <a:ext cx="4859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年龄：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姓名：梁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星座：双鱼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血型：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Arial"/>
              </a:rPr>
              <a:t>来自：安徽省明光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喜欢的运动：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跑步、羽毛球、器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2d0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56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65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66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3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75"/>
          <p:cNvSpPr/>
          <p:nvPr/>
        </p:nvSpPr>
        <p:spPr>
          <a:xfrm>
            <a:off x="8893080" y="1700280"/>
            <a:ext cx="0" cy="453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76"/>
          <p:cNvSpPr/>
          <p:nvPr/>
        </p:nvSpPr>
        <p:spPr>
          <a:xfrm flipH="1">
            <a:off x="250920" y="623736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77"/>
          <p:cNvSpPr/>
          <p:nvPr/>
        </p:nvSpPr>
        <p:spPr>
          <a:xfrm flipV="1">
            <a:off x="250920" y="1699920"/>
            <a:ext cx="0" cy="453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79"/>
          <p:cNvSpPr/>
          <p:nvPr/>
        </p:nvSpPr>
        <p:spPr>
          <a:xfrm>
            <a:off x="4572000" y="1700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367160" cy="4392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"/>
          <p:cNvGraphicFramePr/>
          <p:nvPr/>
        </p:nvGraphicFramePr>
        <p:xfrm>
          <a:off x="468360" y="1916280"/>
          <a:ext cx="8496360" cy="3516120"/>
        </p:xfrm>
        <a:graphic>
          <a:graphicData uri="http://schemas.openxmlformats.org/drawingml/2006/table">
            <a:tbl>
              <a:tblPr/>
              <a:tblGrid>
                <a:gridCol w="4246560"/>
                <a:gridCol w="42498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起止年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8000"/>
                          </a:solidFill>
                          <a:latin typeface="华文楷体"/>
                          <a:ea typeface="华文楷体"/>
                        </a:rPr>
                        <a:t>就读学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2000——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涝口小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2008——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涝口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2011</a:t>
                      </a: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至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安徽汽车工业学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Line 131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9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40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0" y="765000"/>
            <a:ext cx="3168720" cy="1224000"/>
          </a:xfrm>
          <a:custGeom>
            <a:avLst/>
            <a:gdLst>
              <a:gd name="textAreaLeft" fmla="*/ 336600 w 3168720"/>
              <a:gd name="textAreaRight" fmla="*/ 2832120 w 316872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09" y="5400"/>
                </a:lnTo>
                <a:lnTo>
                  <a:pt x="17009" y="0"/>
                </a:lnTo>
                <a:lnTo>
                  <a:pt x="21600" y="10800"/>
                </a:lnTo>
                <a:lnTo>
                  <a:pt x="17009" y="21600"/>
                </a:lnTo>
                <a:lnTo>
                  <a:pt x="17009" y="16200"/>
                </a:lnTo>
                <a:lnTo>
                  <a:pt x="0" y="16200"/>
                </a:lnTo>
                <a:lnTo>
                  <a:pt x="2296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华文行楷"/>
                <a:ea typeface="华文行楷"/>
              </a:rPr>
              <a:t>学习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AutoShape 4"/>
          <p:cNvSpPr/>
          <p:nvPr/>
        </p:nvSpPr>
        <p:spPr>
          <a:xfrm>
            <a:off x="0" y="549360"/>
            <a:ext cx="3635280" cy="1439640"/>
          </a:xfrm>
          <a:custGeom>
            <a:avLst/>
            <a:gdLst>
              <a:gd name="textAreaLeft" fmla="*/ 396000 w 3635280"/>
              <a:gd name="textAreaRight" fmla="*/ 3239280 w 363528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94" y="5400"/>
                </a:lnTo>
                <a:lnTo>
                  <a:pt x="16894" y="0"/>
                </a:lnTo>
                <a:lnTo>
                  <a:pt x="21600" y="10800"/>
                </a:lnTo>
                <a:lnTo>
                  <a:pt x="16894" y="21600"/>
                </a:lnTo>
                <a:lnTo>
                  <a:pt x="16894" y="16200"/>
                </a:lnTo>
                <a:lnTo>
                  <a:pt x="0" y="16200"/>
                </a:lnTo>
                <a:lnTo>
                  <a:pt x="235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母校</a:t>
            </a:r>
            <a:r>
              <a:rPr b="0" lang="zh-CN" sz="1800" spc="-1" strike="noStrike">
                <a:solidFill>
                  <a:srgbClr val="990000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0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8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9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形标注 8"/>
          <p:cNvSpPr/>
          <p:nvPr/>
        </p:nvSpPr>
        <p:spPr>
          <a:xfrm>
            <a:off x="4140360" y="404640"/>
            <a:ext cx="2952720" cy="720720"/>
          </a:xfrm>
          <a:prstGeom prst="wedgeEllipseCallout">
            <a:avLst>
              <a:gd name="adj1" fmla="val -54578"/>
              <a:gd name="adj2" fmla="val 1856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汽工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435640" cy="41720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708360" cy="23623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3635280" cy="2552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颜色：   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绿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书：    </a:t>
            </a:r>
            <a:r>
              <a:rPr b="1" lang="en-US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钢铁是怎样炼成的</a:t>
            </a:r>
            <a:r>
              <a:rPr b="1" lang="en-US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歌手：  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汪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季节：  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夏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爱的人：爱我的每个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AutoShape 4"/>
          <p:cNvSpPr/>
          <p:nvPr/>
        </p:nvSpPr>
        <p:spPr>
          <a:xfrm>
            <a:off x="0" y="620640"/>
            <a:ext cx="2987640" cy="1152720"/>
          </a:xfrm>
          <a:custGeom>
            <a:avLst/>
            <a:gdLst>
              <a:gd name="textAreaLeft" fmla="*/ 316800 w 2987640"/>
              <a:gd name="textAreaRight" fmla="*/ 2670840 w 298764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18" y="5400"/>
                </a:lnTo>
                <a:lnTo>
                  <a:pt x="17018" y="0"/>
                </a:lnTo>
                <a:lnTo>
                  <a:pt x="21600" y="10800"/>
                </a:lnTo>
                <a:lnTo>
                  <a:pt x="17018" y="21600"/>
                </a:lnTo>
                <a:lnTo>
                  <a:pt x="17018" y="16200"/>
                </a:lnTo>
                <a:lnTo>
                  <a:pt x="0" y="16200"/>
                </a:lnTo>
                <a:lnTo>
                  <a:pt x="2291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华文行楷"/>
                <a:ea typeface="华文行楷"/>
              </a:rPr>
              <a:t>个人爱好</a:t>
            </a:r>
            <a:r>
              <a:rPr b="0" lang="zh-CN" sz="1800" spc="-1" strike="noStrike">
                <a:solidFill>
                  <a:srgbClr val="1f497d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0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9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0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ush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9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15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95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" descr="p_large_8AnH_2679000523ef2d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7"/>
          <p:cNvSpPr/>
          <p:nvPr/>
        </p:nvSpPr>
        <p:spPr>
          <a:xfrm>
            <a:off x="250920" y="189000"/>
            <a:ext cx="3168720" cy="1439640"/>
          </a:xfrm>
          <a:custGeom>
            <a:avLst/>
            <a:gdLst>
              <a:gd name="textAreaLeft" fmla="*/ 396000 w 3168720"/>
              <a:gd name="textAreaRight" fmla="*/ 2772720 w 31687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微软简魏碑"/>
              </a:rPr>
              <a:t>我的理想</a:t>
            </a:r>
            <a:r>
              <a:rPr b="0" lang="zh-CN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5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6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对于未来，曾经有过许多许多设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而如今，似乎那些都已经完全脱离了现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只想做好现在所能做好的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过去已经过去，而未来还在前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抓紧现在所能抓住的一切机遇与挑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改变，或许从现在就已经开始</a:t>
            </a:r>
            <a:r>
              <a:rPr b="1" lang="en-US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Monotype Corsiva"/>
                <a:ea typeface="微软简隶书"/>
              </a:rPr>
              <a:t>Just Do My Best</a:t>
            </a:r>
            <a:r>
              <a:rPr b="1" lang="zh-CN" sz="3200" spc="-1" strike="noStrike">
                <a:solidFill>
                  <a:srgbClr val="ff5050"/>
                </a:solidFill>
                <a:latin typeface="Monotype Corsiva"/>
                <a:ea typeface="微软简隶书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1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10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10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1000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1000"/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1000"/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AutoShape 4"/>
          <p:cNvSpPr/>
          <p:nvPr/>
        </p:nvSpPr>
        <p:spPr>
          <a:xfrm>
            <a:off x="0" y="620640"/>
            <a:ext cx="3168720" cy="1295640"/>
          </a:xfrm>
          <a:custGeom>
            <a:avLst/>
            <a:gdLst>
              <a:gd name="textAreaLeft" fmla="*/ 356400 w 3168720"/>
              <a:gd name="textAreaRight" fmla="*/ 2812320 w 316872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740" y="5400"/>
                </a:ln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16740" y="16200"/>
                </a:lnTo>
                <a:lnTo>
                  <a:pt x="0" y="16200"/>
                </a:lnTo>
                <a:lnTo>
                  <a:pt x="243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微软简魏碑"/>
              </a:rPr>
              <a:t>人生格言</a:t>
            </a:r>
            <a:r>
              <a:rPr b="0" lang="zh-CN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0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7168320" y="1628640"/>
            <a:ext cx="15292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圆角矩形 19"/>
          <p:cNvSpPr/>
          <p:nvPr/>
        </p:nvSpPr>
        <p:spPr>
          <a:xfrm>
            <a:off x="468360" y="1916280"/>
            <a:ext cx="790560" cy="4249440"/>
          </a:xfrm>
          <a:custGeom>
            <a:avLst/>
            <a:gdLst>
              <a:gd name="textAreaLeft" fmla="*/ 38520 w 790560"/>
              <a:gd name="textAreaRight" fmla="*/ 752040 w 790560"/>
              <a:gd name="textAreaTop" fmla="*/ 38520 h 4249440"/>
              <a:gd name="textAreaBottom" fmla="*/ 4210920 h 4249440"/>
            </a:gdLst>
            <a:ahLst/>
            <a:rect l="textAreaLeft" t="textAreaTop" r="textAreaRight" b="textAreaBottom"/>
            <a:pathLst>
              <a:path w="21600" h="116062">
                <a:moveTo>
                  <a:pt x="3600" y="0"/>
                </a:moveTo>
                <a:arcTo wR="3600" hR="3600" stAng="16200000" swAng="-5400000"/>
                <a:lnTo>
                  <a:pt x="0" y="112462"/>
                </a:lnTo>
                <a:arcTo wR="3600" hR="3600" stAng="10800000" swAng="-5400000"/>
                <a:lnTo>
                  <a:pt x="18000" y="116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华文行楷"/>
                <a:ea typeface="华文行楷"/>
              </a:rPr>
              <a:t>吾  将  上  下  而  求  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圆角矩形 20"/>
          <p:cNvSpPr/>
          <p:nvPr/>
        </p:nvSpPr>
        <p:spPr>
          <a:xfrm>
            <a:off x="7885080" y="1844640"/>
            <a:ext cx="790560" cy="4248360"/>
          </a:xfrm>
          <a:custGeom>
            <a:avLst/>
            <a:gdLst>
              <a:gd name="textAreaLeft" fmla="*/ 38520 w 790560"/>
              <a:gd name="textAreaRight" fmla="*/ 752040 w 790560"/>
              <a:gd name="textAreaTop" fmla="*/ 38520 h 4248360"/>
              <a:gd name="textAreaBottom" fmla="*/ 4209840 h 4248360"/>
            </a:gdLst>
            <a:ahLst/>
            <a:rect l="textAreaLeft" t="textAreaTop" r="textAreaRight" b="textAreaBottom"/>
            <a:pathLst>
              <a:path w="21600" h="116032">
                <a:moveTo>
                  <a:pt x="3600" y="0"/>
                </a:moveTo>
                <a:arcTo wR="3600" hR="3600" stAng="16200000" swAng="-5400000"/>
                <a:lnTo>
                  <a:pt x="0" y="112432"/>
                </a:lnTo>
                <a:arcTo wR="3600" hR="3600" stAng="10800000" swAng="-5400000"/>
                <a:lnTo>
                  <a:pt x="18000" y="116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华文行楷"/>
                <a:ea typeface="华文行楷"/>
              </a:rPr>
              <a:t>路   漫  漫  其  修  远  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30"/>
          <p:cNvSpPr/>
          <p:nvPr/>
        </p:nvSpPr>
        <p:spPr>
          <a:xfrm>
            <a:off x="1258920" y="1844640"/>
            <a:ext cx="66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不要因为前方一路风雨，就犹豫徘徊畏缩不前，到最后只会使充满希望的生命之花凋谢枯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不要因为往日的骄傲而忘勿所以，沉淀其中不能自拔，到最后只会使如火般的激情悄然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所以，在人生的旅途中无论遇到什么、拥有什么、失去什么、都要不忘了人生的启程，忘记了赶路。鲜花和掌声是赠与那些风雨无阻的行者，而不是赐予停留在原地的待兔者，</a:t>
            </a:r>
            <a:br>
              <a:rPr sz="2400"/>
            </a:b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只有启程和前行才能到达成功的彼岸</a:t>
            </a:r>
            <a:br>
              <a:rPr sz="2400"/>
            </a:br>
            <a:r>
              <a:rPr b="0" lang="zh-CN" sz="2400" spc="-1" strike="noStrike">
                <a:solidFill>
                  <a:srgbClr val="008000"/>
                </a:solidFill>
                <a:latin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over dir="l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4"/>
          <p:cNvSpPr/>
          <p:nvPr/>
        </p:nvSpPr>
        <p:spPr>
          <a:xfrm>
            <a:off x="1908000" y="1773360"/>
            <a:ext cx="5472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nstantia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Best  wishes  to 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1:50:58Z</dcterms:created>
  <dc:creator>Microsoft</dc:creator>
  <dc:description/>
  <dc:language>en-US</dc:language>
  <cp:lastModifiedBy>未知用户</cp:lastModifiedBy>
  <dcterms:modified xsi:type="dcterms:W3CDTF">2013-02-24T06:47:29Z</dcterms:modified>
  <cp:revision>72</cp:revision>
  <dc:subject/>
  <dc:title>自我介绍</dc:title>
</cp:coreProperties>
</file>