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chimes.wav" ContentType="audio/x-wav"/>
  <Override PartName="/ppt/media/wind.wav" ContentType="audio/x-wav"/>
  <Override PartName="/ppt/media/image1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FC1-6964-46BF-87F2-D723ED08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EAA-7D30-4845-B0F6-2A4B8F65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A22-6C17-44EE-8FDC-B5FD4B6A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7C8-1174-4730-95D8-D031B12F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D344-6F1D-4A0C-A3AF-E9E8B70B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8D9B-4EEE-470D-8FC2-212AE121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3AC7-8BB1-46E8-88EC-9E329E6D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0B5C-2C5D-48A2-95AE-36AE52B1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AD77-0FE5-4AF2-B38E-284D52EA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206B-D288-4E97-93DE-8671E913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ECF5-E69A-4E89-9E01-131C79DE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1FE-372D-478E-83B1-7D260611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2187-D3ED-40D9-AA60-6A3BAAE8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164A-E298-454F-A2C8-444E864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D52A-9951-4A53-8062-E4453151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91CE-03AA-41E6-98E5-F4425D0D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CC94-2E88-4790-9009-B7840355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E86A0-0036-430A-9D25-E70DEDDB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1A30-B8B9-4667-BFD2-7B705B04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B670-2281-44F0-9DB9-5B6F6419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DA59-33D6-4F97-93CE-09859A7A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61B4-606F-4BD1-AFB9-8B55C34A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19C-C389-4AB4-AA66-EEB89311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A3B8-86AB-41BE-86C7-3249346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534EB-6977-480C-9C54-83E49584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8A76-C3FD-474D-BE09-87B750BD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6B8C-9372-40D3-9C11-95E12892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A573-1DBF-4F1C-AF79-E864A1F2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03AE8-D655-4F14-A8CE-3B00E9E5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D69B-5315-4BD9-9B54-F938A3BE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434BD-A976-4E9A-99F0-C50EB598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F08A-75E8-4AFE-98C1-C46E48B2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1161-8674-4BAA-8A5E-2F32D09D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A44-CC6D-481F-BED5-83D18146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E36FD-A428-48BF-89F9-4FA9FC04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E161-4E9B-48AF-AE37-DD5714BA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642D-596C-45E2-9163-3D132283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5C4B-9C86-444B-AA82-5D6CE150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0006D-A0EB-4C5F-8526-35DA19E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A7FD3-F87E-4B63-B569-BA079E4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02A50-4D3B-4423-B23A-78857E18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A627-BDC2-4F6F-936D-285AC87E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4A9F-61CE-4D96-BA9F-8427AF14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A045-5B5D-4042-93CE-4FB81C98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227-6BD8-47B4-84EB-2E51E2A0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97AEB-695D-43F7-86CD-A04EF531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DDFB8-5126-4667-8EFC-D5581F5F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8425B-DEAE-4223-9303-3376868D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3E27-9024-4A97-BA2F-17ED72E6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ED04-CB66-4E9C-8EB5-ED20F6D5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213A-A6B0-484B-802F-DB4F052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C1B65-DB3F-44E6-8936-BAB84797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0A84-BC72-4935-BF5C-C2C95537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08209-AEC1-459A-98A5-9AC4A457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E14F4-868B-43A8-AA3D-7E043D62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530-E6F0-4920-B9B0-834F2229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4EB3C-2C40-49D5-ADE9-ECA16565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B5D05-6323-4F1C-AE83-59EA0E77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5C100-951F-409E-B919-749F8611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ED3CF-DD19-4E12-91A1-563F0764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9FE44-FF8E-4CA6-A3ED-C398571D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338B6-6530-4B1D-828C-67708E09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B5519-30B7-43E8-98C8-5848D294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AEDAE-C1DB-40FE-A56D-34CB408D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7A8C8-DCDA-45FE-8994-F6BEEAF4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34318-315F-4530-A2B7-3FF69934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972-4E3F-485E-B4F5-2AFAF82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942E-C0A2-4739-8517-E290BEEF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62FB1-46B1-4B49-B3DD-30A1C400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7888-A76A-4A3B-A81B-BB654EE9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12F-6DFA-4E3E-AD43-E794C09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44B-9884-481B-BD8B-D28B231E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BCDA-EE4B-409A-BFB0-DE31CEF7BA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0F06-1CD6-4074-BB90-DE7BA89E8A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D863-BBFB-462E-8ED3-1D4B322547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7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322D-02E8-426C-B10F-3F71E45DF4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8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3174-820F-4CFB-810A-510488A35E4B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4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6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228-0AB2-456E-AEBA-D00D8042AF6C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547640" y="1557360"/>
            <a:ext cx="54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成长路上，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为孩子加油！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29" name=""/>
          <p:cNvSpPr/>
          <p:nvPr/>
        </p:nvSpPr>
        <p:spPr>
          <a:xfrm>
            <a:off x="3135960" y="4292640"/>
            <a:ext cx="38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）班家长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539640" y="620640"/>
            <a:ext cx="30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语文学习方面要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45" name=""/>
          <p:cNvSpPr/>
          <p:nvPr/>
        </p:nvSpPr>
        <p:spPr>
          <a:xfrm>
            <a:off x="1199160" y="1550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、教材方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43840" y="1989000"/>
            <a:ext cx="172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拼音：已经学完，熟练的过程：多让孩子看标拼音的课外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识字：听读识字、拼音识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类字要求：要求会读会写会组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类字要求：要求会认会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：要求背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34208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作业方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08320" y="2060640"/>
            <a:ext cx="1308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业要独立、一气呵成、认真按时完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家长在家督促：是每一项作业都完成了吗？读书作业做了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坚持了吗？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71640" y="1341360"/>
            <a:ext cx="7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业要干净、整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50200" y="3284640"/>
            <a:ext cx="627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家长签字，体现责任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签字的意义：共同监督、互相告知孩子在家、在学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业完成的情况，分析问题。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94400" y="4581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视改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629360" y="74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外阅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96000" y="1844640"/>
            <a:ext cx="31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读学校要求购买的课外读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绘本、童话故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议读经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背诵古诗、经典诗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609480" y="762120"/>
            <a:ext cx="8001000" cy="41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28440">
                  <a:solidFill>
                    <a:srgbClr val="cc99ff"/>
                  </a:solidFill>
                  <a:prstDash val="dash"/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好习惯成就美好人生！</a:t>
            </a:r>
            <a:endParaRPr b="1" lang="en-US" sz="8000" spc="1" strike="noStrike">
              <a:ln w="28440">
                <a:solidFill>
                  <a:srgbClr val="cc99ff"/>
                </a:solidFill>
                <a:prstDash val="dash"/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28440">
                  <a:solidFill>
                    <a:srgbClr val="cc99ff"/>
                  </a:solidFill>
                  <a:prstDash val="dash"/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好习惯是成功的保证！</a:t>
            </a:r>
            <a:endParaRPr b="1" lang="en-US" sz="8000" spc="1" strike="noStrike">
              <a:ln w="28440">
                <a:solidFill>
                  <a:srgbClr val="cc99ff"/>
                </a:solidFill>
                <a:prstDash val="dash"/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 rot="715800">
            <a:off x="963360" y="417600"/>
            <a:ext cx="28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习惯成就命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58" name=""/>
          <p:cNvSpPr/>
          <p:nvPr/>
        </p:nvSpPr>
        <p:spPr>
          <a:xfrm>
            <a:off x="971640" y="1341360"/>
            <a:ext cx="7272360" cy="50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（一）学习习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按时到校上课，不迟到，不过早到校。孩子早到校而老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还没有到上班时间，这段时间很不安全，有病有事及时请假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做一个守时的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上午：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0——11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下午：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0——5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认真倾听别人发言，按要求完成作业，读写执笔姿势要正确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严格按照一拳、一尺、一寸来要求孩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正确使用橡皮。（一手按住作业本，一手来回轻轻擦，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免将本子擦破，而且将痕迹擦干净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71640" y="1341360"/>
            <a:ext cx="72723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（一）学习习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安排好孩子在家的作息时间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周日到周四一定保证孩子早睡觉，中午适当休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培养孩子完成作业再玩耍的习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记作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认真完成   家长签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培养孩子的动手能力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生活不能包办，让孩子养成自己整理书包、带好一切学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用品的习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 rot="715800">
            <a:off x="963360" y="417600"/>
            <a:ext cx="28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习惯成就命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57340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小学</a:t>
            </a:r>
            <a:r>
              <a:rPr b="1" lang="zh-CN" sz="32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年级是培养学习习惯的关键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 rot="715800">
            <a:off x="963360" y="417600"/>
            <a:ext cx="28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习惯成就命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1341360"/>
            <a:ext cx="727236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（二）生活习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培养孩子讲卫生、爱清洁的习惯。不随地吐痰、不乱扔垃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圾，每位学生上学都应带好卫生纸。随天气的变化添加衣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服，下雨带好雨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培养孩子的独立意识。自己能做的事情自己做，遇到困难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自己要想办法解决，培养孩子的时间观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培养孩子生活自理能力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培养孩子的动手操作能力和服务性劳动的能力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在校学习期间不要把零食和玩具带到学校，不乱花钱，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成节约的习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11280" y="620640"/>
            <a:ext cx="756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准备必要的学习用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孩子在家长的协助下逐步学会自己学会准备好学习用品，每天整理好书包，每天削好至少５枝铅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孩子学习榜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孩子做作业时家长最好不要在家中看电视、打麻将或频繁地问这问那，如果您可以在一旁看书、看报将会给孩子以潜移默化地影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辅导孩子的学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年级的孩子刚入学，他们自己独立学习的能力暂时还没有，所以回家写作业、读书、写字的时候就需要家长在一旁陪着。做作业的时候，家长要注意孩子的坐姿、握笔姿势和书写姿势是否正确。要教导孩子做作业要一心一意，不能边看电视边写作业，或者写一会儿玩一会儿，这样容易分散他们的注意力，不能专心致志地完成一件事，将来功课多了就无法按时完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 rot="1219200">
            <a:off x="539280" y="-242640"/>
            <a:ext cx="181476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建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 rot="1219200">
            <a:off x="944280" y="328680"/>
            <a:ext cx="181440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几点要求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1341360"/>
            <a:ext cx="7272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按时接送孩子，确保孩子安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每天检查孩子作业，确保质量高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每周至少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次给孩子过关词语、课文及口算练习题，做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答案张口就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每天陪同复习、预习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每天陪同孩子看课外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486900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小学阶段是记忆力发展的关键期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是记忆的黄金时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50920" y="620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虽然一年级的知识程度还不深，但知识量却很大，比如语文每一篇课文要求会认的生字就有十几个，多数的生字还很繁琐，光靠课堂上讲课的时间让他们会认是很困难，所以我要求学生回家提前预习，圈出生字。最好把生字认会，课文读熟，这样到课堂上学生会很容易把新课的生字记会。每天要求孩子读读课文或进行课外阅读，这样长此以往，就能逐渐提高孩子的学习成绩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4869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成功的教育就是培养好习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042920" y="1197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华文楷体"/>
              </a:rPr>
              <a:t>感谢你们能从百忙之中抽出时间到校参加会议，谢谢你们对我们工作的支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42920" y="836640"/>
            <a:ext cx="70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家长其他方面的一些建议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养成好习惯也需要适度的训练和惩罚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各位家长要知道没有训练，就没有习惯。好习惯必须经过长期、反复的训练才能形成。因此，严格要求、反复训练，是形成良好习惯最基本的方法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另外，有时惩罚也是一种教育，没有惩罚的教育是不完整的教育。所以各位家长在教育孩子上要有原则，要赏罚分明，这样才能更好的培养孩子的习惯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给家长朋友们两句话，与大家一起共勉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育孩子要言传身教。孩子是家长的镜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节决定教育的成败。教育孩子要从细节做起。关注孩子的细节越多，孩子进步就越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87280" y="1125360"/>
            <a:ext cx="79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9079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我深深知道，那每张灿烂可爱的笑脸都承载着各位家长的殷切希望和美好的憧憬，作为一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班的语文老师，我一直在探索，如何尽己所能，使课堂变得生动活泼，让孩子们乐意学语文，感受到语言文字的魅力，激起探索的欲望，享受成功的喜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258920" y="476280"/>
            <a:ext cx="568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00000" y="13413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哈弗女孩刘亦婷》一书中有这样的一段话，如果只靠老师在学校单方面的付出，孩子只能做一个中等生，一个优秀的孩子背后有一个善于对孩子倾注很多心血的家长。付出总会有收获，因此，本学期我希望家长朋友对孩子的学习再多一些关注，多一些督促。多一些耐心，多一份坚持，让我们的孩子在新学期中收获更多的知识，技能，快乐，自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619280" y="404640"/>
            <a:ext cx="802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家庭是孩子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       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第一课堂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家长是孩子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       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第一任老师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让我们共同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       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关注孩子的成长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33372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zh-CN" sz="4400" spc="-1" strike="noStrike">
                <a:solidFill>
                  <a:srgbClr val="ff9933"/>
                </a:solidFill>
                <a:latin typeface="Arial"/>
                <a:ea typeface="幼圆"/>
              </a:rPr>
              <a:t>孩子是一棵苗，要他长成一棵不俱风雨的参天大树，还须精心的栽陪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066680" y="21337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99"/>
                </a:solidFill>
                <a:latin typeface="华文行楷"/>
                <a:ea typeface="华文行楷"/>
              </a:rPr>
              <a:t>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6002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99"/>
                </a:solidFill>
                <a:latin typeface="华文行楷"/>
                <a:ea typeface="华文行楷"/>
              </a:rPr>
              <a:t>把责任交给孩子，让自信促进成长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55640" y="260280"/>
            <a:ext cx="61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华文楷体"/>
              </a:rPr>
              <a:t>谢谢您们对我工作的支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华文楷体"/>
              </a:rPr>
              <a:t>希望您能提出宝贵意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温馨提示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请你将手机调为震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请你不要在教室及教室两侧接听电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请不要随意离开座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请你不要在学校抽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12440" y="4035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厚积薄发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374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【解释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厚积：指大量地、充分地积蓄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薄发：指少量地、慢慢地放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多多积蓄，慢慢放出。形容只有准备充分才能办好事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此句源于“君子厚积而薄发”一句。意思是</a:t>
            </a:r>
            <a:r>
              <a:rPr b="1" lang="zh-CN" sz="3600" spc="-1" strike="noStrike">
                <a:solidFill>
                  <a:srgbClr val="99ff33"/>
                </a:solidFill>
                <a:latin typeface="Arial"/>
                <a:ea typeface="楷体_GB2312"/>
              </a:rPr>
              <a:t>经过长时间有准备的积累即将大有可为，施展作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80000" y="0"/>
            <a:ext cx="3564000" cy="2160720"/>
          </a:xfrm>
          <a:prstGeom prst="irregularSeal1">
            <a:avLst/>
          </a:prstGeom>
          <a:solidFill>
            <a:srgbClr val="f5fba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58560" y="61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厚积就是指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有坚实的基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69880" y="1725120"/>
            <a:ext cx="8010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324000" y="980640"/>
            <a:ext cx="792000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三个月来孩子们的表现情况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上课的时候上厕所的人少了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上课时走出座位的同学基本上没有了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孩子们学会了课堂上怎样听讲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孩子们学会了劳动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学会了上有准备的课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初步学会了和其他小朋友相处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学会了用正确的姿势读书写字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0920" y="260280"/>
            <a:ext cx="88930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表扬学习之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李紫萱、刘鑫铭、黄俊铵、陈梓聪、朱霏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姚安、李文捷、黄千帆、杨卓缙、李嘉林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林晟锴、李嘉炜、刘思颖、雷幸梦、王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邱弈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68360" y="0"/>
            <a:ext cx="8424720" cy="70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表扬</a:t>
            </a:r>
            <a:r>
              <a:rPr b="1" lang="zh-CN" sz="6000" spc="-1" strike="noStrike">
                <a:solidFill>
                  <a:srgbClr val="ff0066"/>
                </a:solidFill>
                <a:latin typeface="Comic Sans MS"/>
                <a:ea typeface="华文新魏"/>
              </a:rPr>
              <a:t>礼仪之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紫萱、邱弈涵、刘敏婷、刘翠萍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鑫铭、黄俊铵、徐志聪、杨冠壹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杨芊卉、姚雅雯、朱霏铃、姚婉萌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德涛、姚安、 黄千帆、王映珊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嘉林、赵乾凱、李嘉炜、林晟锴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雷幸梦、赵浩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24000" y="2556000"/>
            <a:ext cx="8280360" cy="2574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需家长配合的工作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即使事业很忙，也尽量在周末抽出时间与子女聊天、沟通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育子女树立较强的自我保护意识，出现的任何问题找老师、家长协助解决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24000" y="1700280"/>
            <a:ext cx="8280360" cy="642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、尽可能支持学校、老师工作。在孩子面前，不要出现有损教育者形象的言行。我们的奋斗方向是尽全力完善各方面工作。请客观看待我们的成与失，将您宝贵的意见反馈给我们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1:53:05Z</dcterms:created>
  <dc:creator>12</dc:creator>
  <dc:description/>
  <dc:language>en-US</dc:language>
  <cp:lastModifiedBy>101</cp:lastModifiedBy>
  <dcterms:modified xsi:type="dcterms:W3CDTF">2013-11-26T08:37:53Z</dcterms:modified>
  <cp:revision>72</cp:revision>
  <dc:subject/>
  <dc:title>幻灯片 1</dc:title>
</cp:coreProperties>
</file>