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D6D9-1D28-4A90-9249-585CBDF2CCB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50D3-B179-4D85-A356-DD4D417E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D8E7-1F22-4EB2-9777-15F71AEA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7F6E-F7BC-45D6-836D-66E1F1A4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C3ED-2FC0-442C-8624-A297A548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E1AF-F836-4DCA-A525-3B3C6361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6414-727D-4ACC-9559-77481C8F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C14D-C4F6-4EA3-904D-59B9FA1F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0D3B-5704-44A0-958E-EB57494A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8119-B9CD-4A81-A4B9-6CFDF090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7130-819F-46DD-B0D7-80B04991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6941-5143-4F98-9602-37A11812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36C3-8702-4A22-9C0F-3454F251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A74F-BF51-49B0-842A-63FCA2B1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80C5-8754-4398-ABF4-9A85BBC2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B012-AB68-4EB1-8472-96CEEF9D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3969-6943-4F05-91AD-F398F63A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B7EA-9BF4-4127-A30C-522E3280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93E5-576E-4F18-9AB6-7D55A10E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5C9E-567D-4BCD-B57C-A1987EE3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A442-28ED-43E8-94A6-6FA91000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B55A-043C-40FA-97F3-F6C1032B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03DC-40C1-45D2-BC48-99899B60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359B-EDEA-4D3D-8317-A8F09C22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D682-FFB5-4AA4-99E2-DB937A60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629E-A3CA-4C35-A78F-C24C5B2287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467B-A90D-413A-911F-4ECEA8B594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2560" y="156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 Black"/>
              </a:rPr>
              <a:t>你没有任何借口</a:t>
            </a:r>
            <a:endParaRPr b="1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3254400"/>
            <a:ext cx="8569080" cy="12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——</a:t>
            </a:r>
            <a:r>
              <a:rPr b="1" lang="zh-CN" sz="5400" spc="-1" strike="noStrike">
                <a:solidFill>
                  <a:srgbClr val="ffff00"/>
                </a:solidFill>
                <a:latin typeface="Arial Rounded MT Bold"/>
              </a:rPr>
              <a:t>从中国足球看高中学习</a:t>
            </a:r>
            <a:endParaRPr b="0" lang="en-US" sz="5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96720" y="3359160"/>
            <a:ext cx="82807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"/>
          <p:cNvSpPr/>
          <p:nvPr/>
        </p:nvSpPr>
        <p:spPr>
          <a:xfrm>
            <a:off x="7308720" y="5805360"/>
            <a:ext cx="482760" cy="409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ttp://t.jxcn.cn/images/topic/0/73/81493_o.jpg"/>
          <p:cNvPicPr/>
          <p:nvPr/>
        </p:nvPicPr>
        <p:blipFill>
          <a:blip r:embed="rId1"/>
          <a:stretch/>
        </p:blipFill>
        <p:spPr>
          <a:xfrm>
            <a:off x="7920" y="260280"/>
            <a:ext cx="89359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http://img1.cache.netease.com/catchpic/F/F7/F7DD113F1F59285124F2F8FAC809DA4B.jpg"/>
          <p:cNvPicPr/>
          <p:nvPr/>
        </p:nvPicPr>
        <p:blipFill>
          <a:blip r:embed="rId1"/>
          <a:stretch/>
        </p:blipFill>
        <p:spPr>
          <a:xfrm>
            <a:off x="34920" y="0"/>
            <a:ext cx="909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http://ww1.sinaimg.cn/large/54f0f0e9tw1ebp7r3nte2j20g40armye.jpg"/>
          <p:cNvPicPr/>
          <p:nvPr/>
        </p:nvPicPr>
        <p:blipFill>
          <a:blip r:embed="rId1"/>
          <a:stretch/>
        </p:blipFill>
        <p:spPr>
          <a:xfrm>
            <a:off x="27000" y="189000"/>
            <a:ext cx="9064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www.taiwan.cn/ty/list/201311/W020131115831859071290.jpg"/>
          <p:cNvPicPr/>
          <p:nvPr/>
        </p:nvPicPr>
        <p:blipFill>
          <a:blip r:embed="rId1"/>
          <a:stretch/>
        </p:blipFill>
        <p:spPr>
          <a:xfrm>
            <a:off x="0" y="1440"/>
            <a:ext cx="9391680" cy="59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img2.mtime.com/up/1451/207451/0DE38B93-72EA-422D-BB5E-34AB204C2C46_o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img3.cache.netease.com/photo/0005/2010-04-07/63M64NNU00BV0005.jpg"/>
          <p:cNvPicPr/>
          <p:nvPr/>
        </p:nvPicPr>
        <p:blipFill>
          <a:blip r:embed="rId1"/>
          <a:stretch/>
        </p:blipFill>
        <p:spPr>
          <a:xfrm>
            <a:off x="108000" y="189000"/>
            <a:ext cx="91742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://redirect.sogou.com/proxy?url=aHR0cDovL2ltYWdlcy5kYXlvby5jb20vd29ybGQvNTc0MDIvaW1nL2F0dGFjaGVtZW50L2pwZy9zaXRlMS8yMDE0MDQxMC81NjQ1NTMxMzg3OTcwNzM1NDIyLmpwZw==&amp;md5=c84c3362dbc2ab366d670fb1737085f7"/>
          <p:cNvPicPr/>
          <p:nvPr/>
        </p:nvPicPr>
        <p:blipFill>
          <a:blip r:embed="rId1"/>
          <a:stretch/>
        </p:blipFill>
        <p:spPr>
          <a:xfrm>
            <a:off x="96840" y="0"/>
            <a:ext cx="91328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060627025916680"/>
          <p:cNvPicPr/>
          <p:nvPr/>
        </p:nvPicPr>
        <p:blipFill>
          <a:blip r:embed="rId1"/>
          <a:stretch/>
        </p:blipFill>
        <p:spPr>
          <a:xfrm>
            <a:off x="1403280" y="44280"/>
            <a:ext cx="561672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23" name="Picture 4" descr="123346034_221n"/>
          <p:cNvPicPr/>
          <p:nvPr/>
        </p:nvPicPr>
        <p:blipFill>
          <a:blip r:embed="rId1"/>
          <a:srcRect l="2331" t="0" r="1994" b="0"/>
          <a:stretch/>
        </p:blipFill>
        <p:spPr>
          <a:xfrm>
            <a:off x="-179280" y="260280"/>
            <a:ext cx="103662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U179P4T8D1297147F107DT20080630114120"/>
          <p:cNvPicPr/>
          <p:nvPr/>
        </p:nvPicPr>
        <p:blipFill>
          <a:blip r:embed="rId1"/>
          <a:stretch/>
        </p:blipFill>
        <p:spPr>
          <a:xfrm>
            <a:off x="0" y="330120"/>
            <a:ext cx="91821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6640"/>
            <a:ext cx="79311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 Black"/>
              </a:rPr>
              <a:t>中国奥运足球队冲击奥运会历史</a:t>
            </a: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-36360" y="620640"/>
            <a:ext cx="9289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自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8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年中国足球重返奥运会赛场以来，中国国奥队曾先后七次冲击，尽管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8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年奥运会冲击成功，但一如“恐韩症”和“冲击世界杯”，“冲击奥运会”留给中国球迷们的同样是刻骨铭心的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第一次冲击狮城翻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第二次冲击折戟曼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第三次冲击成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第四次冲击黑色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第五次冲击兵败吉隆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第六次冲击饮恨麦纳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冲击雅典奥运会“超白金一代”从辉煌走向没落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626120" y="601812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七次北京奥运会东道主，直接晋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U2028P6T12D3709863F44DT20080609021535"/>
          <p:cNvPicPr/>
          <p:nvPr/>
        </p:nvPicPr>
        <p:blipFill>
          <a:blip r:embed="rId1"/>
          <a:stretch/>
        </p:blipFill>
        <p:spPr>
          <a:xfrm>
            <a:off x="0" y="165240"/>
            <a:ext cx="932328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7280" y="479520"/>
            <a:ext cx="655344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Arial Black"/>
              </a:rPr>
              <a:t>中国男足输球的</a:t>
            </a:r>
            <a:r>
              <a:rPr b="0" lang="zh-CN" sz="4400" spc="-1" strike="noStrike">
                <a:solidFill>
                  <a:srgbClr val="6600cc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6600cc"/>
                </a:solidFill>
                <a:latin typeface="Arial Black"/>
              </a:rPr>
              <a:t>原因</a:t>
            </a:r>
            <a:r>
              <a:rPr b="0" lang="zh-CN" sz="4400" spc="-1" strike="noStrike">
                <a:solidFill>
                  <a:srgbClr val="6600cc"/>
                </a:solidFill>
                <a:latin typeface="Arial"/>
              </a:rPr>
              <a:t>”</a:t>
            </a:r>
            <a:r>
              <a:rPr b="1" lang="zh-CN" sz="4400" spc="-1" strike="noStrike">
                <a:solidFill>
                  <a:srgbClr val="cc00cc"/>
                </a:solidFill>
                <a:latin typeface="Arial Black"/>
              </a:rPr>
              <a:t>　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898560" y="1700280"/>
            <a:ext cx="7705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一、草皮不适应 </a:t>
            </a:r>
            <a:br>
              <a:rPr sz="4800"/>
            </a:b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、草皮太硬了 </a:t>
            </a:r>
            <a:br>
              <a:rPr sz="4800"/>
            </a:b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、草皮太软了 </a:t>
            </a:r>
            <a:br>
              <a:rPr sz="4800"/>
            </a:b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、不适应阔叶草及其它一                            些草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 Black"/>
              </a:rPr>
              <a:t>二、天气原因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848960" y="1557360"/>
            <a:ext cx="4166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、下雪   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、下雨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、下冰雹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、阳光太好了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、冷      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、热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、不冷不热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三、赛场因素 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427840" y="1339920"/>
            <a:ext cx="5002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场内因素：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裁判帮他们 　　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裁判不帮我们　　 　　　　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对手身体太强壮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对手技术太细腻 　　　　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门柱帮了他们 　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对方守门员发挥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BT+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超常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补时太短           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补时太长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场外因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客场作战，气氛影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主场作战，干扰太大 　　　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观众不为我们喝彩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 Black"/>
              </a:rPr>
              <a:t>四、抽签不好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08000" y="1125360"/>
            <a:ext cx="892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同组都是强队踢输了——我们死亡之组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按惯例当然应该中国队输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同组都是中等水平队——踢输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主要是想赢怕输的思想包袱太重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队员们没能放得开手脚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同组都是弱队——踢输了，不重视对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麻痹大意，一时疏忽。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982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五、其他原因（外在） 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233520" y="765000"/>
            <a:ext cx="29739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对亚洲强队踢输了，恐惧心理作怪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走不出阴影。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对亚洲弱队踢输了，对手进步太快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们对他们没有秘密可言了。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对欧洲弱队踢输了，中国队输给了欧洲队。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对欧洲强队（比如意大利队）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踢输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告诉大家一个好消息：中国队仅以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输给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强大的意大利队！！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对南美强队（比如巴西队）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踢输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中国队踢出了自已的一贯水平，队员们也努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了，结果也不出全国人民所料。看来我们跟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界强队是有一点差距的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六、其他原因（内在） 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256120" y="2220840"/>
            <a:ext cx="51566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１、“海龟派”没回来——踢输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我们雪藏主力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２、“海龟派”回来——踢输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时差没倒过来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七、 其他原因（内在综合） 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348640" y="1911240"/>
            <a:ext cx="462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主教练技术差！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中国球迷素质差！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中国足协这个名字差！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中国队——队医技术差！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中国足协领导人——包括办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室里那位倒水扫地的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大妈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差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八、没有我们想不到的 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4920" y="1125360"/>
            <a:ext cx="913752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草皮不软不硬，天气不冷不凉，裁判和门柱净帮着我们，对方没有守门员，补时时间长短我们说了算，到第三国去比赛，观众全都为我们猛喝彩，抽了一个人人都说好的签，“海龟派”回来后猛睡了一个月倒回时差参加比赛，换了个主教练，把部分球员整容，前锋整成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梅西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中场整成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皮埃罗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！换了批外国球迷，换了个中国足协的牌子，换了中国队的队医，换了个中国足协领导人换了办公室里的打杂大妈，还是踢输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综上所述，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今天我们队真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M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不在状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没有学不好的学生，只有不会教的老师，再换教练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 Black"/>
              </a:rPr>
              <a:t>我学习不理想的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ffff00"/>
                </a:solidFill>
                <a:latin typeface="Arial Black"/>
              </a:rPr>
              <a:t>原因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247640" y="765000"/>
            <a:ext cx="1212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一．上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课堂讲得简单，没兴趣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讲得太难，听不懂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老师管得太多太细，烦心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老师管得太粗太少，伤心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老师布置的题太多太难，做不完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老师布置的题太少太简单，没意思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陈卫东老师讲课声音太小太含糊听不清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张纯灏老师讲课的声音太大，刺耳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李红霞老师在课堂上总是提问我，我提心吊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李毅老师在课堂上总是不提问我，我备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冷落，黯然神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42920" y="509760"/>
            <a:ext cx="896616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zh-CN" sz="4400" spc="-1" strike="noStrike">
                <a:solidFill>
                  <a:srgbClr val="bbe0e3"/>
                </a:solidFill>
                <a:latin typeface="Arial"/>
              </a:rPr>
              <a:t>中国足球队冲击世界杯历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一次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95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第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瑞典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世界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二次：</a:t>
            </a:r>
            <a:r>
              <a:rPr b="0" lang="zh-CN" sz="3200" spc="-1" strike="noStrike">
                <a:solidFill>
                  <a:srgbClr val="6600cc"/>
                </a:solidFill>
                <a:latin typeface="Arial"/>
              </a:rPr>
              <a:t>1982</a:t>
            </a:r>
            <a:r>
              <a:rPr b="0" lang="zh-CN" sz="3200" spc="-1" strike="noStrike">
                <a:solidFill>
                  <a:srgbClr val="6600cc"/>
                </a:solidFill>
                <a:latin typeface="Arial"/>
              </a:rPr>
              <a:t>年第</a:t>
            </a:r>
            <a:r>
              <a:rPr b="0" lang="zh-CN" sz="3200" spc="-1" strike="noStrike">
                <a:solidFill>
                  <a:srgbClr val="6600cc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6600cc"/>
                </a:solidFill>
                <a:latin typeface="Arial"/>
              </a:rPr>
              <a:t>届</a:t>
            </a:r>
            <a:r>
              <a:rPr b="0" lang="zh-CN" sz="3200" spc="-1" strike="noStrike">
                <a:solidFill>
                  <a:srgbClr val="6600cc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6600cc"/>
                </a:solidFill>
                <a:latin typeface="Arial"/>
              </a:rPr>
              <a:t>西班牙</a:t>
            </a:r>
            <a:r>
              <a:rPr b="0" lang="zh-CN" sz="3200" spc="-1" strike="noStrike">
                <a:solidFill>
                  <a:srgbClr val="6600cc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6600cc"/>
                </a:solidFill>
                <a:latin typeface="Arial"/>
              </a:rPr>
              <a:t>世界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三次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98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第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墨西哥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世界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四次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99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第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意大利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世界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五次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99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第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美国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世界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六次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99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第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法国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世界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第七次：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2002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年第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17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届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日韩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世界杯成功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八次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00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第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届（德国）世界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九次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01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第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届（南非）世界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455480" y="5661000"/>
            <a:ext cx="517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十次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第二十届（巴西）世界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二．班主任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727360" y="1916280"/>
            <a:ext cx="3841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班主任总是盯着我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班主任总是对我不闻不问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班主任总是安排我做这做那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耽误我的学习时间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班主任看不起我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大事小事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不要我做。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三．环境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819800" y="1413000"/>
            <a:ext cx="5158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教室外面是街道，小贩沿街叫卖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小孩吵闹、卖碟商店烦人的音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出租车刺耳的喇叭声；早上十一点后饭店飘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香味弄得饥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辘辘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北楼虽静但也有鸟叫，隔三岔五园丁修剪草坪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隆隆机器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音乐老师的吊嗓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.....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科技楼外面是球场，哨声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篮球撞击声、同学的叫喊声从不间断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.....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这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上课听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春天太困，夏天太热，秋天倒是我喜欢学习的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节，冬天太冷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四．同学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104920" y="996840"/>
            <a:ext cx="5380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某某总是约我去上网，本来我不想去的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某某上课总是和我讲话，我也不想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可不和他讲，他说我高高在上，父母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师都说要和同学搞好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某某同学上课、上自习总是爱发短信给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我的柔情他永远不懂，为什么受伤的总是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一不小心成了那场风花雪月的故事的主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上演了一幕可歌可泣的青春悲情浪漫剧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因为太投入，伤了心，失了魂，落了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因为他（她）使我失去了学习的动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五．考试 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873440" y="1557360"/>
            <a:ext cx="568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试题太难，我们班的高手都没考好，某某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学作弊，不然他们的排名怎么可能在我前面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试题太简单了，我粗心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考英语听力时声音太大刺耳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声音太小听不清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试题中有些内容我们还没有学过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老师根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没有讲过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监考老师发卷动作太慢，耽误了时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监考老师太严格（或监考老师根本不管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41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六．自习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859920" y="1916280"/>
            <a:ext cx="1665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教室里太吵，象个蜂箱，乱死了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家里连问问题的地方都没有，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母看电视、打牌、喝茶、聊天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响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七．宿舍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907640" y="2276640"/>
            <a:ext cx="5060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午休不好，总是有人讲话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有人串门，晚上有人打呼噜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宿舍外面靠街道，晚上太吵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宿舍管理员我看着始终不顺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-982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八．迟到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027160" y="981000"/>
            <a:ext cx="5118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昨晚做作业、复习得太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又没同学叫我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闹钟坏了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昨晚有同学聊天、打电话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宿舍管理员查宿舍影响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公交车晚点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一路都是红灯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自行车半路暴胎，链条断了（快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校门口课本带忘记了又回去拿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我爹开车送我，堵车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九．其他 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4538880" y="1557360"/>
            <a:ext cx="97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学校管得太严（管得太松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父母管得太严（父母从来不管我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换老师，换校长，改名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换宿舍管理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100240" y="3789360"/>
            <a:ext cx="500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综上所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的运气太差，从来没遇到过好学校、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老师、好同学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没有学不好的学生，只有不会教的老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转学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 Black"/>
              </a:rPr>
              <a:t>小  结</a:t>
            </a:r>
            <a:endParaRPr b="1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77720"/>
            <a:ext cx="82296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Rounded MT Bold"/>
              </a:rPr>
              <a:t>找借口带来的恶果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Arial Rounded MT Bold"/>
              </a:rPr>
              <a:t>找借口，能使我们逃避暂时的困难和责任</a:t>
            </a:r>
            <a:r>
              <a:rPr b="1" lang="en-US" sz="3200" spc="-1" strike="noStrike">
                <a:solidFill>
                  <a:srgbClr val="bbe0e3"/>
                </a:solidFill>
                <a:latin typeface="Arial Rounded MT Bold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Arial Rounded MT Bold"/>
              </a:rPr>
              <a:t>找借口，能使我们得到少许的心理慰藉；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Arial Rounded MT Bold"/>
              </a:rPr>
              <a:t>但是：它纵容了我们的惰性；失去了他人的信任；使我们变得不思进取，怨天尤人</a:t>
            </a:r>
            <a:r>
              <a:rPr b="1" lang="en-US" sz="3200" spc="-1" strike="noStrike">
                <a:solidFill>
                  <a:srgbClr val="bbe0e3"/>
                </a:solidFill>
                <a:latin typeface="Arial Rounded MT Bold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Arial Rounded MT Bold"/>
              </a:rPr>
              <a:t>因此</a:t>
            </a:r>
            <a:r>
              <a:rPr b="1" lang="en-US" sz="3200" spc="-1" strike="noStrike">
                <a:solidFill>
                  <a:srgbClr val="bbe0e3"/>
                </a:solidFill>
                <a:latin typeface="Arial Rounded MT Bold"/>
              </a:rPr>
              <a:t>......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08000" y="760320"/>
            <a:ext cx="8928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不找借口，就是敢于承担责任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不找借口，就是永不放弃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不找借口，就能将热情投入到学习中；不找借口，才会成长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不找借口，才会成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学习没有借口，人生没有借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910160" y="4865760"/>
            <a:ext cx="5712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bbe0e3"/>
                </a:solidFill>
                <a:latin typeface="Arial"/>
              </a:rPr>
              <a:t>成功不属于找借口的人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国足冲击世界杯回顾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856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2400" spc="-1" strike="noStrike">
                <a:solidFill>
                  <a:srgbClr val="ffff00"/>
                </a:solidFill>
                <a:latin typeface="Arial Rounded MT Bold"/>
              </a:rPr>
              <a:t>时间                 成绩                  主帅</a:t>
            </a: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1954</a:t>
            </a: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年第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6 </a:t>
            </a: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届        小组赛遭淘汰              约瑟夫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1980</a:t>
            </a: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年第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12</a:t>
            </a: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届        亚太第三出局              苏永舜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1985</a:t>
            </a: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年第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13</a:t>
            </a: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届       小组第二出局               曾雪麟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1989</a:t>
            </a: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年第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14</a:t>
            </a: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届       黑色三分钟出局             高丰文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1993</a:t>
            </a: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年第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15</a:t>
            </a: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届        小组第二出局              施拉普纳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1997</a:t>
            </a: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年第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16</a:t>
            </a: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届       十强赛遭淘汰               戚务生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2001</a:t>
            </a: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年第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17</a:t>
            </a: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届       历史首次出线               米卢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2005</a:t>
            </a: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年第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18</a:t>
            </a: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届       小组赛遭淘汰               阿里汉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2008</a:t>
            </a: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年第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19</a:t>
            </a: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届       小组赛遭淘汰               福拉多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2012</a:t>
            </a: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年第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20</a:t>
            </a: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届       小组赛遭淘汰               卡马乔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命运掌握在自己手中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6" name="Picture 3" descr="手相"/>
          <p:cNvPicPr/>
          <p:nvPr/>
        </p:nvPicPr>
        <p:blipFill>
          <a:blip r:embed="rId1"/>
          <a:stretch/>
        </p:blipFill>
        <p:spPr>
          <a:xfrm>
            <a:off x="2340000" y="1268280"/>
            <a:ext cx="443556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2832480" y="981000"/>
            <a:ext cx="36709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</a:rPr>
              <a:t>谢谢大家</a:t>
            </a:r>
            <a:r>
              <a:rPr b="1" lang="zh-CN" sz="10600" spc="-1" strike="noStrike">
                <a:solidFill>
                  <a:srgbClr val="ffffff"/>
                </a:solidFill>
                <a:latin typeface="Arial"/>
              </a:rPr>
              <a:t>！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841320" y="857160"/>
            <a:ext cx="748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78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8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的冠军是阿根廷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78+1986=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96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861480" y="1433520"/>
            <a:ext cx="75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7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9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的冠军是德国，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74+1990=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96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899640" y="2060640"/>
            <a:ext cx="74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7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9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的冠军是巴西，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70+1994=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964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854640" y="2637000"/>
            <a:ext cx="75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6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98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的冠军是东道主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66+1998=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96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932760" y="3284640"/>
            <a:ext cx="74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6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的冠军是巴西，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62+2002=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96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50920" y="4005360"/>
            <a:ext cx="88930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以此类推：中国队获得世界杯冠军的时候最早应该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那一年？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647280" y="5013360"/>
            <a:ext cx="32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964-0=3964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年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196000" y="203040"/>
            <a:ext cx="53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计算中国队能捧起大力神杯的时间，其方法是这样的：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4797000" y="4959360"/>
            <a:ext cx="307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还要等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5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年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菊花台国足版[20081225-2000190]"/>
          <p:cNvPicPr/>
          <p:nvPr/>
        </p:nvPicPr>
        <p:blipFill>
          <a:blip r:embed="rId1"/>
          <a:stretch/>
        </p:blipFill>
        <p:spPr>
          <a:xfrm>
            <a:off x="250920" y="198360"/>
            <a:ext cx="8820000" cy="661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菊花台国足版[20081225-2000371]"/>
          <p:cNvPicPr/>
          <p:nvPr/>
        </p:nvPicPr>
        <p:blipFill>
          <a:blip r:embed="rId1"/>
          <a:stretch/>
        </p:blipFill>
        <p:spPr>
          <a:xfrm>
            <a:off x="108000" y="90360"/>
            <a:ext cx="8929800" cy="669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U1043P1T468D3251F10665DT20080815041131"/>
          <p:cNvPicPr/>
          <p:nvPr/>
        </p:nvPicPr>
        <p:blipFill>
          <a:blip r:embed="rId1"/>
          <a:stretch/>
        </p:blipFill>
        <p:spPr>
          <a:xfrm>
            <a:off x="120600" y="260280"/>
            <a:ext cx="90010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img1.pcauto.com.cn/piclib/200808/13/batch/1/7704/1218596309589i9f1ailv9s_medium.jpg"/>
          <p:cNvPicPr/>
          <p:nvPr/>
        </p:nvPicPr>
        <p:blipFill>
          <a:blip r:embed="rId1"/>
          <a:stretch/>
        </p:blipFill>
        <p:spPr>
          <a:xfrm>
            <a:off x="4680" y="115920"/>
            <a:ext cx="913932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03:13:53Z</dcterms:created>
  <dc:creator>YlmF</dc:creator>
  <dc:description/>
  <cp:keywords/>
  <dc:language>en-US</dc:language>
  <cp:lastModifiedBy>Windows 用户</cp:lastModifiedBy>
  <dcterms:modified xsi:type="dcterms:W3CDTF">2015-06-14T02:05:37Z</dcterms:modified>
  <cp:revision>103</cp:revision>
  <dc:subject/>
  <dc:title>中国男足为什么总是输?　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