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6.gif" ContentType="image/gif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4.jpeg" ContentType="image/jpeg"/>
  <Override PartName="/ppt/media/image5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7D1E-365D-4D18-A0D9-7F6C9B2AE96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气球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FE0E-9377-45E9-B64C-F177FC88F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FDB0-5EE0-418E-BB7E-AD1C5085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7DC2-6107-4FF7-974E-BB2B9BDEA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CF66-0603-44A2-A12F-B4F5B29F2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AB17-DC6C-4EA8-AF7F-2570F032F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46BC-7B03-48CD-A164-F7A9F751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C6EB-8E50-47DD-8113-A4DD8D4B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99AD-3F0A-4B22-A3FA-0E98362B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3C7B-3AD1-4C7A-91EC-7FDE0A3B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49AD-E8F1-4674-8FEB-DC7FDBD4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68D4-46A9-40B3-8ED5-84F7D97E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B81C-8FA3-42C4-8AA9-FE9EF21F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29AE-EF64-44A0-A0E5-DF480D76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EFCF-B7BB-4CBC-A205-6BD0C79B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D28F-45E3-4D72-BE66-E52C54BA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B75F-EAD4-4E4D-A0DB-866F79CE0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D03E-5E13-4507-8C4F-6376C6A86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B543-1807-4A12-933F-31C67502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CF56-8864-4FFD-9D13-72B213F7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1215-FCD5-4D21-96B4-A9BC1151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2319-BD56-4F75-944E-B852CF2A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9DB9-8895-4863-95D3-486108C5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C892-B8F7-4438-89D4-5F1BE76E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269A-A15E-4140-9CF0-8D958C39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8C71-BB0F-4E1B-B9DB-DD8CCD17D8F2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3EDA-1D82-4A6D-A69E-A37A6458641E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51280" y="2421000"/>
            <a:ext cx="50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66"/>
                </a:solidFill>
                <a:latin typeface="Arial"/>
              </a:rPr>
              <a:t>----</a:t>
            </a:r>
            <a:r>
              <a:rPr b="0" lang="zh-CN" sz="4400" spc="-1" strike="noStrike">
                <a:solidFill>
                  <a:srgbClr val="cc0066"/>
                </a:solidFill>
                <a:latin typeface="Arial"/>
              </a:rPr>
              <a:t>不良行为习惯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2036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八年（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）班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343400" y="457200"/>
            <a:ext cx="34290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Byeby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83818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30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83822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83055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84582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 rot="1545600">
            <a:off x="6587640" y="3645000"/>
            <a:ext cx="1295640" cy="2122560"/>
          </a:xfrm>
          <a:prstGeom prst="ellipse">
            <a:avLst/>
          </a:prstGeom>
          <a:gradFill rotWithShape="0">
            <a:gsLst>
              <a:gs pos="0">
                <a:srgbClr val="99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685800"/>
            <a:ext cx="5562720" cy="2590920"/>
          </a:xfrm>
          <a:prstGeom prst="ellipse">
            <a:avLst/>
          </a:prstGeom>
          <a:gradFill rotWithShape="0">
            <a:gsLst>
              <a:gs pos="0">
                <a:srgbClr val="99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907920"/>
            <a:ext cx="3581280" cy="5410440"/>
          </a:xfrm>
          <a:prstGeom prst="ellipse">
            <a:avLst/>
          </a:prstGeom>
          <a:gradFill rotWithShape="0">
            <a:gsLst>
              <a:gs pos="0">
                <a:srgbClr val="99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228600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二、改正不良行为习惯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9" name="" descr="01-09-008-04.gif (22138 字节)"/>
          <p:cNvPicPr/>
          <p:nvPr/>
        </p:nvPicPr>
        <p:blipFill>
          <a:blip r:embed="rId2"/>
          <a:stretch/>
        </p:blipFill>
        <p:spPr>
          <a:xfrm>
            <a:off x="6997680" y="0"/>
            <a:ext cx="2146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09480" y="4572000"/>
            <a:ext cx="8077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班里有同学损坏了公物，老师来调查时谁也不说，一起帮助这位同学掩盖事情真相，假如你是知情者，但又碍于同学间的面子，不好当面站出来，那你该怎么办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45720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66"/>
                </a:solidFill>
                <a:latin typeface="Arial"/>
              </a:rPr>
              <a:t>动动脑筋：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如果碰到下列情况，你该怎么办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9144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周一自习课，老师都在开会，班上同学吵闹，你该怎么办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17524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你做作业时碰到难题，百思不得其解，同学把做好的作业让你抄，你会怎么办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26668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假如你的好朋友经常无节制地上网玩游戏，你打算怎么帮助他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35053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、课间你在走廊中吃完橘子，剩下橘子皮，可旁边没有垃圾箱，也没有老师，这时你会怎么办？请实话实说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76520" y="1066680"/>
            <a:ext cx="6095880" cy="3022560"/>
          </a:xfrm>
          <a:prstGeom prst="irregularSeal1">
            <a:avLst/>
          </a:prstGeom>
          <a:solidFill>
            <a:srgbClr val="ff99cc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1905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  <a:ea typeface="黑体"/>
              </a:rPr>
              <a:t>一、认识不良行为习惯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1545600">
            <a:off x="533520" y="3428640"/>
            <a:ext cx="3047760" cy="2425680"/>
          </a:xfrm>
          <a:prstGeom prst="ellipse">
            <a:avLst/>
          </a:prstGeom>
          <a:gradFill rotWithShape="0">
            <a:gsLst>
              <a:gs pos="0">
                <a:srgbClr val="99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1835280" y="692280"/>
            <a:ext cx="3047760" cy="457200"/>
          </a:xfrm>
          <a:custGeom>
            <a:avLst/>
            <a:gdLst>
              <a:gd name="textAreaLeft" fmla="*/ 29520 w 3047760"/>
              <a:gd name="textAreaRight" fmla="*/ 3018240 w 3047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43892" h="21600">
                <a:moveTo>
                  <a:pt x="0" y="0"/>
                </a:moveTo>
                <a:lnTo>
                  <a:pt x="143892" y="0"/>
                </a:lnTo>
                <a:lnTo>
                  <a:pt x="143892" y="21600"/>
                </a:lnTo>
                <a:lnTo>
                  <a:pt x="0" y="21600"/>
                </a:lnTo>
                <a:close/>
              </a:path>
              <a:path fill="lightenLess" w="143892" h="21600">
                <a:moveTo>
                  <a:pt x="0" y="0"/>
                </a:moveTo>
                <a:lnTo>
                  <a:pt x="143892" y="0"/>
                </a:lnTo>
                <a:lnTo>
                  <a:pt x="142492" y="1400"/>
                </a:lnTo>
                <a:lnTo>
                  <a:pt x="1400" y="1400"/>
                </a:lnTo>
                <a:close/>
              </a:path>
              <a:path fill="darken" w="143892" h="21600">
                <a:moveTo>
                  <a:pt x="143892" y="0"/>
                </a:moveTo>
                <a:lnTo>
                  <a:pt x="143892" y="21600"/>
                </a:lnTo>
                <a:lnTo>
                  <a:pt x="142492" y="20200"/>
                </a:lnTo>
                <a:lnTo>
                  <a:pt x="142492" y="1400"/>
                </a:lnTo>
                <a:close/>
              </a:path>
              <a:path fill="darkenLess" w="143892" h="21600">
                <a:moveTo>
                  <a:pt x="1438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2492" y="20200"/>
                </a:lnTo>
                <a:close/>
              </a:path>
              <a:path fill="lighten" w="1438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581280" y="4013280"/>
            <a:ext cx="5562720" cy="2844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066680" y="1905120"/>
            <a:ext cx="868680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《发生在我们身边的事》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304920"/>
            <a:ext cx="3429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隶书"/>
              </a:rPr>
              <a:t>情境体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55640" y="2276640"/>
            <a:ext cx="763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分小组讨论，我们班中有哪些不良的行为习惯，并说说有什么害处？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12720" cy="3573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600200" y="152280"/>
            <a:ext cx="3168720" cy="1341720"/>
          </a:xfrm>
          <a:prstGeom prst="cloudCallout">
            <a:avLst>
              <a:gd name="adj1" fmla="val -63027"/>
              <a:gd name="adj2" fmla="val 28226"/>
            </a:avLst>
          </a:prstGeom>
          <a:solidFill>
            <a:srgbClr val="66ffcc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057400" y="228600"/>
            <a:ext cx="208764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你说我说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85345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83818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3933720"/>
            <a:ext cx="3311640" cy="254808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900000" y="189000"/>
            <a:ext cx="78487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305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80880" y="152280"/>
            <a:ext cx="83822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8T15:52:16Z</dcterms:created>
  <dc:creator>Billgates</dc:creator>
  <dc:description/>
  <dc:language>en-US</dc:language>
  <cp:lastModifiedBy>微软用户</cp:lastModifiedBy>
  <dcterms:modified xsi:type="dcterms:W3CDTF">2009-08-13T10:20:05Z</dcterms:modified>
  <cp:revision>3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e0d000000000001024120</vt:lpwstr>
  </property>
</Properties>
</file>