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A47-5DB3-46BD-BF24-981549DA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9EF-3D26-4C8E-876C-945EF221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F77-14C9-4814-A4F0-B42B8762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DD6-4FFC-48CF-B335-B22C6D7A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351-EBAE-4E03-AEC0-406F245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B5C-088E-4569-8A7A-A5D2C485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D40-6C47-42BB-BCA8-784B6686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A5B-53E9-4D48-80EA-612A2C57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B53-1FF6-40D1-9704-E5E6B80F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15B-FAFC-43C1-A732-2AFFF9E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CCE-E626-40BC-B517-014C6D18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52A-2395-41EA-B43E-C36FB5F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D239-26A9-48DB-B25F-1A063950A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8,3,&#37325;&#38451;&#33410;&#31616;&#20171;" TargetMode="External"/><Relationship Id="rId3" Type="http://schemas.openxmlformats.org/officeDocument/2006/relationships/hyperlink" Target="269,4,&#37325;&#38451;&#33410;&#36215;&#28304;" TargetMode="External"/><Relationship Id="rId4" Type="http://schemas.openxmlformats.org/officeDocument/2006/relationships/hyperlink" Target="262,6,&#37325;&#38451;&#33410;&#20256;&#35828;" TargetMode="External"/><Relationship Id="rId5" Type="http://schemas.openxmlformats.org/officeDocument/2006/relationships/hyperlink" Target="264,8,&#37325;&#38451;&#33410;&#20064;&#20439;" TargetMode="External"/><Relationship Id="rId6" Type="http://schemas.openxmlformats.org/officeDocument/2006/relationships/hyperlink" Target="271,13,&#37325;&#38451;&#35799;&#31687;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Administrator\Desktop\08.jpg"/>
          <p:cNvPicPr/>
          <p:nvPr/>
        </p:nvPicPr>
        <p:blipFill>
          <a:blip r:embed="rId1"/>
          <a:stretch/>
        </p:blipFill>
        <p:spPr>
          <a:xfrm>
            <a:off x="-7308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故乡的原风景" descr=""/>
          <p:cNvPicPr/>
          <p:nvPr/>
        </p:nvPicPr>
        <p:blipFill>
          <a:blip r:embed="rId2"/>
          <a:stretch/>
        </p:blipFill>
        <p:spPr>
          <a:xfrm>
            <a:off x="3962520" y="5562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048120" y="6094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吃重阳糕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史料记载，重阳糕又称花糕、菊糕、五色糕，制无定法，较为随意。 九月九日天明时，以片糕搭儿女头额，口中念念有词，祝愿子女百事俱高，乃古人九月作糕的本意。讲究的重阳糕要作成九层，像座宝塔，上面还作成两只小羊，以符合重阳（羊）之义。有的还在重阳糕上插一小红纸旗，并点蜡烛灯。这大概是用“点灯”、“吃糕”代替“登高”的意思，用小红纸旗代替茱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90360" cy="457200"/>
          </a:xfrm>
          <a:custGeom>
            <a:avLst/>
            <a:gdLst>
              <a:gd name="textAreaLeft" fmla="*/ 28440 w 990360"/>
              <a:gd name="textAreaRight" fmla="*/ 961920 w 99036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419" y="1350"/>
                </a:lnTo>
                <a:lnTo>
                  <a:pt x="1350" y="135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419" y="20250"/>
                </a:lnTo>
                <a:lnTo>
                  <a:pt x="45419" y="135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419" y="2025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6769" h="21600">
                <a:moveTo>
                  <a:pt x="16341" y="3756"/>
                </a:moveTo>
                <a:lnTo>
                  <a:pt x="30428" y="10800"/>
                </a:lnTo>
                <a:lnTo>
                  <a:pt x="1634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352680" y="274680"/>
            <a:ext cx="51818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赏菊并饮菊花酒</a:t>
            </a:r>
            <a:br>
              <a:rPr sz="28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阳节正是一年的金秋时节，菊花盛开，据传赏菊及饮菊花酒，起源于晋朝大诗人陶渊明。陶渊明以隐居出名，以诗出名，以酒出名，也以爱菊出名；后人效之，遂有重阳赏菊之俗。旧时文人士大夫，还将赏菊与宴饮结合，以求和陶渊明更接近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北宋京师开封，重阳赏菊之风盛行，当时的菊花就有很多品种，千姿百态。民间还把农历九月称为“菊月”，在菊花傲霜怒放的重阳节里，观赏菊花成了节日的一项重要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7924680" y="6248520"/>
            <a:ext cx="990720" cy="457200"/>
          </a:xfrm>
          <a:custGeom>
            <a:avLst/>
            <a:gdLst>
              <a:gd name="textAreaLeft" fmla="*/ 28440 w 990720"/>
              <a:gd name="textAreaRight" fmla="*/ 962280 w 9907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436" y="1350"/>
                </a:lnTo>
                <a:lnTo>
                  <a:pt x="1350" y="135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436" y="20250"/>
                </a:lnTo>
                <a:lnTo>
                  <a:pt x="45436" y="135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436" y="2025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6786" h="21600">
                <a:moveTo>
                  <a:pt x="16349" y="3756"/>
                </a:moveTo>
                <a:lnTo>
                  <a:pt x="30437" y="10800"/>
                </a:lnTo>
                <a:lnTo>
                  <a:pt x="1634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504960" y="53316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插茱萸和簪菊花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重阳节插茱萸的风俗，在唐代就已经很普遍。古人认为在重阳节这一天插茱萸可以避难消灾；或佩带于臂，或作香袋把茱萸放在里面佩带，还有插在头上的。大多是妇女、儿童佩带，有些地方，男子也佩带。重阳节佩茱萸，在晋代葛洪《西经杂记》中就有记载。除了佩带茱萸，也有头戴菊花的。唐代就已经如此，历代盛行。清代，北京重阳节的习俗是把菊花枝叶贴在门窗上，“解除凶秽，以招吉祥”。这是头上簪菊的变俗。宋代，还有将彩缯剪成茱萸、菊花来相赠佩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480" y="53352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772400" y="6095880"/>
            <a:ext cx="1143000" cy="609840"/>
          </a:xfrm>
          <a:custGeom>
            <a:avLst/>
            <a:gdLst>
              <a:gd name="textAreaLeft" fmla="*/ 37800 w 1143000"/>
              <a:gd name="textAreaRight" fmla="*/ 1105200 w 114300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123" y="1350"/>
                </a:lnTo>
                <a:lnTo>
                  <a:pt x="1350" y="135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123" y="20250"/>
                </a:lnTo>
                <a:lnTo>
                  <a:pt x="39123" y="135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123" y="2025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473" h="21600">
                <a:moveTo>
                  <a:pt x="13193" y="7475"/>
                </a:moveTo>
                <a:lnTo>
                  <a:pt x="16719" y="7475"/>
                </a:lnTo>
                <a:lnTo>
                  <a:pt x="16719" y="12839"/>
                </a:lnTo>
                <a:cubicBezTo>
                  <a:pt x="16719" y="13766"/>
                  <a:pt x="17524" y="14501"/>
                  <a:pt x="18565" y="14501"/>
                </a:cubicBezTo>
                <a:lnTo>
                  <a:pt x="20236" y="14501"/>
                </a:lnTo>
                <a:cubicBezTo>
                  <a:pt x="21278" y="14501"/>
                  <a:pt x="22083" y="13766"/>
                  <a:pt x="22083" y="12839"/>
                </a:cubicBezTo>
                <a:lnTo>
                  <a:pt x="22083" y="7475"/>
                </a:lnTo>
                <a:lnTo>
                  <a:pt x="20236" y="7475"/>
                </a:lnTo>
                <a:lnTo>
                  <a:pt x="23763" y="3949"/>
                </a:lnTo>
                <a:lnTo>
                  <a:pt x="27455" y="7475"/>
                </a:lnTo>
                <a:lnTo>
                  <a:pt x="25609" y="7475"/>
                </a:lnTo>
                <a:lnTo>
                  <a:pt x="25609" y="12839"/>
                </a:lnTo>
                <a:cubicBezTo>
                  <a:pt x="25609" y="15621"/>
                  <a:pt x="23019" y="18194"/>
                  <a:pt x="20236" y="18194"/>
                </a:cubicBezTo>
                <a:lnTo>
                  <a:pt x="18565" y="18194"/>
                </a:lnTo>
                <a:cubicBezTo>
                  <a:pt x="15783" y="18194"/>
                  <a:pt x="13193" y="15621"/>
                  <a:pt x="13193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1111 L 0.32083 -0.71111 E">
                                      <p:cBhvr>
                                        <p:cTn id="18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185 L 0.7375 -0.00185 E">
                                      <p:cBhvr>
                                        <p:cTn id="18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76720" y="251460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九月九日忆山东兄弟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——（唐）王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5791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99ff"/>
                </a:solidFill>
                <a:latin typeface="Arial"/>
                <a:ea typeface="楷体_GB2312"/>
              </a:rPr>
              <a:t>重阳诗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90360" cy="457200"/>
          </a:xfrm>
          <a:custGeom>
            <a:avLst/>
            <a:gdLst>
              <a:gd name="textAreaLeft" fmla="*/ 28440 w 990360"/>
              <a:gd name="textAreaRight" fmla="*/ 961920 w 99036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419" y="1350"/>
                </a:lnTo>
                <a:lnTo>
                  <a:pt x="1350" y="135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419" y="20250"/>
                </a:lnTo>
                <a:lnTo>
                  <a:pt x="45419" y="135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419" y="2025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6769" h="21600">
                <a:moveTo>
                  <a:pt x="16341" y="3756"/>
                </a:moveTo>
                <a:lnTo>
                  <a:pt x="30428" y="10800"/>
                </a:lnTo>
                <a:lnTo>
                  <a:pt x="1634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819160" y="2209320"/>
            <a:ext cx="4724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醉花荫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——（宋）李清照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薄雾浓云愁永昼，瑞脑销金兽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佳节又重阳，玉枕纱橱，半夜凉初透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东篱把酒黄昏后，有暗香盈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莫道不销魂，帘卷西风，人比黄花瘦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14400" cy="457200"/>
          </a:xfrm>
          <a:custGeom>
            <a:avLst/>
            <a:gdLst>
              <a:gd name="textAreaLeft" fmla="*/ 28440 w 914400"/>
              <a:gd name="textAreaRight" fmla="*/ 885960 w 9144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833" y="1350"/>
                </a:lnTo>
                <a:lnTo>
                  <a:pt x="1350" y="135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833" y="20250"/>
                </a:lnTo>
                <a:lnTo>
                  <a:pt x="41833" y="135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33" y="2025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83" h="21600">
                <a:moveTo>
                  <a:pt x="14548" y="3756"/>
                </a:moveTo>
                <a:lnTo>
                  <a:pt x="28635" y="10800"/>
                </a:lnTo>
                <a:lnTo>
                  <a:pt x="1454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2189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今天的重阳节，被赋予了新的含义，在</a:t>
            </a:r>
            <a:r>
              <a:rPr b="1" lang="en-US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1989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年，我国把每年的九月九日定为老人节，传统与现代巧妙地结合，成为尊老、敬老、爱老、助老的老年人的节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7467480" y="5867280"/>
            <a:ext cx="1219320" cy="838440"/>
          </a:xfrm>
          <a:custGeom>
            <a:avLst/>
            <a:gdLst>
              <a:gd name="textAreaLeft" fmla="*/ 52200 w 1219320"/>
              <a:gd name="textAreaRight" fmla="*/ 1167120 w 1219320"/>
              <a:gd name="textAreaTop" fmla="*/ 52200 h 838440"/>
              <a:gd name="textAreaBottom" fmla="*/ 78624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58" y="1350"/>
                </a:lnTo>
                <a:lnTo>
                  <a:pt x="1350" y="135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58" y="20250"/>
                </a:lnTo>
                <a:lnTo>
                  <a:pt x="30058" y="135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058" y="2025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408" h="21600">
                <a:moveTo>
                  <a:pt x="8660" y="7475"/>
                </a:moveTo>
                <a:lnTo>
                  <a:pt x="12187" y="7475"/>
                </a:lnTo>
                <a:lnTo>
                  <a:pt x="12187" y="12839"/>
                </a:lnTo>
                <a:cubicBezTo>
                  <a:pt x="12187" y="13766"/>
                  <a:pt x="12992" y="14501"/>
                  <a:pt x="14033" y="14501"/>
                </a:cubicBezTo>
                <a:lnTo>
                  <a:pt x="15704" y="14501"/>
                </a:lnTo>
                <a:cubicBezTo>
                  <a:pt x="16745" y="14501"/>
                  <a:pt x="17550" y="13766"/>
                  <a:pt x="17550" y="12839"/>
                </a:cubicBezTo>
                <a:lnTo>
                  <a:pt x="17550" y="7475"/>
                </a:lnTo>
                <a:lnTo>
                  <a:pt x="15704" y="7475"/>
                </a:lnTo>
                <a:lnTo>
                  <a:pt x="19230" y="3949"/>
                </a:lnTo>
                <a:lnTo>
                  <a:pt x="22923" y="7475"/>
                </a:lnTo>
                <a:lnTo>
                  <a:pt x="21077" y="7475"/>
                </a:lnTo>
                <a:lnTo>
                  <a:pt x="21077" y="12839"/>
                </a:lnTo>
                <a:cubicBezTo>
                  <a:pt x="21077" y="15621"/>
                  <a:pt x="18487" y="18194"/>
                  <a:pt x="15704" y="18194"/>
                </a:cubicBezTo>
                <a:lnTo>
                  <a:pt x="14033" y="18194"/>
                </a:lnTo>
                <a:cubicBezTo>
                  <a:pt x="11250" y="18194"/>
                  <a:pt x="8660" y="15621"/>
                  <a:pt x="8660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20872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6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尊敬老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99cc00"/>
                </a:solidFill>
                <a:latin typeface="Arial"/>
                <a:ea typeface="楷体_GB2312"/>
              </a:rPr>
              <a:t>谢谢观赏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5943600"/>
            <a:ext cx="1218960" cy="762120"/>
          </a:xfrm>
          <a:custGeom>
            <a:avLst/>
            <a:gdLst>
              <a:gd name="textAreaLeft" fmla="*/ 47520 w 1218960"/>
              <a:gd name="textAreaRight" fmla="*/ 1171440 w 121896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92" y="1350"/>
                </a:lnTo>
                <a:lnTo>
                  <a:pt x="1350" y="135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92" y="20250"/>
                </a:lnTo>
                <a:lnTo>
                  <a:pt x="33192" y="135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92" y="2025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42" h="21600">
                <a:moveTo>
                  <a:pt x="10227" y="7475"/>
                </a:moveTo>
                <a:lnTo>
                  <a:pt x="13753" y="7475"/>
                </a:lnTo>
                <a:lnTo>
                  <a:pt x="13753" y="12839"/>
                </a:lnTo>
                <a:cubicBezTo>
                  <a:pt x="13753" y="13766"/>
                  <a:pt x="14558" y="14501"/>
                  <a:pt x="15600" y="14501"/>
                </a:cubicBezTo>
                <a:lnTo>
                  <a:pt x="17271" y="14501"/>
                </a:lnTo>
                <a:cubicBezTo>
                  <a:pt x="18312" y="14501"/>
                  <a:pt x="19117" y="13766"/>
                  <a:pt x="19117" y="12839"/>
                </a:cubicBezTo>
                <a:lnTo>
                  <a:pt x="19117" y="7475"/>
                </a:lnTo>
                <a:lnTo>
                  <a:pt x="17271" y="7475"/>
                </a:lnTo>
                <a:lnTo>
                  <a:pt x="20797" y="3949"/>
                </a:lnTo>
                <a:lnTo>
                  <a:pt x="24490" y="7475"/>
                </a:lnTo>
                <a:lnTo>
                  <a:pt x="22643" y="7475"/>
                </a:lnTo>
                <a:lnTo>
                  <a:pt x="22643" y="12839"/>
                </a:lnTo>
                <a:cubicBezTo>
                  <a:pt x="22643" y="15621"/>
                  <a:pt x="20053" y="18194"/>
                  <a:pt x="17271" y="18194"/>
                </a:cubicBezTo>
                <a:lnTo>
                  <a:pt x="15600" y="18194"/>
                </a:lnTo>
                <a:cubicBezTo>
                  <a:pt x="12817" y="18194"/>
                  <a:pt x="10227" y="15621"/>
                  <a:pt x="10227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重阳节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重阳节起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重阳节传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重阳节习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重阳节诗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429000" y="106668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黑体"/>
              </a:rPr>
              <a:t>目录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9432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75 L 0.78542 0.73889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重阳节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农历九月九日，为传统的重阳节。因为古老的《易经》中把“六”定为阴数，把“九”定为阳数，九月九日，日月并阳，两九相重，故而叫重阳，也叫重九，古人认为是个值得庆贺的吉利日子，并且从很早就开始过此节日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九九重阳，因为与“久久”同音，九在数字中又是最大数，有长久长寿的含意，况且秋季也是一年收获的黄金季节，重阳佳节，寓意深远，人们对此节历来有着特殊的感情。</a:t>
            </a:r>
            <a:br>
              <a:rPr sz="2800"/>
            </a:br>
            <a:br>
              <a:rPr sz="2400"/>
            </a:br>
            <a:r>
              <a:rPr b="1" lang="zh-CN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467480" y="5867280"/>
            <a:ext cx="1219320" cy="838440"/>
          </a:xfrm>
          <a:custGeom>
            <a:avLst/>
            <a:gdLst>
              <a:gd name="textAreaLeft" fmla="*/ 52200 w 1219320"/>
              <a:gd name="textAreaRight" fmla="*/ 1167120 w 1219320"/>
              <a:gd name="textAreaTop" fmla="*/ 52200 h 838440"/>
              <a:gd name="textAreaBottom" fmla="*/ 78624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58" y="1350"/>
                </a:lnTo>
                <a:lnTo>
                  <a:pt x="1350" y="135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58" y="20250"/>
                </a:lnTo>
                <a:lnTo>
                  <a:pt x="30058" y="135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058" y="2025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408" h="21600">
                <a:moveTo>
                  <a:pt x="8660" y="7475"/>
                </a:moveTo>
                <a:lnTo>
                  <a:pt x="12187" y="7475"/>
                </a:lnTo>
                <a:lnTo>
                  <a:pt x="12187" y="12839"/>
                </a:lnTo>
                <a:cubicBezTo>
                  <a:pt x="12187" y="13766"/>
                  <a:pt x="12992" y="14501"/>
                  <a:pt x="14033" y="14501"/>
                </a:cubicBezTo>
                <a:lnTo>
                  <a:pt x="15704" y="14501"/>
                </a:lnTo>
                <a:cubicBezTo>
                  <a:pt x="16745" y="14501"/>
                  <a:pt x="17550" y="13766"/>
                  <a:pt x="17550" y="12839"/>
                </a:cubicBezTo>
                <a:lnTo>
                  <a:pt x="17550" y="7475"/>
                </a:lnTo>
                <a:lnTo>
                  <a:pt x="15704" y="7475"/>
                </a:lnTo>
                <a:lnTo>
                  <a:pt x="19230" y="3949"/>
                </a:lnTo>
                <a:lnTo>
                  <a:pt x="22923" y="7475"/>
                </a:lnTo>
                <a:lnTo>
                  <a:pt x="21077" y="7475"/>
                </a:lnTo>
                <a:lnTo>
                  <a:pt x="21077" y="12839"/>
                </a:lnTo>
                <a:cubicBezTo>
                  <a:pt x="21077" y="15621"/>
                  <a:pt x="18487" y="18194"/>
                  <a:pt x="15704" y="18194"/>
                </a:cubicBezTo>
                <a:lnTo>
                  <a:pt x="14033" y="18194"/>
                </a:lnTo>
                <a:cubicBezTo>
                  <a:pt x="11250" y="18194"/>
                  <a:pt x="8660" y="15621"/>
                  <a:pt x="8660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73080" y="1219320"/>
            <a:ext cx="6245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九九重阳，早在春秋战国时的《楚词》中已提到了。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大概在魏晋时期，重阳日已有了饮酒、赏菊的做法。到唐代重阳被正式定为民间的节日。到明代，九月重阳，皇宫上下要一起吃花糕以庆贺，此风俗一直流传到清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重阳节起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086600" y="5867280"/>
            <a:ext cx="1523880" cy="762120"/>
          </a:xfrm>
          <a:custGeom>
            <a:avLst/>
            <a:gdLst>
              <a:gd name="textAreaLeft" fmla="*/ 47520 w 1523880"/>
              <a:gd name="textAreaRight" fmla="*/ 1476360 w 152388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830" y="1350"/>
                </a:lnTo>
                <a:lnTo>
                  <a:pt x="1350" y="135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830" y="20250"/>
                </a:lnTo>
                <a:lnTo>
                  <a:pt x="41830" y="135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30" y="2025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80" h="21600">
                <a:moveTo>
                  <a:pt x="14546" y="3756"/>
                </a:moveTo>
                <a:lnTo>
                  <a:pt x="28634" y="10800"/>
                </a:lnTo>
                <a:lnTo>
                  <a:pt x="1454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467480" y="6248520"/>
            <a:ext cx="1143000" cy="609480"/>
          </a:xfrm>
          <a:custGeom>
            <a:avLst/>
            <a:gdLst>
              <a:gd name="textAreaLeft" fmla="*/ 37800 w 1143000"/>
              <a:gd name="textAreaRight" fmla="*/ 1105200 w 11430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147" y="1350"/>
                </a:lnTo>
                <a:lnTo>
                  <a:pt x="1350" y="135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147" y="20250"/>
                </a:lnTo>
                <a:lnTo>
                  <a:pt x="39147" y="135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147" y="2025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497" h="21600">
                <a:moveTo>
                  <a:pt x="13205" y="3756"/>
                </a:moveTo>
                <a:lnTo>
                  <a:pt x="27292" y="10800"/>
                </a:lnTo>
                <a:lnTo>
                  <a:pt x="13205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重阳节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149400" y="1599840"/>
            <a:ext cx="898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相传在东汉时期，汝河有个瘟魔，只要它一出现，家家就有人病倒，天天有人丧命，这一带的百姓受尽了瘟魔的蹂躏。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场瘟疫夺走了青年恒景的父母，他自己也因病差点儿丧了命。病愈之后，他辞别了心爱的妻子和父老乡亲，决心为民除掉瘟魔。恒景不畏艰险和路途的遥远，终于找到了有着神奇法力的仙长，仙长为他的精神所感动，教给他降妖剑术，还赠他一把降妖宝剑。恒景废寝忘食苦练，终于练出了一身非凡的武艺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天仙长把恒景叫到跟前说：“明天是九月初九，瘟魔又要出来作恶，你本领已经学成，应该回去为民除害了”。仙长送给恒景一包茱萸叶，一盅菊花酒，并且密授避邪用法，让恒景骑着仙鹤赶回家去。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恒景回到家乡，在九月初九的早晨，按仙长的叮嘱把乡亲们领到了附近的一座山上，发给每人一片茱萸叶，一盅菊花酒，做好了降魔的准备。中午时分，随着几声怪叫，瘟魔冲出汝河，但是瘟魔刚扑到山下，突然闻到阵阵茱萸奇香和菊花酒气，便戛然止步，脸色突变，这时恒景手持降妖宝剑追下山来，几个回合就把温魔刺死剑下，从此九月初九登高避疫的风俗年复一年地流传下来。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7800 w 1143000"/>
              <a:gd name="textAreaRight" fmla="*/ 1105200 w 114300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123" y="1350"/>
                </a:lnTo>
                <a:lnTo>
                  <a:pt x="1350" y="135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123" y="20250"/>
                </a:lnTo>
                <a:lnTo>
                  <a:pt x="39123" y="135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123" y="2025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473" h="21600">
                <a:moveTo>
                  <a:pt x="13193" y="3756"/>
                </a:moveTo>
                <a:lnTo>
                  <a:pt x="27280" y="10800"/>
                </a:lnTo>
                <a:lnTo>
                  <a:pt x="13193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267080" cy="609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72400" y="6248520"/>
            <a:ext cx="1143000" cy="609480"/>
          </a:xfrm>
          <a:custGeom>
            <a:avLst/>
            <a:gdLst>
              <a:gd name="textAreaLeft" fmla="*/ 37800 w 1143000"/>
              <a:gd name="textAreaRight" fmla="*/ 1105200 w 11430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147" y="1350"/>
                </a:lnTo>
                <a:lnTo>
                  <a:pt x="1350" y="135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147" y="20250"/>
                </a:lnTo>
                <a:lnTo>
                  <a:pt x="39147" y="135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147" y="2025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497" h="21600">
                <a:moveTo>
                  <a:pt x="13205" y="7475"/>
                </a:moveTo>
                <a:lnTo>
                  <a:pt x="16731" y="7475"/>
                </a:lnTo>
                <a:lnTo>
                  <a:pt x="16731" y="12839"/>
                </a:lnTo>
                <a:cubicBezTo>
                  <a:pt x="16731" y="13766"/>
                  <a:pt x="17536" y="14501"/>
                  <a:pt x="18577" y="14501"/>
                </a:cubicBezTo>
                <a:lnTo>
                  <a:pt x="20248" y="14501"/>
                </a:lnTo>
                <a:cubicBezTo>
                  <a:pt x="21290" y="14501"/>
                  <a:pt x="22095" y="13766"/>
                  <a:pt x="22095" y="12839"/>
                </a:cubicBezTo>
                <a:lnTo>
                  <a:pt x="22095" y="7475"/>
                </a:lnTo>
                <a:lnTo>
                  <a:pt x="20248" y="7475"/>
                </a:lnTo>
                <a:lnTo>
                  <a:pt x="23775" y="3949"/>
                </a:lnTo>
                <a:lnTo>
                  <a:pt x="27467" y="7475"/>
                </a:lnTo>
                <a:lnTo>
                  <a:pt x="25621" y="7475"/>
                </a:lnTo>
                <a:lnTo>
                  <a:pt x="25621" y="12839"/>
                </a:lnTo>
                <a:cubicBezTo>
                  <a:pt x="25621" y="15621"/>
                  <a:pt x="23031" y="18194"/>
                  <a:pt x="20248" y="18194"/>
                </a:cubicBezTo>
                <a:lnTo>
                  <a:pt x="18577" y="18194"/>
                </a:lnTo>
                <a:cubicBezTo>
                  <a:pt x="15795" y="18194"/>
                  <a:pt x="13205" y="15621"/>
                  <a:pt x="13205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楷体_GB2312"/>
              </a:rPr>
              <a:t>重阳节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4953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秋送爽，丹桂飘香，农历九月初九日的重阳佳节，活动丰富，情趣盎然，有登高、赏菊、喝菊花酒、吃重阳糕、插茱萸等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696080" y="6172200"/>
            <a:ext cx="1219320" cy="533520"/>
          </a:xfrm>
          <a:custGeom>
            <a:avLst/>
            <a:gdLst>
              <a:gd name="textAreaLeft" fmla="*/ 33120 w 1219320"/>
              <a:gd name="textAreaRight" fmla="*/ 1186200 w 12193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96" y="1350"/>
                </a:lnTo>
                <a:lnTo>
                  <a:pt x="1350" y="135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96" y="20250"/>
                </a:lnTo>
                <a:lnTo>
                  <a:pt x="47996" y="135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996" y="2025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9346" h="21600">
                <a:moveTo>
                  <a:pt x="17629" y="3756"/>
                </a:moveTo>
                <a:lnTo>
                  <a:pt x="31717" y="10800"/>
                </a:lnTo>
                <a:lnTo>
                  <a:pt x="1762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3200040" y="533520"/>
            <a:ext cx="5334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高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在古代，民间在重阳有登高的风俗，故重阳节又叫“登高节”。相传此风俗始于东汉。唐代文人所写的登高诗很多，大多是写重阳节的习俗；杜甫的七律《登高》，就是写重阳登高的名篇。登高所到之处，没有划一的规定，一般是登高山、登高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990360" cy="533520"/>
          </a:xfrm>
          <a:custGeom>
            <a:avLst/>
            <a:gdLst>
              <a:gd name="textAreaLeft" fmla="*/ 33120 w 990360"/>
              <a:gd name="textAreaRight" fmla="*/ 957240 w 99036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733" y="1350"/>
                </a:lnTo>
                <a:lnTo>
                  <a:pt x="1350" y="135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733" y="20250"/>
                </a:lnTo>
                <a:lnTo>
                  <a:pt x="38733" y="135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33" y="2025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083" h="21600">
                <a:moveTo>
                  <a:pt x="12998" y="3756"/>
                </a:moveTo>
                <a:lnTo>
                  <a:pt x="27085" y="10800"/>
                </a:lnTo>
                <a:lnTo>
                  <a:pt x="1299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0:15:07Z</dcterms:created>
  <dc:creator/>
  <dc:description/>
  <dc:language>en-US</dc:language>
  <cp:lastModifiedBy>USER</cp:lastModifiedBy>
  <dcterms:modified xsi:type="dcterms:W3CDTF">2013-10-10T11:19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  <property fmtid="{D5CDD505-2E9C-101B-9397-08002B2CF9AE}" pid="3" name="Version">
    <vt:r8>1</vt:r8>
  </property>
</Properties>
</file>