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BEB-3AE1-4043-A464-2BABD79B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6274-9F39-46DD-820C-843750C9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9A0-5F61-45C5-8045-431970A00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CA63-5CD9-413B-9167-F7A4632B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4FC-2E5D-4997-8B9E-ADD0227A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356-82A4-486C-BAE3-C6A2F9C2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6D8-56F4-4EB9-AE3E-C66A3F9B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C72-61BF-48AF-AB49-8592B12C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958-505A-4543-9056-82E3450C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70A-18D2-4612-B110-3F6825B0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E45-DC21-4CD1-B906-79B28C37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2D9-0873-4245-A8B4-FA3081B9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F8E0-BD5D-4F8C-8E63-68384C81A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aike.baidu.com/view/1263950.htm" TargetMode="External"/><Relationship Id="rId2" Type="http://schemas.openxmlformats.org/officeDocument/2006/relationships/hyperlink" Target="http://baike.baidu.com/view/1822107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155078.ht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梁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吴均的《续齐谐记》：汝南桓景随费长房游学累年，长房谓曰：“九月九日，汝家中当有灾。宜急去，令家人各作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绛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盛茱萸，以系臂，登高饮菊花酒，此祸可除。”景如言，齐家登山。夕还，见鸡犬牛羊一时暴死。长房闻之曰：“此可代也。”今世人九日登高饮酒，妇人带茱萸囊，盖始于此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过故人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（孟浩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故人具鸡黍，邀我至田家。绿树村边合，青山郭外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开轩面场圃，把酒话桑麻。待到重阳日，还来就菊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王维《九月九日忆山东兄弟》 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独在异乡为异客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每逢佳节倍思亲。 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遥知兄弟登高处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遍插茱萸少一人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毛泽东：《采桑子 重阳》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人生易老天难老，岁岁重阳，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又重阳，战地黄花分外香。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年一度秋风劲，不似春光，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胜似春光，寥廓江天万里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牧：《九日齐山登高》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江涵秋影雁初飞，与客携壶上翠微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尘世难逢开口笑，菊花须插满头归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清照：《醉花荫》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薄雾浓云愁永昼，瑞脑销金兽。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佳节又重阳，玉枕纱橱，半夜凉初透。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东篱把酒黄昏后，有暗香盈袖。 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莫道不销魂，帘卷西风，人比黄花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1:01:45Z</dcterms:created>
  <dc:creator>Administrator</dc:creator>
  <dc:description/>
  <dc:language>en-US</dc:language>
  <cp:lastModifiedBy>刘军伟</cp:lastModifiedBy>
  <dcterms:modified xsi:type="dcterms:W3CDTF">2012-10-22T12:40:4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