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59AC-FC1F-418B-8EEC-7932DB77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95C-B3AF-4771-B332-D9E3A0CF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B15-03C2-4308-AAEE-F6119253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A0E-2520-447B-9975-26F4EE7D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378-FC6E-49E5-B780-CAAB814F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6FB-DDF8-46CE-BFA0-390D4E44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35F-5259-4894-8548-723AE26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8EA-6095-4FEE-ABDE-21E8AA87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EE5-312D-4181-B8C9-DD21DB71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635-C576-4943-BBE5-2D185F0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B69-3840-4A1D-A5AB-9D332CF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236-3A3F-414E-9556-075A9DB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667-4195-40F6-BC61-2366AEFCE4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t.youdao.com/w/company/" TargetMode="External"/><Relationship Id="rId3" Type="http://schemas.openxmlformats.org/officeDocument/2006/relationships/hyperlink" Target="http://dict.youdao.com/w/management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-139680" y="-73080"/>
            <a:ext cx="6942240" cy="603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857160" y="2706840"/>
            <a:ext cx="31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logo"/>
          <p:cNvPicPr/>
          <p:nvPr/>
        </p:nvPicPr>
        <p:blipFill>
          <a:blip r:embed="rId3"/>
          <a:stretch/>
        </p:blipFill>
        <p:spPr>
          <a:xfrm>
            <a:off x="2124000" y="2852640"/>
            <a:ext cx="1817640" cy="1522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928800" y="5084640"/>
            <a:ext cx="48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oga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YOUR DREAM IS MY 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图片1"/>
          <p:cNvPicPr/>
          <p:nvPr/>
        </p:nvPicPr>
        <p:blipFill>
          <a:blip r:embed="rId4"/>
          <a:stretch/>
        </p:blipFill>
        <p:spPr>
          <a:xfrm>
            <a:off x="826920" y="631800"/>
            <a:ext cx="8285400" cy="19335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7669080" y="64468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203640" y="2602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ANCI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6299280" y="6446880"/>
            <a:ext cx="28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Financial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195640" y="631800"/>
          <a:ext cx="4851360" cy="62406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36560"/>
                <a:gridCol w="685800"/>
                <a:gridCol w="685800"/>
                <a:gridCol w="685800"/>
                <a:gridCol w="685800"/>
              </a:tblGrid>
              <a:tr h="41544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BALANCE 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4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Printed by SUN in the company of chicken run run r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LIABLITIES AND OWNER'EQU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LIN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CURRENT ASSETS EQ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45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CURRENT LI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INTANGIBLE ASSETS: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Deferred gain on investments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Organization expenses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15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TOTAL LIABILITIES AND OWNERS' EQUITYnvestment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TOTAL ASSETS T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10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Notes</a:t>
                      </a: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宋体"/>
                        </a:rPr>
                        <a:t>：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1. Customer' materials to be processed__500000__;2. Consignment in___60000_;3.</a:t>
                      </a:r>
                      <a:r>
                        <a:rPr b="0" lang="zh-CN" sz="1200" spc="-1" strike="noStrike">
                          <a:solidFill>
                            <a:srgbClr val="333333"/>
                          </a:solidFill>
                          <a:latin typeface="宋体"/>
                        </a:rPr>
                        <a:t>资</a:t>
                      </a: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Goods held for others__0__;4. Notes receivable discounted with recourse___0_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33"/>
                          </a:solidFill>
                          <a:latin typeface="ˎ̥"/>
                        </a:rPr>
                        <a:t>5. Fixed assets under operating lease__100000__;6. Current year payment of import taxes__0__.d for others___0_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3286080" y="6429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nce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6381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Chances of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628640"/>
            <a:ext cx="1871640" cy="1152720"/>
          </a:xfrm>
          <a:prstGeom prst="roundRect">
            <a:avLst>
              <a:gd name="adj" fmla="val 16667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1628640"/>
            <a:ext cx="5256000" cy="1152720"/>
          </a:xfrm>
          <a:prstGeom prst="roundRect">
            <a:avLst>
              <a:gd name="adj" fmla="val 16667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3284640"/>
            <a:ext cx="1871640" cy="1152360"/>
          </a:xfrm>
          <a:prstGeom prst="roundRect">
            <a:avLst>
              <a:gd name="adj" fmla="val 16667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87640" y="3284640"/>
            <a:ext cx="5256360" cy="1152360"/>
          </a:xfrm>
          <a:prstGeom prst="roundRect">
            <a:avLst>
              <a:gd name="adj" fmla="val 16667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5013360"/>
            <a:ext cx="1871640" cy="1152360"/>
          </a:xfrm>
          <a:prstGeom prst="roundRect">
            <a:avLst>
              <a:gd name="adj" fmla="val 16667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5013360"/>
            <a:ext cx="5256360" cy="1152360"/>
          </a:xfrm>
          <a:prstGeom prst="roundRect">
            <a:avLst>
              <a:gd name="adj" fmla="val 16667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773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12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3284640"/>
            <a:ext cx="187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15-20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5157720"/>
            <a:ext cx="180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20-20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2060640"/>
            <a:ext cx="432000" cy="28872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371628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544500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7280" y="2852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458136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7640" y="177336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1700280"/>
            <a:ext cx="504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tage ,we would develop marketing communications mix, finally, our product will be the famous music pillow in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342900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5 years developed, our company will be the biggest suppliers in chin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5229360"/>
            <a:ext cx="49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tage ,our company would develop the accessories so that we could be a diversified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enefits of investo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The investors would get 5% stork right of our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we would pay back 100 million in 5 years and repay 10%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the investors have a privilege of join in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714240" y="428760"/>
            <a:ext cx="27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42f"/>
                </a:solidFill>
                <a:latin typeface="Calibri"/>
              </a:rPr>
              <a:t>Aim  money:100 million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14240" y="16430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42f"/>
                </a:solidFill>
                <a:latin typeface="Calibri"/>
              </a:rPr>
              <a:t>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1222200" y="4192560"/>
            <a:ext cx="4113360" cy="1193760"/>
          </a:xfrm>
          <a:prstGeom prst="ellipse">
            <a:avLst/>
          </a:prstGeom>
          <a:gradFill rotWithShape="0">
            <a:gsLst>
              <a:gs pos="0">
                <a:srgbClr val="d4e2f0"/>
              </a:gs>
              <a:gs pos="100000">
                <a:srgbClr val="e1f0ff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40"/>
          <p:cNvGrpSpPr/>
          <p:nvPr/>
        </p:nvGrpSpPr>
        <p:grpSpPr>
          <a:xfrm>
            <a:off x="1765440" y="2060640"/>
            <a:ext cx="7021440" cy="4047840"/>
            <a:chOff x="1765440" y="2060640"/>
            <a:chExt cx="7021440" cy="4047840"/>
          </a:xfrm>
        </p:grpSpPr>
        <p:sp>
          <p:nvSpPr>
            <p:cNvPr id="51" name="Arc 4"/>
            <p:cNvSpPr/>
            <p:nvPr/>
          </p:nvSpPr>
          <p:spPr>
            <a:xfrm rot="16200000">
              <a:off x="2997000" y="2371680"/>
              <a:ext cx="1628640" cy="3825720"/>
            </a:xfrm>
            <a:custGeom>
              <a:avLst/>
              <a:gdLst>
                <a:gd name="textAreaLeft" fmla="*/ 0 w 1628640"/>
                <a:gd name="textAreaRight" fmla="*/ 1629000 w 1628640"/>
                <a:gd name="textAreaTop" fmla="*/ 0 h 3825720"/>
                <a:gd name="textAreaBottom" fmla="*/ 3826080 h 382572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-32156" y="-25831"/>
                  </a:moveTo>
                  <a:cubicBezTo>
                    <a:pt x="29874" y="-23551"/>
                    <a:pt x="25782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6520"/>
                    <a:pt x="-24016" y="31293"/>
                    <a:pt x="-27098" y="-30407"/>
                  </a:cubicBezTo>
                </a:path>
                <a:path stroke="0" w="43200" h="43200">
                  <a:moveTo>
                    <a:pt x="-32156" y="-25831"/>
                  </a:moveTo>
                  <a:cubicBezTo>
                    <a:pt x="29874" y="-23551"/>
                    <a:pt x="25782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6520"/>
                    <a:pt x="-24016" y="31293"/>
                    <a:pt x="-27098" y="-30407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0000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3100320" y="3716280"/>
              <a:ext cx="6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Calibri"/>
                </a:rPr>
                <a:t>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6"/>
            <p:cNvSpPr/>
            <p:nvPr/>
          </p:nvSpPr>
          <p:spPr>
            <a:xfrm rot="16200000">
              <a:off x="3216240" y="2344320"/>
              <a:ext cx="1299960" cy="368136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3681360"/>
                <a:gd name="textAreaBottom" fmla="*/ 3681720 h 36813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8692" y="-23534"/>
                  </a:moveTo>
                  <a:cubicBezTo>
                    <a:pt x="26411" y="-22741"/>
                    <a:pt x="24014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9688"/>
                    <a:pt x="-26856" y="-28437"/>
                    <a:pt x="31489" y="-24734"/>
                  </a:cubicBezTo>
                </a:path>
                <a:path stroke="0" w="43200" h="43200">
                  <a:moveTo>
                    <a:pt x="28692" y="-23534"/>
                  </a:moveTo>
                  <a:cubicBezTo>
                    <a:pt x="26411" y="-22741"/>
                    <a:pt x="24014" y="-22337"/>
                    <a:pt x="21600" y="-22336"/>
                  </a:cubicBezTo>
                  <a:cubicBezTo>
                    <a:pt x="9670" y="-22336"/>
                    <a:pt x="0" y="-3200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9688"/>
                    <a:pt x="-26856" y="-28437"/>
                    <a:pt x="31489" y="-24734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9be02"/>
                </a:gs>
                <a:gs pos="100000">
                  <a:srgbClr val="ebde7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c 7"/>
            <p:cNvSpPr/>
            <p:nvPr/>
          </p:nvSpPr>
          <p:spPr>
            <a:xfrm rot="16200000">
              <a:off x="3112920" y="2482920"/>
              <a:ext cx="1301760" cy="354960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3549600"/>
                <a:gd name="textAreaBottom" fmla="*/ 3549960 h 3549600"/>
              </a:gdLst>
              <a:ahLst/>
              <a:rect l="textAreaLeft" t="textAreaTop" r="textAreaRight" b="textAreaBottom"/>
              <a:pathLst>
                <a:path fill="none" w="43200" h="42175">
                  <a:moveTo>
                    <a:pt x="15026" y="-23361"/>
                  </a:moveTo>
                  <a:cubicBezTo>
                    <a:pt x="6075" y="-26221"/>
                    <a:pt x="0" y="309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9688"/>
                    <a:pt x="-26856" y="-28437"/>
                    <a:pt x="31489" y="-24734"/>
                  </a:cubicBezTo>
                </a:path>
                <a:path stroke="0" w="43200" h="42175">
                  <a:moveTo>
                    <a:pt x="15026" y="-23361"/>
                  </a:moveTo>
                  <a:cubicBezTo>
                    <a:pt x="6075" y="-26221"/>
                    <a:pt x="0" y="309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9688"/>
                    <a:pt x="-26856" y="-28437"/>
                    <a:pt x="31489" y="-24734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c7cfc"/>
                </a:gs>
                <a:gs pos="100000">
                  <a:srgbClr val="f900f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8"/>
            <p:cNvSpPr/>
            <p:nvPr/>
          </p:nvSpPr>
          <p:spPr>
            <a:xfrm rot="16200000">
              <a:off x="3048120" y="2530440"/>
              <a:ext cx="1334880" cy="3427200"/>
            </a:xfrm>
            <a:custGeom>
              <a:avLst/>
              <a:gdLst>
                <a:gd name="textAreaLeft" fmla="*/ 0 w 1334880"/>
                <a:gd name="textAreaRight" fmla="*/ 1335240 w 1334880"/>
                <a:gd name="textAreaTop" fmla="*/ 0 h 3427200"/>
                <a:gd name="textAreaBottom" fmla="*/ 3427560 h 3427200"/>
              </a:gdLst>
              <a:ahLst/>
              <a:rect l="textAreaLeft" t="textAreaTop" r="textAreaRight" b="textAreaBottom"/>
              <a:pathLst>
                <a:path fill="none" w="43200" h="40803">
                  <a:moveTo>
                    <a:pt x="6942" y="-28070"/>
                  </a:moveTo>
                  <a:cubicBezTo>
                    <a:pt x="2516" y="-32159"/>
                    <a:pt x="0" y="2762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9688"/>
                    <a:pt x="-26856" y="-28437"/>
                    <a:pt x="31489" y="-24734"/>
                  </a:cubicBezTo>
                </a:path>
                <a:path stroke="0" w="43200" h="40803">
                  <a:moveTo>
                    <a:pt x="6942" y="-28070"/>
                  </a:moveTo>
                  <a:cubicBezTo>
                    <a:pt x="2516" y="-32159"/>
                    <a:pt x="0" y="27625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9688"/>
                    <a:pt x="-26856" y="-28437"/>
                    <a:pt x="31489" y="-24734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68868"/>
                </a:gs>
                <a:gs pos="100000">
                  <a:srgbClr val="1856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4668840" y="4334040"/>
              <a:ext cx="5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5140440" y="4044960"/>
              <a:ext cx="50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5535720" y="4459320"/>
              <a:ext cx="0" cy="17280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5140440" y="4702320"/>
              <a:ext cx="2880" cy="1616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 flipH="1">
              <a:off x="3030480" y="4224600"/>
              <a:ext cx="955440" cy="78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14"/>
            <p:cNvSpPr/>
            <p:nvPr/>
          </p:nvSpPr>
          <p:spPr>
            <a:xfrm rot="16200000">
              <a:off x="3068640" y="2126880"/>
              <a:ext cx="1666800" cy="4273560"/>
            </a:xfrm>
            <a:custGeom>
              <a:avLst/>
              <a:gdLst>
                <a:gd name="textAreaLeft" fmla="*/ 0 w 1666800"/>
                <a:gd name="textAreaRight" fmla="*/ 1667160 w 1666800"/>
                <a:gd name="textAreaTop" fmla="*/ 0 h 4273560"/>
                <a:gd name="textAreaBottom" fmla="*/ 4273920 h 4273560"/>
              </a:gdLst>
              <a:ahLst/>
              <a:rect l="textAreaLeft" t="textAreaTop" r="textAreaRight" b="textAreaBottom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93c18"/>
                </a:gs>
                <a:gs pos="100000">
                  <a:srgbClr val="5074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5867640" y="3713400"/>
              <a:ext cx="210960" cy="2793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507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rc 16"/>
            <p:cNvSpPr/>
            <p:nvPr/>
          </p:nvSpPr>
          <p:spPr>
            <a:xfrm rot="16200000">
              <a:off x="3083040" y="1968480"/>
              <a:ext cx="1657440" cy="4276800"/>
            </a:xfrm>
            <a:custGeom>
              <a:avLst/>
              <a:gdLst>
                <a:gd name="textAreaLeft" fmla="*/ 0 w 1657440"/>
                <a:gd name="textAreaRight" fmla="*/ 1657800 w 1657440"/>
                <a:gd name="textAreaTop" fmla="*/ 0 h 4276800"/>
                <a:gd name="textAreaBottom" fmla="*/ 4277160 h 4276800"/>
              </a:gdLst>
              <a:ahLst/>
              <a:rect l="textAreaLeft" t="textAreaTop" r="textAreaRight" b="textAreaBottom"/>
              <a:pathLst>
                <a:path fill="none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</a:path>
                <a:path stroke="0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  <a:lnTo>
                    <a:pt x="195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0742f"/>
                </a:gs>
                <a:gs pos="100000">
                  <a:srgbClr val="b9c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2832120" y="3557520"/>
              <a:ext cx="8841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AutoShape 18"/>
            <p:cNvCxnSpPr>
              <a:endCxn id="64" idx="3"/>
            </p:cNvCxnSpPr>
            <p:nvPr/>
          </p:nvCxnSpPr>
          <p:spPr>
            <a:xfrm flipV="1" rot="10800000">
              <a:off x="3715560" y="3058560"/>
              <a:ext cx="3110760" cy="69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19"/>
            <p:cNvCxnSpPr>
              <a:endCxn id="57" idx="3"/>
            </p:cNvCxnSpPr>
            <p:nvPr/>
          </p:nvCxnSpPr>
          <p:spPr>
            <a:xfrm rot="10800000">
              <a:off x="5646240" y="4196880"/>
              <a:ext cx="1437120" cy="373680"/>
            </a:xfrm>
            <a:prstGeom prst="bentConnector3">
              <a:avLst>
                <a:gd name="adj1" fmla="val 768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Text Box 20"/>
            <p:cNvSpPr/>
            <p:nvPr/>
          </p:nvSpPr>
          <p:spPr>
            <a:xfrm>
              <a:off x="3791160" y="4440240"/>
              <a:ext cx="62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2000160" y="2060640"/>
              <a:ext cx="531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he main use of the money and wa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2"/>
            <p:cNvGrpSpPr/>
            <p:nvPr/>
          </p:nvGrpSpPr>
          <p:grpSpPr>
            <a:xfrm>
              <a:off x="6826320" y="2859120"/>
              <a:ext cx="1912680" cy="455040"/>
              <a:chOff x="6826320" y="2859120"/>
              <a:chExt cx="1912680" cy="455040"/>
            </a:xfrm>
          </p:grpSpPr>
          <p:sp>
            <p:nvSpPr>
              <p:cNvPr id="70" name="Freeform 23"/>
              <p:cNvSpPr/>
              <p:nvPr/>
            </p:nvSpPr>
            <p:spPr>
              <a:xfrm>
                <a:off x="6939000" y="3121200"/>
                <a:ext cx="1686960" cy="192960"/>
              </a:xfrm>
              <a:custGeom>
                <a:avLst/>
                <a:gdLst>
                  <a:gd name="textAreaLeft" fmla="*/ 0 w 1686960"/>
                  <a:gd name="textAreaRight" fmla="*/ 1687320 w 1686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24"/>
              <p:cNvSpPr/>
              <p:nvPr/>
            </p:nvSpPr>
            <p:spPr>
              <a:xfrm>
                <a:off x="6826320" y="2859120"/>
                <a:ext cx="1912680" cy="399240"/>
              </a:xfrm>
              <a:prstGeom prst="rect">
                <a:avLst/>
              </a:prstGeom>
              <a:gradFill rotWithShape="0">
                <a:gsLst>
                  <a:gs pos="0">
                    <a:srgbClr val="3d5824"/>
                  </a:gs>
                  <a:gs pos="100000">
                    <a:srgbClr val="50742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Product mak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5"/>
            <p:cNvGrpSpPr/>
            <p:nvPr/>
          </p:nvGrpSpPr>
          <p:grpSpPr>
            <a:xfrm>
              <a:off x="6874200" y="4287960"/>
              <a:ext cx="1912680" cy="455040"/>
              <a:chOff x="6874200" y="4287960"/>
              <a:chExt cx="1912680" cy="455040"/>
            </a:xfrm>
          </p:grpSpPr>
          <p:sp>
            <p:nvSpPr>
              <p:cNvPr id="73" name="Freeform 26"/>
              <p:cNvSpPr/>
              <p:nvPr/>
            </p:nvSpPr>
            <p:spPr>
              <a:xfrm>
                <a:off x="6986880" y="4550040"/>
                <a:ext cx="1686960" cy="192960"/>
              </a:xfrm>
              <a:custGeom>
                <a:avLst/>
                <a:gdLst>
                  <a:gd name="textAreaLeft" fmla="*/ 0 w 1686960"/>
                  <a:gd name="textAreaRight" fmla="*/ 1687320 w 1686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27"/>
              <p:cNvSpPr/>
              <p:nvPr/>
            </p:nvSpPr>
            <p:spPr>
              <a:xfrm>
                <a:off x="6874200" y="4287960"/>
                <a:ext cx="1912680" cy="399240"/>
              </a:xfrm>
              <a:prstGeom prst="rect">
                <a:avLst/>
              </a:prstGeom>
              <a:gradFill rotWithShape="0">
                <a:gsLst>
                  <a:gs pos="0">
                    <a:srgbClr val="b29c02"/>
                  </a:gs>
                  <a:gs pos="100000">
                    <a:srgbClr val="d9be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Labo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28"/>
            <p:cNvGrpSpPr/>
            <p:nvPr/>
          </p:nvGrpSpPr>
          <p:grpSpPr>
            <a:xfrm>
              <a:off x="6442200" y="5510520"/>
              <a:ext cx="1912680" cy="453600"/>
              <a:chOff x="6442200" y="5510520"/>
              <a:chExt cx="1912680" cy="453600"/>
            </a:xfrm>
          </p:grpSpPr>
          <p:sp>
            <p:nvSpPr>
              <p:cNvPr id="76" name="Freeform 29"/>
              <p:cNvSpPr/>
              <p:nvPr/>
            </p:nvSpPr>
            <p:spPr>
              <a:xfrm>
                <a:off x="6554880" y="5771880"/>
                <a:ext cx="1686960" cy="192240"/>
              </a:xfrm>
              <a:custGeom>
                <a:avLst/>
                <a:gdLst>
                  <a:gd name="textAreaLeft" fmla="*/ 0 w 1686960"/>
                  <a:gd name="textAreaRight" fmla="*/ 1687320 w 168696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30"/>
              <p:cNvSpPr/>
              <p:nvPr/>
            </p:nvSpPr>
            <p:spPr>
              <a:xfrm>
                <a:off x="6442200" y="5510520"/>
                <a:ext cx="1912680" cy="398160"/>
              </a:xfrm>
              <a:prstGeom prst="rect">
                <a:avLst/>
              </a:prstGeom>
              <a:gradFill rotWithShape="0">
                <a:gsLst>
                  <a:gs pos="0">
                    <a:srgbClr val="cc00cc"/>
                  </a:gs>
                  <a:gs pos="100000">
                    <a:srgbClr val="f900f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Advertis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1"/>
            <p:cNvGrpSpPr/>
            <p:nvPr/>
          </p:nvGrpSpPr>
          <p:grpSpPr>
            <a:xfrm>
              <a:off x="1773360" y="5653440"/>
              <a:ext cx="1912680" cy="455040"/>
              <a:chOff x="1773360" y="5653440"/>
              <a:chExt cx="1912680" cy="455040"/>
            </a:xfrm>
          </p:grpSpPr>
          <p:sp>
            <p:nvSpPr>
              <p:cNvPr id="79" name="Freeform 32"/>
              <p:cNvSpPr/>
              <p:nvPr/>
            </p:nvSpPr>
            <p:spPr>
              <a:xfrm>
                <a:off x="1886040" y="5915520"/>
                <a:ext cx="1686960" cy="192960"/>
              </a:xfrm>
              <a:custGeom>
                <a:avLst/>
                <a:gdLst>
                  <a:gd name="textAreaLeft" fmla="*/ 0 w 1686960"/>
                  <a:gd name="textAreaRight" fmla="*/ 1687320 w 1686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33"/>
              <p:cNvSpPr/>
              <p:nvPr/>
            </p:nvSpPr>
            <p:spPr>
              <a:xfrm>
                <a:off x="1773360" y="5653440"/>
                <a:ext cx="1912680" cy="399240"/>
              </a:xfrm>
              <a:prstGeom prst="rect">
                <a:avLst/>
              </a:prstGeom>
              <a:gradFill rotWithShape="0">
                <a:gsLst>
                  <a:gs pos="0">
                    <a:srgbClr val="164e3c"/>
                  </a:gs>
                  <a:gs pos="100000">
                    <a:srgbClr val="2688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Marketi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1" name="AutoShape 34"/>
            <p:cNvCxnSpPr/>
            <p:nvPr/>
          </p:nvCxnSpPr>
          <p:spPr>
            <a:xfrm rot="10800000">
              <a:off x="5220720" y="4574520"/>
              <a:ext cx="1221480" cy="1151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" name="AutoShape 35"/>
            <p:cNvCxnSpPr/>
            <p:nvPr/>
          </p:nvCxnSpPr>
          <p:spPr>
            <a:xfrm flipV="1">
              <a:off x="3686040" y="4719240"/>
              <a:ext cx="241920" cy="113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3" name="Text Box 39"/>
          <p:cNvSpPr/>
          <p:nvPr/>
        </p:nvSpPr>
        <p:spPr>
          <a:xfrm>
            <a:off x="7669080" y="64468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115920"/>
            <a:ext cx="482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the music pillow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55640" y="126828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usic pillow makes the pillow, music and health closely connected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1705814_530434[1]"/>
          <p:cNvPicPr/>
          <p:nvPr/>
        </p:nvPicPr>
        <p:blipFill>
          <a:blip r:embed="rId2"/>
          <a:stretch/>
        </p:blipFill>
        <p:spPr>
          <a:xfrm>
            <a:off x="4716360" y="3427560"/>
            <a:ext cx="3888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55640" y="170028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as brought a new way of listening to mus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55640" y="206064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ting the people in an easy, safe and comfortable environment sleep is accompanied by mu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084720" y="644688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Details of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126213317"/>
          <p:cNvPicPr/>
          <p:nvPr/>
        </p:nvPicPr>
        <p:blipFill>
          <a:blip r:embed="rId3"/>
          <a:stretch/>
        </p:blipFill>
        <p:spPr>
          <a:xfrm>
            <a:off x="612720" y="292428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26"/>
          <p:cNvGrpSpPr/>
          <p:nvPr/>
        </p:nvGrpSpPr>
        <p:grpSpPr>
          <a:xfrm>
            <a:off x="179280" y="1484280"/>
            <a:ext cx="5569920" cy="4000680"/>
            <a:chOff x="179280" y="1484280"/>
            <a:chExt cx="5569920" cy="4000680"/>
          </a:xfrm>
        </p:grpSpPr>
        <p:grpSp>
          <p:nvGrpSpPr>
            <p:cNvPr id="92" name="Group 5"/>
            <p:cNvGrpSpPr/>
            <p:nvPr/>
          </p:nvGrpSpPr>
          <p:grpSpPr>
            <a:xfrm>
              <a:off x="179280" y="1484280"/>
              <a:ext cx="5569920" cy="3444480"/>
              <a:chOff x="179280" y="1484280"/>
              <a:chExt cx="5569920" cy="3444480"/>
            </a:xfrm>
          </p:grpSpPr>
          <p:sp>
            <p:nvSpPr>
              <p:cNvPr id="93" name="Rectangle 6"/>
              <p:cNvSpPr/>
              <p:nvPr/>
            </p:nvSpPr>
            <p:spPr>
              <a:xfrm>
                <a:off x="4757760" y="1484280"/>
                <a:ext cx="155880" cy="3444480"/>
              </a:xfrm>
              <a:prstGeom prst="rect">
                <a:avLst/>
              </a:prstGeom>
              <a:gradFill rotWithShape="0">
                <a:gsLst>
                  <a:gs pos="0">
                    <a:srgbClr val="e1f0ff"/>
                  </a:gs>
                  <a:gs pos="50000">
                    <a:srgbClr val="f3f9ff"/>
                  </a:gs>
                  <a:gs pos="100000">
                    <a:srgbClr val="e1f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7"/>
              <p:cNvSpPr/>
              <p:nvPr/>
            </p:nvSpPr>
            <p:spPr>
              <a:xfrm>
                <a:off x="701640" y="1484280"/>
                <a:ext cx="241560" cy="3440160"/>
              </a:xfrm>
              <a:prstGeom prst="rect">
                <a:avLst/>
              </a:prstGeom>
              <a:gradFill rotWithShape="0">
                <a:gsLst>
                  <a:gs pos="0">
                    <a:srgbClr val="e1f0ff"/>
                  </a:gs>
                  <a:gs pos="50000">
                    <a:srgbClr val="f3f9ff"/>
                  </a:gs>
                  <a:gs pos="100000">
                    <a:srgbClr val="e1f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8"/>
              <p:cNvSpPr/>
              <p:nvPr/>
            </p:nvSpPr>
            <p:spPr>
              <a:xfrm>
                <a:off x="179280" y="1484280"/>
                <a:ext cx="5561640" cy="6588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385121"/>
                  </a:gs>
                  <a:gs pos="50000">
                    <a:srgbClr val="50742f"/>
                  </a:gs>
                  <a:gs pos="100000">
                    <a:srgbClr val="3851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t is available to connect with mp3, mp4,CD ,VCD, DV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9"/>
              <p:cNvSpPr/>
              <p:nvPr/>
            </p:nvSpPr>
            <p:spPr>
              <a:xfrm>
                <a:off x="187560" y="2484360"/>
                <a:ext cx="5561640" cy="72936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2f451c"/>
                  </a:gs>
                  <a:gs pos="50000">
                    <a:srgbClr val="50742f"/>
                  </a:gs>
                  <a:gs pos="100000">
                    <a:srgbClr val="2f45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t doesn’t need power supply  just connect with the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ideo Compact Disc</a:t>
                </a:r>
                <a:br>
                  <a:rPr sz="16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10"/>
              <p:cNvSpPr/>
              <p:nvPr/>
            </p:nvSpPr>
            <p:spPr>
              <a:xfrm>
                <a:off x="179280" y="3840480"/>
                <a:ext cx="5561640" cy="800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385121"/>
                  </a:gs>
                  <a:gs pos="50000">
                    <a:srgbClr val="50742f"/>
                  </a:gs>
                  <a:gs pos="100000">
                    <a:srgbClr val="3851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8f8f8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t is made of High-grade super-soft shearing cloth. it has 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 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riety of fruits animal pattern</a:t>
                </a:r>
                <a:br>
                  <a:rPr sz="16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组合 25"/>
            <p:cNvGrpSpPr/>
            <p:nvPr/>
          </p:nvGrpSpPr>
          <p:grpSpPr>
            <a:xfrm>
              <a:off x="456480" y="4826160"/>
              <a:ext cx="5084640" cy="658800"/>
              <a:chOff x="456480" y="4826160"/>
              <a:chExt cx="5084640" cy="658800"/>
            </a:xfrm>
          </p:grpSpPr>
          <p:sp>
            <p:nvSpPr>
              <p:cNvPr id="99" name="Oval 2"/>
              <p:cNvSpPr/>
              <p:nvPr/>
            </p:nvSpPr>
            <p:spPr>
              <a:xfrm flipV="1">
                <a:off x="456480" y="4826160"/>
                <a:ext cx="5084640" cy="658800"/>
              </a:xfrm>
              <a:prstGeom prst="ellipse">
                <a:avLst/>
              </a:prstGeom>
              <a:solidFill>
                <a:srgbClr val="5074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2"/>
              <p:cNvSpPr/>
              <p:nvPr/>
            </p:nvSpPr>
            <p:spPr>
              <a:xfrm>
                <a:off x="2261520" y="4923000"/>
                <a:ext cx="1340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trodu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TextBox 24"/>
          <p:cNvSpPr/>
          <p:nvPr/>
        </p:nvSpPr>
        <p:spPr>
          <a:xfrm>
            <a:off x="35712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duct introduc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C:\Users\Administrator\Desktop\ky\108015_723881.jpg"/>
          <p:cNvPicPr/>
          <p:nvPr/>
        </p:nvPicPr>
        <p:blipFill>
          <a:blip r:embed="rId2"/>
          <a:stretch/>
        </p:blipFill>
        <p:spPr>
          <a:xfrm>
            <a:off x="5796000" y="342900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dministrator\Desktop\ky\%25B3%25E4%25B9%2590%25E6%259E%2595%25E5%25A4%25B4%252C%25E9%259F%25B3%25E4%25B9%2590%25E6%259E%2595%252C%25E5%2585%2585%25E6%25B0%2594%25E6%259E%2595.jpg"/>
          <p:cNvPicPr/>
          <p:nvPr/>
        </p:nvPicPr>
        <p:blipFill>
          <a:blip r:embed="rId3"/>
          <a:stretch/>
        </p:blipFill>
        <p:spPr>
          <a:xfrm>
            <a:off x="5796000" y="-144360"/>
            <a:ext cx="3684600" cy="3684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8"/>
          <p:cNvSpPr/>
          <p:nvPr/>
        </p:nvSpPr>
        <p:spPr>
          <a:xfrm>
            <a:off x="6154560" y="648828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Details of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duct Fea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5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00464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5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50742f"/>
              </a:gs>
              <a:gs pos="100000">
                <a:srgbClr val="253616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8"/>
          <p:cNvSpPr/>
          <p:nvPr/>
        </p:nvSpPr>
        <p:spPr>
          <a:xfrm>
            <a:off x="2771640" y="1484280"/>
            <a:ext cx="56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 of directly through the pillow loudspeaker drive, music that only I can 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5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26"/>
          <p:cNvGrpSpPr/>
          <p:nvPr/>
        </p:nvGrpSpPr>
        <p:grpSpPr>
          <a:xfrm>
            <a:off x="1962360" y="2714760"/>
            <a:ext cx="8103960" cy="884520"/>
            <a:chOff x="1962360" y="2714760"/>
            <a:chExt cx="8103960" cy="884520"/>
          </a:xfrm>
        </p:grpSpPr>
        <p:sp>
          <p:nvSpPr>
            <p:cNvPr id="112" name="Line 260"/>
            <p:cNvSpPr/>
            <p:nvPr/>
          </p:nvSpPr>
          <p:spPr>
            <a:xfrm>
              <a:off x="2355480" y="3571920"/>
              <a:ext cx="4800600" cy="0"/>
            </a:xfrm>
            <a:prstGeom prst="line">
              <a:avLst/>
            </a:prstGeom>
            <a:ln w="25560">
              <a:solidFill>
                <a:srgbClr val="00464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1"/>
            <p:cNvSpPr/>
            <p:nvPr/>
          </p:nvSpPr>
          <p:spPr>
            <a:xfrm rot="3418800">
              <a:off x="2071080" y="299592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268868"/>
                </a:gs>
                <a:gs pos="100000">
                  <a:srgbClr val="123f3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62"/>
            <p:cNvSpPr/>
            <p:nvPr/>
          </p:nvSpPr>
          <p:spPr>
            <a:xfrm>
              <a:off x="2128680" y="303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69"/>
            <p:cNvSpPr/>
            <p:nvPr/>
          </p:nvSpPr>
          <p:spPr>
            <a:xfrm>
              <a:off x="2707920" y="2714760"/>
              <a:ext cx="7358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t can listen to the music while I sleep. An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needn’t to wear the earphon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5"/>
          <p:cNvGrpSpPr/>
          <p:nvPr/>
        </p:nvGrpSpPr>
        <p:grpSpPr>
          <a:xfrm>
            <a:off x="1968840" y="4071960"/>
            <a:ext cx="6746400" cy="825480"/>
            <a:chOff x="1968840" y="4071960"/>
            <a:chExt cx="6746400" cy="825480"/>
          </a:xfrm>
        </p:grpSpPr>
        <p:sp>
          <p:nvSpPr>
            <p:cNvPr id="117" name="Rectangle 264"/>
            <p:cNvSpPr/>
            <p:nvPr/>
          </p:nvSpPr>
          <p:spPr>
            <a:xfrm rot="3418800">
              <a:off x="2077560" y="422604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d9be02"/>
                </a:gs>
                <a:gs pos="100000">
                  <a:srgbClr val="64580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组合 24"/>
            <p:cNvGrpSpPr/>
            <p:nvPr/>
          </p:nvGrpSpPr>
          <p:grpSpPr>
            <a:xfrm>
              <a:off x="2135160" y="4071960"/>
              <a:ext cx="6580080" cy="825480"/>
              <a:chOff x="2135160" y="4071960"/>
              <a:chExt cx="6580080" cy="825480"/>
            </a:xfrm>
          </p:grpSpPr>
          <p:sp>
            <p:nvSpPr>
              <p:cNvPr id="119" name="Line 263"/>
              <p:cNvSpPr/>
              <p:nvPr/>
            </p:nvSpPr>
            <p:spPr>
              <a:xfrm>
                <a:off x="2363400" y="4855680"/>
                <a:ext cx="4799160" cy="1440"/>
              </a:xfrm>
              <a:prstGeom prst="line">
                <a:avLst/>
              </a:prstGeom>
              <a:ln w="25560">
                <a:solidFill>
                  <a:srgbClr val="00464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65"/>
              <p:cNvSpPr/>
              <p:nvPr/>
            </p:nvSpPr>
            <p:spPr>
              <a:xfrm>
                <a:off x="2135160" y="426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70"/>
              <p:cNvSpPr/>
              <p:nvPr/>
            </p:nvSpPr>
            <p:spPr>
              <a:xfrm>
                <a:off x="2714400" y="4071960"/>
                <a:ext cx="6000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Because there is no through the eardrum, so it can be heard outside of music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2" name="Picture 2" descr="C:\Users\Administrator\Desktop\ky\u=3435241159,3252794798&amp;fm=52&amp;gp=0.jpg"/>
          <p:cNvPicPr/>
          <p:nvPr/>
        </p:nvPicPr>
        <p:blipFill>
          <a:blip r:embed="rId2"/>
          <a:stretch/>
        </p:blipFill>
        <p:spPr>
          <a:xfrm>
            <a:off x="0" y="45720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1"/>
          <p:cNvSpPr/>
          <p:nvPr/>
        </p:nvSpPr>
        <p:spPr>
          <a:xfrm>
            <a:off x="7669080" y="64468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084720" y="644688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Details of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3"/>
          <p:cNvSpPr/>
          <p:nvPr/>
        </p:nvSpPr>
        <p:spPr>
          <a:xfrm>
            <a:off x="642960" y="3333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duction display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图片2"/>
          <p:cNvPicPr/>
          <p:nvPr/>
        </p:nvPicPr>
        <p:blipFill>
          <a:blip r:embed="rId2"/>
          <a:stretch/>
        </p:blipFill>
        <p:spPr>
          <a:xfrm>
            <a:off x="108000" y="981000"/>
            <a:ext cx="5616360" cy="3816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7"/>
          <p:cNvSpPr/>
          <p:nvPr/>
        </p:nvSpPr>
        <p:spPr>
          <a:xfrm>
            <a:off x="6084720" y="644688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Details of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logo"/>
          <p:cNvPicPr/>
          <p:nvPr/>
        </p:nvPicPr>
        <p:blipFill>
          <a:blip r:embed="rId3"/>
          <a:stretch/>
        </p:blipFill>
        <p:spPr>
          <a:xfrm>
            <a:off x="8172360" y="0"/>
            <a:ext cx="971640" cy="800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200742104259207[1]"/>
          <p:cNvPicPr/>
          <p:nvPr/>
        </p:nvPicPr>
        <p:blipFill>
          <a:blip r:embed="rId4"/>
          <a:stretch/>
        </p:blipFill>
        <p:spPr>
          <a:xfrm>
            <a:off x="5889600" y="1052640"/>
            <a:ext cx="3290760" cy="27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mu_space4-480x396[1]"/>
          <p:cNvPicPr/>
          <p:nvPr/>
        </p:nvPicPr>
        <p:blipFill>
          <a:blip r:embed="rId5"/>
          <a:stretch/>
        </p:blipFill>
        <p:spPr>
          <a:xfrm>
            <a:off x="5869080" y="3575160"/>
            <a:ext cx="3276360" cy="270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219932291_1293501360"/>
          <p:cNvPicPr/>
          <p:nvPr/>
        </p:nvPicPr>
        <p:blipFill>
          <a:blip r:embed="rId6"/>
          <a:stretch/>
        </p:blipFill>
        <p:spPr>
          <a:xfrm>
            <a:off x="395280" y="4619520"/>
            <a:ext cx="2662200" cy="1997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65247701"/>
          <p:cNvPicPr/>
          <p:nvPr/>
        </p:nvPicPr>
        <p:blipFill>
          <a:blip r:embed="rId7"/>
          <a:stretch/>
        </p:blipFill>
        <p:spPr>
          <a:xfrm>
            <a:off x="3059280" y="4619520"/>
            <a:ext cx="2663640" cy="19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3357720" y="40464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25"/>
          <p:cNvGrpSpPr/>
          <p:nvPr/>
        </p:nvGrpSpPr>
        <p:grpSpPr>
          <a:xfrm>
            <a:off x="603360" y="1484280"/>
            <a:ext cx="7928640" cy="4825800"/>
            <a:chOff x="603360" y="1484280"/>
            <a:chExt cx="7928640" cy="4825800"/>
          </a:xfrm>
        </p:grpSpPr>
        <p:sp>
          <p:nvSpPr>
            <p:cNvPr id="135" name="Freeform 4"/>
            <p:cNvSpPr/>
            <p:nvPr/>
          </p:nvSpPr>
          <p:spPr>
            <a:xfrm>
              <a:off x="2424600" y="2783520"/>
              <a:ext cx="2145960" cy="149220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1f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4592160" y="2712960"/>
              <a:ext cx="414000" cy="169344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1693440"/>
                <a:gd name="textAreaBottom" fmla="*/ 1693800 h 169344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1f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 flipH="1">
              <a:off x="5043240" y="2783520"/>
              <a:ext cx="2145960" cy="1492200"/>
            </a:xfrm>
            <a:custGeom>
              <a:avLst/>
              <a:gdLst>
                <a:gd name="textAreaLeft" fmla="*/ -360 w 2145960"/>
                <a:gd name="textAreaRight" fmla="*/ 2145960 w 2145960"/>
                <a:gd name="textAreaTop" fmla="*/ 0 h 1492200"/>
                <a:gd name="textAreaBottom" fmla="*/ 1492560 h 149220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1f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7"/>
            <p:cNvGrpSpPr/>
            <p:nvPr/>
          </p:nvGrpSpPr>
          <p:grpSpPr>
            <a:xfrm>
              <a:off x="2016000" y="1484280"/>
              <a:ext cx="1537200" cy="1432800"/>
              <a:chOff x="2016000" y="1484280"/>
              <a:chExt cx="1537200" cy="1432800"/>
            </a:xfrm>
          </p:grpSpPr>
          <p:sp>
            <p:nvSpPr>
              <p:cNvPr id="139" name="AutoShape 8"/>
              <p:cNvSpPr/>
              <p:nvPr/>
            </p:nvSpPr>
            <p:spPr>
              <a:xfrm>
                <a:off x="2016000" y="1484280"/>
                <a:ext cx="1537200" cy="1432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50742f"/>
                  </a:gs>
                  <a:gs pos="100000">
                    <a:srgbClr val="385121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"/>
              <p:cNvSpPr/>
              <p:nvPr/>
            </p:nvSpPr>
            <p:spPr>
              <a:xfrm>
                <a:off x="2112480" y="1577160"/>
                <a:ext cx="764280" cy="716040"/>
              </a:xfrm>
              <a:custGeom>
                <a:avLst/>
                <a:gdLst>
                  <a:gd name="textAreaLeft" fmla="*/ 0 w 764280"/>
                  <a:gd name="textAreaRight" fmla="*/ 764640 w 764280"/>
                  <a:gd name="textAreaTop" fmla="*/ 0 h 716040"/>
                  <a:gd name="textAreaBottom" fmla="*/ 716040 h 71604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bb9a"/>
                  </a:gs>
                  <a:gs pos="50000">
                    <a:srgbClr val="50742f">
                      <a:alpha val="0"/>
                    </a:srgbClr>
                  </a:gs>
                  <a:gs pos="100000">
                    <a:srgbClr val="aabb9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10"/>
            <p:cNvSpPr/>
            <p:nvPr/>
          </p:nvSpPr>
          <p:spPr>
            <a:xfrm>
              <a:off x="2296080" y="1896840"/>
              <a:ext cx="1058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ash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1"/>
            <p:cNvGrpSpPr/>
            <p:nvPr/>
          </p:nvGrpSpPr>
          <p:grpSpPr>
            <a:xfrm>
              <a:off x="4025880" y="1484280"/>
              <a:ext cx="1537200" cy="1432800"/>
              <a:chOff x="4025880" y="1484280"/>
              <a:chExt cx="1537200" cy="1432800"/>
            </a:xfrm>
          </p:grpSpPr>
          <p:sp>
            <p:nvSpPr>
              <p:cNvPr id="143" name="AutoShape 12"/>
              <p:cNvSpPr/>
              <p:nvPr/>
            </p:nvSpPr>
            <p:spPr>
              <a:xfrm>
                <a:off x="4025880" y="1484280"/>
                <a:ext cx="1537200" cy="1432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68868"/>
                  </a:gs>
                  <a:gs pos="100000">
                    <a:srgbClr val="1b5f4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3"/>
              <p:cNvSpPr/>
              <p:nvPr/>
            </p:nvSpPr>
            <p:spPr>
              <a:xfrm>
                <a:off x="4122360" y="1577160"/>
                <a:ext cx="764280" cy="716040"/>
              </a:xfrm>
              <a:custGeom>
                <a:avLst/>
                <a:gdLst>
                  <a:gd name="textAreaLeft" fmla="*/ 0 w 764280"/>
                  <a:gd name="textAreaRight" fmla="*/ 764640 w 764280"/>
                  <a:gd name="textAreaTop" fmla="*/ 0 h 716040"/>
                  <a:gd name="textAreaBottom" fmla="*/ 716040 h 71604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5c5b6"/>
                  </a:gs>
                  <a:gs pos="50000">
                    <a:srgbClr val="268868">
                      <a:alpha val="0"/>
                    </a:srgbClr>
                  </a:gs>
                  <a:gs pos="100000">
                    <a:srgbClr val="95c5b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4"/>
            <p:cNvGrpSpPr/>
            <p:nvPr/>
          </p:nvGrpSpPr>
          <p:grpSpPr>
            <a:xfrm>
              <a:off x="6044400" y="1494360"/>
              <a:ext cx="1537200" cy="1432800"/>
              <a:chOff x="6044400" y="1494360"/>
              <a:chExt cx="1537200" cy="1432800"/>
            </a:xfrm>
          </p:grpSpPr>
          <p:sp>
            <p:nvSpPr>
              <p:cNvPr id="146" name="AutoShape 15"/>
              <p:cNvSpPr/>
              <p:nvPr/>
            </p:nvSpPr>
            <p:spPr>
              <a:xfrm>
                <a:off x="6044400" y="1494360"/>
                <a:ext cx="1537200" cy="14328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9be02"/>
                  </a:gs>
                  <a:gs pos="100000">
                    <a:srgbClr val="978501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"/>
              <p:cNvSpPr/>
              <p:nvPr/>
            </p:nvSpPr>
            <p:spPr>
              <a:xfrm>
                <a:off x="6140880" y="1587240"/>
                <a:ext cx="764280" cy="716040"/>
              </a:xfrm>
              <a:custGeom>
                <a:avLst/>
                <a:gdLst>
                  <a:gd name="textAreaLeft" fmla="*/ 0 w 764280"/>
                  <a:gd name="textAreaRight" fmla="*/ 764640 w 764280"/>
                  <a:gd name="textAreaTop" fmla="*/ 0 h 716040"/>
                  <a:gd name="textAreaBottom" fmla="*/ 716040 h 71604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ddf84"/>
                  </a:gs>
                  <a:gs pos="50000">
                    <a:srgbClr val="d9be02">
                      <a:alpha val="0"/>
                    </a:srgbClr>
                  </a:gs>
                  <a:gs pos="100000">
                    <a:srgbClr val="eddf8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17"/>
            <p:cNvSpPr/>
            <p:nvPr/>
          </p:nvSpPr>
          <p:spPr>
            <a:xfrm>
              <a:off x="4055040" y="1896840"/>
              <a:ext cx="14623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aso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6329160" y="1908000"/>
              <a:ext cx="101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ario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4"/>
            <p:cNvGrpSpPr/>
            <p:nvPr/>
          </p:nvGrpSpPr>
          <p:grpSpPr>
            <a:xfrm>
              <a:off x="603360" y="4210560"/>
              <a:ext cx="7928640" cy="2099520"/>
              <a:chOff x="603360" y="4210560"/>
              <a:chExt cx="7928640" cy="2099520"/>
            </a:xfrm>
          </p:grpSpPr>
          <p:sp>
            <p:nvSpPr>
              <p:cNvPr id="151" name="AutoShape 2"/>
              <p:cNvSpPr/>
              <p:nvPr/>
            </p:nvSpPr>
            <p:spPr>
              <a:xfrm>
                <a:off x="2266920" y="4551120"/>
                <a:ext cx="6265080" cy="1346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00f9"/>
                  </a:gs>
                  <a:gs pos="50000">
                    <a:srgbClr val="fc93fc"/>
                  </a:gs>
                  <a:gs pos="100000">
                    <a:srgbClr val="f900f9"/>
                  </a:gs>
                </a:gsLst>
                <a:lin ang="5400000"/>
              </a:gradFill>
              <a:ln w="57240">
                <a:solidFill>
                  <a:srgbClr val="e1f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>
                <a:off x="2853360" y="4704480"/>
                <a:ext cx="5307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We can get more share of economic opportunity in the competition. And we have more chances to succeed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21" descr="YG_circle001"/>
              <p:cNvPicPr/>
              <p:nvPr/>
            </p:nvPicPr>
            <p:blipFill>
              <a:blip r:embed="rId2"/>
              <a:stretch/>
            </p:blipFill>
            <p:spPr>
              <a:xfrm>
                <a:off x="603360" y="4210560"/>
                <a:ext cx="2187000" cy="209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22"/>
              <p:cNvSpPr/>
              <p:nvPr/>
            </p:nvSpPr>
            <p:spPr>
              <a:xfrm>
                <a:off x="951120" y="4914360"/>
                <a:ext cx="14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a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 Box 25"/>
          <p:cNvSpPr/>
          <p:nvPr/>
        </p:nvSpPr>
        <p:spPr>
          <a:xfrm>
            <a:off x="7093080" y="64468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 flipH="1">
            <a:off x="5122080" y="5100480"/>
            <a:ext cx="3011400" cy="906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900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"/>
          <p:cNvSpPr/>
          <p:nvPr/>
        </p:nvSpPr>
        <p:spPr>
          <a:xfrm>
            <a:off x="5122800" y="6002280"/>
            <a:ext cx="222084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5122800" y="5191200"/>
            <a:ext cx="28656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826920" y="1892160"/>
            <a:ext cx="5019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826920" y="2593800"/>
            <a:ext cx="5112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826920" y="3424320"/>
            <a:ext cx="456408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826920" y="4262400"/>
            <a:ext cx="383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826920" y="5103720"/>
            <a:ext cx="3011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 flipH="1">
            <a:off x="826920" y="6005520"/>
            <a:ext cx="2221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 flipH="1">
            <a:off x="826920" y="5194440"/>
            <a:ext cx="28656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826560" y="4352760"/>
            <a:ext cx="336564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 flipH="1">
            <a:off x="826560" y="3524400"/>
            <a:ext cx="393876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 flipH="1">
            <a:off x="826920" y="2690640"/>
            <a:ext cx="451008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 flipH="1">
            <a:off x="826920" y="1979640"/>
            <a:ext cx="501192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1065240" y="1890720"/>
            <a:ext cx="1440" cy="7999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1065240" y="2585880"/>
            <a:ext cx="1440" cy="946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1065240" y="3427560"/>
            <a:ext cx="1440" cy="946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1065240" y="4268880"/>
            <a:ext cx="1440" cy="946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1065240" y="5118120"/>
            <a:ext cx="1440" cy="8730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1077840" y="2781360"/>
            <a:ext cx="310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ponsible for marketing strate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nning and Imple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1042920" y="3500280"/>
            <a:ext cx="407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formulation of company total annual budget and quarterly budget adjustments summ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1075680" y="4437000"/>
            <a:ext cx="289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mulate administrativ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organiz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1027440" y="5157720"/>
            <a:ext cx="2640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esponsible for the compa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uman resources develop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nning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7"/>
          <p:cNvGrpSpPr/>
          <p:nvPr/>
        </p:nvGrpSpPr>
        <p:grpSpPr>
          <a:xfrm>
            <a:off x="3240000" y="1916280"/>
            <a:ext cx="5867280" cy="4101480"/>
            <a:chOff x="3240000" y="1916280"/>
            <a:chExt cx="5867280" cy="4101480"/>
          </a:xfrm>
        </p:grpSpPr>
        <p:sp>
          <p:nvSpPr>
            <p:cNvPr id="180" name="Freeform 28"/>
            <p:cNvSpPr/>
            <p:nvPr/>
          </p:nvSpPr>
          <p:spPr>
            <a:xfrm>
              <a:off x="8072280" y="4759200"/>
              <a:ext cx="1035000" cy="12567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256760"/>
                <a:gd name="textAreaBottom" fmla="*/ 1257120 h 125676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978501"/>
                </a:gs>
                <a:gs pos="100000">
                  <a:srgbClr val="d9be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08720" y="4759200"/>
              <a:ext cx="4822920" cy="533880"/>
            </a:xfrm>
            <a:custGeom>
              <a:avLst/>
              <a:gdLst>
                <a:gd name="textAreaLeft" fmla="*/ 0 w 4822920"/>
                <a:gd name="textAreaRight" fmla="*/ 4823280 w 482292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d9be02"/>
                </a:gs>
                <a:gs pos="100000">
                  <a:srgbClr val="8a790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3240000" y="5292000"/>
              <a:ext cx="5322600" cy="725760"/>
            </a:xfrm>
            <a:custGeom>
              <a:avLst/>
              <a:gdLst>
                <a:gd name="textAreaLeft" fmla="*/ 0 w 5322600"/>
                <a:gd name="textAreaRight" fmla="*/ 5322960 w 532260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d9b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7532280" y="4047840"/>
              <a:ext cx="914400" cy="11379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137960"/>
                <a:gd name="textAreaBottom" fmla="*/ 1138320 h 11379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1c634c"/>
                </a:gs>
                <a:gs pos="100000">
                  <a:srgbClr val="2688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4256640" y="4047840"/>
              <a:ext cx="3622320" cy="400680"/>
            </a:xfrm>
            <a:custGeom>
              <a:avLst/>
              <a:gdLst>
                <a:gd name="textAreaLeft" fmla="*/ 0 w 3622320"/>
                <a:gd name="textAreaRight" fmla="*/ 3622680 w 3622320"/>
                <a:gd name="textAreaTop" fmla="*/ 0 h 400680"/>
                <a:gd name="textAreaBottom" fmla="*/ 401040 h 40068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268868"/>
                </a:gs>
                <a:gs pos="100000">
                  <a:srgbClr val="113c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3798720" y="4447080"/>
              <a:ext cx="4205160" cy="738720"/>
            </a:xfrm>
            <a:custGeom>
              <a:avLst/>
              <a:gdLst>
                <a:gd name="textAreaLeft" fmla="*/ 0 w 4205160"/>
                <a:gd name="textAreaRight" fmla="*/ 4205520 w 420516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268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991560" y="3343320"/>
              <a:ext cx="802080" cy="988560"/>
            </a:xfrm>
            <a:custGeom>
              <a:avLst/>
              <a:gdLst>
                <a:gd name="textAreaLeft" fmla="*/ 0 w 802080"/>
                <a:gd name="textAreaRight" fmla="*/ 802440 w 802080"/>
                <a:gd name="textAreaTop" fmla="*/ 0 h 988560"/>
                <a:gd name="textAreaBottom" fmla="*/ 988920 h 98856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9e8b01"/>
                </a:gs>
                <a:gs pos="100000">
                  <a:srgbClr val="d9be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4801680" y="3343320"/>
              <a:ext cx="2418480" cy="267120"/>
            </a:xfrm>
            <a:custGeom>
              <a:avLst/>
              <a:gdLst>
                <a:gd name="textAreaLeft" fmla="*/ 0 w 2418480"/>
                <a:gd name="textAreaRight" fmla="*/ 2418840 w 241848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d9be02"/>
                </a:gs>
                <a:gs pos="100000">
                  <a:srgbClr val="675a0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4335840" y="3609000"/>
              <a:ext cx="3129480" cy="722880"/>
            </a:xfrm>
            <a:custGeom>
              <a:avLst/>
              <a:gdLst>
                <a:gd name="textAreaLeft" fmla="*/ 0 w 3129480"/>
                <a:gd name="textAreaRight" fmla="*/ 3129840 w 312948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d9b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6445440" y="2629440"/>
              <a:ext cx="689400" cy="862200"/>
            </a:xfrm>
            <a:custGeom>
              <a:avLst/>
              <a:gdLst>
                <a:gd name="textAreaLeft" fmla="*/ 0 w 689400"/>
                <a:gd name="textAreaRight" fmla="*/ 689760 w 689400"/>
                <a:gd name="textAreaTop" fmla="*/ 0 h 862200"/>
                <a:gd name="textAreaBottom" fmla="*/ 862560 h 8622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1e6c52"/>
                </a:gs>
                <a:gs pos="100000">
                  <a:srgbClr val="2688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5355720" y="2629440"/>
              <a:ext cx="1206720" cy="130320"/>
            </a:xfrm>
            <a:custGeom>
              <a:avLst/>
              <a:gdLst>
                <a:gd name="textAreaLeft" fmla="*/ 0 w 1206720"/>
                <a:gd name="textAreaRight" fmla="*/ 1207080 w 12067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268868"/>
                </a:gs>
                <a:gs pos="100000">
                  <a:srgbClr val="1345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4880520" y="2756880"/>
              <a:ext cx="2037960" cy="732960"/>
            </a:xfrm>
            <a:custGeom>
              <a:avLst/>
              <a:gdLst>
                <a:gd name="textAreaLeft" fmla="*/ 0 w 2037960"/>
                <a:gd name="textAreaRight" fmla="*/ 2038320 w 2037960"/>
                <a:gd name="textAreaTop" fmla="*/ 0 h 732960"/>
                <a:gd name="textAreaBottom" fmla="*/ 733320 h 7329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268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5894280" y="1916280"/>
              <a:ext cx="582840" cy="72864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ac9702"/>
                </a:gs>
                <a:gs pos="100000">
                  <a:srgbClr val="d9be0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5422680" y="1916280"/>
              <a:ext cx="945000" cy="72864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d9be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2"/>
            <p:cNvSpPr/>
            <p:nvPr/>
          </p:nvSpPr>
          <p:spPr>
            <a:xfrm>
              <a:off x="5592240" y="22762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3"/>
            <p:cNvSpPr/>
            <p:nvPr/>
          </p:nvSpPr>
          <p:spPr>
            <a:xfrm>
              <a:off x="4968720" y="3044520"/>
              <a:ext cx="186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arketing Execu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44"/>
            <p:cNvSpPr/>
            <p:nvPr/>
          </p:nvSpPr>
          <p:spPr>
            <a:xfrm>
              <a:off x="4769640" y="3854520"/>
              <a:ext cx="225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counting Supervi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45"/>
            <p:cNvSpPr/>
            <p:nvPr/>
          </p:nvSpPr>
          <p:spPr>
            <a:xfrm>
              <a:off x="4503960" y="4665960"/>
              <a:ext cx="279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Manager for Public Relat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6"/>
            <p:cNvSpPr/>
            <p:nvPr/>
          </p:nvSpPr>
          <p:spPr>
            <a:xfrm>
              <a:off x="4800240" y="5454720"/>
              <a:ext cx="220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Personnel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48"/>
          <p:cNvSpPr/>
          <p:nvPr/>
        </p:nvSpPr>
        <p:spPr>
          <a:xfrm>
            <a:off x="2484360" y="549360"/>
            <a:ext cx="417528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9be02"/>
                </a:solidFill>
                <a:uFillTx/>
                <a:latin typeface="Calibri"/>
                <a:hlinkClick r:id="rId2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 u="sng">
                <a:solidFill>
                  <a:srgbClr val="d9be02"/>
                </a:solidFill>
                <a:uFillTx/>
                <a:latin typeface="Calibri"/>
                <a:hlinkClick r:id="rId3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8"/>
          <p:cNvSpPr/>
          <p:nvPr/>
        </p:nvSpPr>
        <p:spPr>
          <a:xfrm>
            <a:off x="1042920" y="2055960"/>
            <a:ext cx="42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ponsible for  personnel appointments and removals for all major deci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9"/>
          <p:cNvSpPr/>
          <p:nvPr/>
        </p:nvSpPr>
        <p:spPr>
          <a:xfrm>
            <a:off x="7021440" y="64468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9"/>
          <p:cNvSpPr/>
          <p:nvPr/>
        </p:nvSpPr>
        <p:spPr>
          <a:xfrm>
            <a:off x="7164360" y="64468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nkGothic Md BT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1"/>
          <p:cNvSpPr/>
          <p:nvPr/>
        </p:nvSpPr>
        <p:spPr>
          <a:xfrm>
            <a:off x="1619280" y="1413000"/>
            <a:ext cx="6265800" cy="792000"/>
          </a:xfrm>
          <a:prstGeom prst="flowChartAlternateProcess">
            <a:avLst/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1908000" y="148608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marketing research , investigat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 demand of the music pi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3"/>
          <p:cNvSpPr/>
          <p:nvPr/>
        </p:nvSpPr>
        <p:spPr>
          <a:xfrm>
            <a:off x="1619280" y="2708280"/>
            <a:ext cx="6265800" cy="792000"/>
          </a:xfrm>
          <a:prstGeom prst="flowChartAlternateProcess">
            <a:avLst/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4"/>
          <p:cNvSpPr/>
          <p:nvPr/>
        </p:nvSpPr>
        <p:spPr>
          <a:xfrm>
            <a:off x="1908000" y="278136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e the marketing departmen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music pi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7"/>
          <p:cNvSpPr/>
          <p:nvPr/>
        </p:nvSpPr>
        <p:spPr>
          <a:xfrm>
            <a:off x="1619280" y="3952800"/>
            <a:ext cx="6265800" cy="792360"/>
          </a:xfrm>
          <a:prstGeom prst="flowChartAlternateProcess">
            <a:avLst/>
          </a:pr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1908000" y="395280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te the risk emergency mechanis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nsider a variety of possible risk in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468360" y="3888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6"/>
          <p:cNvSpPr/>
          <p:nvPr/>
        </p:nvSpPr>
        <p:spPr>
          <a:xfrm>
            <a:off x="8101080" y="2060640"/>
            <a:ext cx="360360" cy="7189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5640 h 718920"/>
              <a:gd name="textAreaBottom" fmla="*/ 521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7"/>
          <p:cNvSpPr/>
          <p:nvPr/>
        </p:nvSpPr>
        <p:spPr>
          <a:xfrm>
            <a:off x="1042920" y="3429000"/>
            <a:ext cx="360360" cy="719280"/>
          </a:xfrm>
          <a:custGeom>
            <a:avLst/>
            <a:gdLst>
              <a:gd name="textAreaLeft" fmla="*/ 48240 w 360360"/>
              <a:gd name="textAreaRight" fmla="*/ 312120 w 36036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074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2:07:43Z</dcterms:created>
  <dc:creator>Administrator</dc:creator>
  <dc:description/>
  <dc:language>en-US</dc:language>
  <cp:lastModifiedBy>ZGC</cp:lastModifiedBy>
  <dcterms:modified xsi:type="dcterms:W3CDTF">2012-05-30T03:02:23Z</dcterms:modified>
  <cp:revision>33</cp:revision>
  <dc:subject/>
  <dc:title>幻灯片 1</dc:title>
</cp:coreProperties>
</file>