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131-CD72-467E-A467-01E2F726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AAE-86E7-4DD8-AF8F-DCD66C2B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1BE-8DEA-460E-AF19-E1F3709E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69C-DE4F-45FE-B2EA-23A0207A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E62-C82E-4369-8AC2-5E46570D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F1B-5065-44D0-A1E5-2C87E926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66C-76A4-41FF-BA83-4F4A1217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4DF-EC0E-469A-A415-9756F9FF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12E-20A0-4647-A574-944C2BAD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71F-B27B-49F5-AF15-9D2D346D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32D-811B-44A8-96CB-52EDEBC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72F-4C04-42D5-B805-3FE21AD1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D07B-D65B-4567-894C-F9082988B2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0" t="3991" r="0" b="1384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"/>
          <p:cNvSpPr/>
          <p:nvPr/>
        </p:nvSpPr>
        <p:spPr>
          <a:xfrm>
            <a:off x="4697280" y="782640"/>
            <a:ext cx="242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奔</a:t>
            </a:r>
            <a:r>
              <a:rPr b="0" lang="zh-CN" sz="66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跑吧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4"/>
          <p:cNvSpPr/>
          <p:nvPr/>
        </p:nvSpPr>
        <p:spPr>
          <a:xfrm>
            <a:off x="6011640" y="1743120"/>
            <a:ext cx="26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向着</a:t>
            </a:r>
            <a:r>
              <a:rPr b="0" lang="zh-CN" sz="96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太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3" descr=""/>
          <p:cNvPicPr/>
          <p:nvPr/>
        </p:nvPicPr>
        <p:blipFill>
          <a:blip r:embed="rId1"/>
          <a:srcRect l="0" t="3893" r="0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5"/>
          <p:cNvSpPr/>
          <p:nvPr/>
        </p:nvSpPr>
        <p:spPr>
          <a:xfrm>
            <a:off x="5459040" y="9730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职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4773960" y="2220840"/>
            <a:ext cx="26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  </a:t>
            </a:r>
            <a:r>
              <a:rPr b="1" lang="en-US" sz="3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TUAN D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2" descr=""/>
          <p:cNvPicPr/>
          <p:nvPr/>
        </p:nvPicPr>
        <p:blipFill>
          <a:blip r:embed="rId1"/>
          <a:srcRect l="0" t="3111" r="0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3"/>
          <p:cNvSpPr/>
          <p:nvPr/>
        </p:nvSpPr>
        <p:spPr>
          <a:xfrm>
            <a:off x="1112400" y="522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危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728280" y="1768320"/>
            <a:ext cx="19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  </a:t>
            </a:r>
            <a:r>
              <a:rPr b="1" lang="en-US" sz="3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WEI   J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3264120" y="1176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0" t="2338" r="0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"/>
          <p:cNvSpPr/>
          <p:nvPr/>
        </p:nvSpPr>
        <p:spPr>
          <a:xfrm>
            <a:off x="4131000" y="42084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团队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3445920" y="1666800"/>
            <a:ext cx="26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  </a:t>
            </a:r>
            <a:r>
              <a:rPr b="1" lang="en-US" sz="3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TUAN D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"/>
          <p:cNvPicPr/>
          <p:nvPr/>
        </p:nvPicPr>
        <p:blipFill>
          <a:blip r:embed="rId1"/>
          <a:srcRect l="0" t="3738" r="0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4"/>
          <p:cNvSpPr/>
          <p:nvPr/>
        </p:nvSpPr>
        <p:spPr>
          <a:xfrm>
            <a:off x="1097280" y="330984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责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5"/>
          <p:cNvSpPr/>
          <p:nvPr/>
        </p:nvSpPr>
        <p:spPr>
          <a:xfrm>
            <a:off x="925200" y="455616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ZE  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3246120" y="4032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意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" descr=""/>
          <p:cNvPicPr/>
          <p:nvPr/>
        </p:nvPicPr>
        <p:blipFill>
          <a:blip r:embed="rId1"/>
          <a:srcRect l="0" t="3111" r="0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rcRect l="0" t="3421" r="0" b="0"/>
          <a:stretch/>
        </p:blipFill>
        <p:spPr>
          <a:xfrm>
            <a:off x="0" y="0"/>
            <a:ext cx="99298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2"/>
          <p:cNvSpPr/>
          <p:nvPr/>
        </p:nvSpPr>
        <p:spPr>
          <a:xfrm>
            <a:off x="6928920" y="5079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优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4"/>
          <p:cNvSpPr/>
          <p:nvPr/>
        </p:nvSpPr>
        <p:spPr>
          <a:xfrm>
            <a:off x="6657120" y="17542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YOU SH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本框 5"/>
          <p:cNvSpPr/>
          <p:nvPr/>
        </p:nvSpPr>
        <p:spPr>
          <a:xfrm>
            <a:off x="5862960" y="1373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个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rcRect l="0" t="3940" r="0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"/>
          <p:cNvSpPr/>
          <p:nvPr/>
        </p:nvSpPr>
        <p:spPr>
          <a:xfrm>
            <a:off x="4131000" y="20559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认可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3877560" y="3282840"/>
            <a:ext cx="209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REN  K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rcRect l="9670" t="3111" r="0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2"/>
          <p:cNvSpPr/>
          <p:nvPr/>
        </p:nvSpPr>
        <p:spPr>
          <a:xfrm>
            <a:off x="7186320" y="29671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激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788880" y="4183200"/>
            <a:ext cx="24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  </a:t>
            </a:r>
            <a:r>
              <a:rPr b="1" lang="en-US" sz="40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JI  Q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5634000" y="3659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饱满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" descr=""/>
          <p:cNvPicPr/>
          <p:nvPr/>
        </p:nvPicPr>
        <p:blipFill>
          <a:blip r:embed="rId1"/>
          <a:srcRect l="0" t="3731" r="0" b="0"/>
          <a:stretch/>
        </p:blipFill>
        <p:spPr>
          <a:xfrm>
            <a:off x="0" y="0"/>
            <a:ext cx="990612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3"/>
          <p:cNvSpPr/>
          <p:nvPr/>
        </p:nvSpPr>
        <p:spPr>
          <a:xfrm>
            <a:off x="4131000" y="4269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交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3796920" y="1652760"/>
            <a:ext cx="230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JIAO LI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5"/>
          <p:cNvSpPr/>
          <p:nvPr/>
        </p:nvSpPr>
        <p:spPr>
          <a:xfrm>
            <a:off x="2851200" y="110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良好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rcRect l="0" t="3181" r="0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2"/>
          <p:cNvSpPr/>
          <p:nvPr/>
        </p:nvSpPr>
        <p:spPr>
          <a:xfrm>
            <a:off x="4131000" y="45417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联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3816720" y="5756400"/>
            <a:ext cx="209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LIAN X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4"/>
          <p:cNvSpPr/>
          <p:nvPr/>
        </p:nvSpPr>
        <p:spPr>
          <a:xfrm>
            <a:off x="2577960" y="5234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紧密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1"/>
          <a:srcRect l="0" t="3172" r="0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2"/>
          <p:cNvSpPr/>
          <p:nvPr/>
        </p:nvSpPr>
        <p:spPr>
          <a:xfrm>
            <a:off x="2697480" y="15048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细致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2587680" y="2720880"/>
            <a:ext cx="186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XI  ZH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1114920" y="2198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入微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rcRect l="0" t="4366" r="8223" b="0"/>
          <a:stretch/>
        </p:blipFill>
        <p:spPr>
          <a:xfrm>
            <a:off x="1719360" y="668160"/>
            <a:ext cx="8186760" cy="618984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2"/>
          <p:cNvSpPr/>
          <p:nvPr/>
        </p:nvSpPr>
        <p:spPr>
          <a:xfrm>
            <a:off x="2652120" y="242424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执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2303280" y="3639960"/>
            <a:ext cx="26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ZHI  X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4"/>
          <p:cNvSpPr/>
          <p:nvPr/>
        </p:nvSpPr>
        <p:spPr>
          <a:xfrm>
            <a:off x="1069560" y="311616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坚定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rcRect l="0" t="3740" r="0" b="0"/>
          <a:stretch/>
        </p:blipFill>
        <p:spPr>
          <a:xfrm>
            <a:off x="0" y="0"/>
            <a:ext cx="990612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2"/>
          <p:cNvSpPr/>
          <p:nvPr/>
        </p:nvSpPr>
        <p:spPr>
          <a:xfrm>
            <a:off x="1078920" y="39204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工作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4"/>
          <p:cNvSpPr/>
          <p:nvPr/>
        </p:nvSpPr>
        <p:spPr>
          <a:xfrm>
            <a:off x="699480" y="163836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GONG ZU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5"/>
          <p:cNvSpPr/>
          <p:nvPr/>
        </p:nvSpPr>
        <p:spPr>
          <a:xfrm>
            <a:off x="3264120" y="1176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方正大标宋简体"/>
                <a:ea typeface="方正大标宋简体"/>
              </a:rPr>
              <a:t>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5:16:26Z</dcterms:created>
  <dc:creator>阿尔兰斯</dc:creator>
  <dc:description/>
  <dc:language>en-US</dc:language>
  <cp:lastModifiedBy>Windows 用户</cp:lastModifiedBy>
  <dcterms:modified xsi:type="dcterms:W3CDTF">2015-09-15T08:56:08Z</dcterms:modified>
  <cp:revision>35</cp:revision>
  <dc:subject/>
  <dc:title>PowerPoint 演示文稿</dc:title>
</cp:coreProperties>
</file>