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916F7-98E4-4865-963C-7E337C06A96A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4360" y="434196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4360" y="434196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4360" y="434196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驷马难追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释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一句话说出了口，就是套上四匹马拉的车也难追上。指话说出口，就不能再收回，一定要算数。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出处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论语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颜渊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“夫子之说君子也，驷不及舌。”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邓析子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转辞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“一言而非，驷马不能追；一言而急，驷马不能及。”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8BB2-7535-434C-9B47-986688E7A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F7D7-93FD-44F0-BC10-131CDF382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2487-B67D-4657-AB53-1E7B72CF6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9530-4F84-4F75-8B2D-1C8443465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61CB1A-8C50-4747-819A-FCB5DD192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B74266-9037-4496-B4D3-87BD830F3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9B8A9E-0541-4AF9-B1F4-19E76473B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46E8E8-0067-4709-9D35-52FCF71EC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C27B63-F0A6-410F-9600-3F39D535D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806650-5A01-4D5E-84D1-2F7E76CDF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006574-F6DE-4632-89E4-2DEC32E97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C7AA-3E26-4B89-98E7-88D8C5461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70F346-2A08-42A6-9AE6-A998C8AE8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C6502A-2341-42C5-BEBF-3E5F58D3C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6BEF0B-D7DD-4F1A-9778-16C806AB7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4C33F3-D655-496E-8832-9ECA4CBDB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D8E7A1-3CFA-4373-BB01-F27E27827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8C96DB-AF65-4CFD-85A3-A3045D2FA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4D1F51-4899-428C-99E7-2E1C19B94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3EF248-26F0-4AC6-9972-F9C0FDE58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EFF3DF-D814-4CA1-9375-8087B3562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2242BD-76BA-41A2-9167-974868F74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2B43-E394-4A47-ACEB-3524F1F62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7327E2-4412-4FF8-AF00-947E69DD8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852CA6-3538-451F-B59E-C82188671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27F7CB-0AD4-40BE-8462-0EC81079D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BB898E-7577-455D-971B-A115E7334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DDCCAA-390D-44AC-AB88-661190629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D657E1-CC6F-4D6D-B10D-03EAAC0B7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73BDD1-3379-4D52-891A-D428E5463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2F34C7-3AA7-4641-92EA-5D5F1F698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813B8A-1133-432D-9DF1-EC974FAAF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2EF729-17B4-4E47-AB34-CD17FC46D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9C7D-C765-45B5-BD7A-EC391BCBB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57876E-DBC5-4373-A7A8-837629826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598A2B-FDB2-4607-BDFE-93CE8F41D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AFA4CD-E2A4-4F6E-A1DA-DE0D44E9C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4D2DBF-41BB-4D5C-8D31-9288BBBCA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883513-1C75-473F-890A-FA0495E48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159FD2-CF62-4432-8885-93EBC6C5B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6AD286-B017-42F5-B748-EB764C5A5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400718-CE78-44E3-A46E-E7B548E89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1C00E4-2ABD-44AD-900E-85EC0216E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4E1F-44E2-4AC3-8710-833C97AD7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8DC2-8B6F-425C-990F-87E8F89DC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4B39-9098-4FAC-BE3E-1FB0792F8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755A-FCD0-4051-8B21-FF11C198A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DBC5-1A37-4678-A4FD-6D7099FFE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Tahoma"/>
              <a:buChar char="v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Tahoma"/>
              <a:buChar char="v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Tahoma"/>
              <a:buChar char="v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C9049-63B9-4C2F-9F7F-F64436A79F7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未知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5F003-012E-491D-BC0A-934FCE127FF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-79200" y="-92880"/>
            <a:ext cx="2764800" cy="6949440"/>
            <a:chOff x="-79200" y="-92880"/>
            <a:chExt cx="2764800" cy="6949440"/>
          </a:xfrm>
        </p:grpSpPr>
        <p:sp>
          <p:nvSpPr>
            <p:cNvPr id="83" name="未知"/>
            <p:cNvSpPr/>
            <p:nvPr/>
          </p:nvSpPr>
          <p:spPr>
            <a:xfrm>
              <a:off x="0" y="5178600"/>
              <a:ext cx="74700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4" name=""/>
            <p:cNvGrpSpPr/>
            <p:nvPr/>
          </p:nvGrpSpPr>
          <p:grpSpPr>
            <a:xfrm>
              <a:off x="74880" y="3922200"/>
              <a:ext cx="887400" cy="720000"/>
              <a:chOff x="74880" y="3922200"/>
              <a:chExt cx="887400" cy="720000"/>
            </a:xfrm>
          </p:grpSpPr>
          <p:sp>
            <p:nvSpPr>
              <p:cNvPr id="85" name="未知"/>
              <p:cNvSpPr/>
              <p:nvPr/>
            </p:nvSpPr>
            <p:spPr>
              <a:xfrm flipH="1" rot="14965200">
                <a:off x="123840" y="3943440"/>
                <a:ext cx="228240" cy="263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未知"/>
              <p:cNvSpPr/>
              <p:nvPr/>
            </p:nvSpPr>
            <p:spPr>
              <a:xfrm flipH="1" rot="14965200">
                <a:off x="283320" y="4311360"/>
                <a:ext cx="389160" cy="2199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未知"/>
              <p:cNvSpPr/>
              <p:nvPr/>
            </p:nvSpPr>
            <p:spPr>
              <a:xfrm flipH="1" rot="14965200">
                <a:off x="635760" y="4155480"/>
                <a:ext cx="40572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8" name="未知"/>
            <p:cNvSpPr/>
            <p:nvPr/>
          </p:nvSpPr>
          <p:spPr>
            <a:xfrm>
              <a:off x="150120" y="2755800"/>
              <a:ext cx="112392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9" name=""/>
            <p:cNvGrpSpPr/>
            <p:nvPr/>
          </p:nvGrpSpPr>
          <p:grpSpPr>
            <a:xfrm>
              <a:off x="6120" y="2601720"/>
              <a:ext cx="2679480" cy="3116520"/>
              <a:chOff x="6120" y="2601720"/>
              <a:chExt cx="2679480" cy="3116520"/>
            </a:xfrm>
          </p:grpSpPr>
          <p:sp>
            <p:nvSpPr>
              <p:cNvPr id="90" name="未知"/>
              <p:cNvSpPr/>
              <p:nvPr/>
            </p:nvSpPr>
            <p:spPr>
              <a:xfrm flipH="1" rot="789600">
                <a:off x="393120" y="2698920"/>
                <a:ext cx="972720" cy="100476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未知"/>
              <p:cNvSpPr/>
              <p:nvPr/>
            </p:nvSpPr>
            <p:spPr>
              <a:xfrm flipH="1" rot="789600">
                <a:off x="111240" y="2842560"/>
                <a:ext cx="81360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未知"/>
              <p:cNvSpPr/>
              <p:nvPr/>
            </p:nvSpPr>
            <p:spPr>
              <a:xfrm flipH="1" rot="789600">
                <a:off x="364320" y="3052800"/>
                <a:ext cx="28872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未知"/>
              <p:cNvSpPr/>
              <p:nvPr/>
            </p:nvSpPr>
            <p:spPr>
              <a:xfrm flipH="1" rot="789600">
                <a:off x="888120" y="3792600"/>
                <a:ext cx="26388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未知"/>
              <p:cNvSpPr/>
              <p:nvPr/>
            </p:nvSpPr>
            <p:spPr>
              <a:xfrm flipH="1" rot="789600">
                <a:off x="813600" y="3854880"/>
                <a:ext cx="64800" cy="18180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95" name=""/>
              <p:cNvGrpSpPr/>
              <p:nvPr/>
            </p:nvGrpSpPr>
            <p:grpSpPr>
              <a:xfrm>
                <a:off x="856800" y="4056480"/>
                <a:ext cx="1828800" cy="1661760"/>
                <a:chOff x="856800" y="4056480"/>
                <a:chExt cx="1828800" cy="1661760"/>
              </a:xfrm>
            </p:grpSpPr>
            <p:sp>
              <p:nvSpPr>
                <p:cNvPr id="96" name="未知"/>
                <p:cNvSpPr/>
                <p:nvPr/>
              </p:nvSpPr>
              <p:spPr>
                <a:xfrm flipH="1" rot="7102800">
                  <a:off x="1265040" y="3946680"/>
                  <a:ext cx="473760" cy="121176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" name="未知"/>
                <p:cNvSpPr/>
                <p:nvPr/>
              </p:nvSpPr>
              <p:spPr>
                <a:xfrm flipH="1" rot="7102800">
                  <a:off x="2328480" y="4973040"/>
                  <a:ext cx="109800" cy="4971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" name="未知"/>
                <p:cNvSpPr/>
                <p:nvPr/>
              </p:nvSpPr>
              <p:spPr>
                <a:xfrm flipH="1" rot="7102800">
                  <a:off x="2502360" y="5569560"/>
                  <a:ext cx="198360" cy="8316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9" name=""/>
            <p:cNvGrpSpPr/>
            <p:nvPr/>
          </p:nvGrpSpPr>
          <p:grpSpPr>
            <a:xfrm>
              <a:off x="473760" y="6173640"/>
              <a:ext cx="788400" cy="634680"/>
              <a:chOff x="473760" y="6173640"/>
              <a:chExt cx="788400" cy="634680"/>
            </a:xfrm>
          </p:grpSpPr>
          <p:sp>
            <p:nvSpPr>
              <p:cNvPr id="100" name="未知"/>
              <p:cNvSpPr/>
              <p:nvPr/>
            </p:nvSpPr>
            <p:spPr>
              <a:xfrm rot="6248400">
                <a:off x="1017000" y="6174360"/>
                <a:ext cx="197640" cy="251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未知"/>
              <p:cNvSpPr/>
              <p:nvPr/>
            </p:nvSpPr>
            <p:spPr>
              <a:xfrm rot="6248400">
                <a:off x="765360" y="6513840"/>
                <a:ext cx="33732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未知"/>
              <p:cNvSpPr/>
              <p:nvPr/>
            </p:nvSpPr>
            <p:spPr>
              <a:xfrm rot="6248400">
                <a:off x="392400" y="6410880"/>
                <a:ext cx="35136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324360" y="1775880"/>
              <a:ext cx="782640" cy="693360"/>
              <a:chOff x="324360" y="1775880"/>
              <a:chExt cx="782640" cy="693360"/>
            </a:xfrm>
          </p:grpSpPr>
          <p:sp>
            <p:nvSpPr>
              <p:cNvPr id="104" name="未知"/>
              <p:cNvSpPr/>
              <p:nvPr/>
            </p:nvSpPr>
            <p:spPr>
              <a:xfrm rot="5002800">
                <a:off x="843840" y="1747440"/>
                <a:ext cx="207360" cy="297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未知"/>
              <p:cNvSpPr/>
              <p:nvPr/>
            </p:nvSpPr>
            <p:spPr>
              <a:xfrm rot="5002800">
                <a:off x="698040" y="2154600"/>
                <a:ext cx="354600" cy="2476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未知"/>
              <p:cNvSpPr/>
              <p:nvPr/>
            </p:nvSpPr>
            <p:spPr>
              <a:xfrm rot="5002800">
                <a:off x="223200" y="2206080"/>
                <a:ext cx="369360" cy="125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1297800" y="0"/>
              <a:ext cx="544680" cy="581400"/>
              <a:chOff x="1297800" y="0"/>
              <a:chExt cx="544680" cy="581400"/>
            </a:xfrm>
          </p:grpSpPr>
          <p:sp>
            <p:nvSpPr>
              <p:cNvPr id="108" name="未知"/>
              <p:cNvSpPr/>
              <p:nvPr/>
            </p:nvSpPr>
            <p:spPr>
              <a:xfrm>
                <a:off x="129780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未知"/>
              <p:cNvSpPr/>
              <p:nvPr/>
            </p:nvSpPr>
            <p:spPr>
              <a:xfrm>
                <a:off x="1546560" y="103320"/>
                <a:ext cx="295920" cy="1821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未知"/>
              <p:cNvSpPr/>
              <p:nvPr/>
            </p:nvSpPr>
            <p:spPr>
              <a:xfrm>
                <a:off x="1487160" y="489240"/>
                <a:ext cx="3081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1" name="未知"/>
            <p:cNvSpPr/>
            <p:nvPr/>
          </p:nvSpPr>
          <p:spPr>
            <a:xfrm>
              <a:off x="145440" y="149400"/>
              <a:ext cx="110628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未知"/>
            <p:cNvSpPr/>
            <p:nvPr/>
          </p:nvSpPr>
          <p:spPr>
            <a:xfrm rot="828600">
              <a:off x="390240" y="5403600"/>
              <a:ext cx="20880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未知"/>
            <p:cNvSpPr/>
            <p:nvPr/>
          </p:nvSpPr>
          <p:spPr>
            <a:xfrm rot="828600">
              <a:off x="428760" y="5702040"/>
              <a:ext cx="10440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未知"/>
            <p:cNvSpPr/>
            <p:nvPr/>
          </p:nvSpPr>
          <p:spPr>
            <a:xfrm>
              <a:off x="25200" y="6524640"/>
              <a:ext cx="18648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未知"/>
            <p:cNvSpPr/>
            <p:nvPr/>
          </p:nvSpPr>
          <p:spPr>
            <a:xfrm>
              <a:off x="7560" y="6299280"/>
              <a:ext cx="20556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未知"/>
            <p:cNvSpPr/>
            <p:nvPr/>
          </p:nvSpPr>
          <p:spPr>
            <a:xfrm>
              <a:off x="7560" y="6269040"/>
              <a:ext cx="7416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未知"/>
            <p:cNvSpPr/>
            <p:nvPr/>
          </p:nvSpPr>
          <p:spPr>
            <a:xfrm>
              <a:off x="7560" y="5141880"/>
              <a:ext cx="78660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未知"/>
            <p:cNvSpPr/>
            <p:nvPr/>
          </p:nvSpPr>
          <p:spPr>
            <a:xfrm rot="1584000">
              <a:off x="39240" y="650520"/>
              <a:ext cx="5443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未知"/>
            <p:cNvSpPr/>
            <p:nvPr/>
          </p:nvSpPr>
          <p:spPr>
            <a:xfrm rot="1584000">
              <a:off x="390600" y="1199880"/>
              <a:ext cx="26424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未知"/>
            <p:cNvSpPr/>
            <p:nvPr/>
          </p:nvSpPr>
          <p:spPr>
            <a:xfrm rot="1584000">
              <a:off x="916200" y="453600"/>
              <a:ext cx="23256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未知"/>
            <p:cNvSpPr/>
            <p:nvPr/>
          </p:nvSpPr>
          <p:spPr>
            <a:xfrm rot="1584000">
              <a:off x="381240" y="1144440"/>
              <a:ext cx="9792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未知"/>
            <p:cNvSpPr/>
            <p:nvPr/>
          </p:nvSpPr>
          <p:spPr>
            <a:xfrm rot="1584000">
              <a:off x="933480" y="739440"/>
              <a:ext cx="11376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未知"/>
            <p:cNvSpPr/>
            <p:nvPr/>
          </p:nvSpPr>
          <p:spPr>
            <a:xfrm>
              <a:off x="7560" y="1406520"/>
              <a:ext cx="5698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未知"/>
            <p:cNvSpPr/>
            <p:nvPr/>
          </p:nvSpPr>
          <p:spPr>
            <a:xfrm rot="1584000">
              <a:off x="96480" y="133200"/>
              <a:ext cx="12726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17915-4B63-4E45-837C-1C5BA675F33B}" type="slidenum">
              <a:rPr b="0" lang="zh-CN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167" name=""/>
            <p:cNvGrpSpPr/>
            <p:nvPr/>
          </p:nvGrpSpPr>
          <p:grpSpPr>
            <a:xfrm>
              <a:off x="5407200" y="63360"/>
              <a:ext cx="3624480" cy="6129000"/>
              <a:chOff x="5407200" y="63360"/>
              <a:chExt cx="3624480" cy="6129000"/>
            </a:xfrm>
          </p:grpSpPr>
          <p:sp>
            <p:nvSpPr>
              <p:cNvPr id="168" name="未知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未知"/>
              <p:cNvSpPr/>
              <p:nvPr/>
            </p:nvSpPr>
            <p:spPr>
              <a:xfrm flipV="1" rot="11970000">
                <a:off x="7422120" y="1961280"/>
                <a:ext cx="906120" cy="84276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未知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未知"/>
              <p:cNvSpPr/>
              <p:nvPr/>
            </p:nvSpPr>
            <p:spPr>
              <a:xfrm flipV="1" rot="11970000">
                <a:off x="7252560" y="675720"/>
                <a:ext cx="388800" cy="55116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未知"/>
              <p:cNvSpPr/>
              <p:nvPr/>
            </p:nvSpPr>
            <p:spPr>
              <a:xfrm flipV="1" rot="11970000">
                <a:off x="7155720" y="2644560"/>
                <a:ext cx="16344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未知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未知"/>
              <p:cNvSpPr/>
              <p:nvPr/>
            </p:nvSpPr>
            <p:spPr>
              <a:xfrm flipV="1" rot="11970000">
                <a:off x="5937840" y="2930040"/>
                <a:ext cx="523800" cy="326844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75" name="未知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未知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未知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未知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未知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未知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4124520" y="1023480"/>
              <a:ext cx="1017360" cy="1261800"/>
              <a:chOff x="4124520" y="1023480"/>
              <a:chExt cx="1017360" cy="1261800"/>
            </a:xfrm>
          </p:grpSpPr>
          <p:sp>
            <p:nvSpPr>
              <p:cNvPr id="182" name="未知"/>
              <p:cNvSpPr/>
              <p:nvPr/>
            </p:nvSpPr>
            <p:spPr>
              <a:xfrm rot="3220200">
                <a:off x="4540680" y="1061640"/>
                <a:ext cx="28692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未知"/>
              <p:cNvSpPr/>
              <p:nvPr/>
            </p:nvSpPr>
            <p:spPr>
              <a:xfrm rot="3220200">
                <a:off x="4624200" y="1594080"/>
                <a:ext cx="489600" cy="316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未知"/>
              <p:cNvSpPr/>
              <p:nvPr/>
            </p:nvSpPr>
            <p:spPr>
              <a:xfrm rot="3220200">
                <a:off x="4084920" y="1951560"/>
                <a:ext cx="51012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5628960" y="282960"/>
              <a:ext cx="889200" cy="832320"/>
              <a:chOff x="5628960" y="282960"/>
              <a:chExt cx="889200" cy="832320"/>
            </a:xfrm>
          </p:grpSpPr>
          <p:sp>
            <p:nvSpPr>
              <p:cNvPr id="186" name="未知"/>
              <p:cNvSpPr/>
              <p:nvPr/>
            </p:nvSpPr>
            <p:spPr>
              <a:xfrm rot="14908200">
                <a:off x="5740200" y="784800"/>
                <a:ext cx="17928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未知"/>
              <p:cNvSpPr/>
              <p:nvPr/>
            </p:nvSpPr>
            <p:spPr>
              <a:xfrm rot="14908200">
                <a:off x="5690160" y="464040"/>
                <a:ext cx="306360" cy="3016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未知"/>
              <p:cNvSpPr/>
              <p:nvPr/>
            </p:nvSpPr>
            <p:spPr>
              <a:xfrm rot="14908200">
                <a:off x="6229080" y="382680"/>
                <a:ext cx="318960" cy="153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9" name=""/>
            <p:cNvGrpSpPr/>
            <p:nvPr/>
          </p:nvGrpSpPr>
          <p:grpSpPr>
            <a:xfrm>
              <a:off x="955080" y="5282280"/>
              <a:ext cx="1061280" cy="834480"/>
              <a:chOff x="955080" y="5282280"/>
              <a:chExt cx="1061280" cy="834480"/>
            </a:xfrm>
          </p:grpSpPr>
          <p:sp>
            <p:nvSpPr>
              <p:cNvPr id="190" name="未知"/>
              <p:cNvSpPr/>
              <p:nvPr/>
            </p:nvSpPr>
            <p:spPr>
              <a:xfrm rot="8524800">
                <a:off x="1698480" y="5550480"/>
                <a:ext cx="25236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未知"/>
              <p:cNvSpPr/>
              <p:nvPr/>
            </p:nvSpPr>
            <p:spPr>
              <a:xfrm rot="8524800">
                <a:off x="1180800" y="5761080"/>
                <a:ext cx="431280" cy="2494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未知"/>
              <p:cNvSpPr/>
              <p:nvPr/>
            </p:nvSpPr>
            <p:spPr>
              <a:xfrm rot="8524800">
                <a:off x="946080" y="5406840"/>
                <a:ext cx="44928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344520" y="417960"/>
              <a:ext cx="1692000" cy="1147680"/>
              <a:chOff x="344520" y="417960"/>
              <a:chExt cx="1692000" cy="1147680"/>
            </a:xfrm>
          </p:grpSpPr>
          <p:sp>
            <p:nvSpPr>
              <p:cNvPr id="194" name="未知"/>
              <p:cNvSpPr/>
              <p:nvPr/>
            </p:nvSpPr>
            <p:spPr>
              <a:xfrm flipH="1" rot="4107000">
                <a:off x="1545480" y="1036440"/>
                <a:ext cx="35712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未知"/>
              <p:cNvSpPr/>
              <p:nvPr/>
            </p:nvSpPr>
            <p:spPr>
              <a:xfrm flipH="1" rot="4107000">
                <a:off x="990720" y="561600"/>
                <a:ext cx="610560" cy="4431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未知"/>
              <p:cNvSpPr/>
              <p:nvPr/>
            </p:nvSpPr>
            <p:spPr>
              <a:xfrm flipH="1" rot="4107000">
                <a:off x="247320" y="1076760"/>
                <a:ext cx="63612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7" name=""/>
            <p:cNvGrpSpPr/>
            <p:nvPr/>
          </p:nvGrpSpPr>
          <p:grpSpPr>
            <a:xfrm>
              <a:off x="7396560" y="3696840"/>
              <a:ext cx="1157760" cy="1609200"/>
              <a:chOff x="7396560" y="3696840"/>
              <a:chExt cx="1157760" cy="1609200"/>
            </a:xfrm>
          </p:grpSpPr>
          <p:sp>
            <p:nvSpPr>
              <p:cNvPr id="198" name="未知"/>
              <p:cNvSpPr/>
              <p:nvPr/>
            </p:nvSpPr>
            <p:spPr>
              <a:xfrm flipH="1" rot="10015800">
                <a:off x="7451640" y="4741200"/>
                <a:ext cx="35712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未知"/>
              <p:cNvSpPr/>
              <p:nvPr/>
            </p:nvSpPr>
            <p:spPr>
              <a:xfrm flipH="1" rot="10015800">
                <a:off x="7901640" y="4438440"/>
                <a:ext cx="610200" cy="4431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未知"/>
              <p:cNvSpPr/>
              <p:nvPr/>
            </p:nvSpPr>
            <p:spPr>
              <a:xfrm flipH="1" rot="10015800">
                <a:off x="7594560" y="3765600"/>
                <a:ext cx="63576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01" name="未知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未知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未知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未知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未知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未知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未知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8" name="PlaceHolder 1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B166B-75E7-4F55-851E-E3C1FC31E124}" type="slidenum">
              <a:rPr b="0" lang="zh-CN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49%20&#26366;&#23376;&#26432;&#29482;_&#39640;&#28165;.mp4" TargetMode="External"/><Relationship Id="rId2" Type="http://schemas.openxmlformats.org/officeDocument/2006/relationships/hyperlink" Target="file:///49%20&#26366;&#23376;&#26432;&#29482;_&#39640;&#28165;.mp4" TargetMode="External"/><Relationship Id="rId3" Type="http://schemas.openxmlformats.org/officeDocument/2006/relationships/hyperlink" Target="file:///49%20&#26366;&#23376;&#26432;&#29482;_&#39640;&#28165;.mp4" TargetMode="External"/><Relationship Id="rId4" Type="http://schemas.openxmlformats.org/officeDocument/2006/relationships/hyperlink" Target="file:///49%20&#26366;&#23376;&#26432;&#29482;_&#39640;&#28165;.mp4" TargetMode="External"/><Relationship Id="rId5" Type="http://schemas.openxmlformats.org/officeDocument/2006/relationships/hyperlink" Target="file:///49%20&#26366;&#23376;&#26432;&#29482;_&#39640;&#28165;.mp4" TargetMode="External"/><Relationship Id="rId6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file:///&#23567;&#21697;.MP4" TargetMode="External"/><Relationship Id="rId3" Type="http://schemas.openxmlformats.org/officeDocument/2006/relationships/hyperlink" Target="file:///&#23567;&#21697;.MP4" TargetMode="External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hyperlink" Target="file:///../../cf/Desktop/1&#20522;&#65306;&#35802;&#20449;/&#19969;&#26195;&#32418;%20-%20&#35802;&#20449;&#20013;&#22269;.mp3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file:///&#28201;&#24030;&#20048;&#28165;&#35686;&#26041;&#30772;&#33719;&#26032;&#22411;&#22320;&#27807;&#27833;&#20840;&#22269;&#22823;&#26696;%20120409%20&#26032;&#38395;&#28145;&#19968;&#24230;_&#26631;&#28165;.flv" TargetMode="External"/><Relationship Id="rId3" Type="http://schemas.openxmlformats.org/officeDocument/2006/relationships/hyperlink" Target="file:///&#28201;&#24030;&#20048;&#28165;&#35686;&#26041;&#30772;&#33719;&#26032;&#22411;&#22320;&#27807;&#27833;&#20840;&#22269;&#22823;&#26696;%20120409%20&#26032;&#38395;&#28145;&#19968;&#24230;_&#26631;&#28165;.flv" TargetMode="External"/><Relationship Id="rId4" Type="http://schemas.openxmlformats.org/officeDocument/2006/relationships/hyperlink" Target="file:///&#28201;&#24030;&#20048;&#28165;&#35686;&#26041;&#30772;&#33719;&#26032;&#22411;&#22320;&#27807;&#27833;&#20840;&#22269;&#22823;&#26696;%20120409%20&#26032;&#38395;&#28145;&#19968;&#24230;_&#26631;&#28165;.flv" TargetMode="External"/><Relationship Id="rId5" Type="http://schemas.openxmlformats.org/officeDocument/2006/relationships/hyperlink" Target="file:///&#28201;&#24030;&#20048;&#28165;&#35686;&#26041;&#30772;&#33719;&#26032;&#22411;&#22320;&#27807;&#27833;&#20840;&#22269;&#22823;&#26696;%20120409%20&#26032;&#38395;&#28145;&#19968;&#24230;_&#26631;&#28165;.flv" TargetMode="External"/><Relationship Id="rId6" Type="http://schemas.openxmlformats.org/officeDocument/2006/relationships/hyperlink" Target="file:///&#28201;&#24030;&#20048;&#28165;&#35686;&#26041;&#30772;&#33719;&#26032;&#22411;&#22320;&#27807;&#27833;&#20840;&#22269;&#22823;&#26696;%20120409%20&#26032;&#38395;&#28145;&#19968;&#24230;_&#26631;&#28165;.flv" TargetMode="External"/><Relationship Id="rId7" Type="http://schemas.openxmlformats.org/officeDocument/2006/relationships/hyperlink" Target="file:///&#28201;&#24030;&#20048;&#28165;&#35686;&#26041;&#30772;&#33719;&#26032;&#22411;&#22320;&#27807;&#27833;&#20840;&#22269;&#22823;&#26696;%20120409%20&#26032;&#38395;&#28145;&#19968;&#24230;_&#26631;&#28165;.flv" TargetMode="External"/><Relationship Id="rId8" Type="http://schemas.openxmlformats.org/officeDocument/2006/relationships/hyperlink" Target="file:///&#28201;&#24030;&#20048;&#28165;&#35686;&#26041;&#30772;&#33719;&#26032;&#22411;&#22320;&#27807;&#27833;&#20840;&#22269;&#22823;&#26696;%20120409%20&#26032;&#38395;&#28145;&#19968;&#24230;_&#26631;&#28165;.flv" TargetMode="External"/><Relationship Id="rId9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4360" y="765000"/>
            <a:ext cx="7778520" cy="32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99"/>
                </a:solidFill>
                <a:latin typeface="幼圆"/>
                <a:ea typeface="幼圆"/>
              </a:rPr>
              <a:t>《曾子杀彘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99"/>
                </a:solidFill>
                <a:latin typeface="幼圆"/>
                <a:ea typeface="幼圆"/>
              </a:rPr>
              <a:t>    </a:t>
            </a:r>
            <a:r>
              <a:rPr b="1" lang="zh-CN" sz="2800" spc="-1" strike="noStrike">
                <a:solidFill>
                  <a:srgbClr val="006699"/>
                </a:solidFill>
                <a:latin typeface="幼圆"/>
                <a:ea typeface="幼圆"/>
              </a:rPr>
              <a:t>曾子之妻之市，其子随之而泣。其母曰：“女还，顾反为女杀彘。”妻适市来，曾子欲捕彘杀之。妻止之曰：“特与婴儿戏耳。”曾子曰：“婴儿非与戏也。婴儿非有智也，待父母而学者也，听父母之教。今子欺之，是教子欺也。母欺子，子而不信其母，非所以成教也。”遂烹彘也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99ff"/>
                </a:solidFill>
                <a:uFillTx/>
                <a:latin typeface="幼圆"/>
                <a:ea typeface="幼圆"/>
                <a:hlinkClick r:id="rId1"/>
              </a:rPr>
              <a:t>49 </a:t>
            </a:r>
            <a:r>
              <a:rPr b="0" lang="zh-CN" sz="2800" spc="-1" strike="noStrike" u="sng">
                <a:solidFill>
                  <a:srgbClr val="cc99ff"/>
                </a:solidFill>
                <a:uFillTx/>
                <a:latin typeface="幼圆"/>
                <a:ea typeface="幼圆"/>
                <a:hlinkClick r:id="rId2"/>
              </a:rPr>
              <a:t>曾子杀猪</a:t>
            </a:r>
            <a:r>
              <a:rPr b="0" lang="en-US" sz="2800" spc="-1" strike="noStrike" u="sng">
                <a:solidFill>
                  <a:srgbClr val="cc99ff"/>
                </a:solidFill>
                <a:uFillTx/>
                <a:latin typeface="幼圆"/>
                <a:ea typeface="幼圆"/>
                <a:hlinkClick r:id="rId3"/>
              </a:rPr>
              <a:t>_</a:t>
            </a:r>
            <a:r>
              <a:rPr b="0" lang="zh-CN" sz="2800" spc="-1" strike="noStrike" u="sng">
                <a:solidFill>
                  <a:srgbClr val="cc99ff"/>
                </a:solidFill>
                <a:uFillTx/>
                <a:latin typeface="幼圆"/>
                <a:ea typeface="幼圆"/>
                <a:hlinkClick r:id="rId4"/>
              </a:rPr>
              <a:t>高清</a:t>
            </a:r>
            <a:r>
              <a:rPr b="0" lang="en-US" sz="2800" spc="-1" strike="noStrike" u="sng">
                <a:solidFill>
                  <a:srgbClr val="cc99ff"/>
                </a:solidFill>
                <a:uFillTx/>
                <a:latin typeface="幼圆"/>
                <a:ea typeface="幼圆"/>
                <a:hlinkClick r:id="rId5"/>
              </a:rPr>
              <a:t>.mp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442400" y="320040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442400" y="320040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279360" y="189000"/>
            <a:ext cx="1916280" cy="21603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292" name=""/>
          <p:cNvSpPr/>
          <p:nvPr/>
        </p:nvSpPr>
        <p:spPr>
          <a:xfrm>
            <a:off x="2411280" y="964800"/>
            <a:ext cx="6518520" cy="581400"/>
          </a:xfrm>
          <a:prstGeom prst="rect">
            <a:avLst/>
          </a:pr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王健是老师最信任的一班之长，一天，老师找王健了解陈林的情况，因为陈林最近行为反常，上课神情恍惚，成绩直线下降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250920" y="5013360"/>
            <a:ext cx="8569080" cy="1440000"/>
            <a:chOff x="250920" y="5013360"/>
            <a:chExt cx="8569080" cy="1440000"/>
          </a:xfrm>
        </p:grpSpPr>
        <p:sp>
          <p:nvSpPr>
            <p:cNvPr id="294" name=""/>
            <p:cNvSpPr/>
            <p:nvPr/>
          </p:nvSpPr>
          <p:spPr>
            <a:xfrm>
              <a:off x="250920" y="5013360"/>
              <a:ext cx="8569080" cy="1440000"/>
            </a:xfrm>
            <a:prstGeom prst="roundRect">
              <a:avLst>
                <a:gd name="adj" fmla="val 16667"/>
              </a:avLst>
            </a:prstGeom>
            <a:solidFill>
              <a:srgbClr val="edfad2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23640" y="5054400"/>
              <a:ext cx="842436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ff0000"/>
                  </a:solidFill>
                  <a:latin typeface="Arial"/>
                  <a:ea typeface="黑体"/>
                </a:rPr>
                <a:t>王健应该告诉老师实情吗？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ff0000"/>
                  </a:solidFill>
                  <a:latin typeface="Arial"/>
                  <a:ea typeface="黑体"/>
                </a:rPr>
                <a:t>他这样做可能会有什么后果呢</a:t>
              </a:r>
              <a:r>
                <a:rPr b="1" lang="en-US" sz="3000" spc="-1" strike="noStrike">
                  <a:solidFill>
                    <a:srgbClr val="ff0000"/>
                  </a:solidFill>
                  <a:latin typeface="Arial"/>
                  <a:ea typeface="黑体"/>
                </a:rPr>
                <a:t>?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6" name=""/>
          <p:cNvSpPr/>
          <p:nvPr/>
        </p:nvSpPr>
        <p:spPr>
          <a:xfrm>
            <a:off x="252360" y="2425680"/>
            <a:ext cx="86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黑体"/>
              </a:rPr>
              <a:t>        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黑体"/>
              </a:rPr>
              <a:t>陈林是王健的好朋友，王健知道陈林最近迷恋上了网络游戏，并向陈林保证不把此事告诉任何人。面对老师的询问，王健很为难，作为班长，他有责任向老师如实反映情况，作为同窗好友，他又有义务保护同学的隐私。</a:t>
            </a:r>
            <a:r>
              <a:rPr b="1" lang="zh-CN" sz="2800" spc="-1" strike="noStrike">
                <a:solidFill>
                  <a:srgbClr val="006699"/>
                </a:solidFill>
                <a:latin typeface="Arial"/>
                <a:ea typeface="黑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4" descr="荷花"/>
          <p:cNvPicPr/>
          <p:nvPr/>
        </p:nvPicPr>
        <p:blipFill>
          <a:blip r:embed="rId1"/>
          <a:stretch/>
        </p:blipFill>
        <p:spPr>
          <a:xfrm>
            <a:off x="-461880" y="-309600"/>
            <a:ext cx="9734400" cy="7297920"/>
          </a:xfrm>
          <a:prstGeom prst="rect">
            <a:avLst/>
          </a:prstGeom>
          <a:ln w="0">
            <a:noFill/>
          </a:ln>
        </p:spPr>
      </p:pic>
      <p:sp>
        <p:nvSpPr>
          <p:cNvPr id="298" name="Text Box 6"/>
          <p:cNvSpPr/>
          <p:nvPr/>
        </p:nvSpPr>
        <p:spPr>
          <a:xfrm>
            <a:off x="3708360" y="494172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6699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374840" y="1225440"/>
            <a:ext cx="8021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7520" y="73080"/>
            <a:ext cx="5100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、“诚信”的准则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6360" y="1123920"/>
            <a:ext cx="856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）尊重客观事实，用事实说话；但有特殊情况时要灵活、妥当、正确地处理问题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6360" y="242100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）要站在多数人的利益一边考虑问题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6360" y="3284640"/>
            <a:ext cx="842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）要用发展的眼光看待问题（长远发展）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6360" y="443700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）在情与法的冲突中要站在法的一边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820600" y="5302080"/>
            <a:ext cx="164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诚信的核心是“善”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1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" descr=""/>
          <p:cNvPicPr/>
          <p:nvPr/>
        </p:nvPicPr>
        <p:blipFill>
          <a:blip r:embed="rId1"/>
          <a:srcRect l="18747" t="0" r="2030" b="0"/>
          <a:stretch/>
        </p:blipFill>
        <p:spPr>
          <a:xfrm>
            <a:off x="0" y="0"/>
            <a:ext cx="9144000" cy="689292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181080" y="117360"/>
            <a:ext cx="5111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黑体"/>
              </a:rPr>
              <a:t>三、测“诚信”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979640" y="2133720"/>
            <a:ext cx="5832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作为学生，面对考试，你诚实了吗？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" descr=""/>
          <p:cNvPicPr/>
          <p:nvPr/>
        </p:nvPicPr>
        <p:blipFill>
          <a:blip r:embed="rId1"/>
          <a:srcRect l="18747" t="0" r="2030" b="0"/>
          <a:stretch/>
        </p:blipFill>
        <p:spPr>
          <a:xfrm>
            <a:off x="0" y="0"/>
            <a:ext cx="9144000" cy="689292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1979640" y="2133720"/>
            <a:ext cx="5832360" cy="31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欣赏小品：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黑体"/>
              </a:rPr>
              <a:t>《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作弊风波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黑体"/>
              </a:rPr>
              <a:t>》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 u="sng">
                <a:solidFill>
                  <a:srgbClr val="cc99ff"/>
                </a:solidFill>
                <a:uFillTx/>
                <a:latin typeface="Arial"/>
                <a:ea typeface="黑体"/>
                <a:hlinkClick r:id="rId2"/>
              </a:rPr>
              <a:t>小品</a:t>
            </a:r>
            <a:r>
              <a:rPr b="0" lang="en-US" sz="4800" spc="-1" strike="noStrike" u="sng">
                <a:solidFill>
                  <a:srgbClr val="cc99ff"/>
                </a:solidFill>
                <a:uFillTx/>
                <a:latin typeface="Arial"/>
                <a:ea typeface="黑体"/>
                <a:hlinkClick r:id="rId3"/>
              </a:rPr>
              <a:t>.MP4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Text Box 10"/>
          <p:cNvSpPr/>
          <p:nvPr/>
        </p:nvSpPr>
        <p:spPr>
          <a:xfrm>
            <a:off x="1258920" y="138240"/>
            <a:ext cx="712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考试作弊的危害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2" name="Group 3"/>
          <p:cNvGrpSpPr/>
          <p:nvPr/>
        </p:nvGrpSpPr>
        <p:grpSpPr>
          <a:xfrm>
            <a:off x="0" y="1341360"/>
            <a:ext cx="3816000" cy="1080720"/>
            <a:chOff x="0" y="1341360"/>
            <a:chExt cx="3816000" cy="1080720"/>
          </a:xfrm>
        </p:grpSpPr>
        <p:sp>
          <p:nvSpPr>
            <p:cNvPr id="313" name="AutoShape 12"/>
            <p:cNvSpPr/>
            <p:nvPr/>
          </p:nvSpPr>
          <p:spPr>
            <a:xfrm>
              <a:off x="0" y="1507680"/>
              <a:ext cx="3816000" cy="914400"/>
            </a:xfrm>
            <a:prstGeom prst="downArrowCallout">
              <a:avLst>
                <a:gd name="adj1" fmla="val 104263"/>
                <a:gd name="adj2" fmla="val 52127"/>
                <a:gd name="adj3" fmla="val 14028"/>
                <a:gd name="adj4" fmla="val 85940"/>
              </a:avLst>
            </a:prstGeom>
            <a:gradFill rotWithShape="0">
              <a:gsLst>
                <a:gs pos="0">
                  <a:srgbClr val="edfad2"/>
                </a:gs>
                <a:gs pos="100000">
                  <a:srgbClr val="ebf7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AutoShape 13"/>
            <p:cNvSpPr/>
            <p:nvPr/>
          </p:nvSpPr>
          <p:spPr>
            <a:xfrm rot="10800000">
              <a:off x="10440" y="1341000"/>
              <a:ext cx="3805200" cy="166320"/>
            </a:xfrm>
            <a:prstGeom prst="pie">
              <a:avLst/>
            </a:prstGeom>
            <a:gradFill rotWithShape="0">
              <a:gsLst>
                <a:gs pos="0">
                  <a:srgbClr val="edfad2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5" name="WordArt 23"/>
          <p:cNvSpPr txBox="1"/>
          <p:nvPr/>
        </p:nvSpPr>
        <p:spPr>
          <a:xfrm>
            <a:off x="250920" y="1614600"/>
            <a:ext cx="3313080" cy="44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引起考生的焦虑</a:t>
            </a:r>
            <a:endParaRPr b="0" lang="en-US" sz="1800" spc="1" strike="noStrike">
              <a:ln w="19080">
                <a:solidFill>
                  <a:srgbClr val="0000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316" name="Group 13"/>
          <p:cNvGrpSpPr/>
          <p:nvPr/>
        </p:nvGrpSpPr>
        <p:grpSpPr>
          <a:xfrm>
            <a:off x="611280" y="2133360"/>
            <a:ext cx="7992000" cy="4248000"/>
            <a:chOff x="611280" y="2133360"/>
            <a:chExt cx="7992000" cy="4248000"/>
          </a:xfrm>
        </p:grpSpPr>
        <p:sp>
          <p:nvSpPr>
            <p:cNvPr id="317" name="Rectangle 25"/>
            <p:cNvSpPr/>
            <p:nvPr/>
          </p:nvSpPr>
          <p:spPr>
            <a:xfrm rot="10800000">
              <a:off x="611280" y="2557080"/>
              <a:ext cx="7992000" cy="382392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16200000"/>
            </a:gradFill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AutoShape 26"/>
            <p:cNvSpPr/>
            <p:nvPr/>
          </p:nvSpPr>
          <p:spPr>
            <a:xfrm rot="10800000">
              <a:off x="611280" y="2133000"/>
              <a:ext cx="7992000" cy="423720"/>
            </a:xfrm>
            <a:prstGeom prst="pi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>
                    <a:alpha val="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9" name="Text Box 27"/>
          <p:cNvSpPr/>
          <p:nvPr/>
        </p:nvSpPr>
        <p:spPr>
          <a:xfrm>
            <a:off x="755640" y="2844720"/>
            <a:ext cx="727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99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6699"/>
                </a:solidFill>
                <a:latin typeface="Arial"/>
              </a:rPr>
              <a:t>作弊是一种欺骗行为，作弊过程要躲过监考老师，这就必然引起考生的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紧张不安</a:t>
            </a:r>
            <a:r>
              <a:rPr b="1" lang="zh-CN" sz="3600" spc="-1" strike="noStrike">
                <a:solidFill>
                  <a:srgbClr val="006699"/>
                </a:solidFill>
                <a:latin typeface="Arial"/>
              </a:rPr>
              <a:t>，使得本来没有考试焦虑的考生可能因为这种特殊的情景与心理状态，而产生不必要的考试焦虑，影响考试作答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Text Box 37"/>
          <p:cNvSpPr/>
          <p:nvPr/>
        </p:nvSpPr>
        <p:spPr>
          <a:xfrm>
            <a:off x="6135840" y="2997360"/>
            <a:ext cx="1839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Text Box 10"/>
          <p:cNvSpPr/>
          <p:nvPr/>
        </p:nvSpPr>
        <p:spPr>
          <a:xfrm>
            <a:off x="1187280" y="138240"/>
            <a:ext cx="676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考试作弊的危害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2" name="Group 3"/>
          <p:cNvGrpSpPr/>
          <p:nvPr/>
        </p:nvGrpSpPr>
        <p:grpSpPr>
          <a:xfrm>
            <a:off x="73080" y="1123920"/>
            <a:ext cx="4211280" cy="1080720"/>
            <a:chOff x="73080" y="1123920"/>
            <a:chExt cx="4211280" cy="1080720"/>
          </a:xfrm>
        </p:grpSpPr>
        <p:sp>
          <p:nvSpPr>
            <p:cNvPr id="323" name="AutoShape 12"/>
            <p:cNvSpPr/>
            <p:nvPr/>
          </p:nvSpPr>
          <p:spPr>
            <a:xfrm>
              <a:off x="73080" y="1290240"/>
              <a:ext cx="4211280" cy="914400"/>
            </a:xfrm>
            <a:prstGeom prst="downArrowCallout">
              <a:avLst>
                <a:gd name="adj1" fmla="val 115063"/>
                <a:gd name="adj2" fmla="val 57526"/>
                <a:gd name="adj3" fmla="val 14028"/>
                <a:gd name="adj4" fmla="val 85940"/>
              </a:avLst>
            </a:prstGeom>
            <a:gradFill rotWithShape="0">
              <a:gsLst>
                <a:gs pos="0">
                  <a:srgbClr val="edfad2"/>
                </a:gs>
                <a:gs pos="100000">
                  <a:srgbClr val="ebf7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AutoShape 13"/>
            <p:cNvSpPr/>
            <p:nvPr/>
          </p:nvSpPr>
          <p:spPr>
            <a:xfrm rot="10800000">
              <a:off x="84240" y="1123560"/>
              <a:ext cx="4199400" cy="166320"/>
            </a:xfrm>
            <a:prstGeom prst="pie">
              <a:avLst/>
            </a:prstGeom>
            <a:gradFill rotWithShape="0">
              <a:gsLst>
                <a:gs pos="0">
                  <a:srgbClr val="edfad2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5" name="Group 7"/>
          <p:cNvGrpSpPr/>
          <p:nvPr/>
        </p:nvGrpSpPr>
        <p:grpSpPr>
          <a:xfrm>
            <a:off x="395280" y="1989000"/>
            <a:ext cx="8496720" cy="4679280"/>
            <a:chOff x="395280" y="1989000"/>
            <a:chExt cx="8496720" cy="4679280"/>
          </a:xfrm>
        </p:grpSpPr>
        <p:sp>
          <p:nvSpPr>
            <p:cNvPr id="326" name="Rectangle 25"/>
            <p:cNvSpPr/>
            <p:nvPr/>
          </p:nvSpPr>
          <p:spPr>
            <a:xfrm rot="10800000">
              <a:off x="395280" y="2455200"/>
              <a:ext cx="8496720" cy="421272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16200000"/>
            </a:gradFill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AutoShape 26"/>
            <p:cNvSpPr/>
            <p:nvPr/>
          </p:nvSpPr>
          <p:spPr>
            <a:xfrm rot="10800000">
              <a:off x="395280" y="1988640"/>
              <a:ext cx="8496720" cy="466560"/>
            </a:xfrm>
            <a:prstGeom prst="pi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>
                    <a:alpha val="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8" name="Text Box 37"/>
          <p:cNvSpPr/>
          <p:nvPr/>
        </p:nvSpPr>
        <p:spPr>
          <a:xfrm>
            <a:off x="6135840" y="2997360"/>
            <a:ext cx="1839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WordArt 28"/>
          <p:cNvSpPr txBox="1"/>
          <p:nvPr/>
        </p:nvSpPr>
        <p:spPr>
          <a:xfrm>
            <a:off x="179280" y="1400040"/>
            <a:ext cx="3743280" cy="58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对未来发展的影响</a:t>
            </a:r>
            <a:endParaRPr b="0" lang="en-US" sz="1800" spc="1" strike="noStrike">
              <a:ln w="19080">
                <a:solidFill>
                  <a:srgbClr val="0000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30" name="Text Box 36"/>
          <p:cNvSpPr/>
          <p:nvPr/>
        </p:nvSpPr>
        <p:spPr>
          <a:xfrm>
            <a:off x="539640" y="2349360"/>
            <a:ext cx="813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99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6699"/>
                </a:solidFill>
                <a:latin typeface="Arial"/>
              </a:rPr>
              <a:t>作弊可能使考生在某一次考试中获得高分，但这并不等于他真正掌握了知识，而在以后的学习工作中，考试分数并非衡量一个人知识水平高低的标准。所以，从表面看来，作弊是考生欺骗老师，但从本质上看，作弊则是一种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自欺欺人</a:t>
            </a:r>
            <a:r>
              <a:rPr b="1" lang="zh-CN" sz="3200" spc="-1" strike="noStrike">
                <a:solidFill>
                  <a:srgbClr val="006699"/>
                </a:solidFill>
                <a:latin typeface="Arial"/>
              </a:rPr>
              <a:t>的行为，它并不能使考生得到任何实际的利益，既不会有利于考生的学习，更不会有利于他今后的工作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8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Text Box 10"/>
          <p:cNvSpPr/>
          <p:nvPr/>
        </p:nvSpPr>
        <p:spPr>
          <a:xfrm>
            <a:off x="1187280" y="282600"/>
            <a:ext cx="676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考试作弊的危害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2" name="Group 3"/>
          <p:cNvGrpSpPr/>
          <p:nvPr/>
        </p:nvGrpSpPr>
        <p:grpSpPr>
          <a:xfrm>
            <a:off x="0" y="1195560"/>
            <a:ext cx="4211280" cy="1080720"/>
            <a:chOff x="0" y="1195560"/>
            <a:chExt cx="4211280" cy="1080720"/>
          </a:xfrm>
        </p:grpSpPr>
        <p:sp>
          <p:nvSpPr>
            <p:cNvPr id="333" name="AutoShape 12"/>
            <p:cNvSpPr/>
            <p:nvPr/>
          </p:nvSpPr>
          <p:spPr>
            <a:xfrm>
              <a:off x="0" y="1361880"/>
              <a:ext cx="4211280" cy="914400"/>
            </a:xfrm>
            <a:prstGeom prst="downArrowCallout">
              <a:avLst>
                <a:gd name="adj1" fmla="val 115063"/>
                <a:gd name="adj2" fmla="val 57526"/>
                <a:gd name="adj3" fmla="val 14028"/>
                <a:gd name="adj4" fmla="val 85940"/>
              </a:avLst>
            </a:prstGeom>
            <a:gradFill rotWithShape="0">
              <a:gsLst>
                <a:gs pos="0">
                  <a:srgbClr val="edfad2"/>
                </a:gs>
                <a:gs pos="100000">
                  <a:srgbClr val="ebf7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AutoShape 13"/>
            <p:cNvSpPr/>
            <p:nvPr/>
          </p:nvSpPr>
          <p:spPr>
            <a:xfrm rot="10800000">
              <a:off x="11160" y="1195200"/>
              <a:ext cx="4199400" cy="166320"/>
            </a:xfrm>
            <a:prstGeom prst="pie">
              <a:avLst/>
            </a:prstGeom>
            <a:gradFill rotWithShape="0">
              <a:gsLst>
                <a:gs pos="0">
                  <a:srgbClr val="edfad2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5" name="Group 6"/>
          <p:cNvGrpSpPr/>
          <p:nvPr/>
        </p:nvGrpSpPr>
        <p:grpSpPr>
          <a:xfrm>
            <a:off x="395280" y="1989000"/>
            <a:ext cx="8496720" cy="4679280"/>
            <a:chOff x="395280" y="1989000"/>
            <a:chExt cx="8496720" cy="4679280"/>
          </a:xfrm>
        </p:grpSpPr>
        <p:sp>
          <p:nvSpPr>
            <p:cNvPr id="336" name="Rectangle 25"/>
            <p:cNvSpPr/>
            <p:nvPr/>
          </p:nvSpPr>
          <p:spPr>
            <a:xfrm rot="10800000">
              <a:off x="395280" y="2455200"/>
              <a:ext cx="8496720" cy="421272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16200000"/>
            </a:gradFill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AutoShape 26"/>
            <p:cNvSpPr/>
            <p:nvPr/>
          </p:nvSpPr>
          <p:spPr>
            <a:xfrm rot="10800000">
              <a:off x="395280" y="1988640"/>
              <a:ext cx="8496720" cy="466560"/>
            </a:xfrm>
            <a:prstGeom prst="pi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>
                    <a:alpha val="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8" name="Text Box 37"/>
          <p:cNvSpPr/>
          <p:nvPr/>
        </p:nvSpPr>
        <p:spPr>
          <a:xfrm>
            <a:off x="6135840" y="2997360"/>
            <a:ext cx="1839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WordArt 29"/>
          <p:cNvSpPr txBox="1"/>
          <p:nvPr/>
        </p:nvSpPr>
        <p:spPr>
          <a:xfrm>
            <a:off x="539640" y="1413000"/>
            <a:ext cx="3256200" cy="66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不利于心理健康</a:t>
            </a:r>
            <a:endParaRPr b="0" lang="en-US" sz="1800" spc="1" strike="noStrike">
              <a:ln w="19080">
                <a:solidFill>
                  <a:srgbClr val="0000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40" name="Text Box 38"/>
          <p:cNvSpPr/>
          <p:nvPr/>
        </p:nvSpPr>
        <p:spPr>
          <a:xfrm>
            <a:off x="539640" y="2492280"/>
            <a:ext cx="82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99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6699"/>
                </a:solidFill>
                <a:latin typeface="Arial"/>
              </a:rPr>
              <a:t>在作弊过程中，难免不被发现，一旦被发现，考生就会感到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羞愧与失望</a:t>
            </a:r>
            <a:r>
              <a:rPr b="1" lang="zh-CN" sz="3600" spc="-1" strike="noStrike">
                <a:solidFill>
                  <a:srgbClr val="006699"/>
                </a:solidFill>
                <a:latin typeface="Arial"/>
              </a:rPr>
              <a:t>，各种沮丧心情都可能产生。有时还会在考后持续许久，从而影响考生的心理健康。假如作弊被发现后，下面还有别的考试，这种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羞愧感</a:t>
            </a:r>
            <a:r>
              <a:rPr b="1" lang="zh-CN" sz="3600" spc="-1" strike="noStrike">
                <a:solidFill>
                  <a:srgbClr val="006699"/>
                </a:solidFill>
                <a:latin typeface="Arial"/>
              </a:rPr>
              <a:t>就会影响下一个科目的成绩，更不利于考生心理上的恢复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0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Text Box 10"/>
          <p:cNvSpPr/>
          <p:nvPr/>
        </p:nvSpPr>
        <p:spPr>
          <a:xfrm>
            <a:off x="1187280" y="282600"/>
            <a:ext cx="676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考试作弊的危害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2" name="Group 6"/>
          <p:cNvGrpSpPr/>
          <p:nvPr/>
        </p:nvGrpSpPr>
        <p:grpSpPr>
          <a:xfrm>
            <a:off x="395280" y="1989000"/>
            <a:ext cx="8496720" cy="4679280"/>
            <a:chOff x="395280" y="1989000"/>
            <a:chExt cx="8496720" cy="4679280"/>
          </a:xfrm>
        </p:grpSpPr>
        <p:sp>
          <p:nvSpPr>
            <p:cNvPr id="343" name="Rectangle 25"/>
            <p:cNvSpPr/>
            <p:nvPr/>
          </p:nvSpPr>
          <p:spPr>
            <a:xfrm rot="10800000">
              <a:off x="395280" y="2455200"/>
              <a:ext cx="8496720" cy="421272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16200000"/>
            </a:gradFill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AutoShape 26"/>
            <p:cNvSpPr/>
            <p:nvPr/>
          </p:nvSpPr>
          <p:spPr>
            <a:xfrm rot="10800000">
              <a:off x="395280" y="1988640"/>
              <a:ext cx="8496720" cy="466560"/>
            </a:xfrm>
            <a:prstGeom prst="pi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>
                    <a:alpha val="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5" name="Text Box 37"/>
          <p:cNvSpPr/>
          <p:nvPr/>
        </p:nvSpPr>
        <p:spPr>
          <a:xfrm>
            <a:off x="6135840" y="2997360"/>
            <a:ext cx="1839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Text Box 38"/>
          <p:cNvSpPr/>
          <p:nvPr/>
        </p:nvSpPr>
        <p:spPr>
          <a:xfrm>
            <a:off x="395280" y="2637000"/>
            <a:ext cx="84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99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6699"/>
                </a:solidFill>
                <a:latin typeface="Arial"/>
              </a:rPr>
              <a:t>由于你的作弊行为，一部分同学必定会对你存在一定的看法，从而毁坏你在他们心目中的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形象</a:t>
            </a:r>
            <a:r>
              <a:rPr b="1" lang="zh-CN" sz="3600" spc="-1" strike="noStrike">
                <a:solidFill>
                  <a:srgbClr val="006699"/>
                </a:solidFill>
                <a:latin typeface="Arial"/>
              </a:rPr>
              <a:t>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信任危机</a:t>
            </a:r>
            <a:r>
              <a:rPr b="1" lang="zh-CN" sz="3600" spc="-1" strike="noStrike">
                <a:solidFill>
                  <a:srgbClr val="006699"/>
                </a:solidFill>
                <a:latin typeface="Arial"/>
              </a:rPr>
              <a:t>由此产生；同时，也有一部分同学对你产生“羡慕忌妒恨”的思想，他们也可能学着提高自己的“成绩”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学风班风</a:t>
            </a:r>
            <a:r>
              <a:rPr b="1" lang="zh-CN" sz="3600" spc="-1" strike="noStrike">
                <a:solidFill>
                  <a:srgbClr val="006699"/>
                </a:solidFill>
                <a:latin typeface="Arial"/>
              </a:rPr>
              <a:t>由此遭到破坏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0" y="1484280"/>
            <a:ext cx="68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毁坏个人形象，破坏学风班风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7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5648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1271880" y="692280"/>
            <a:ext cx="163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99"/>
                </a:solidFill>
                <a:latin typeface="Arial"/>
                <a:ea typeface="黑体"/>
              </a:rPr>
              <a:t>四、宣“诚信”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403280" y="2492280"/>
            <a:ext cx="669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99"/>
                </a:solidFill>
                <a:latin typeface="Arial"/>
                <a:ea typeface="黑体"/>
              </a:rPr>
              <a:t>1</a:t>
            </a:r>
            <a:r>
              <a:rPr b="1" lang="zh-CN" sz="4000" spc="-1" strike="noStrike">
                <a:solidFill>
                  <a:srgbClr val="006699"/>
                </a:solidFill>
                <a:latin typeface="Arial"/>
                <a:ea typeface="黑体"/>
              </a:rPr>
              <a:t>、搜集有关“诚信”的名言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/>
          <p:nvPr/>
        </p:nvSpPr>
        <p:spPr>
          <a:xfrm>
            <a:off x="4842000" y="198900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1260360" y="1197000"/>
            <a:ext cx="6624720" cy="600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我宣誓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言必行，行必果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知之为知之，不知为不知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以诚信换取诚信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以诚信收获成功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用诚信开启知识之窗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用诚信鼓起上进之帆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我诚信，我光荣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我诚信，我自尊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我诚信，我成功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ffcc00"/>
                </a:solidFill>
                <a:uFillTx/>
                <a:latin typeface="Times New Roman"/>
                <a:hlinkClick r:id="rId3"/>
              </a:rPr>
              <a:t>C:\Users\cf\Desktop\1倪：诚信\丁晓红 - 诚信中国.mp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684360" y="3933720"/>
            <a:ext cx="54900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484360" y="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2916360" y="476280"/>
            <a:ext cx="46800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75000"/>
                    </a:srgbClr>
                  </a:outerShdw>
                </a:effectLst>
                <a:latin typeface="宋体"/>
              </a:rPr>
              <a:t>弘扬民族精神 做诚实守信学生</a:t>
            </a:r>
            <a:endParaRPr b="0" i="1" lang="en-US" sz="18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57" name=""/>
          <p:cNvSpPr/>
          <p:nvPr/>
        </p:nvSpPr>
        <p:spPr>
          <a:xfrm>
            <a:off x="1692360" y="260280"/>
            <a:ext cx="32335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52360" y="189000"/>
            <a:ext cx="25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黑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、我宣誓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1"/>
          <a:srcRect l="0" t="36781" r="0" b="4732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1940040" y="1249200"/>
            <a:ext cx="6808680" cy="39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ff"/>
                </a:solidFill>
                <a:latin typeface="Times New Roman"/>
                <a:ea typeface="隶书"/>
              </a:rPr>
              <a:t>诚信做人、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ff"/>
                </a:solidFill>
                <a:latin typeface="Times New Roman"/>
                <a:ea typeface="隶书"/>
              </a:rPr>
              <a:t>诚实考试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396720" y="1268280"/>
            <a:ext cx="8496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生命不会从谎言中开出灿烂的鲜花。诚信犹如火焰，给人希望，给人温暖；诚信犹如明镜，给人准则，给人借鉴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同学们，让诚信的火种永驻你们心中。相信，诚信会让你们的生命更加辉煌灿烂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468360" y="404640"/>
            <a:ext cx="84978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花就是花 果就是果                      甜就说甜 涩就说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拉钩算数 说了就做                      诚信品德 美好你我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你说话算话 我一诺千金               你一言九鼎 我一言为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你君子一言 驷马难追                  我张口不悔 一锤定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诚信为本 土能生金                      天下的人和诚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你我合作共赢                              诚信人人 人人诚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诚信的中国心想事成前程似锦    你童叟无欺 我一视同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你表里如一 我诚实守信              你精诚所至 金石为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我以诚相待 以心换心                  诚信为本 土能生金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天下的人和诚信                          你我合作共赢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诚信人人 人人诚信                     诚信的中国心想事成前程似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诚信为本 土能生金                      天下的人和诚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你我合作共赢                              诚信人人 人人诚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诚信的中国心想事成前程似锦    前程似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2"/>
          <p:cNvSpPr/>
          <p:nvPr/>
        </p:nvSpPr>
        <p:spPr>
          <a:xfrm>
            <a:off x="179280" y="0"/>
            <a:ext cx="8964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c600"/>
                </a:solidFill>
                <a:latin typeface="黑体"/>
                <a:ea typeface="黑体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1116000" y="1484280"/>
            <a:ext cx="633564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谢谢大家</a:t>
            </a:r>
            <a:r>
              <a:rPr b="0" lang="en-US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!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592200" y="411120"/>
            <a:ext cx="71485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761400" y="40464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Arial"/>
                <a:ea typeface="文鼎习字体"/>
              </a:rPr>
              <a:t>班会目的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93480" y="1484280"/>
            <a:ext cx="46882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汉仪雪君体简"/>
                <a:ea typeface="汉仪雪君体简"/>
              </a:rPr>
              <a:t>(1) </a:t>
            </a:r>
            <a:r>
              <a:rPr b="1" lang="zh-CN" sz="2800" spc="-1" strike="noStrike">
                <a:solidFill>
                  <a:srgbClr val="000000"/>
                </a:solidFill>
                <a:latin typeface="汉仪雪君体简"/>
                <a:ea typeface="汉仪雪君体简"/>
              </a:rPr>
              <a:t>明确“诚信”的含义，了解“诚信”的地位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汉仪雪君体简"/>
                <a:ea typeface="汉仪雪君体简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汉仪雪君体简"/>
                <a:ea typeface="汉仪雪君体简"/>
              </a:rPr>
              <a:t>(2) </a:t>
            </a:r>
            <a:r>
              <a:rPr b="1" lang="zh-CN" sz="3200" spc="-1" strike="noStrike">
                <a:solidFill>
                  <a:srgbClr val="000000"/>
                </a:solidFill>
                <a:latin typeface="汉仪雪君体简"/>
                <a:ea typeface="汉仪雪君体简"/>
              </a:rPr>
              <a:t>重视“诚信”的作用，做文明诚信人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汉仪雪君体简"/>
                <a:ea typeface="汉仪雪君体简"/>
              </a:rPr>
              <a:t>(3) </a:t>
            </a:r>
            <a:r>
              <a:rPr b="1" lang="zh-CN" sz="3200" spc="-1" strike="noStrike">
                <a:solidFill>
                  <a:srgbClr val="000000"/>
                </a:solidFill>
                <a:latin typeface="汉仪雪君体简"/>
                <a:ea typeface="汉仪雪君体简"/>
              </a:rPr>
              <a:t>重视学习，诚实考试，做自律自爱、文明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汉仪雪君体简"/>
                <a:ea typeface="汉仪雪君体简"/>
              </a:rPr>
              <a:t>范的中学生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1187280" y="4797360"/>
            <a:ext cx="7131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黑体"/>
              </a:rPr>
              <a:t>  </a:t>
            </a: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黑体"/>
              </a:rPr>
              <a:t>   </a:t>
            </a:r>
            <a:r>
              <a:rPr b="1" lang="zh-CN" sz="4800" spc="-1" strike="noStrike">
                <a:solidFill>
                  <a:srgbClr val="0000cc"/>
                </a:solidFill>
                <a:latin typeface="Arial"/>
                <a:ea typeface="黑体"/>
              </a:rPr>
              <a:t>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黑体"/>
              </a:rPr>
              <a:t>为人之本、交往之基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0" y="5807160"/>
            <a:ext cx="9144000" cy="105084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92360" y="177336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99"/>
                </a:solidFill>
                <a:latin typeface="Arial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诚”，</a:t>
            </a:r>
            <a:r>
              <a:rPr b="1" lang="zh-CN" sz="3600" spc="-1" strike="noStrike">
                <a:solidFill>
                  <a:srgbClr val="006699"/>
                </a:solidFill>
                <a:latin typeface="Arial"/>
                <a:ea typeface="黑体"/>
              </a:rPr>
              <a:t>就是诚实无欺、诚实做人、诚实做事，实事求是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692360" y="3068640"/>
            <a:ext cx="632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99"/>
                </a:solidFill>
                <a:latin typeface="Arial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信”，</a:t>
            </a:r>
            <a:r>
              <a:rPr b="1" lang="zh-CN" sz="3600" spc="-1" strike="noStrike">
                <a:solidFill>
                  <a:srgbClr val="006699"/>
                </a:solidFill>
                <a:latin typeface="Arial"/>
                <a:ea typeface="黑体"/>
              </a:rPr>
              <a:t>即有信用、讲信誉、守信义、不虚假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0" y="2133720"/>
            <a:ext cx="1371600" cy="430524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179280" y="117360"/>
            <a:ext cx="467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99"/>
                </a:solidFill>
                <a:latin typeface="Arial"/>
                <a:ea typeface="黑体"/>
              </a:rPr>
              <a:t>一、明“诚信”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87240" y="947880"/>
            <a:ext cx="604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99"/>
                </a:solidFill>
                <a:latin typeface="Arial"/>
                <a:ea typeface="黑体"/>
              </a:rPr>
              <a:t>“</a:t>
            </a:r>
            <a:r>
              <a:rPr b="1" lang="zh-CN" sz="4000" spc="-1" strike="noStrike">
                <a:solidFill>
                  <a:srgbClr val="006699"/>
                </a:solidFill>
                <a:latin typeface="Arial"/>
                <a:ea typeface="黑体"/>
              </a:rPr>
              <a:t>诚信”的含义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181080" y="1123920"/>
            <a:ext cx="8785080" cy="40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金秋，怀着无比自豪与兴奋之情的天之骄子从各地云聚燕园。一位扛着行李的新生，看见一位穿旧式中山装的</a:t>
            </a:r>
            <a:r>
              <a:rPr b="1" lang="zh-CN" sz="2800" spc="-1" strike="noStrike">
                <a:solidFill>
                  <a:srgbClr val="006699"/>
                </a:solidFill>
                <a:latin typeface="楷体_GB2312"/>
                <a:ea typeface="楷体_GB2312"/>
              </a:rPr>
              <a:t>守门人模样的老头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，就请他帮助看一会儿行李，自己则轻装去办理报到的手续。老头没说什么，答应了，老老实实地在那儿守着，一呆就是</a:t>
            </a:r>
            <a:r>
              <a:rPr b="1" lang="zh-CN" sz="2800" spc="-1" strike="noStrike">
                <a:solidFill>
                  <a:srgbClr val="006699"/>
                </a:solidFill>
                <a:latin typeface="楷体_GB2312"/>
                <a:ea typeface="楷体_GB2312"/>
              </a:rPr>
              <a:t>一个多小时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。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9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月的北京天气还很热，旁边有人说：“您回去吧，我替他看着。”可老人说：“还是我等他吧，换了人他该找不着了。”那位学生回来后，老头什么也没说就走了。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天后的开学典礼上，这位学子吃惊地认出了台上的副校长、大名鼎鼎的季羡林教授就是那天帮自己看行李的老头！…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52360" y="1123920"/>
            <a:ext cx="871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99"/>
                </a:solidFill>
                <a:latin typeface="Arial"/>
                <a:ea typeface="黑体"/>
              </a:rPr>
              <a:t>1</a:t>
            </a:r>
            <a:r>
              <a:rPr b="1" lang="zh-CN" sz="3200" spc="-1" strike="noStrike">
                <a:solidFill>
                  <a:srgbClr val="006699"/>
                </a:solidFill>
                <a:latin typeface="Arial"/>
                <a:ea typeface="黑体"/>
              </a:rPr>
              <a:t>、《北大副校长季羡林先生为学生守书包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906840" y="260280"/>
            <a:ext cx="163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99"/>
                </a:solidFill>
                <a:latin typeface="Arial"/>
                <a:ea typeface="黑体"/>
              </a:rPr>
              <a:t>二、话“诚信”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2771640" y="2708280"/>
            <a:ext cx="4800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Arial"/>
                <a:ea typeface="黑体"/>
              </a:rPr>
              <a:t>      </a:t>
            </a:r>
            <a:r>
              <a:rPr b="1" lang="zh-CN" sz="4400" spc="-1" strike="noStrike">
                <a:solidFill>
                  <a:srgbClr val="0000cc"/>
                </a:solidFill>
                <a:latin typeface="Arial"/>
                <a:ea typeface="黑体"/>
              </a:rPr>
              <a:t>我们身边有哪些不诚信的行为？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52360" y="189000"/>
            <a:ext cx="3049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2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、反思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13320" cy="299736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2"/>
          <a:stretch/>
        </p:blipFill>
        <p:spPr>
          <a:xfrm>
            <a:off x="4284720" y="2997360"/>
            <a:ext cx="4859280" cy="386064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3"/>
          <a:stretch/>
        </p:blipFill>
        <p:spPr>
          <a:xfrm>
            <a:off x="-33480" y="2997360"/>
            <a:ext cx="4314960" cy="378612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4"/>
          <a:stretch/>
        </p:blipFill>
        <p:spPr>
          <a:xfrm>
            <a:off x="4572000" y="0"/>
            <a:ext cx="4572000" cy="2997360"/>
          </a:xfrm>
          <a:prstGeom prst="rect">
            <a:avLst/>
          </a:prstGeom>
          <a:ln w="19080">
            <a:solidFill>
              <a:srgbClr val="000000"/>
            </a:solidFill>
            <a:bevel/>
          </a:ln>
        </p:spPr>
      </p:pic>
      <p:sp>
        <p:nvSpPr>
          <p:cNvPr id="282" name=""/>
          <p:cNvSpPr/>
          <p:nvPr/>
        </p:nvSpPr>
        <p:spPr>
          <a:xfrm>
            <a:off x="4849200" y="54936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假药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rcRect l="18747" t="0" r="2030" b="0"/>
          <a:stretch/>
        </p:blipFill>
        <p:spPr>
          <a:xfrm>
            <a:off x="0" y="0"/>
            <a:ext cx="9180360" cy="689292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1892520" y="2637000"/>
            <a:ext cx="4452480" cy="21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cc99ff"/>
                </a:solidFill>
                <a:uFillTx/>
                <a:latin typeface="Arial"/>
                <a:ea typeface="黑体"/>
                <a:hlinkClick r:id="rId2"/>
              </a:rPr>
              <a:t>温州乐清警方破获新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cc99ff"/>
                </a:solidFill>
                <a:uFillTx/>
                <a:latin typeface="Arial"/>
                <a:ea typeface="黑体"/>
                <a:hlinkClick r:id="rId3"/>
              </a:rPr>
              <a:t>地沟油全国大案 </a:t>
            </a:r>
            <a:r>
              <a:rPr b="0" lang="en-US" sz="4000" spc="-1" strike="noStrike" u="sng">
                <a:solidFill>
                  <a:srgbClr val="cc99ff"/>
                </a:solidFill>
                <a:uFillTx/>
                <a:latin typeface="Arial"/>
                <a:ea typeface="黑体"/>
                <a:hlinkClick r:id="rId4"/>
              </a:rPr>
              <a:t>120409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cc99ff"/>
                </a:solidFill>
                <a:uFillTx/>
                <a:latin typeface="Arial"/>
                <a:ea typeface="黑体"/>
                <a:hlinkClick r:id="rId5"/>
              </a:rPr>
              <a:t>新闻深一度</a:t>
            </a:r>
            <a:r>
              <a:rPr b="0" lang="en-US" sz="4000" spc="-1" strike="noStrike" u="sng">
                <a:solidFill>
                  <a:srgbClr val="cc99ff"/>
                </a:solidFill>
                <a:uFillTx/>
                <a:latin typeface="Arial"/>
                <a:ea typeface="黑体"/>
                <a:hlinkClick r:id="rId6"/>
              </a:rPr>
              <a:t>_</a:t>
            </a:r>
            <a:r>
              <a:rPr b="0" lang="zh-CN" sz="4000" spc="-1" strike="noStrike" u="sng">
                <a:solidFill>
                  <a:srgbClr val="cc99ff"/>
                </a:solidFill>
                <a:uFillTx/>
                <a:latin typeface="Arial"/>
                <a:ea typeface="黑体"/>
                <a:hlinkClick r:id="rId7"/>
              </a:rPr>
              <a:t>标清</a:t>
            </a:r>
            <a:r>
              <a:rPr b="0" lang="en-US" sz="4000" spc="-1" strike="noStrike" u="sng">
                <a:solidFill>
                  <a:srgbClr val="cc99ff"/>
                </a:solidFill>
                <a:uFillTx/>
                <a:latin typeface="Arial"/>
                <a:ea typeface="黑体"/>
                <a:hlinkClick r:id="rId8"/>
              </a:rPr>
              <a:t>.flv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4231800" y="4797360"/>
            <a:ext cx="80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ffcc00"/>
                </a:solidFill>
                <a:latin typeface="Arial"/>
              </a:rPr>
              <a:t>世界将充满虚伪和欺骗、不公和悲惨</a:t>
            </a:r>
            <a:r>
              <a:rPr b="0" i="1" lang="en-US" sz="4000" spc="-1" strike="noStrike">
                <a:solidFill>
                  <a:srgbClr val="ffcc00"/>
                </a:solidFill>
                <a:latin typeface="Arial"/>
              </a:rPr>
              <a:t>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270160" y="1468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39640" y="1557360"/>
            <a:ext cx="820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   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假如你的同学、邻居、父母、医生、警察、司机……都不讲诚信，后果会？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8T02:15:15Z</dcterms:created>
  <dc:creator>赵大路</dc:creator>
  <dc:description>诚信</dc:description>
  <cp:keywords>诚信  班会</cp:keywords>
  <dc:language>en-US</dc:language>
  <cp:lastModifiedBy>xjszjs02</cp:lastModifiedBy>
  <dcterms:modified xsi:type="dcterms:W3CDTF">2014-12-08T02:19:40Z</dcterms:modified>
  <cp:revision>140</cp:revision>
  <dc:subject>免费学科网www.xueke123.com完全免费</dc:subject>
  <dc:title>！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56</vt:lpwstr>
  </property>
</Properties>
</file>