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7963-BC7F-41FA-AE66-E05790B1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B189-8017-4AEE-A5E9-DACE831D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24B4-0127-4356-B114-1FD255A8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FA1A-F1FE-4AFF-8A3F-3DAD3C46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8A81-D47B-4711-B533-750B42B8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F514-276D-4CBC-B789-3D7F4CA0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EF28-3DBE-4178-9C59-19FFEEB3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2D9C-9B09-471B-97DB-9B0227C6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5E84-1C97-4DB3-8304-5C30229C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8578-8DF6-475A-A49D-2190EE78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F5F3-E374-4634-BAEA-3E439377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7D0C-A151-4A46-83D6-72F0464B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71BA-D4C5-4C00-BAC1-29BBD0C6E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1629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隶书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8120" y="5486400"/>
            <a:ext cx="71625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级南平一中高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6.1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362320" y="1295280"/>
            <a:ext cx="4267080" cy="19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latin typeface="宋体"/>
              </a:rPr>
              <a:t>诚信考试，认真备考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96608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Arial"/>
                <a:ea typeface="华文行楷"/>
              </a:rPr>
              <a:t>一个普通的诚信故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152280" y="1034640"/>
            <a:ext cx="902016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一年秋天，北大新学期开学，一个外地来的学子背着大包小包走进了校园，实在太累了，就把包放在路边。这时正好一位老人走来，年轻学子就拜托老人替自己看一下包，自己则轻装去办理手续。老人爽快地答应了。近一个小时过去，学子归来，老人还在尽职尽责地看守着。学子谢过老人，两人分别。几日后北大举行开学典礼，这位年轻的学子惊讶地发现，主席台上就座的北大副校长季羡林，正是那一天替自己看行李的老人。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季老的诚信彰显着他独特的人格魅力，深受后人的尊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5" descr="279759ee3d6d55fb5c7704216d224f4a20a4dd00.jpg"/>
          <p:cNvPicPr/>
          <p:nvPr/>
        </p:nvPicPr>
        <p:blipFill>
          <a:blip r:embed="rId2"/>
          <a:stretch/>
        </p:blipFill>
        <p:spPr>
          <a:xfrm>
            <a:off x="6705720" y="5029200"/>
            <a:ext cx="24382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3" descr="2010320193652967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那么该如何做好复习工作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制定良好的复习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针对自己薄弱的科目进行重点突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琥珀"/>
              </a:rPr>
              <a:t>人生途中会经历无数次的考试，这其中不仅仅是考一个人的诚信度，而更多地是折射出一个更加公平、公正的社会，那就让我们从诚信考试做起吧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华文琥珀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Arial"/>
                <a:ea typeface="微软雅黑"/>
              </a:rPr>
              <a:t>祝愿大家考出好成绩</a:t>
            </a:r>
            <a:r>
              <a:rPr b="1" lang="en-US" sz="6000" spc="-1" strike="noStrike">
                <a:solidFill>
                  <a:srgbClr val="cc3300"/>
                </a:solidFill>
                <a:latin typeface="Arial"/>
                <a:ea typeface="微软雅黑"/>
              </a:rPr>
              <a:t>,</a:t>
            </a:r>
            <a:r>
              <a:rPr b="1" lang="zh-CN" sz="6000" spc="-1" strike="noStrike">
                <a:solidFill>
                  <a:srgbClr val="cc3300"/>
                </a:solidFill>
                <a:latin typeface="Arial"/>
                <a:ea typeface="微软雅黑"/>
              </a:rPr>
              <a:t>考出理想的成绩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4724280" y="5410080"/>
            <a:ext cx="3095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相信自己！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2" descr="20131222183643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6" name="矩形 3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684360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诚信是一个道德范畴，是公民的第二个“身份证”，是日常行为的诚实和正式交流的信用的合称。即待人处事真诚、老实、讲信誉，言必信、行必果，一言九鼎，一诺千金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   考试，是一种严格的知识水平鉴定方法。为了保证结果的公平，考场必须要求有很强的纪律约束，并且专门设有主考、监考等监督考试过程。绝对禁止任何舞弊行为。</a:t>
            </a:r>
            <a:br>
              <a:rPr sz="2800"/>
            </a:b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仿宋"/>
              </a:rPr>
              <a:t>    </a:t>
            </a:r>
            <a:br>
              <a:rPr sz="27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我们作为一个高中生，诚信也同等重要，考试能从某些方面检测一个人的诚信。临近期末，大家做好了考试准备吗？</a:t>
            </a:r>
            <a:br>
              <a:rPr sz="2400"/>
            </a:br>
            <a:br>
              <a:rPr sz="2600"/>
            </a:br>
            <a:br>
              <a:rPr sz="2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990720" y="2286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诚信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6" name="WordArt 8"/>
          <p:cNvSpPr txBox="1"/>
          <p:nvPr/>
        </p:nvSpPr>
        <p:spPr>
          <a:xfrm>
            <a:off x="990720" y="236232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考试</a:t>
            </a:r>
            <a:endParaRPr b="1" lang="en-US" sz="1800" spc="-1" strike="noStrike">
              <a:ln w="0">
                <a:noFill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00"/>
                </a:solidFill>
                <a:latin typeface="Arial"/>
              </a:rPr>
              <a:t>期末将至，让我们搞好复习吧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200" spc="-1" strike="noStrike">
                <a:solidFill>
                  <a:srgbClr val="660066"/>
                </a:solidFill>
                <a:latin typeface="Arial"/>
              </a:rPr>
              <a:t>再过十几天，我们将迎来高中的第一个寒假，当然期末考试也是必不可少，为了让我们寒假能够尽情地玩乐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660066"/>
                </a:solidFill>
                <a:latin typeface="Arial"/>
              </a:rPr>
              <a:t>开开心心地过年，接下来这些天我们就抓紧每分每秒做好复习工作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660066"/>
                </a:solidFill>
                <a:latin typeface="Arial"/>
              </a:rPr>
              <a:t>玩要玩地尽兴，学也要学地踏实，关键时刻也该好好地为自己搏一搏，也许就会不意想不到的收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660066"/>
                </a:solidFill>
                <a:latin typeface="Arial"/>
              </a:rPr>
              <a:t>其实上帝往往也是很公平的，只要你有付出，那么就多少会有收获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Arial"/>
                <a:ea typeface="华文行楷"/>
              </a:rPr>
              <a:t>考试中的诚信问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一次考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能够考查我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对学科知识的识记、理解、运用、拓展能力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还能够考验我们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身体素质、心理素质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更能测试出我们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诚信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170609_1024_768"/>
          <p:cNvPicPr/>
          <p:nvPr/>
        </p:nvPicPr>
        <p:blipFill>
          <a:blip r:embed="rId1"/>
          <a:stretch/>
        </p:blipFill>
        <p:spPr>
          <a:xfrm>
            <a:off x="0" y="0"/>
            <a:ext cx="90234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685800" y="1066680"/>
            <a:ext cx="7378560" cy="41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高中生考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作弊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的八大典型心理：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依赖心理          功利心理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       虚荣心理          盲从心理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       投机心理          讲义气心理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       冒险心理          不平衡心理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不诚信的考试可能会带来一些后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校记于考试作弊处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己的诚信度在老师和同学们眼里会大大折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你预期想得到的奖学金、助学金失之交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己会长时间感到后悔难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连累他人，印象同学之间的友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华文琥珀"/>
              </a:rPr>
              <a:t>心得体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请同学们就以下内容展开讨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、了解考试违纪相关内容后的感悟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、怎样迎接即将到来的期末考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Arial"/>
                <a:ea typeface="隶书"/>
              </a:rPr>
              <a:t>①</a:t>
            </a:r>
            <a:r>
              <a:rPr b="0" lang="zh-CN" sz="2800" spc="-1" strike="noStrike">
                <a:solidFill>
                  <a:srgbClr val="660066"/>
                </a:solidFill>
                <a:latin typeface="微软雅黑"/>
                <a:ea typeface="隶书"/>
              </a:rPr>
              <a:t>认真复习，不打无准备之仗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微软雅黑"/>
                <a:ea typeface="隶书"/>
              </a:rPr>
              <a:t>②</a:t>
            </a:r>
            <a:r>
              <a:rPr b="0" lang="zh-CN" sz="2800" spc="-1" strike="noStrike">
                <a:solidFill>
                  <a:srgbClr val="660066"/>
                </a:solidFill>
                <a:latin typeface="微软雅黑"/>
                <a:ea typeface="隶书"/>
              </a:rPr>
              <a:t>遵守校规校纪，诚信考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图片1"/>
          <p:cNvPicPr/>
          <p:nvPr/>
        </p:nvPicPr>
        <p:blipFill>
          <a:blip r:embed="rId2"/>
          <a:stretch/>
        </p:blipFill>
        <p:spPr>
          <a:xfrm>
            <a:off x="3809880" y="3733920"/>
            <a:ext cx="5334120" cy="3124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图片3"/>
          <p:cNvPicPr/>
          <p:nvPr/>
        </p:nvPicPr>
        <p:blipFill>
          <a:blip r:embed="rId3"/>
          <a:stretch/>
        </p:blipFill>
        <p:spPr>
          <a:xfrm>
            <a:off x="3809880" y="762120"/>
            <a:ext cx="5334120" cy="297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图片2"/>
          <p:cNvPicPr/>
          <p:nvPr/>
        </p:nvPicPr>
        <p:blipFill>
          <a:blip r:embed="rId4"/>
          <a:stretch/>
        </p:blipFill>
        <p:spPr>
          <a:xfrm>
            <a:off x="0" y="762120"/>
            <a:ext cx="3809880" cy="5257800"/>
          </a:xfrm>
          <a:prstGeom prst="rect">
            <a:avLst/>
          </a:prstGeom>
          <a:ln w="0">
            <a:noFill/>
          </a:ln>
        </p:spPr>
      </p:pic>
      <p:sp>
        <p:nvSpPr>
          <p:cNvPr id="62" name="WordArt 10"/>
          <p:cNvSpPr txBox="1"/>
          <p:nvPr/>
        </p:nvSpPr>
        <p:spPr>
          <a:xfrm>
            <a:off x="2362320" y="0"/>
            <a:ext cx="3200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请看几幅漫画！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6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微软雅黑"/>
              </a:rPr>
              <a:t>让我们来看看名人眼里的诚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4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幼圆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、诚信为人之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幼圆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鲁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幼圆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、生命不可能从谎言中开出灿烂的鲜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幼圆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海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幼圆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、诚实是力量的一种象征，它显示着一个人的高度自重和内心的安全感与尊严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幼圆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艾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幼圆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卡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幼圆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幼圆"/>
              </a:rPr>
              <a:t>、失去了诚信，就等同于敌人毁灭了自己——莎士比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幼圆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、诚实比一切智谋更好，而且它是智谋的基本条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幼圆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康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幼圆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持久和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幼圆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幼圆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、诚实和勤勉，应该成为你永久的伴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幼圆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富兰克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幼圆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、诚实是一个人得以保持的最高尚的东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幼圆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乔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幼圆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、人之所助者，信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幼圆"/>
              </a:rPr>
              <a:t>——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周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幼圆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幼圆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、诚信者，天下之结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幼圆"/>
              </a:rPr>
              <a:t>——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墨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幼圆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幼圆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、我宁愿以诚挚获得一百名敌人的攻击，也不愿以伪善获得十个朋友的赞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幼圆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幼圆"/>
              </a:rPr>
              <a:t>裴多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13:31:27Z</dcterms:created>
  <dc:creator>Administrator</dc:creator>
  <dc:description/>
  <dc:language>en-US</dc:language>
  <cp:lastModifiedBy>clf2015</cp:lastModifiedBy>
  <dcterms:modified xsi:type="dcterms:W3CDTF">2015-12-03T03:00:36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  <property fmtid="{D5CDD505-2E9C-101B-9397-08002B2CF9AE}" pid="3" name="Version">
    <vt:r8>1</vt:r8>
  </property>
</Properties>
</file>