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0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14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3DCC-CF48-4D7E-A8E4-B6A77C90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2B9D-6DDE-4884-AD51-43A24ED2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B59F-ABD3-4FE0-8186-C97A488E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84DE-9427-4AEC-BA41-9AFCC0A4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F896-35D7-4095-857C-375B48FB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0C2C-AB9D-4E36-ADCA-6F9DB045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F855-2EBA-4821-A629-D8CA07E8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7A9A-B233-4B9D-BACF-2F82DF27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7900-FBB4-44AE-8CE9-F3EB6379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03FE-43F5-493E-8E6A-4D0DF481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2BCE-3474-4CA0-BD8F-8941C970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72DE-DEA2-4BA9-B71D-395DFA0E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9FCD-1395-4932-A50E-84F62E77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FC67-599E-4002-B7FD-455D2B11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CC8B-C22A-4F6B-9B1F-64B9ABAF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9BCC-8946-4E6E-AEE0-3D795832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88CA-EBD0-4E5F-85CE-ADE1C813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353C-DA8C-4C68-B160-85D65D31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920E-2376-46F4-BD14-4B7A89A1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1FCA-2405-48DB-B4CF-3FA5B97C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35F7-B152-46AA-A888-0CBC6B12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D6F5-8DCF-4860-8E9B-ED1AA41B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35CF-8D0A-400A-BDB4-709AA865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FFB9-9D19-4420-883F-96DA75AA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6480"/>
            <a:ext cx="2317680" cy="2062080"/>
            <a:chOff x="6934320" y="-6480"/>
            <a:chExt cx="2317680" cy="2062080"/>
          </a:xfrm>
        </p:grpSpPr>
        <p:sp>
          <p:nvSpPr>
            <p:cNvPr id="231" name="未知"/>
            <p:cNvSpPr/>
            <p:nvPr/>
          </p:nvSpPr>
          <p:spPr>
            <a:xfrm>
              <a:off x="7041600" y="-6480"/>
              <a:ext cx="2102760" cy="19123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0"/>
              <a:ext cx="2317680" cy="2055600"/>
              <a:chOff x="6934320" y="0"/>
              <a:chExt cx="2317680" cy="205560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0"/>
                <a:ext cx="383760" cy="14220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0"/>
                <a:ext cx="2317680" cy="205560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6240"/>
                <a:ext cx="186480" cy="21528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480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7360"/>
                <a:ext cx="534960" cy="24192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2800"/>
                <a:ext cx="383760" cy="39204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608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096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108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572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5920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1240"/>
                <a:ext cx="257400" cy="65016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70CA-0AE0-4996-A79B-8093D412E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94BC-D5AA-4686-A68D-8B21D34C1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未知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0" y="-8568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684360" y="2205000"/>
            <a:ext cx="720072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00"/>
                </a:solidFill>
                <a:latin typeface="Comic Sans MS"/>
                <a:ea typeface="长城行楷体"/>
              </a:rPr>
              <a:t>金</a:t>
            </a:r>
            <a:r>
              <a:rPr b="0" lang="zh-CN" sz="15000" spc="-1" strike="noStrike">
                <a:solidFill>
                  <a:srgbClr val="000000"/>
                </a:solidFill>
                <a:latin typeface="Comic Sans MS"/>
                <a:ea typeface="长城行楷体"/>
              </a:rPr>
              <a:t>诚</a:t>
            </a:r>
            <a:r>
              <a:rPr b="0" lang="zh-CN" sz="9600" spc="-1" strike="noStrike">
                <a:solidFill>
                  <a:srgbClr val="cc0000"/>
                </a:solidFill>
                <a:latin typeface="Comic Sans MS"/>
                <a:ea typeface="长城行楷体"/>
              </a:rPr>
              <a:t>所致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00"/>
                </a:solidFill>
                <a:latin typeface="Comic Sans MS"/>
                <a:ea typeface="长城行楷体"/>
              </a:rPr>
              <a:t>金石为</a:t>
            </a:r>
            <a:r>
              <a:rPr b="0" lang="zh-CN" sz="9600" spc="-1" strike="noStrike">
                <a:solidFill>
                  <a:srgbClr val="f6ceeb"/>
                </a:solidFill>
                <a:latin typeface="Comic Sans MS"/>
                <a:ea typeface="长城行楷体"/>
              </a:rPr>
              <a:t>开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  <a:ea typeface="长城行楷体"/>
              </a:rPr>
              <a:t>……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295280" y="1828800"/>
            <a:ext cx="6400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3191040" y="5164200"/>
            <a:ext cx="1676160" cy="12747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 txBox="1"/>
          <p:nvPr/>
        </p:nvSpPr>
        <p:spPr>
          <a:xfrm>
            <a:off x="2209680" y="1447920"/>
            <a:ext cx="4668840" cy="72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言而有信　一诺千金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322280" y="3227400"/>
            <a:ext cx="66834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能说出“一诺千金”的由来吗？</a:t>
            </a:r>
            <a:endParaRPr b="1" lang="en-US" sz="2400" spc="-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1476360" y="27082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源于《史记》。季布是楚国的义士，他生性耿直，乐善好施，特别是他答应过的事情，无论困难再大，他都一定要设法办好，所以深受当时人们的赞誉。当时有个叫曹邱生的人，特地去见季布。并说：“我听楚人说过：得到百斤黄金，也抵不上季布的一个诺言。” 后来，人们把这个故事概括为“一诺千金”，用来比喻重视诺言，说话算数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116000" y="2060640"/>
            <a:ext cx="7238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676520" cy="19810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1523880" y="380880"/>
            <a:ext cx="1971720" cy="134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 </a:t>
            </a:r>
            <a:r>
              <a:rPr b="0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议一议</a:t>
            </a:r>
            <a:endParaRPr b="0" lang="en-US" sz="4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0" name=""/>
          <p:cNvSpPr/>
          <p:nvPr/>
        </p:nvSpPr>
        <p:spPr>
          <a:xfrm>
            <a:off x="1828800" y="1219320"/>
            <a:ext cx="389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诺千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8680" y="217476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楷体"/>
              </a:rPr>
              <a:t>立木为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68360" y="404640"/>
            <a:ext cx="68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春秋战国时，秦国的商鞅在秦孝公的支持下主持变法。当时处于战争频繁、人心惶惶之际，为了树立威信，推进改革，商鞅下令在都城南门外立一根三丈长的木头，并当众许下诺言：谁能把这根木头搬到北门，赏金十两。围观的人不相信如此轻而易举的事能得到如此高的赏赐，结果没人肯出手一试。于是，商鞅将赏金提高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金。重赏之下必有勇夫，终于有人站起将木头扛到了北门。商鞅立即赏了他五十金。商鞅这一举动，在百姓心中树立起了威信，而商鞅接下来的变法就很快在秦国推广开了。新法使秦国渐渐强盛，最终统一了中国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1120320" y="548280"/>
            <a:ext cx="911520" cy="42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烽火戏诸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050920" y="0"/>
            <a:ext cx="66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样在商鞅“立木为信”的地方，在早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以前，却曾发生过一场令人啼笑皆非的“烽火戏诸侯”的闹剧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周幽王有个宠妃叫褒姒，为博取她的一笑，周幽王下令在都城附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座烽火台上点起烽火——烽火是边关报警的信号，只有在外敌入侵需召诸侯来救援的时候才能点燃。结果诸侯们见到烽火，率领兵将们匆匆赶到，弄明白这是君王为博妻一笑的花招后又愤然离去。褒姒看到平日威仪赫赫的诸侯们手足无措的样子，终于开心一笑。五年后，酉夷太戎大举攻周，幽王烽火再燃而诸侯未到——谁也不愿再上第二次当了。结果幽王被逼自刎而褒姒也被俘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755640" y="1197000"/>
            <a:ext cx="83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cc"/>
                </a:solidFill>
                <a:latin typeface="Times New Roman"/>
                <a:ea typeface="楷体"/>
              </a:rPr>
              <a:t>立木为信与烽火戏诸候的对比事例说明了什么</a:t>
            </a:r>
            <a:r>
              <a:rPr b="1" lang="zh-CN" sz="4800" spc="-1" strike="noStrike">
                <a:solidFill>
                  <a:srgbClr val="0066cc"/>
                </a:solidFill>
                <a:latin typeface="Times New Roman"/>
                <a:ea typeface="华文行楷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-250920" y="0"/>
            <a:ext cx="1675080" cy="198108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1476360" y="0"/>
            <a:ext cx="197172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 </a:t>
            </a:r>
            <a:r>
              <a:rPr b="0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议一议</a:t>
            </a:r>
            <a:endParaRPr b="0" lang="en-US" sz="4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8" name=""/>
          <p:cNvSpPr/>
          <p:nvPr/>
        </p:nvSpPr>
        <p:spPr>
          <a:xfrm>
            <a:off x="539640" y="2922480"/>
            <a:ext cx="817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一个“立木取信”，一诺千金；一个帝王无信，戏玩“狼来了”的游戏。结果前者变法成功，国强势壮；后者自取其辱，身死国亡。可见，“信”对一个国家的兴衰存亡都起着非常重要的作用。中国自古就有“民惟邦本，本固邦宁”、“得民心者得天下，失民心者失天下”的明训，还有“水可载舟亦可覆舟”之说，唐代魏征把诚信说成是“国之大纲”，可见“诚信”之重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990720" y="1905120"/>
            <a:ext cx="70102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现实中一些不诚信的行为</a:t>
            </a:r>
            <a:endParaRPr b="1" lang="en-US" sz="6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115320" cy="455004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1219320" y="1141560"/>
            <a:ext cx="6553080" cy="468468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1143000" y="1096920"/>
            <a:ext cx="6705720" cy="49370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4"/>
          <a:stretch/>
        </p:blipFill>
        <p:spPr>
          <a:xfrm>
            <a:off x="1042920" y="981000"/>
            <a:ext cx="6858000" cy="50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-74520" y="0"/>
            <a:ext cx="9218520" cy="685800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3419640" y="2349360"/>
            <a:ext cx="572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如果世界失去诚信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1447920" y="6130800"/>
            <a:ext cx="6019560" cy="72072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1480680" y="-392040"/>
            <a:ext cx="1643400" cy="72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第 三 篇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762120" y="2666880"/>
            <a:ext cx="7391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假如你的同学、老师、医生、</a:t>
            </a:r>
            <a:endParaRPr b="0" lang="en-US" sz="18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警察、司机、父母、邻居</a:t>
            </a:r>
            <a:r>
              <a:rPr b="0" lang="en-US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...</a:t>
            </a:r>
            <a:endParaRPr b="0" lang="en-US" sz="18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都不正直、诚实</a:t>
            </a:r>
            <a:r>
              <a:rPr b="0" lang="en-US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,</a:t>
            </a:r>
            <a:r>
              <a:rPr b="0" lang="zh-CN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后果会</a:t>
            </a:r>
            <a:r>
              <a:rPr b="0" lang="en-US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?</a:t>
            </a:r>
            <a:endParaRPr b="0" lang="en-US" sz="18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66" name=""/>
          <p:cNvSpPr/>
          <p:nvPr/>
        </p:nvSpPr>
        <p:spPr>
          <a:xfrm>
            <a:off x="4331160" y="304920"/>
            <a:ext cx="80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cc00"/>
                </a:solidFill>
                <a:latin typeface="Times New Roman"/>
              </a:rPr>
              <a:t>世界将充满虚伪和欺骗、不公和悲惨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70160" y="14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533520" y="1066680"/>
            <a:ext cx="5562360" cy="1295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不信请看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4228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2556000" y="4437000"/>
            <a:ext cx="6588000" cy="15843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级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班</a:t>
            </a: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楷体"/>
              </a:rPr>
              <a:t>诚信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教育主题班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6451560" y="1146240"/>
            <a:ext cx="2374920" cy="57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0e08"/>
                </a:solidFill>
                <a:latin typeface="Times New Roman"/>
              </a:rPr>
              <a:t>如果遇到不信守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交通</a:t>
            </a:r>
            <a:r>
              <a:rPr b="1" lang="zh-CN" sz="3600" spc="-1" strike="noStrike">
                <a:solidFill>
                  <a:srgbClr val="f80e08"/>
                </a:solidFill>
                <a:latin typeface="Times New Roman"/>
              </a:rPr>
              <a:t>规则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0e08"/>
                </a:solidFill>
                <a:latin typeface="Times New Roman"/>
              </a:rPr>
              <a:t>司机，很容易发生这种事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7238880" cy="533412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1219320" y="228600"/>
            <a:ext cx="6781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a04"/>
                </a:solidFill>
                <a:latin typeface="Times New Roman"/>
              </a:rPr>
              <a:t>又或者是行人不信守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交通</a:t>
            </a:r>
            <a:r>
              <a:rPr b="1" lang="zh-CN" sz="3200" spc="-1" strike="noStrike">
                <a:solidFill>
                  <a:srgbClr val="fc0a04"/>
                </a:solidFill>
                <a:latin typeface="Times New Roman"/>
              </a:rPr>
              <a:t>规则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a04"/>
                </a:solidFill>
                <a:latin typeface="Times New Roman"/>
              </a:rPr>
              <a:t>也会发生这种事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38080" y="2590920"/>
            <a:ext cx="6553440" cy="2490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平安离不开诚信！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1219320" y="2819520"/>
            <a:ext cx="6651360" cy="1276200"/>
            <a:chOff x="1219320" y="2819520"/>
            <a:chExt cx="6651360" cy="1276200"/>
          </a:xfrm>
        </p:grpSpPr>
        <p:sp>
          <p:nvSpPr>
            <p:cNvPr id="574" name=""/>
            <p:cNvSpPr/>
            <p:nvPr/>
          </p:nvSpPr>
          <p:spPr>
            <a:xfrm>
              <a:off x="1219320" y="2819520"/>
              <a:ext cx="6651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219320" y="2819520"/>
              <a:ext cx="6651360" cy="12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705720" cy="243828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609480" y="2819520"/>
            <a:ext cx="80010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ahoma"/>
              </a:rPr>
              <a:t>术后化疗竟要人命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　　１９９９年９月，李珍（化名）在广州市十二人民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医院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做甲状腺癌根治术，术后因院方在</a:t>
            </a:r>
            <a:r>
              <a:rPr b="1" lang="zh-CN" sz="2800" spc="-1" strike="noStrike">
                <a:solidFill>
                  <a:srgbClr val="0066cc"/>
                </a:solidFill>
                <a:latin typeface="Tahoma"/>
              </a:rPr>
              <a:t>无消毒隔离或进入洁净病房、无进行必要的各项检查、无强有力的预防感染措施、无干细胞支持等情况下，对李珍施予超常规剂量数倍的化疗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致李珍出现严重的感染性休克、内出血、全身衰竭，于１９９９年１０月１４日在医院</a:t>
            </a:r>
            <a:r>
              <a:rPr b="1" lang="zh-CN" sz="2800" spc="-1" strike="noStrike">
                <a:solidFill>
                  <a:srgbClr val="fc0a04"/>
                </a:solidFill>
                <a:latin typeface="Tahoma"/>
              </a:rPr>
              <a:t>死亡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828800"/>
            <a:ext cx="8229600" cy="1028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医生医德若有问题，你敢进医院治病吗？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1981080" y="76212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一中国留学生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在德国某出名大学毕业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想留在德国就业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按他的成绩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应该不难在大公司找到高薪水的职位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过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他去了几家公司面试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人家都很客气地据绝了他…后来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一间小公司也是如此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他忍不住问为什么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后来才知道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招聘单位按他的名字在网上查找他的资料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e40000"/>
                </a:solidFill>
                <a:latin typeface="Times New Roman"/>
              </a:rPr>
              <a:t>发现他在德国读书期间有三次乘电车逃票的记录</a:t>
            </a:r>
            <a:r>
              <a:rPr b="1" lang="en-US" sz="2700" spc="-1" strike="noStrike">
                <a:solidFill>
                  <a:srgbClr val="e4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认为他人品有问题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诚实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而一个公司的员工如果不具备诚信的话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这间公司是无法经营下去的…所以…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1143000" y="5181480"/>
            <a:ext cx="6248520" cy="1455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做人不诚信</a:t>
            </a:r>
            <a:r>
              <a:rPr b="0" lang="en-US" sz="3200" spc="-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0" lang="zh-CN" sz="3200" spc="-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往往会因</a:t>
            </a:r>
            <a:r>
              <a:rPr b="0" lang="en-US" sz="3200" spc="-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"</a:t>
            </a:r>
            <a:r>
              <a:rPr b="0" lang="zh-CN" sz="3200" spc="-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小</a:t>
            </a:r>
            <a:r>
              <a:rPr b="0" lang="en-US" sz="3200" spc="-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"</a:t>
            </a:r>
            <a:r>
              <a:rPr b="0" lang="zh-CN" sz="3200" spc="-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失大</a:t>
            </a:r>
            <a:r>
              <a:rPr b="0" lang="en-US" sz="3200" spc="-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!</a:t>
            </a:r>
            <a:endParaRPr b="0" lang="en-US" sz="3200" spc="-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1752480"/>
            <a:ext cx="1905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小事”不诚信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留学生的求职遭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 txBox="1"/>
          <p:nvPr/>
        </p:nvSpPr>
        <p:spPr>
          <a:xfrm>
            <a:off x="684360" y="333360"/>
            <a:ext cx="75438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原来，生活的平安、顺利</a:t>
            </a:r>
            <a:endParaRPr b="0" lang="en-US" sz="2400" spc="-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和美好</a:t>
            </a:r>
            <a:r>
              <a:rPr b="0" lang="en-US" sz="2400" spc="-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0" lang="zh-CN" sz="2400" spc="-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离不开人们的诚信</a:t>
            </a:r>
            <a:r>
              <a:rPr b="0" lang="en-US" sz="2400" spc="-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!</a:t>
            </a:r>
            <a:endParaRPr b="0" lang="en-US" sz="2400" spc="-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4" name=""/>
          <p:cNvSpPr/>
          <p:nvPr/>
        </p:nvSpPr>
        <p:spPr>
          <a:xfrm>
            <a:off x="1474560" y="4005360"/>
            <a:ext cx="3594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值得庆幸的是，这个世上绝大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数人都是相当诚信的，如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我们这一代能更诚信，那生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会更美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诚信考试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业水平考试上升为国考，严肃考风考纪，确保考试公信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严禁考生出现替考、雷同卷、携带手机、交头接耳等作弊现象。考试过程中不许提前交卷，禁止中途上厕所，禁止提前离开考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诚信考试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各班强化对学生的教育。作弊考生（包括替考者、被替考者）记入个人诚信档案、记入个人综合素质评价。直接影响个人今后的工作录用、银行贷款信誉、出国留学旅游等，影响高校对考生的录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班级大量出现作弊学生要追究班主任责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诚信考试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重考及格分不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划线，及格率非常高，只要不作弊，凡认真作答者基本都能及格。万一不及格也不影响上大学，今后还有补考的机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新形势下国家高度重视“以德树人”，提升全体国民诚信度。凡在考试中作弊、舞弊的学生和工作人员就要付出代价，全体学生和老师保持头脑清醒，认清形势，不做国家不允许做的事，不当眼前国家考试改革的牺牲品。所有人员必须学会因为自己的疏忽而承担责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诚信考试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替考属重大违纪行为，一旦查实将禁止参加高考。考试期间各班严控班级学生，禁止无重考学科学生在考试时间离开教室，班主任提前做好统计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所有学生在市教育局统一印制的《告知书》上签写：班级和姓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三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班  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**   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齐后以班级为单位交到级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419640" y="2060640"/>
            <a:ext cx="482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诚信格言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摘录共勉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1447920" y="6130800"/>
            <a:ext cx="6019560" cy="72072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1480680" y="243000"/>
            <a:ext cx="1643400" cy="65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第 五 篇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1532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而无信，不知其可也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孔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言既出，驷马难追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论语 颜渊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两重的真诚，其值等于一吨重的聪明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德国谚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正直地生活，别想入非非！要诚实地工作，才能前程远大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陀思妥耶夫斯基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蚜虫吃青草，锈吃铁，虚伪吃灵魂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契诃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应该老老实实地办事。 ———毛泽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讲诚信的人，是可悲的、可怜的、可恨的，也是可怕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命不可能从谎言中开出灿烂的鲜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创起诚信校园，树起诚信学风，成为诚信学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3680" y="259920"/>
            <a:ext cx="2879640" cy="1089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活动目的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6280" y="1771200"/>
            <a:ext cx="78375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、懂得诚实守信是中华民族的传统美德，现代社会更需要诚实守信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、反对虚假和不守信用的行为，反省自己不诚实不守信的行为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做一个诚信的小公民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、增强自信，努力做到说话做事实实在在，表里如一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、诚信考试，做文明考生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419640" y="2060640"/>
            <a:ext cx="482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诚信宣誓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立志诚信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447920" y="6130800"/>
            <a:ext cx="6019560" cy="72072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1480680" y="243000"/>
            <a:ext cx="1643400" cy="65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第 六 篇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4842000" y="19890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3640" y="855720"/>
            <a:ext cx="5472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我宣誓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言必行，行必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知之为知之，不知为不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以诚信换取诚信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以诚信收获成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用诚信开启知识之窗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用诚信鼓起上进之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我诚信，我光荣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我诚信，我自尊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我诚信，我成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28720" y="323856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 rot="5272800">
            <a:off x="-1466640" y="2698560"/>
            <a:ext cx="617220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宋体"/>
              </a:rPr>
              <a:t>诚信宣誓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宋体"/>
              <a:ea typeface="宋体"/>
            </a:endParaRPr>
          </a:p>
        </p:txBody>
      </p:sp>
      <p:sp>
        <p:nvSpPr>
          <p:cNvPr id="606" name=""/>
          <p:cNvSpPr/>
          <p:nvPr/>
        </p:nvSpPr>
        <p:spPr>
          <a:xfrm>
            <a:off x="248436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258920" y="189000"/>
            <a:ext cx="55227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弘扬民族精神 做诚实守信学生</a:t>
            </a:r>
            <a:endParaRPr b="0" i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什么是诚信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是一个道德范畴，是公民的第二个“身份证”，是日常行为的诚实和正式交流的信用的合称。即待人处事真诚、老实、讲信誉，言必信、行必果，一言九鼎，一诺千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32360" cy="685800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27600" y="549360"/>
            <a:ext cx="7898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哈佛大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300720" y="1413000"/>
            <a:ext cx="2498760" cy="235404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真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965920" y="3860640"/>
            <a:ext cx="317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哈佛大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校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66cc"/>
                </a:solidFill>
                <a:latin typeface="宋体"/>
              </a:rPr>
              <a:t>哈佛大学是世界上最著名的大学之一，这所学校把“真理”作为校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66cc"/>
                </a:solidFill>
                <a:latin typeface="宋体"/>
              </a:rPr>
              <a:t>在哈佛大学的校门和建筑物上都刻了一个拉丁文单词“真理”，这个词代表了“真相、诚实和正直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66cc"/>
                </a:solidFill>
                <a:latin typeface="宋体"/>
              </a:rPr>
              <a:t>正门上还刻了一句话：“真理之门只会向那些正直的民族开放。”意思是说，在这个世界上那些不诚实的人是没有出路的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3419640" y="2349360"/>
            <a:ext cx="572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什么是诚信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1447920" y="6130800"/>
            <a:ext cx="6019560" cy="72072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1480680" y="1052640"/>
            <a:ext cx="16434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第 一 篇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5748120" y="-209520"/>
            <a:ext cx="91152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汉仪小隶书简"/>
              </a:rPr>
              <a:t>诚信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72640" y="1143000"/>
            <a:ext cx="789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汉仪小隶书简"/>
              </a:rPr>
              <a:t>诚实，守信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52080" y="476280"/>
            <a:ext cx="6069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《现代汉语词典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028640" y="1603440"/>
            <a:ext cx="1399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何  为  诚  信 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2946240" y="5154480"/>
            <a:ext cx="762120" cy="7225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1749960" y="836640"/>
            <a:ext cx="667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俗表述，就是说老实话、办老实事、做老实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75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25"/>
                            </p:stCondLst>
                            <p:childTnLst>
                              <p:par>
                                <p:cTn id="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75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50"/>
                            </p:stCondLst>
                            <p:childTnLst>
                              <p:par>
                                <p:cTn id="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75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75"/>
                            </p:stCondLst>
                            <p:childTnLst>
                              <p:par>
                                <p:cTn id="4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3780000" y="1700280"/>
            <a:ext cx="439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阅读故事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感悟诚信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1447920" y="6130800"/>
            <a:ext cx="6019560" cy="7207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7640" y="907920"/>
            <a:ext cx="3106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第 二 篇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6T17:10:25Z</dcterms:created>
  <dc:creator>teacher</dc:creator>
  <dc:description/>
  <dc:language>en-US</dc:language>
  <cp:lastModifiedBy>微软用户</cp:lastModifiedBy>
  <dcterms:modified xsi:type="dcterms:W3CDTF">2015-11-25T07:13:19Z</dcterms:modified>
  <cp:revision>1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