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13.jpeg" ContentType="image/jpeg"/>
  <Override PartName="/ppt/media/image20.gif" ContentType="image/gif"/>
  <Override PartName="/ppt/media/image8.png" ContentType="image/png"/>
  <Override PartName="/ppt/media/image14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applause.wav" ContentType="audio/x-wav"/>
  <Override PartName="/ppt/media/image16.png" ContentType="image/png"/>
  <Override PartName="/ppt/media/image21.wmf" ContentType="image/x-wmf"/>
  <Override PartName="/ppt/media/image18.jpeg" ContentType="image/jpeg"/>
  <Override PartName="/ppt/media/image17.jpeg" ContentType="image/jpeg"/>
  <Override PartName="/ppt/media/image15.jpeg" ContentType="image/jpeg"/>
  <Override PartName="/ppt/media/image9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AFC41-4D9F-4249-8731-59ECBF75F8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32BA-E95C-49EB-AE93-8FDBF7AC8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C7678-32D2-4237-A8F0-8EF0056C1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00E8-FD5F-4A5C-BCA6-9A1DA58B6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9C6FD-FC74-4FBD-909A-75637537E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5652-2CBE-4D8E-A165-96EB7C572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DA2E1-48EB-4083-B8B7-6987F9C7F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DBDEA-36DE-4AB2-93FB-96CD57BCA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6A959-F604-451E-9643-6C53B12FF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EF992-7152-4C42-8030-3F2A9FC0D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80EE1-EC68-4D76-A3F8-7BC4A6F9A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0D2B-B52E-432F-B5E6-59DD3184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4FEFE-1377-48E2-9D30-A04B4466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16DDE-E08F-457F-8CF2-C464BAF94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CC6C-74EF-46A9-98D1-EBFD1A51F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A264D-646B-4CAD-A111-7E97524B94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1F19B-995B-4ABD-B4EE-BCDFE94F0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11A7CF-8852-4287-8B91-EF12FFA045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F06A71-4025-446F-A7DD-733302981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371C70-43F9-4522-9E06-FB3D0934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D96FA-13C3-43E7-B1B3-54F04EDAE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470D7-D6F2-4A4D-B035-0AC597E70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EAB05-6E23-4D09-B5ED-389E10B4F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2A127E-890F-4895-BFC7-B3B77AE9D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68CAB9-5A8F-4DA9-816F-6C0C12A4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0C9B88-7B0A-4183-9950-4D38397A7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415C36-2253-4FE4-B6B7-B7DBDC44B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DE56A-6EEE-4F6F-B742-CF2DD50DE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599977-A902-47B8-8484-E4F132E518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254318-CA94-43F6-8C80-5C25F91AF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BCBDFE-0D29-45AC-97DE-D905AFAC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2A1ADB-B054-4022-80E2-34523397E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F74230-4FE8-4E9B-92BD-B11550099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FABF8-EA21-449C-AC09-3F9CE7A0C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3A6168-41CF-4DB9-A3D5-39C91C988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D1F707-B6DF-4347-9E12-BD0AA5D8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75616F-F71A-4227-ACAC-6D2D97B41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4DDAA-DC7D-4AEE-A8EE-323A1837A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006E03-54AB-44D0-8247-0314B60BA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86C4DC-34E2-4451-859F-E05252B6B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3AD00D-646D-4CA8-BE68-82D07644F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4FC120-134C-4ED6-8186-FBFAE6211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AA02B-28E9-474F-B6C9-CF59EB474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444C947-E3ED-4E31-A148-D743C976C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D3B-8FC7-458A-B770-68E0DF2DD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1D22CE-5AD0-4A4E-993D-046BD15D6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3FD9CAE-C7CA-4127-8A4B-765716B85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52DE5BA-0B52-4BC5-B721-B9145F186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999542F-06D2-46AA-B6A8-26A483311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B84F34-DFA9-477B-AB52-501D3A57D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5205C31-CEAC-47B9-8DD9-348D50A9E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B38D1F9-F583-466B-9E9E-A0FFCC22A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52C3E6-937C-4380-9381-1E114196F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9B9F56-D82B-490F-B13E-A1DE8DEB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8384A36-4CC8-4726-B80A-5716D0529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E006E-86F1-4B1B-90E9-634C85379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63C3873-8817-428F-88E5-56A972836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1ED06-5F9B-4E65-A4AF-05BD62F3A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5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FE9115-F9F8-4A0B-9673-582FB2730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55AD14-ED08-4F86-B339-041CBA35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F7D8C-AB99-4C4D-ABE9-8ED70816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9C422A-7B3F-436E-9D42-30DB3EB8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4A3D665-9474-4793-943F-3004711F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AE8B99-63DB-40D2-8650-C9E4D3965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8D9FB-934B-404D-AE5E-68844CB24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D0A-8F66-4B3D-8F43-4E168148D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D04C11-D96F-4846-8D26-61B96382C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4D7BD3-06F8-4D8C-B9BE-44552FB4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079F11-25CC-4358-B604-307D74FBE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9D401B-278E-445E-A772-D9D99383F5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A5425-AFEE-4C54-AAFC-B261DDE1A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CE756C-C6A6-49D2-9596-493FE4DB7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792C0A-CA5F-491C-A58C-FA503889C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181E1A-5645-48B1-9E5F-DCBE0905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ECBD8F-C656-4290-A836-41F32D1D2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8AD153-BC61-4413-822A-1D43AEBE4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9D0D-4F9F-4E2D-BD6B-7C6A721D1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AFCA5-B73D-4B2B-90E4-97E4A862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BD0A5-69EE-438B-A670-F61D7E252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28FB7F-FF5E-4912-A03E-BE4B65E97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FA0DBC-91E4-4E26-AB9C-2CE191783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9FFC5C-3FC7-404C-9BA3-938B79EB4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6B2C76-CD2D-4B69-AC32-0F4AACAED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29CDCA-EC4A-4200-B7E0-4A5955A42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C9A05-98F4-4B93-BE2C-588630BB503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631B3-96A2-4B84-ADBC-45D4A9AF8A72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26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27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41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4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45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49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53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57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A51735-D499-44D5-868C-7690753F3C2C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6A3ED-4ECB-42E6-AAF5-9831E4F8B7D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47971-CC00-4F66-BC4E-CF663F98F06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dt" idx="1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2"/>
          <a:stretch/>
        </p:blipFill>
        <p:spPr>
          <a:xfrm>
            <a:off x="0" y="6648480"/>
            <a:ext cx="2381400" cy="209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6" name=""/>
          <p:cNvGrpSpPr/>
          <p:nvPr/>
        </p:nvGrpSpPr>
        <p:grpSpPr>
          <a:xfrm>
            <a:off x="1071720" y="304920"/>
            <a:ext cx="7614720" cy="1106280"/>
            <a:chOff x="1071720" y="304920"/>
            <a:chExt cx="7614720" cy="1106280"/>
          </a:xfrm>
        </p:grpSpPr>
        <p:sp>
          <p:nvSpPr>
            <p:cNvPr id="327" name=""/>
            <p:cNvSpPr/>
            <p:nvPr/>
          </p:nvSpPr>
          <p:spPr>
            <a:xfrm flipH="1">
              <a:off x="4868280" y="30492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582680" y="304920"/>
              <a:ext cx="110340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1071720" y="30636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63237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358360" y="30492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926CA-F594-4C18-9DCB-173B869F7E38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3" name=""/>
          <p:cNvGrpSpPr/>
          <p:nvPr/>
        </p:nvGrpSpPr>
        <p:grpSpPr>
          <a:xfrm>
            <a:off x="1658520" y="1600200"/>
            <a:ext cx="6837480" cy="3200400"/>
            <a:chOff x="1658520" y="1600200"/>
            <a:chExt cx="6837480" cy="3200400"/>
          </a:xfrm>
        </p:grpSpPr>
        <p:sp>
          <p:nvSpPr>
            <p:cNvPr id="374" name=""/>
            <p:cNvSpPr/>
            <p:nvPr/>
          </p:nvSpPr>
          <p:spPr>
            <a:xfrm flipH="1">
              <a:off x="6971760" y="160020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5181480" y="160020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3390840" y="1600200"/>
              <a:ext cx="152424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H="1">
              <a:off x="3390840" y="3276720"/>
              <a:ext cx="152424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1658160" y="3276720"/>
              <a:ext cx="1523880" cy="152388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6971760" y="3276720"/>
              <a:ext cx="1523880" cy="152388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PlaceHolder 1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7DAA5-3D0A-4806-B49E-65D038B1F05A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9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E:\&#20061;&#24180;&#32423;\&#31532;&#20108;&#35838;\&#25215;  &#25285; &#20851; &#29233; &#38598; &#20307; &#30340; &#36131; &#20219;wdj\&#19977;&#20010;&#21644;&#23578;.swf" TargetMode="Externa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6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" Target="slide21.xm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" descr=""/>
          <p:cNvPicPr/>
          <p:nvPr/>
        </p:nvPicPr>
        <p:blipFill>
          <a:blip r:embed="rId1"/>
          <a:srcRect l="3319" t="12413" r="2929" b="1376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0" y="1066680"/>
            <a:ext cx="8604360" cy="23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9900"/>
                </a:solidFill>
                <a:latin typeface="方正舒体"/>
                <a:ea typeface="方正舒体"/>
              </a:rPr>
              <a:t>  </a:t>
            </a:r>
            <a:r>
              <a:rPr b="1" lang="zh-CN" sz="6000" spc="-1" strike="noStrike">
                <a:solidFill>
                  <a:srgbClr val="ff0000"/>
                </a:solidFill>
                <a:latin typeface="方正舒体"/>
                <a:ea typeface="方正舒体"/>
              </a:rPr>
              <a:t>承担关爱集体的责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6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      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集体</a:t>
            </a:r>
            <a:r>
              <a:rPr b="1" lang="zh-CN" sz="4000" spc="-1" strike="noStrike">
                <a:solidFill>
                  <a:srgbClr val="0e0d11"/>
                </a:solidFill>
                <a:latin typeface="Verdana"/>
              </a:rPr>
              <a:t>是我们每一个人的集体，只有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人人</a:t>
            </a:r>
            <a:r>
              <a:rPr b="1" lang="zh-CN" sz="4000" spc="-1" strike="noStrike">
                <a:solidFill>
                  <a:srgbClr val="0e0d11"/>
                </a:solidFill>
                <a:latin typeface="Verdana"/>
              </a:rPr>
              <a:t>都主动关心、爱护集体，为集体建设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出力</a:t>
            </a:r>
            <a:r>
              <a:rPr b="1" lang="zh-CN" sz="4000" spc="-1" strike="noStrike">
                <a:solidFill>
                  <a:srgbClr val="0e0d11"/>
                </a:solidFill>
                <a:latin typeface="Verdana"/>
              </a:rPr>
              <a:t>，集体才会真正成为我们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依恋的家。</a:t>
            </a:r>
            <a:endParaRPr b="0" lang="en-US" sz="40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2"/>
          <a:stretch/>
        </p:blipFill>
        <p:spPr>
          <a:xfrm>
            <a:off x="539640" y="4724280"/>
            <a:ext cx="273708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0" name=""/>
          <p:cNvGraphicFramePr/>
          <p:nvPr/>
        </p:nvGraphicFramePr>
        <p:xfrm>
          <a:off x="152280" y="76320"/>
          <a:ext cx="8991720" cy="6746760"/>
        </p:xfrm>
        <a:graphic>
          <a:graphicData uri="http://schemas.openxmlformats.org/drawingml/2006/table">
            <a:tbl>
              <a:tblPr/>
              <a:tblGrid>
                <a:gridCol w="1371600"/>
                <a:gridCol w="3678480"/>
                <a:gridCol w="394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我的回复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619280" y="40766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908000" y="515772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 txBox="1"/>
          <p:nvPr/>
        </p:nvSpPr>
        <p:spPr>
          <a:xfrm>
            <a:off x="2124000" y="2133720"/>
            <a:ext cx="6408720" cy="42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435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关爱集体，人人有责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7" name=""/>
          <p:cNvGraphicFramePr/>
          <p:nvPr/>
        </p:nvGraphicFramePr>
        <p:xfrm>
          <a:off x="152280" y="76320"/>
          <a:ext cx="8991720" cy="6746760"/>
        </p:xfrm>
        <a:graphic>
          <a:graphicData uri="http://schemas.openxmlformats.org/drawingml/2006/table">
            <a:tbl>
              <a:tblPr/>
              <a:tblGrid>
                <a:gridCol w="1371600"/>
                <a:gridCol w="3678480"/>
                <a:gridCol w="394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我的困惑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479" name="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>
            <a:hlinkClick r:id="rId2"/>
          </p:cNvPr>
          <p:cNvSpPr/>
          <p:nvPr/>
        </p:nvSpPr>
        <p:spPr>
          <a:xfrm>
            <a:off x="8101080" y="5734080"/>
            <a:ext cx="720720" cy="692280"/>
          </a:xfrm>
          <a:custGeom>
            <a:avLst/>
            <a:gdLst>
              <a:gd name="textAreaLeft" fmla="*/ 44640 w 720720"/>
              <a:gd name="textAreaRight" fmla="*/ 676080 w 7207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2487" h="21600">
                <a:moveTo>
                  <a:pt x="0" y="0"/>
                </a:moveTo>
                <a:lnTo>
                  <a:pt x="22487" y="0"/>
                </a:lnTo>
                <a:lnTo>
                  <a:pt x="22487" y="21600"/>
                </a:lnTo>
                <a:lnTo>
                  <a:pt x="0" y="21600"/>
                </a:lnTo>
                <a:close/>
              </a:path>
              <a:path fill="lightenLess" w="22487" h="21600">
                <a:moveTo>
                  <a:pt x="0" y="0"/>
                </a:moveTo>
                <a:lnTo>
                  <a:pt x="22487" y="0"/>
                </a:lnTo>
                <a:lnTo>
                  <a:pt x="21087" y="1400"/>
                </a:lnTo>
                <a:lnTo>
                  <a:pt x="1400" y="1400"/>
                </a:lnTo>
                <a:close/>
              </a:path>
              <a:path fill="darken" w="22487" h="21600">
                <a:moveTo>
                  <a:pt x="22487" y="0"/>
                </a:moveTo>
                <a:lnTo>
                  <a:pt x="22487" y="21600"/>
                </a:lnTo>
                <a:lnTo>
                  <a:pt x="21087" y="20200"/>
                </a:lnTo>
                <a:lnTo>
                  <a:pt x="21087" y="1400"/>
                </a:lnTo>
                <a:close/>
              </a:path>
              <a:path fill="darkenLess" w="22487" h="21600">
                <a:moveTo>
                  <a:pt x="22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087" y="20200"/>
                </a:lnTo>
                <a:close/>
              </a:path>
              <a:path fill="lighten" w="22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487" h="21600">
                <a:moveTo>
                  <a:pt x="4237" y="7301"/>
                </a:moveTo>
                <a:lnTo>
                  <a:pt x="5151" y="7301"/>
                </a:lnTo>
                <a:lnTo>
                  <a:pt x="5534" y="7667"/>
                </a:lnTo>
                <a:lnTo>
                  <a:pt x="14742" y="7667"/>
                </a:lnTo>
                <a:lnTo>
                  <a:pt x="15299" y="8224"/>
                </a:lnTo>
                <a:lnTo>
                  <a:pt x="15299" y="8772"/>
                </a:lnTo>
                <a:lnTo>
                  <a:pt x="17145" y="8772"/>
                </a:lnTo>
                <a:lnTo>
                  <a:pt x="17510" y="8224"/>
                </a:lnTo>
                <a:lnTo>
                  <a:pt x="18250" y="8224"/>
                </a:lnTo>
                <a:lnTo>
                  <a:pt x="18250" y="13376"/>
                </a:lnTo>
                <a:lnTo>
                  <a:pt x="17510" y="13376"/>
                </a:lnTo>
                <a:lnTo>
                  <a:pt x="17145" y="12828"/>
                </a:lnTo>
                <a:lnTo>
                  <a:pt x="15299" y="12828"/>
                </a:lnTo>
                <a:lnTo>
                  <a:pt x="15299" y="14107"/>
                </a:lnTo>
                <a:lnTo>
                  <a:pt x="5717" y="14107"/>
                </a:lnTo>
                <a:lnTo>
                  <a:pt x="5717" y="9877"/>
                </a:lnTo>
                <a:lnTo>
                  <a:pt x="5534" y="9877"/>
                </a:lnTo>
                <a:lnTo>
                  <a:pt x="5151" y="10243"/>
                </a:lnTo>
                <a:lnTo>
                  <a:pt x="4237" y="10243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1143000" y="152280"/>
            <a:ext cx="7010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方正姚体"/>
              </a:rPr>
              <a:t>人 多 力 量 一定 大 吗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80880" y="5029200"/>
            <a:ext cx="845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　　为什么众人拾柴会火焰高，而三个和尚去没水喝呢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685800" y="1125360"/>
            <a:ext cx="8458200" cy="3716280"/>
            <a:chOff x="685800" y="1125360"/>
            <a:chExt cx="8458200" cy="3716280"/>
          </a:xfrm>
        </p:grpSpPr>
        <p:pic>
          <p:nvPicPr>
            <p:cNvPr id="485" name="" descr=""/>
            <p:cNvPicPr/>
            <p:nvPr/>
          </p:nvPicPr>
          <p:blipFill>
            <a:blip r:embed="rId1"/>
            <a:stretch/>
          </p:blipFill>
          <p:spPr>
            <a:xfrm>
              <a:off x="5105520" y="1782720"/>
              <a:ext cx="3962160" cy="3000240"/>
            </a:xfrm>
            <a:prstGeom prst="rect">
              <a:avLst/>
            </a:prstGeom>
            <a:ln w="38160">
              <a:solidFill>
                <a:srgbClr val="ff00ff"/>
              </a:solidFill>
              <a:miter/>
            </a:ln>
          </p:spPr>
        </p:pic>
        <p:sp>
          <p:nvSpPr>
            <p:cNvPr id="486" name=""/>
            <p:cNvSpPr/>
            <p:nvPr/>
          </p:nvSpPr>
          <p:spPr>
            <a:xfrm>
              <a:off x="1143000" y="1125360"/>
              <a:ext cx="2971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众人拾柴火焰高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876920" y="1201680"/>
              <a:ext cx="426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一个和尚有水喝，三个和尚没水喝。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8" name="" descr=""/>
            <p:cNvPicPr/>
            <p:nvPr/>
          </p:nvPicPr>
          <p:blipFill>
            <a:blip r:embed="rId2"/>
            <a:stretch/>
          </p:blipFill>
          <p:spPr>
            <a:xfrm>
              <a:off x="685800" y="1734840"/>
              <a:ext cx="4038480" cy="31068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"/>
          <p:cNvSpPr/>
          <p:nvPr/>
        </p:nvSpPr>
        <p:spPr>
          <a:xfrm>
            <a:off x="1143000" y="22860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那么，集体的力量取决于什么？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P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457200" y="990720"/>
            <a:ext cx="83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仅仅取决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成员数量的多少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更取决于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成员之间的组织和配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。“人心齐，泰山移”，团结的集体才有凝聚力和战斗力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2286000" y="2971800"/>
            <a:ext cx="4724280" cy="3543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380880"/>
            <a:ext cx="899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关爱集体，表现为在集体中能求大同存小异，善于团结他人，让集体发挥出更大的力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324000" y="4076640"/>
            <a:ext cx="3363840" cy="252252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2700360" y="1484280"/>
            <a:ext cx="2286000" cy="266688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5148360" y="1484280"/>
            <a:ext cx="3481200" cy="514044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"/>
          <p:cNvGraphicFramePr/>
          <p:nvPr/>
        </p:nvGraphicFramePr>
        <p:xfrm>
          <a:off x="152280" y="76320"/>
          <a:ext cx="8991720" cy="6746760"/>
        </p:xfrm>
        <a:graphic>
          <a:graphicData uri="http://schemas.openxmlformats.org/drawingml/2006/table">
            <a:tbl>
              <a:tblPr/>
              <a:tblGrid>
                <a:gridCol w="1371600"/>
                <a:gridCol w="3678480"/>
                <a:gridCol w="394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关注生活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</a:t>
                      </a:r>
                      <a:r>
                        <a:rPr b="1" lang="zh-CN" sz="8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你班还有关爱集体的例子吗</a:t>
                      </a:r>
                      <a:r>
                        <a:rPr b="1" lang="zh-CN" sz="8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?</a:t>
                      </a:r>
                      <a:endParaRPr b="0" lang="en-US" sz="8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99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500" name="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900000" y="836640"/>
            <a:ext cx="29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关爱集体，表现为自觉维护集体的荣誉和利益，服从集体的安排，积极主动地为集体建设贡献才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3224520" y="5105520"/>
            <a:ext cx="11552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黑体"/>
              </a:rPr>
              <a:t>校运动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1"/>
          <a:stretch/>
        </p:blipFill>
        <p:spPr>
          <a:xfrm>
            <a:off x="4716360" y="0"/>
            <a:ext cx="4427640" cy="685800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304920" y="22860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、关爱集体，还表现为发扬集体的好作风，通过自己的努力解决集体遇到的困难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6" name=""/>
          <p:cNvGrpSpPr/>
          <p:nvPr/>
        </p:nvGrpSpPr>
        <p:grpSpPr>
          <a:xfrm>
            <a:off x="0" y="1905120"/>
            <a:ext cx="8686800" cy="4952880"/>
            <a:chOff x="0" y="1905120"/>
            <a:chExt cx="8686800" cy="4952880"/>
          </a:xfrm>
        </p:grpSpPr>
        <p:grpSp>
          <p:nvGrpSpPr>
            <p:cNvPr id="507" name=""/>
            <p:cNvGrpSpPr/>
            <p:nvPr/>
          </p:nvGrpSpPr>
          <p:grpSpPr>
            <a:xfrm>
              <a:off x="1098720" y="2766960"/>
              <a:ext cx="6946560" cy="1062000"/>
              <a:chOff x="1098720" y="2766960"/>
              <a:chExt cx="6946560" cy="1062000"/>
            </a:xfrm>
          </p:grpSpPr>
          <p:sp>
            <p:nvSpPr>
              <p:cNvPr id="508" name=""/>
              <p:cNvSpPr/>
              <p:nvPr/>
            </p:nvSpPr>
            <p:spPr>
              <a:xfrm>
                <a:off x="1098720" y="2766960"/>
                <a:ext cx="6946560" cy="81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9" name=""/>
              <p:cNvGrpSpPr/>
              <p:nvPr/>
            </p:nvGrpSpPr>
            <p:grpSpPr>
              <a:xfrm>
                <a:off x="1098720" y="2766960"/>
                <a:ext cx="5276520" cy="1062000"/>
                <a:chOff x="1098720" y="2766960"/>
                <a:chExt cx="5276520" cy="106200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098720" y="2766960"/>
                  <a:ext cx="52765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098720" y="2766960"/>
                  <a:ext cx="5276520" cy="1062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512" name="" descr=""/>
            <p:cNvPicPr/>
            <p:nvPr/>
          </p:nvPicPr>
          <p:blipFill>
            <a:blip r:embed="rId1"/>
            <a:stretch/>
          </p:blipFill>
          <p:spPr>
            <a:xfrm>
              <a:off x="5257800" y="1905120"/>
              <a:ext cx="3429000" cy="2571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3" name="" descr=""/>
            <p:cNvPicPr/>
            <p:nvPr/>
          </p:nvPicPr>
          <p:blipFill>
            <a:blip r:embed="rId2"/>
            <a:stretch/>
          </p:blipFill>
          <p:spPr>
            <a:xfrm>
              <a:off x="3255840" y="4191120"/>
              <a:ext cx="3241800" cy="26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4" name=""/>
            <p:cNvSpPr/>
            <p:nvPr/>
          </p:nvSpPr>
          <p:spPr>
            <a:xfrm>
              <a:off x="3124080" y="6568920"/>
              <a:ext cx="3505320" cy="289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5" name="" descr=""/>
            <p:cNvPicPr/>
            <p:nvPr/>
          </p:nvPicPr>
          <p:blipFill>
            <a:blip r:embed="rId3"/>
            <a:stretch/>
          </p:blipFill>
          <p:spPr>
            <a:xfrm>
              <a:off x="0" y="2819520"/>
              <a:ext cx="3657600" cy="248760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68000" y="1125000"/>
            <a:ext cx="867564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99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</a:rPr>
              <a:t>       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518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539640" y="4724280"/>
            <a:ext cx="2737080" cy="2133720"/>
          </a:xfrm>
          <a:prstGeom prst="rect">
            <a:avLst/>
          </a:prstGeom>
          <a:ln w="0">
            <a:noFill/>
          </a:ln>
        </p:spPr>
      </p:pic>
      <p:sp>
        <p:nvSpPr>
          <p:cNvPr id="519" name=""/>
          <p:cNvSpPr/>
          <p:nvPr/>
        </p:nvSpPr>
        <p:spPr>
          <a:xfrm>
            <a:off x="2441520" y="1871640"/>
            <a:ext cx="5584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1" lang="zh-CN" sz="5400" spc="-1" strike="noStrike">
                <a:solidFill>
                  <a:srgbClr val="ff0000"/>
                </a:solidFill>
                <a:latin typeface="Verdana"/>
              </a:rPr>
              <a:t>关爱集体，从自我做起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</a:rPr>
              <a:t>从小事做起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28600" y="1905120"/>
            <a:ext cx="8534520" cy="4952880"/>
          </a:xfrm>
          <a:prstGeom prst="rect">
            <a:avLst/>
          </a:prstGeom>
          <a:noFill/>
          <a:ln w="12708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914400" y="2362320"/>
            <a:ext cx="6934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，一个温馨的词语，它不能离开个体而存在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 txBox="1"/>
          <p:nvPr/>
        </p:nvSpPr>
        <p:spPr>
          <a:xfrm>
            <a:off x="1295280" y="2133720"/>
            <a:ext cx="160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集体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  <p:pic>
        <p:nvPicPr>
          <p:cNvPr id="425" name="" descr=""/>
          <p:cNvPicPr/>
          <p:nvPr/>
        </p:nvPicPr>
        <p:blipFill>
          <a:blip r:embed="rId1"/>
          <a:stretch/>
        </p:blipFill>
        <p:spPr>
          <a:xfrm>
            <a:off x="457200" y="3657600"/>
            <a:ext cx="3733920" cy="2971800"/>
          </a:xfrm>
          <a:prstGeom prst="rect">
            <a:avLst/>
          </a:prstGeom>
          <a:ln w="0">
            <a:noFill/>
          </a:ln>
        </p:spPr>
      </p:pic>
      <p:sp>
        <p:nvSpPr>
          <p:cNvPr id="426" name=""/>
          <p:cNvSpPr txBox="1"/>
          <p:nvPr/>
        </p:nvSpPr>
        <p:spPr>
          <a:xfrm>
            <a:off x="0" y="476280"/>
            <a:ext cx="67723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1</a:t>
            </a:r>
            <a:r>
              <a:rPr b="0" i="1" lang="zh-CN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、我是集体的一员</a:t>
            </a:r>
            <a:endParaRPr b="0" i="1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       </a:t>
            </a:r>
            <a:r>
              <a:rPr b="0" i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1</a:t>
            </a:r>
            <a:r>
              <a:rPr b="0" i="1" lang="zh-CN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）、集体与个体的关系：</a:t>
            </a:r>
            <a:endParaRPr b="0" i="1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2"/>
          <a:stretch/>
        </p:blipFill>
        <p:spPr>
          <a:xfrm>
            <a:off x="4427640" y="3068640"/>
            <a:ext cx="4500360" cy="36640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"/>
          <p:cNvGrpSpPr/>
          <p:nvPr/>
        </p:nvGrpSpPr>
        <p:grpSpPr>
          <a:xfrm>
            <a:off x="1547640" y="260280"/>
            <a:ext cx="6096240" cy="1067040"/>
            <a:chOff x="1547640" y="260280"/>
            <a:chExt cx="6096240" cy="1067040"/>
          </a:xfrm>
        </p:grpSpPr>
        <p:sp>
          <p:nvSpPr>
            <p:cNvPr id="521" name=""/>
            <p:cNvSpPr/>
            <p:nvPr/>
          </p:nvSpPr>
          <p:spPr>
            <a:xfrm>
              <a:off x="1547640" y="260280"/>
              <a:ext cx="6096240" cy="1067040"/>
            </a:xfrm>
            <a:prstGeom prst="ellipse">
              <a:avLst/>
            </a:prstGeom>
            <a:solidFill>
              <a:srgbClr val="edfad2"/>
            </a:solidFill>
            <a:ln w="93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你该怎么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22" name="" descr=""/>
            <p:cNvPicPr/>
            <p:nvPr/>
          </p:nvPicPr>
          <p:blipFill>
            <a:blip r:embed="rId1"/>
            <a:stretch/>
          </p:blipFill>
          <p:spPr>
            <a:xfrm>
              <a:off x="6012000" y="476280"/>
              <a:ext cx="431640" cy="720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3" name=""/>
          <p:cNvSpPr/>
          <p:nvPr/>
        </p:nvSpPr>
        <p:spPr>
          <a:xfrm>
            <a:off x="755640" y="148428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离校广播操比赛只有三天了，可是你发现自己做操很不到位，如果去参赛，很有可能影响班级的成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午修时你正在教室里做作业，这时其他班级的几个同学到你班级来捣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）一天早晨，你第一个来到学校，你发现有小偷正在偷学校的电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4" name="ShockwaveFlash1"/>
          <p:cNvGraphicFramePr/>
          <p:nvPr/>
        </p:nvGraphicFramePr>
        <p:xfrm>
          <a:off x="179280" y="260280"/>
          <a:ext cx="8494920" cy="5905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5" name="ShockwaveFlash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9280" y="260280"/>
                    <a:ext cx="8494920" cy="5905440"/>
                  </a:xfrm>
                  <a:prstGeom prst="rect">
                    <a:avLst/>
                  </a:prstGeom>
                  <a:ln w="9360">
                    <a:solidFill>
                      <a:srgbClr val="ffffff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380880" y="762120"/>
            <a:ext cx="8610840" cy="541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99"/>
                </a:solidFill>
                <a:latin typeface="华文细黑"/>
                <a:ea typeface="华文细黑"/>
              </a:rPr>
              <a:t>承担关爱集体的责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人与集体相互依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我是集体的一员               个人利益与集体利益相联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个人应该关心和维护集体的利益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承担关爱集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的责任                                                    关爱集体，建设集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关爱集体  人人有责       自觉维护集体的荣誉和利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发扬集体的好作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善于团结他人，让集体发挥更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力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057400" y="3200400"/>
            <a:ext cx="76320" cy="1676520"/>
          </a:xfrm>
          <a:custGeom>
            <a:avLst/>
            <a:gdLst>
              <a:gd name="textAreaLeft" fmla="*/ 48960 w 76320"/>
              <a:gd name="textAreaRight" fmla="*/ 76320 w 7632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4572000" y="26668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48320" y="4724280"/>
            <a:ext cx="152280" cy="1219320"/>
          </a:xfrm>
          <a:custGeom>
            <a:avLst/>
            <a:gdLst>
              <a:gd name="textAreaLeft" fmla="*/ 97200 w 152280"/>
              <a:gd name="textAreaRight" fmla="*/ 152640 w 15228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114300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200" spc="-1" strike="noStrike">
                <a:solidFill>
                  <a:srgbClr val="ff0000"/>
                </a:solidFill>
                <a:latin typeface="Verdana"/>
                <a:ea typeface="华文新魏"/>
              </a:rPr>
              <a:t>课堂练习：</a:t>
            </a:r>
            <a:br>
              <a:rPr sz="5200"/>
            </a:br>
            <a:r>
              <a:rPr b="0" lang="zh-CN" sz="3600" spc="-1" strike="noStrike">
                <a:solidFill>
                  <a:srgbClr val="000000"/>
                </a:solidFill>
                <a:latin typeface="宋体"/>
                <a:ea typeface="黑体"/>
              </a:rPr>
              <a:t>一．是非判断题（对的打“√”，错的打“ⅹ”）</a:t>
            </a:r>
            <a:br>
              <a:rPr sz="3600"/>
            </a:br>
            <a:endParaRPr b="0" lang="en-US" sz="3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106668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“人心齐，泰山移”说明了团结的集体才有凝聚力和战斗力的道理。（          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我们每一个人生活在集体中，所以，我们每一个人都应主动关心集体，建设集体。（       ）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2272680" y="33526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396760" y="5181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250920" y="182520"/>
            <a:ext cx="43909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0000"/>
                </a:solidFill>
                <a:latin typeface="Arial"/>
              </a:rPr>
              <a:t>出谋划策：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4000" y="1484280"/>
            <a:ext cx="8642160" cy="193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1001"/>
              </a:spcBef>
              <a:buClr>
                <a:srgbClr val="0066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一个良好的班集体总是会激励着学生主动、健康地成长，使学生能心情愉快，充满激情地投入到学习生活中。你能为如何增强班级凝聚力提一些建议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1142640" y="9140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800" spc="-1" strike="noStrike">
                <a:solidFill>
                  <a:srgbClr val="ff0000"/>
                </a:solidFill>
                <a:latin typeface="Verdana"/>
                <a:ea typeface="华文新魏"/>
              </a:rPr>
              <a:t>堂上练习：单选</a:t>
            </a:r>
            <a:br>
              <a:rPr sz="5800"/>
            </a:br>
            <a:endParaRPr b="0" lang="en-US" sz="5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Verdana"/>
                <a:ea typeface="华文新魏"/>
              </a:rPr>
              <a:t>      </a:t>
            </a:r>
            <a:endParaRPr b="0" lang="en-US" sz="80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>
            <a:off x="1143000" y="1523880"/>
            <a:ext cx="7331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“大河有水小河满，大河无水小河干”这说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整体利益必须服从局部利益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个人利益与集体利益是相互依存的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维护集体利益就不能追求个人利益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集体利益要服从个人利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3834000" y="3394080"/>
            <a:ext cx="159948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2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endParaRPr b="0" lang="en-US" sz="1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1066680" y="4572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放学了，可今天轮到小明的小组打扫卫生，因为想着要看“世界杯”足球赛，于是随便扫了一下地，把垃圾堆在一边就走了。对于小明的行为，你认为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不倒垃圾是错误的，我们生活在集体中，就应对集体负责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为了看向往已久的“世界杯”足球赛，而没倒垃圾这是情理之中的事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倒垃圾是每个人的责任，不一定非要小明倒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我们每个人都不能离开社会而生存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4289040" y="3657600"/>
            <a:ext cx="2670840" cy="27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r>
              <a:rPr b="0" lang="zh-CN" sz="17200" spc="-1" strike="noStrike">
                <a:solidFill>
                  <a:srgbClr val="ff0000"/>
                </a:solidFill>
                <a:latin typeface="华文中宋"/>
                <a:ea typeface="华文中宋"/>
              </a:rPr>
              <a:t>A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1042920" y="112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3.“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不要问别人能为自己做些什么，而要问自己能为别人做些什么；不要问国家能为我们做些什么，而要问事处我们能为国家做些什么”。这表明：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人生价值的实现体现在我得到了什么     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，人人有责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集体利益、他人利益高于个人利益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必须以社会对个人的尊重为满足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>
            <a:off x="4011480" y="3914640"/>
            <a:ext cx="18889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</a:t>
            </a:r>
            <a:r>
              <a:rPr b="0" lang="en-US" sz="15600" spc="-1" strike="noStrike">
                <a:solidFill>
                  <a:srgbClr val="ff0000"/>
                </a:solidFill>
                <a:latin typeface="华文中宋"/>
                <a:ea typeface="华文中宋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/>
          </p:nvPr>
        </p:nvSpPr>
        <p:spPr>
          <a:xfrm>
            <a:off x="826920" y="761760"/>
            <a:ext cx="801216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家科研机构招聘人才时的首项要求是“不关爱集体的人坚决不用”。对此，说法不正确的是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，应成为衡量现代人才的标准之一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关爱集体，才可能为集体贡献才智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C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人人关爱集体，集体才有凝聚力和战斗力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 algn="just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D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．人才招聘应主要看学历，其它无关紧要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5" name=""/>
          <p:cNvSpPr/>
          <p:nvPr/>
        </p:nvSpPr>
        <p:spPr>
          <a:xfrm>
            <a:off x="3671280" y="4543560"/>
            <a:ext cx="2492280" cy="22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</a:t>
            </a:r>
            <a:r>
              <a:rPr b="0" lang="zh-CN" sz="14200" spc="-1" strike="noStrike">
                <a:solidFill>
                  <a:srgbClr val="ff0000"/>
                </a:solidFill>
                <a:latin typeface="华文中宋"/>
                <a:ea typeface="华文中宋"/>
              </a:rPr>
              <a:t>D </a:t>
            </a:r>
            <a:r>
              <a:rPr b="0" lang="zh-CN" sz="32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5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838080" y="304920"/>
            <a:ext cx="7391520" cy="6553080"/>
          </a:xfrm>
          <a:prstGeom prst="rect">
            <a:avLst/>
          </a:prstGeom>
          <a:noFill/>
          <a:ln w="127080">
            <a:solidFill>
              <a:srgbClr val="99cc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42920" y="54936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也只有紧紧地依靠集体，才能有无穷的力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0" name=""/>
          <p:cNvGrpSpPr/>
          <p:nvPr/>
        </p:nvGrpSpPr>
        <p:grpSpPr>
          <a:xfrm>
            <a:off x="1187280" y="2637000"/>
            <a:ext cx="6849720" cy="2722320"/>
            <a:chOff x="1187280" y="2637000"/>
            <a:chExt cx="6849720" cy="2722320"/>
          </a:xfrm>
        </p:grpSpPr>
        <p:sp>
          <p:nvSpPr>
            <p:cNvPr id="431" name=""/>
            <p:cNvSpPr/>
            <p:nvPr/>
          </p:nvSpPr>
          <p:spPr>
            <a:xfrm>
              <a:off x="1187280" y="3246480"/>
              <a:ext cx="4554000" cy="14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一滴水只有放进大海，才能永不干涸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——</a:t>
              </a: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雷 锋</a:t>
              </a:r>
              <a:r>
                <a:rPr b="1" lang="zh-CN" sz="36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32" name="" descr=""/>
            <p:cNvPicPr/>
            <p:nvPr/>
          </p:nvPicPr>
          <p:blipFill>
            <a:blip r:embed="rId1"/>
            <a:stretch/>
          </p:blipFill>
          <p:spPr>
            <a:xfrm>
              <a:off x="5904000" y="2637000"/>
              <a:ext cx="2133000" cy="2722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3" name=""/>
          <p:cNvSpPr txBox="1"/>
          <p:nvPr/>
        </p:nvSpPr>
        <p:spPr>
          <a:xfrm>
            <a:off x="1295280" y="533520"/>
            <a:ext cx="1609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0">
                  <a:noFill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隶书"/>
              </a:rPr>
              <a:t>个体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隶书"/>
              <a:ea typeface="隶书"/>
            </a:endParaRPr>
          </a:p>
        </p:txBody>
      </p:sp>
    </p:spTree>
  </p:cSld>
  <p:transition>
    <p:dissolv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152280" y="76320"/>
          <a:ext cx="8991720" cy="6746760"/>
        </p:xfrm>
        <a:graphic>
          <a:graphicData uri="http://schemas.openxmlformats.org/drawingml/2006/table">
            <a:tbl>
              <a:tblPr/>
              <a:tblGrid>
                <a:gridCol w="1371600"/>
                <a:gridCol w="3678480"/>
                <a:gridCol w="394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我的难题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小龙，你好！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刚才我接到几年没见的表哥打来电话，说他明天</a:t>
                      </a:r>
                      <a:r>
                        <a:rPr b="1" lang="zh-CN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:30</a:t>
                      </a:r>
                      <a:r>
                        <a:rPr b="1" lang="zh-CN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左右到达火车站，半小时后就要转乘飞机离开，希望我</a:t>
                      </a:r>
                      <a:r>
                        <a:rPr b="1" lang="zh-CN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:30</a:t>
                      </a:r>
                      <a:r>
                        <a:rPr b="1" lang="zh-CN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能够到火车站见一面。我很想见表哥，但明天我们班要进行暑假社会实践活动，</a:t>
                      </a:r>
                      <a:r>
                        <a:rPr b="1" lang="zh-CN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7:30</a:t>
                      </a:r>
                      <a:r>
                        <a:rPr b="1" lang="zh-CN" sz="32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准时从学校出发，小龙，你说我该怎么办</a:t>
                      </a:r>
                      <a:r>
                        <a:rPr b="1" lang="zh-CN" sz="3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？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438" name=""/>
          <p:cNvSpPr/>
          <p:nvPr/>
        </p:nvSpPr>
        <p:spPr>
          <a:xfrm>
            <a:off x="1908000" y="3213000"/>
            <a:ext cx="6624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1763640" y="3716280"/>
            <a:ext cx="6769080" cy="1556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800" spc="-1" strike="noStrike">
                <a:solidFill>
                  <a:srgbClr val="ffffff"/>
                </a:solidFill>
                <a:latin typeface="Arial"/>
              </a:rPr>
              <a:t>你们认为王小明应该怎么办？为什么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395280" y="1916280"/>
            <a:ext cx="8569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e0d11"/>
                </a:solidFill>
                <a:latin typeface="黑体"/>
                <a:ea typeface="黑体"/>
              </a:rPr>
              <a:t>集体利益与个人利益是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相互依存</a:t>
            </a:r>
            <a:r>
              <a:rPr b="1" lang="zh-CN" sz="3200" spc="-1" strike="noStrike">
                <a:solidFill>
                  <a:srgbClr val="0e0d11"/>
                </a:solidFill>
                <a:latin typeface="黑体"/>
                <a:ea typeface="黑体"/>
              </a:rPr>
              <a:t>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cc6600"/>
                </a:solidFill>
                <a:latin typeface="黑体"/>
                <a:ea typeface="黑体"/>
              </a:rPr>
              <a:t>一旦集体利益受损，个体利益也难以保证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；只有维护集体利益，个人利益才有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保障个人利益是集体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责任</a:t>
            </a:r>
            <a:r>
              <a:rPr b="1" lang="zh-CN" sz="3200" spc="-1" strike="noStrike">
                <a:solidFill>
                  <a:srgbClr val="009900"/>
                </a:solidFill>
                <a:latin typeface="黑体"/>
                <a:ea typeface="黑体"/>
              </a:rPr>
              <a:t>，而集体利益是集体中每个成员努力的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结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 txBox="1"/>
          <p:nvPr/>
        </p:nvSpPr>
        <p:spPr>
          <a:xfrm>
            <a:off x="0" y="476280"/>
            <a:ext cx="8601120" cy="10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2</a:t>
            </a:r>
            <a:r>
              <a:rPr b="0" i="1" lang="zh-CN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）、集体利益与个人利益的关系：</a:t>
            </a:r>
            <a:r>
              <a:rPr b="0" i="1" lang="en-US" sz="40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0000ff">
                    <a:alpha val="50000"/>
                  </a:srgbClr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p20</a:t>
            </a:r>
            <a:endParaRPr b="0" i="1" lang="en-US" sz="4000" spc="1" strike="noStrike">
              <a:ln w="9360">
                <a:solidFill>
                  <a:srgbClr val="0000ff"/>
                </a:solidFill>
                <a:miter/>
              </a:ln>
              <a:solidFill>
                <a:srgbClr val="0000ff">
                  <a:alpha val="50000"/>
                </a:srgbClr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43" name=""/>
          <p:cNvSpPr/>
          <p:nvPr/>
        </p:nvSpPr>
        <p:spPr>
          <a:xfrm>
            <a:off x="971640" y="522936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8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549360"/>
            <a:ext cx="79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0000ff"/>
                </a:solidFill>
                <a:latin typeface="Arial"/>
                <a:ea typeface="宋体"/>
              </a:rPr>
              <a:t>3)</a:t>
            </a:r>
            <a:r>
              <a:rPr b="1" i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正确处理集体利益与个人利益的原则</a:t>
            </a:r>
            <a:r>
              <a:rPr b="1" i="1" lang="zh-CN" sz="4800" spc="-1" strike="noStrike">
                <a:solidFill>
                  <a:srgbClr val="0000ff"/>
                </a:solidFill>
                <a:latin typeface="Arial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042920" y="2276640"/>
            <a:ext cx="741672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cc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</a:rPr>
              <a:t>集体应充分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尊重和保护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</a:rPr>
              <a:t>个人利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e0d11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</a:rPr>
              <a:t>个人更应该积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关心和维护</a:t>
            </a:r>
            <a:r>
              <a:rPr b="1" lang="zh-CN" sz="3600" spc="-1" strike="noStrike">
                <a:solidFill>
                  <a:srgbClr val="0e0d11"/>
                </a:solidFill>
                <a:latin typeface="Arial"/>
              </a:rPr>
              <a:t>集体利益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1835280" y="5303880"/>
            <a:ext cx="6697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3.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当个人利益与集体利益相冲突时，个人利益要服从集体利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1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9" name=""/>
          <p:cNvGraphicFramePr/>
          <p:nvPr/>
        </p:nvGraphicFramePr>
        <p:xfrm>
          <a:off x="152280" y="76320"/>
          <a:ext cx="8991720" cy="6746760"/>
        </p:xfrm>
        <a:graphic>
          <a:graphicData uri="http://schemas.openxmlformats.org/drawingml/2006/table">
            <a:tbl>
              <a:tblPr/>
              <a:tblGrid>
                <a:gridCol w="1371600"/>
                <a:gridCol w="3678480"/>
                <a:gridCol w="394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Verdana"/>
                        </a:rPr>
                        <a:t>我的回复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1368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6</a:t>
                      </a:r>
                      <a:r>
                        <a:rPr b="1" lang="zh-CN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576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6699"/>
                      </a:solidFill>
                    </a:lnL>
                    <a:lnR w="576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</a:t>
                      </a:r>
                      <a:r>
                        <a:rPr b="1" lang="zh-CN" sz="3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小明，你好！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        </a:t>
                      </a:r>
                      <a:r>
                        <a:rPr b="1" lang="zh-CN" sz="3600" spc="-1" strike="noStrike">
                          <a:solidFill>
                            <a:srgbClr val="006699"/>
                          </a:solidFill>
                          <a:latin typeface="Verdana"/>
                        </a:rPr>
                        <a:t>你应该去参加班级的暑期社会实践活动。因为这是集体利益，而“见你表哥”则是个人利益，当个人利益与集体利益相冲突时，个人利益要服从集体利益。同时我衷心的希望你在今后的日子里能够多去关爱集体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6699"/>
                      </a:solidFill>
                    </a:lnL>
                    <a:lnR w="13680">
                      <a:solidFill>
                        <a:srgbClr val="006699"/>
                      </a:solidFill>
                    </a:lnR>
                    <a:lnT w="5760">
                      <a:solidFill>
                        <a:srgbClr val="006699"/>
                      </a:solidFill>
                    </a:lnT>
                    <a:lnB w="13680">
                      <a:solidFill>
                        <a:srgbClr val="0066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50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>
            <a:off x="1619280" y="4076640"/>
            <a:ext cx="669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908000" y="5157720"/>
            <a:ext cx="6767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5" name=""/>
          <p:cNvGraphicFramePr/>
          <p:nvPr/>
        </p:nvGraphicFramePr>
        <p:xfrm>
          <a:off x="152280" y="76320"/>
          <a:ext cx="8991720" cy="6746760"/>
        </p:xfrm>
        <a:graphic>
          <a:graphicData uri="http://schemas.openxmlformats.org/drawingml/2006/table">
            <a:tbl>
              <a:tblPr/>
              <a:tblGrid>
                <a:gridCol w="1371600"/>
                <a:gridCol w="3678480"/>
                <a:gridCol w="394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所做所为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小龙，我是班级里一名普通学生，大家都叫我“管事大王”。为了美化教室，我动员大家从家里带来花卉；邻班同学来借卫生用具，我记在心里及时要回；我一天往公布成绩的布告栏跑好几趟，然后在第一时间向全班发布本班的参赛成绩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方正舒体"/>
                          <a:ea typeface="方正舒体"/>
                        </a:rPr>
                        <a:t>……</a:t>
                      </a: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一次，我要求值日马虎的同学重新打扫教室，值日生气呼呼地冲着我大嚷：“你是卫生委员吗？真是多管闲事！”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56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0" y="0"/>
            <a:ext cx="9144000" cy="6858000"/>
          </a:xfrm>
          <a:prstGeom prst="flowChartProcess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724120" y="5162400"/>
            <a:ext cx="18432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1" name=""/>
          <p:cNvGraphicFramePr/>
          <p:nvPr/>
        </p:nvGraphicFramePr>
        <p:xfrm>
          <a:off x="152280" y="76320"/>
          <a:ext cx="8991720" cy="6746760"/>
        </p:xfrm>
        <a:graphic>
          <a:graphicData uri="http://schemas.openxmlformats.org/drawingml/2006/table">
            <a:tbl>
              <a:tblPr/>
              <a:tblGrid>
                <a:gridCol w="1371600"/>
                <a:gridCol w="3678480"/>
                <a:gridCol w="394164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主  题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0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“</a:t>
                      </a:r>
                      <a:r>
                        <a:rPr b="1" lang="zh-CN" sz="4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我的问题”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发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王小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6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收件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赵小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797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内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容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小龙，遇到这种情况，我该怎么办？你遇到到过这种类似的现象吗？假如让这种现象延续下去，我们的班级将会</a:t>
                      </a:r>
                      <a:r>
                        <a:rPr b="1" lang="zh-CN" sz="2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…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62" name="" descr=""/>
          <p:cNvPicPr/>
          <p:nvPr/>
        </p:nvPicPr>
        <p:blipFill>
          <a:blip r:embed="rId1"/>
          <a:stretch/>
        </p:blipFill>
        <p:spPr>
          <a:xfrm>
            <a:off x="7740720" y="189000"/>
            <a:ext cx="685800" cy="12189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/>
          <p:nvPr/>
        </p:nvSpPr>
        <p:spPr>
          <a:xfrm>
            <a:off x="1835280" y="3213000"/>
            <a:ext cx="662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535120" y="6575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6:28:28Z</dcterms:created>
  <dc:creator>王桂芳</dc:creator>
  <dc:description/>
  <dc:language>en-US</dc:language>
  <cp:lastModifiedBy>创编</cp:lastModifiedBy>
  <dcterms:modified xsi:type="dcterms:W3CDTF">2009-03-27T03:44:07Z</dcterms:modified>
  <cp:revision>129</cp:revision>
  <dc:subject>为您服务教育网http://www.wsbedu.com/</dc:subject>
  <dc:title>幻灯片 1</dc:title>
</cp:coreProperties>
</file>