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C9B-08A9-40F3-B81F-BC2523AC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C02-AE51-4688-8854-79E0860D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370-0A8D-460C-AAA1-1EA3C855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D67-2715-4FBB-8AC3-80B5E9A1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189E-11E7-40E4-8CE1-2CDA7EB2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7CC4-FAD1-4250-871D-B4F1EBAC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39D2-7BD2-48C8-A926-56D65BC2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780B-3173-4A45-A80F-46B49394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EDC1-6402-4C35-92D8-1234FB94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4581-024B-4EF3-B05C-66EBA56A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7D6E-97B5-415A-B653-E2D7A6E7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717-609A-445F-90B3-D60011E2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D2B1-A908-474C-AD55-0B0F43D4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3F9C-245E-43E2-82E9-D47620CF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4BEB-6809-40D4-B063-975304B0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640D-55FE-4316-B26F-BE5A9CD0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12EE-1107-4A72-BC01-A4ACF95F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8AC-6CAF-4572-9AE7-89F0BBAD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733-7BCA-4CE8-8B73-A86137D6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389-43C9-4E68-9894-C8E8B0F6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FD3-3F47-4A57-9B2C-4A31AA60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9E6-D004-4DE0-BD0B-B14A27C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9B0-F0F6-404A-832C-889278D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05E-2D34-47E1-932A-38C8B99A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1a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A926-8D1C-43B5-B6FC-CF2FCA4111E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1a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1DE9-06AF-41FD-8ED1-FED64AA3A20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传承孝道  学会感恩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大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孝感动天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故事给予我们的教育和启迪</a:t>
            </a:r>
            <a:br>
              <a:rPr sz="4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55640" y="2781360"/>
            <a:ext cx="410364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Times New Roman"/>
              <a:ea typeface="楷体_GB2312"/>
            </a:endParaRPr>
          </a:p>
        </p:txBody>
      </p:sp>
      <p:pic>
        <p:nvPicPr>
          <p:cNvPr id="94" name="Picture 5" descr="76c96244-07d0-41ca-9c83-e8b186d3dd9f"/>
          <p:cNvPicPr/>
          <p:nvPr/>
        </p:nvPicPr>
        <p:blipFill>
          <a:blip r:embed="rId1"/>
          <a:stretch/>
        </p:blipFill>
        <p:spPr>
          <a:xfrm>
            <a:off x="1908000" y="2565360"/>
            <a:ext cx="5543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汉文帝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亲尝汤药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故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公元前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，刘邦建立了西汉政权。刘邦的三儿子刘恒（即后来的汉文帝），是一个有名的大孝子。刘恒对他的母亲皇太后很孝顺，从来也不怠慢。有一次，他的母亲患了重病，这可急坏了刘恒。他母亲一病就是三年，卧床不起。刘恒亲自为母亲煎药汤，并且日夜守护在母亲的床前。每次看到母亲睡了，才趴在母亲床边睡一会儿。刘恒天天为母亲煎药，每次煎完，自己总先尝一尝，看看汤药苦不苦，烫不烫，自己觉得差不多了，才给母亲喝。刘恒孝顺母亲的事，在朝野广为流传。人们都称赞他是一个仁孝之子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陈毅探母”的故事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2920" y="3429000"/>
            <a:ext cx="403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4516828951277298186"/>
          <p:cNvPicPr/>
          <p:nvPr/>
        </p:nvPicPr>
        <p:blipFill>
          <a:blip r:embed="rId1"/>
          <a:stretch/>
        </p:blipFill>
        <p:spPr>
          <a:xfrm>
            <a:off x="684360" y="1628640"/>
            <a:ext cx="5400360" cy="430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ages"/>
          <p:cNvPicPr/>
          <p:nvPr/>
        </p:nvPicPr>
        <p:blipFill>
          <a:blip r:embed="rId2"/>
          <a:stretch/>
        </p:blipFill>
        <p:spPr>
          <a:xfrm>
            <a:off x="6443640" y="1916280"/>
            <a:ext cx="1882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陈毅探母”的故事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年代初，陈毅时任国务院副总理兼外交部长，日理万机，公务繁忙。</a:t>
            </a:r>
            <a:br>
              <a:rPr sz="1600"/>
            </a:b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       那年，陈毅六十二岁，他出国访问归来，得知老母亲病重，下了飞机就去看望。陈毅刚跨进家门，就看见母亲让身边照顾她的保姆藏起了什么东西，忙问：“娘，你把什么东西藏在床下了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?”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母亲眼看瞒不过去，只好如实告诉儿子，藏起来的是她刚尿湿的裤子。陈毅听了，动情地说：“娘，您久病在身，我不能在您身边侍候您老人家，心里着实难受。这裤子我马上拿去洗了，还藏着做啥子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?”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好说歹说，保姆怎么也不让陈毅洗，觉得让这么大的官去洗屎尿脏裤子，多不好。母亲也劝阻道：“你好不容易回家一趟，一进门就让你洗脏裤子怎么行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?”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     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陈毅说：“我不是说着玩的，您就允了吧。我小的时候，不知您多少次给我洗尿布屎裤。现在，儿子有机会为您老人家洗一洗脏裤，虽然不能报答您的养育之恩，也总算尽了一份孝心吧。”</a:t>
            </a:r>
            <a:br>
              <a:rPr sz="1600"/>
            </a:b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       不容再推辞，陈毅便躬下身从床下拿出母亲的尿裤和其他脏衣服，一起去洗得干干净净。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弘扬传统文化 传承民族孝道</a:t>
            </a: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“感动中国十大孝子”王凯、王锐兄弟</a:t>
            </a:r>
            <a:br>
              <a:rPr sz="2000"/>
            </a:br>
            <a:br>
              <a:rPr sz="2000"/>
            </a:br>
            <a:r>
              <a:rPr b="0" lang="zh-CN" sz="1800" spc="-1" strike="noStrike">
                <a:solidFill>
                  <a:srgbClr val="66ff33"/>
                </a:solidFill>
                <a:latin typeface="Times New Roman"/>
              </a:rPr>
              <a:t>王凯、王锐兄弟俩是黑龙江兰西县农机局汽车队退休职工。为了完成父亲的遗愿，实现母亲的夙愿，从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2007</a:t>
            </a:r>
            <a:r>
              <a:rPr b="0" lang="zh-CN" sz="1800" spc="-1" strike="noStrike">
                <a:solidFill>
                  <a:srgbClr val="66ff33"/>
                </a:solidFill>
                <a:latin typeface="Times New Roman"/>
              </a:rPr>
              <a:t>年至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2010</a:t>
            </a:r>
            <a:r>
              <a:rPr b="0" lang="zh-CN" sz="1800" spc="-1" strike="noStrike">
                <a:solidFill>
                  <a:srgbClr val="66ff33"/>
                </a:solidFill>
                <a:latin typeface="Times New Roman"/>
              </a:rPr>
              <a:t>年，年逾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66ff33"/>
                </a:solidFill>
                <a:latin typeface="Times New Roman"/>
              </a:rPr>
              <a:t>旬的王凯、王锐兄弟俩，自制板车作“房车”，取名“感恩号”载着八旬母亲畅游中华。三人风餐露宿，磨破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37</a:t>
            </a:r>
            <a:r>
              <a:rPr b="0" lang="zh-CN" sz="1800" spc="-1" strike="noStrike">
                <a:solidFill>
                  <a:srgbClr val="66ff33"/>
                </a:solidFill>
                <a:latin typeface="Times New Roman"/>
              </a:rPr>
              <a:t>双鞋，徒步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30</a:t>
            </a:r>
            <a:r>
              <a:rPr b="0" lang="zh-CN" sz="1800" spc="-1" strike="noStrike">
                <a:solidFill>
                  <a:srgbClr val="66ff33"/>
                </a:solidFill>
                <a:latin typeface="Times New Roman"/>
              </a:rPr>
              <a:t>多个省，跨越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1000</a:t>
            </a:r>
            <a:r>
              <a:rPr b="0" lang="zh-CN" sz="1800" spc="-1" strike="noStrike">
                <a:solidFill>
                  <a:srgbClr val="66ff33"/>
                </a:solidFill>
                <a:latin typeface="Times New Roman"/>
              </a:rPr>
              <a:t>多个城市，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517</a:t>
            </a:r>
            <a:r>
              <a:rPr b="0" lang="zh-CN" sz="1800" spc="-1" strike="noStrike">
                <a:solidFill>
                  <a:srgbClr val="66ff33"/>
                </a:solidFill>
                <a:latin typeface="Times New Roman"/>
              </a:rPr>
              <a:t>天走过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3.7</a:t>
            </a:r>
            <a:r>
              <a:rPr b="0" lang="zh-CN" sz="1800" spc="-1" strike="noStrike">
                <a:solidFill>
                  <a:srgbClr val="66ff33"/>
                </a:solidFill>
                <a:latin typeface="Times New Roman"/>
              </a:rPr>
              <a:t>万里，完成了母亲畅游中华的感恩之旅。这段感恩的旅程，铸就了中国孝子的典范，兄弟两人因此当选为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2011</a:t>
            </a:r>
            <a:r>
              <a:rPr b="0" lang="zh-CN" sz="1800" spc="-1" strike="noStrike">
                <a:solidFill>
                  <a:srgbClr val="66ff33"/>
                </a:solidFill>
                <a:latin typeface="Times New Roman"/>
              </a:rPr>
              <a:t>年“感动中国十大孝子”网络人物。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7740720" y="4581360"/>
            <a:ext cx="753840" cy="75420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754200"/>
              <a:gd name="textAreaBottom" fmla="*/ 705600 h 75420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306"/>
                </a:moveTo>
                <a:lnTo>
                  <a:pt x="4707" y="7306"/>
                </a:lnTo>
                <a:lnTo>
                  <a:pt x="5090" y="7672"/>
                </a:lnTo>
                <a:lnTo>
                  <a:pt x="14299" y="7672"/>
                </a:lnTo>
                <a:lnTo>
                  <a:pt x="14856" y="8229"/>
                </a:lnTo>
                <a:lnTo>
                  <a:pt x="14856" y="8777"/>
                </a:lnTo>
                <a:lnTo>
                  <a:pt x="16701" y="8777"/>
                </a:lnTo>
                <a:lnTo>
                  <a:pt x="17067" y="8229"/>
                </a:lnTo>
                <a:lnTo>
                  <a:pt x="17806" y="8229"/>
                </a:lnTo>
                <a:lnTo>
                  <a:pt x="17806" y="13381"/>
                </a:lnTo>
                <a:lnTo>
                  <a:pt x="17067" y="13381"/>
                </a:lnTo>
                <a:lnTo>
                  <a:pt x="16701" y="12833"/>
                </a:lnTo>
                <a:lnTo>
                  <a:pt x="14856" y="12833"/>
                </a:lnTo>
                <a:lnTo>
                  <a:pt x="14856" y="14113"/>
                </a:lnTo>
                <a:lnTo>
                  <a:pt x="5273" y="14113"/>
                </a:lnTo>
                <a:lnTo>
                  <a:pt x="5273" y="9883"/>
                </a:lnTo>
                <a:lnTo>
                  <a:pt x="5090" y="9883"/>
                </a:lnTo>
                <a:lnTo>
                  <a:pt x="4707" y="10248"/>
                </a:lnTo>
                <a:lnTo>
                  <a:pt x="3794" y="10248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77724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讲求孝道、懂得感恩，才会得到赞扬和尊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古代要当个县官、州官，要通过科举考试，除了文化知识考试之外，孝顺不孝顺也是将来能不能做官的一个重要标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现在，许多地方公开选拔领导干部，也把孝敬父母老人做为干部品行考核的内容之一，不孝顺父母，不能当提拔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在一个单位也是一样，孝敬父母的，人人都赞扬，如果不孝敬父母，别人都看不起他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践行孝道，从我做起，从小事做起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作为小学生，目前还没有太大的能力去为父母分忧，也不能够挣太多的钱去赡养父母，但不是不能践行孝文化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发扬孝文化，有大有小，小学生更需要从小事做起，从身边的事做起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4220640"/>
            <a:ext cx="7772400" cy="9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26920" y="1844640"/>
            <a:ext cx="77724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55640" y="3500280"/>
            <a:ext cx="77724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826920" y="1700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389880"/>
            <a:ext cx="1222200" cy="137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691920"/>
            <a:ext cx="77724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关心父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尊重父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体谅父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帮助父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赡养父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2426200810101390580"/>
          <p:cNvPicPr/>
          <p:nvPr/>
        </p:nvPicPr>
        <p:blipFill>
          <a:blip r:embed="rId1"/>
          <a:stretch/>
        </p:blipFill>
        <p:spPr>
          <a:xfrm>
            <a:off x="3851280" y="981000"/>
            <a:ext cx="46814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99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549000"/>
            <a:ext cx="77724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通过学习舜的孝行，同学们要树立这样一个信念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学校做一个好好学习、品学兼优的好学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家里做一个懂得感恩、孝敬父母的好孩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社会上做一个遵规守纪、文明礼貌的好少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将来努力成为德才兼备、奉献社会的国家栋梁之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这是我的祝愿，也是每一位老师和家长的期待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13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22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89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4568"/>
                </a:solidFill>
                <a:latin typeface="Times New Roman"/>
              </a:rPr>
              <a:t>谢谢同学们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P1120656"/>
          <p:cNvPicPr/>
          <p:nvPr/>
        </p:nvPicPr>
        <p:blipFill>
          <a:blip r:embed="rId1"/>
          <a:stretch/>
        </p:blipFill>
        <p:spPr>
          <a:xfrm>
            <a:off x="755640" y="2781360"/>
            <a:ext cx="7920000" cy="31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二十四孝之首：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孝感动天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23640" y="3212640"/>
            <a:ext cx="4753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tp-hzy-041202-041"/>
          <p:cNvPicPr/>
          <p:nvPr/>
        </p:nvPicPr>
        <p:blipFill>
          <a:blip r:embed="rId1"/>
          <a:stretch/>
        </p:blipFill>
        <p:spPr>
          <a:xfrm>
            <a:off x="1835280" y="1700280"/>
            <a:ext cx="57610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孝感动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　　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传说中的远古帝王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五帝之一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姓姚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名重华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号有虞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史称虞舜。相传他的父亲瞽叟及继母、异母弟弟象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多次想害死他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让舜修补谷仓仓顶时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从谷仓下纵火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舜手持两个斗笠跳下逃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让舜掘井时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瞽叟与象却下土填井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舜掘地道逃脱。事后舜毫不嫉恨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仍对父亲恭顺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对弟弟慈爱。他的孝行感动了天帝。舜在历山耕种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大象替他耕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神鸟代他锄草。帝尧听说舜非常孝顺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有处理政事的才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把两个女儿娥皇和女英嫁给他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经过多年观察和考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选定舜做他的继承人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传承孝道，贯穿于中华民族整个文明发展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国五千多年的文明发展历史，也是孝文化传承的历史。可以说，孝行、孝道是中华民族传统道德中的核心内容之一，也是精髓之一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476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弟子规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弟子规 圣人训 首孝悌 次谨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弟子规这本书，是依据至圣先师孔子的教诲而编成的生活规范。首先在日常生活中，要做到孝顺父母，友爱兄弟姊妹。其次在一切日常生活言语行为中要小心谨慎，要讲信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7524720" y="4581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17" h="21600">
                <a:moveTo>
                  <a:pt x="5052" y="7301"/>
                </a:moveTo>
                <a:lnTo>
                  <a:pt x="5966" y="7301"/>
                </a:lnTo>
                <a:lnTo>
                  <a:pt x="6349" y="7667"/>
                </a:lnTo>
                <a:lnTo>
                  <a:pt x="15558" y="7667"/>
                </a:lnTo>
                <a:lnTo>
                  <a:pt x="16115" y="8224"/>
                </a:lnTo>
                <a:lnTo>
                  <a:pt x="16115" y="8772"/>
                </a:lnTo>
                <a:lnTo>
                  <a:pt x="17960" y="8772"/>
                </a:lnTo>
                <a:lnTo>
                  <a:pt x="18325" y="8224"/>
                </a:lnTo>
                <a:lnTo>
                  <a:pt x="19065" y="8224"/>
                </a:lnTo>
                <a:lnTo>
                  <a:pt x="19065" y="13376"/>
                </a:lnTo>
                <a:lnTo>
                  <a:pt x="18325" y="13376"/>
                </a:lnTo>
                <a:lnTo>
                  <a:pt x="17960" y="12828"/>
                </a:lnTo>
                <a:lnTo>
                  <a:pt x="16115" y="12828"/>
                </a:lnTo>
                <a:lnTo>
                  <a:pt x="16115" y="14107"/>
                </a:lnTo>
                <a:lnTo>
                  <a:pt x="6532" y="14107"/>
                </a:lnTo>
                <a:lnTo>
                  <a:pt x="6532" y="9877"/>
                </a:lnTo>
                <a:lnTo>
                  <a:pt x="6349" y="9877"/>
                </a:lnTo>
                <a:lnTo>
                  <a:pt x="5966" y="10243"/>
                </a:lnTo>
                <a:lnTo>
                  <a:pt x="5052" y="10243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77724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字经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香九龄，能温席。孝于亲，所当执 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东汉人黄香，九岁时就知道孝敬父亲，替父亲暖被窝。这是每个孝顺父母的人都应该实行和效仿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首孝悌，次见闻。知某数，识某文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人首先要学的是孝敬父母和兄弟友爱的道理，接下来是学习看到和听到的知识。并且要知道基本的算术和高深的数学，以及认识文字，阅读文学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古训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增广贤文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》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：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羊有跪乳之恩，鸦有反哺之义。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乌鸦妈妈把自己的孩子喂养大后，自己的一身羽毛就脱落了，这时候小乌鸦就飞来飞去给母亲喂食物，直到母亲的羽毛再次丰满能飞的时候才离开。幼小的羔羊饥饿的时候，总是跪在地上吃母亲的奶，感谢母亲的养育之恩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53835bf3ga03ea709e58f&amp;690"/>
          <p:cNvPicPr/>
          <p:nvPr/>
        </p:nvPicPr>
        <p:blipFill>
          <a:blip r:embed="rId1"/>
          <a:stretch/>
        </p:blipFill>
        <p:spPr>
          <a:xfrm>
            <a:off x="3780000" y="3429000"/>
            <a:ext cx="42973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安徽黄山黟县的西递村的“孝”字牌匾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620280"/>
            <a:ext cx="734544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这几年，我两次到安徽黄山，西递村明清古建筑众多，倡导孝行、民风淳朴，被列入世界历史文化遗产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村子的一个敬爱堂的祠堂里，除了供奉历代祖先的牌位，还专门挂有一个“孝”字牌匾。“ 孝”字的上部，酷似一位仰面作揖的人的形象，后脑象猴头。意思是讲礼数、讲孝道，就是人；不讲礼数、不讲孝道，就是猴子、是畜牲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5" descr="2007519171821"/>
          <p:cNvPicPr/>
          <p:nvPr/>
        </p:nvPicPr>
        <p:blipFill>
          <a:blip r:embed="rId1"/>
          <a:stretch/>
        </p:blipFill>
        <p:spPr>
          <a:xfrm>
            <a:off x="1692360" y="2133720"/>
            <a:ext cx="585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开创“文景之治”的汉文帝，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亲尝汤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故事也列入了二十四孝之一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68000" y="3284640"/>
            <a:ext cx="4032360" cy="21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Picture 7" descr="tp-hzy-041202-042"/>
          <p:cNvPicPr/>
          <p:nvPr/>
        </p:nvPicPr>
        <p:blipFill>
          <a:blip r:embed="rId1"/>
          <a:stretch/>
        </p:blipFill>
        <p:spPr>
          <a:xfrm>
            <a:off x="2195640" y="1660680"/>
            <a:ext cx="5113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4:02:18Z</dcterms:created>
  <dc:creator>tt</dc:creator>
  <dc:description/>
  <dc:language>en-US</dc:language>
  <cp:lastModifiedBy>clf2015</cp:lastModifiedBy>
  <dcterms:modified xsi:type="dcterms:W3CDTF">2015-09-14T01:41:02Z</dcterms:modified>
  <cp:revision>516</cp:revision>
  <dc:subject/>
  <dc:title> 中国传统文化与先进文化建设 </dc:title>
</cp:coreProperties>
</file>