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825-678D-4DB9-B6FD-D6300811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ACB-1A08-4579-9E31-71ACA361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248-374B-4487-A3F1-02F0F8B1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79B3-236B-44F8-9D25-CF2DBD39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AD6-2522-4A67-9D36-540CFABA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6256-11BC-4BEE-B37C-23198B7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72F4-B9AC-4029-83E7-D6E8E9D4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A91-5D6C-4DCA-B197-3A55F4A0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616-C1C2-4BD4-A2F6-0C57D66D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B956-9B2C-4801-B5BC-554645EA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2022-E6E8-4C75-AC86-C3ADBF64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A5F-A970-4B0B-AA7E-D10D5AB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8DE2-9788-4871-9F08-D677BBDB7F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fm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6019560" cy="5297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624560" y="569448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2895480"/>
            <a:ext cx="4648320" cy="23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§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猜猜我有多爱你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§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Sam McBratney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Anita Jeram  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ess08h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001040" y="5670720"/>
            <a:ext cx="105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格格笑着说：“我爱你，和我跳得一样高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跳来，又跳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guess09h" descr=""/>
          <p:cNvPicPr/>
          <p:nvPr/>
        </p:nvPicPr>
        <p:blipFill>
          <a:blip r:embed="rId2"/>
          <a:stretch/>
        </p:blipFill>
        <p:spPr>
          <a:xfrm>
            <a:off x="165240" y="30492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541008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微笑着说：“可是，我爱你和我跳得一样高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说着往上一跳，耳朵都碰到树枝了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跳得真高，小兔子想。要是我也能跳得和他一样高，该多好啊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guess10h" descr=""/>
          <p:cNvPicPr/>
          <p:nvPr/>
        </p:nvPicPr>
        <p:blipFill>
          <a:blip r:embed="rId2"/>
          <a:stretch/>
        </p:blipFill>
        <p:spPr>
          <a:xfrm>
            <a:off x="165240" y="30492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88720" y="5410080"/>
            <a:ext cx="143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大叫：“我爱你，一直穿过小路，到远远的河那边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说：“我爱你，一直穿过了小河，到山的那一边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guess11h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968960" cy="4613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4940280"/>
            <a:ext cx="826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想，那真是好远啊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快要睡过去了，什么也想不起来了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时，他看看树丛前方，无边的黑夜之中，再没有什么比那天空更遥远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guess12h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483400" cy="4848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93120" y="5410080"/>
            <a:ext cx="310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一直到月亮上面。”小兔子说着，闭上了眼睛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噢！那可真远，”大兔子说，“真的是非常、非常远了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guess14h" descr=""/>
          <p:cNvPicPr/>
          <p:nvPr/>
        </p:nvPicPr>
        <p:blipFill>
          <a:blip r:embed="rId2"/>
          <a:stretch/>
        </p:blipFill>
        <p:spPr>
          <a:xfrm>
            <a:off x="2666880" y="380880"/>
            <a:ext cx="3851280" cy="4572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，大兔子轻轻地躺在小兔子的旁边，带着一个微笑，小声说道：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我爱你，从这儿一直到月亮上面，再——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　　　　　　　　　　　　　　　　　　绕回来。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guess00h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5079960" cy="594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7240" y="990720"/>
            <a:ext cx="146016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兔子要上床睡觉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他紧紧抓住大兔子长长的耳朵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guess01h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8458200" cy="4757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92960" y="5305320"/>
            <a:ext cx="199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要大兔子认认真真地听他说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猜猜我有多爱你？”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噢，我想我猜不出来。”大兔子说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guess02h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8217000" cy="4736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20200" y="5486400"/>
            <a:ext cx="90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有这么多。”小兔子说着，使劲儿把两只手臂张得大大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guess03h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312040" cy="4770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5305320"/>
            <a:ext cx="5791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的手臂更长，他也张开手臂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：“可是，我爱你有这么多。”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想：嗯，这确实很多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uess04h" descr=""/>
          <p:cNvPicPr/>
          <p:nvPr/>
        </p:nvPicPr>
        <p:blipFill>
          <a:blip r:embed="rId2"/>
          <a:stretch/>
        </p:blipFill>
        <p:spPr>
          <a:xfrm>
            <a:off x="203040" y="380880"/>
            <a:ext cx="8737920" cy="5079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88360" y="5715000"/>
            <a:ext cx="150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就和我举得一样高。”小兔子说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guess05h" descr=""/>
          <p:cNvPicPr/>
          <p:nvPr/>
        </p:nvPicPr>
        <p:blipFill>
          <a:blip r:embed="rId2"/>
          <a:stretch/>
        </p:blipFill>
        <p:spPr>
          <a:xfrm>
            <a:off x="165240" y="457200"/>
            <a:ext cx="8813520" cy="5079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904920" y="5670720"/>
            <a:ext cx="14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爱你，和我举得一样高。”大兔子说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真的很高，小兔子想：要是我的手臂可以和他一样，该多好啊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guess06h" descr=""/>
          <p:cNvPicPr/>
          <p:nvPr/>
        </p:nvPicPr>
        <p:blipFill>
          <a:blip r:embed="rId2"/>
          <a:stretch/>
        </p:blipFill>
        <p:spPr>
          <a:xfrm>
            <a:off x="146160" y="304920"/>
            <a:ext cx="8851680" cy="50799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111920" y="5410080"/>
            <a:ext cx="114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子又有了个好点子。他脚顶着树干，倒立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边说：“我爱你一直到我的脚趾头！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uess07h" descr=""/>
          <p:cNvPicPr/>
          <p:nvPr/>
        </p:nvPicPr>
        <p:blipFill>
          <a:blip r:embed="rId2"/>
          <a:stretch/>
        </p:blipFill>
        <p:spPr>
          <a:xfrm>
            <a:off x="146160" y="380880"/>
            <a:ext cx="8851680" cy="507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58360" y="5670720"/>
            <a:ext cx="112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我爱你，一直到你的脚趾头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兔子说着，把小兔子抛起来，一下子抛过了他的头顶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3:23:14Z</dcterms:created>
  <dc:creator>ddm</dc:creator>
  <dc:description/>
  <dc:language>en-US</dc:language>
  <cp:lastModifiedBy>ddm</cp:lastModifiedBy>
  <dcterms:modified xsi:type="dcterms:W3CDTF">2006-09-27T05:01:49Z</dcterms:modified>
  <cp:revision>2</cp:revision>
  <dc:subject/>
  <dc:title>PowerPoint 演示文稿</dc:title>
</cp:coreProperties>
</file>