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32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11.xml" ContentType="application/vnd.openxmlformats-officedocument.theme+xml"/>
  <Override PartName="/ppt/theme/theme24.xml" ContentType="application/vnd.openxmlformats-officedocument.theme+xml"/>
  <Override PartName="/ppt/theme/theme5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_rels/presentation.xml.rels" ContentType="application/vnd.openxmlformats-package.relationships+xml"/>
  <Override PartName="/ppt/media/image26.png" ContentType="image/png"/>
  <Override PartName="/ppt/media/image24.png" ContentType="image/png"/>
  <Override PartName="/ppt/media/image27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3.png" ContentType="image/png"/>
  <Override PartName="/ppt/media/image29.jpeg" ContentType="image/jpeg"/>
  <Override PartName="/ppt/media/image8.jpeg" ContentType="image/jpeg"/>
  <Override PartName="/ppt/media/image11.png" ContentType="image/png"/>
  <Override PartName="/ppt/media/image9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1.jpeg" ContentType="image/jpeg"/>
  <Override PartName="/ppt/media/image4.jpeg" ContentType="image/jpeg"/>
  <Override PartName="/ppt/media/image25.png" ContentType="image/png"/>
  <Override PartName="/ppt/media/image2.jpeg" ContentType="image/jpeg"/>
  <Override PartName="/ppt/media/image23.jpeg" ContentType="image/jpeg"/>
  <Override PartName="/ppt/media/image12.png" ContentType="image/pn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6.png" ContentType="image/png"/>
  <Override PartName="/ppt/media/image17.png" ContentType="image/png"/>
  <Override PartName="/ppt/media/image20.jpeg" ContentType="image/jpeg"/>
  <Override PartName="/ppt/media/image19.png" ContentType="image/png"/>
  <Override PartName="/ppt/media/image21.jpeg" ContentType="image/jpeg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30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</p:sldMasterIdLst>
  <p:sldIdLst>
    <p:sldId id="256" r:id="rId36"/>
    <p:sldId id="257" r:id="rId37"/>
    <p:sldId id="258" r:id="rId38"/>
    <p:sldId id="259" r:id="rId39"/>
    <p:sldId id="260" r:id="rId40"/>
    <p:sldId id="261" r:id="rId41"/>
    <p:sldId id="262" r:id="rId42"/>
    <p:sldId id="263" r:id="rId43"/>
    <p:sldId id="264" r:id="rId44"/>
    <p:sldId id="265" r:id="rId45"/>
    <p:sldId id="266" r:id="rId46"/>
    <p:sldId id="267" r:id="rId47"/>
    <p:sldId id="268" r:id="rId48"/>
    <p:sldId id="269" r:id="rId49"/>
    <p:sldId id="270" r:id="rId50"/>
    <p:sldId id="271" r:id="rId51"/>
    <p:sldId id="272" r:id="rId52"/>
    <p:sldId id="273" r:id="rId53"/>
    <p:sldId id="274" r:id="rId54"/>
    <p:sldId id="275" r:id="rId55"/>
    <p:sldId id="276" r:id="rId56"/>
    <p:sldId id="277" r:id="rId57"/>
    <p:sldId id="278" r:id="rId58"/>
    <p:sldId id="279" r:id="rId59"/>
    <p:sldId id="280" r:id="rId60"/>
    <p:sldId id="281" r:id="rId61"/>
    <p:sldId id="282" r:id="rId62"/>
    <p:sldId id="283" r:id="rId63"/>
    <p:sldId id="284" r:id="rId64"/>
    <p:sldId id="285" r:id="rId65"/>
    <p:sldId id="286" r:id="rId66"/>
    <p:sldId id="287" r:id="rId67"/>
    <p:sldId id="288" r:id="rId68"/>
    <p:sldId id="289" r:id="rId69"/>
    <p:sldId id="290" r:id="rId70"/>
    <p:sldId id="291" r:id="rId71"/>
    <p:sldId id="292" r:id="rId72"/>
    <p:sldId id="293" r:id="rId73"/>
    <p:sldId id="294" r:id="rId74"/>
    <p:sldId id="295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" Target="slides/slide1.xml"/><Relationship Id="rId37" Type="http://schemas.openxmlformats.org/officeDocument/2006/relationships/slide" Target="slides/slide2.xml"/><Relationship Id="rId38" Type="http://schemas.openxmlformats.org/officeDocument/2006/relationships/slide" Target="slides/slide3.xml"/><Relationship Id="rId39" Type="http://schemas.openxmlformats.org/officeDocument/2006/relationships/slide" Target="slides/slide4.xml"/><Relationship Id="rId40" Type="http://schemas.openxmlformats.org/officeDocument/2006/relationships/slide" Target="slides/slide5.xml"/><Relationship Id="rId41" Type="http://schemas.openxmlformats.org/officeDocument/2006/relationships/slide" Target="slides/slide6.xml"/><Relationship Id="rId42" Type="http://schemas.openxmlformats.org/officeDocument/2006/relationships/slide" Target="slides/slide7.xml"/><Relationship Id="rId43" Type="http://schemas.openxmlformats.org/officeDocument/2006/relationships/slide" Target="slides/slide8.xml"/><Relationship Id="rId44" Type="http://schemas.openxmlformats.org/officeDocument/2006/relationships/slide" Target="slides/slide9.xml"/><Relationship Id="rId45" Type="http://schemas.openxmlformats.org/officeDocument/2006/relationships/slide" Target="slides/slide10.xml"/><Relationship Id="rId46" Type="http://schemas.openxmlformats.org/officeDocument/2006/relationships/slide" Target="slides/slide11.xml"/><Relationship Id="rId47" Type="http://schemas.openxmlformats.org/officeDocument/2006/relationships/slide" Target="slides/slide12.xml"/><Relationship Id="rId48" Type="http://schemas.openxmlformats.org/officeDocument/2006/relationships/slide" Target="slides/slide13.xml"/><Relationship Id="rId49" Type="http://schemas.openxmlformats.org/officeDocument/2006/relationships/slide" Target="slides/slide14.xml"/><Relationship Id="rId50" Type="http://schemas.openxmlformats.org/officeDocument/2006/relationships/slide" Target="slides/slide15.xml"/><Relationship Id="rId51" Type="http://schemas.openxmlformats.org/officeDocument/2006/relationships/slide" Target="slides/slide16.xml"/><Relationship Id="rId52" Type="http://schemas.openxmlformats.org/officeDocument/2006/relationships/slide" Target="slides/slide17.xml"/><Relationship Id="rId53" Type="http://schemas.openxmlformats.org/officeDocument/2006/relationships/slide" Target="slides/slide18.xml"/><Relationship Id="rId54" Type="http://schemas.openxmlformats.org/officeDocument/2006/relationships/slide" Target="slides/slide19.xml"/><Relationship Id="rId55" Type="http://schemas.openxmlformats.org/officeDocument/2006/relationships/slide" Target="slides/slide20.xml"/><Relationship Id="rId56" Type="http://schemas.openxmlformats.org/officeDocument/2006/relationships/slide" Target="slides/slide21.xml"/><Relationship Id="rId57" Type="http://schemas.openxmlformats.org/officeDocument/2006/relationships/slide" Target="slides/slide22.xml"/><Relationship Id="rId58" Type="http://schemas.openxmlformats.org/officeDocument/2006/relationships/slide" Target="slides/slide23.xml"/><Relationship Id="rId59" Type="http://schemas.openxmlformats.org/officeDocument/2006/relationships/slide" Target="slides/slide24.xml"/><Relationship Id="rId60" Type="http://schemas.openxmlformats.org/officeDocument/2006/relationships/slide" Target="slides/slide25.xml"/><Relationship Id="rId61" Type="http://schemas.openxmlformats.org/officeDocument/2006/relationships/slide" Target="slides/slide26.xml"/><Relationship Id="rId62" Type="http://schemas.openxmlformats.org/officeDocument/2006/relationships/slide" Target="slides/slide27.xml"/><Relationship Id="rId63" Type="http://schemas.openxmlformats.org/officeDocument/2006/relationships/slide" Target="slides/slide28.xml"/><Relationship Id="rId64" Type="http://schemas.openxmlformats.org/officeDocument/2006/relationships/slide" Target="slides/slide29.xml"/><Relationship Id="rId65" Type="http://schemas.openxmlformats.org/officeDocument/2006/relationships/slide" Target="slides/slide30.xml"/><Relationship Id="rId66" Type="http://schemas.openxmlformats.org/officeDocument/2006/relationships/slide" Target="slides/slide31.xml"/><Relationship Id="rId67" Type="http://schemas.openxmlformats.org/officeDocument/2006/relationships/slide" Target="slides/slide32.xml"/><Relationship Id="rId68" Type="http://schemas.openxmlformats.org/officeDocument/2006/relationships/slide" Target="slides/slide33.xml"/><Relationship Id="rId69" Type="http://schemas.openxmlformats.org/officeDocument/2006/relationships/slide" Target="slides/slide34.xml"/><Relationship Id="rId70" Type="http://schemas.openxmlformats.org/officeDocument/2006/relationships/slide" Target="slides/slide35.xml"/><Relationship Id="rId71" Type="http://schemas.openxmlformats.org/officeDocument/2006/relationships/slide" Target="slides/slide36.xml"/><Relationship Id="rId72" Type="http://schemas.openxmlformats.org/officeDocument/2006/relationships/slide" Target="slides/slide37.xml"/><Relationship Id="rId73" Type="http://schemas.openxmlformats.org/officeDocument/2006/relationships/slide" Target="slides/slide38.xml"/><Relationship Id="rId74" Type="http://schemas.openxmlformats.org/officeDocument/2006/relationships/slide" Target="slides/slide39.xml"/><Relationship Id="rId75" Type="http://schemas.openxmlformats.org/officeDocument/2006/relationships/slide" Target="slides/slide40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FC884-92A8-43E4-A6D4-2749F6A76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8D86-1B9E-49E3-B883-6170521B6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8A13D8-71A6-4CD8-A75B-6B333EC44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ABCC12-DEAF-4568-A066-8E0C83F56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DA5650-46D1-4FA2-96DD-3E998E27F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A54A0B-0EC2-49EA-AE44-FC08502FB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39A73F-7DEE-448B-8753-22013AB01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FDD913-7BAB-4256-9DD6-80D2DE37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92979F-4F16-4D6B-AEFF-48A436CC0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64D0A-68D9-46B8-9DA7-7C5971634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294153-8942-4E3A-8BD5-33992649D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E865DB-2F3E-4F25-9421-48EAAB2C9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629D-6143-4265-99C8-8E6300A65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01568-CC29-408E-8231-92038FFF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9F8075-14E3-409E-BC7C-1B76A9235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174233-4394-4247-B5CA-A9672EAF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489A9-CC49-4535-929A-3007C739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8AA21A-88DA-4CAB-B5E6-9EC6AE71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5B044A5-2EE3-4C55-8465-002AD517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ACC29A-B4DB-4E75-9BBB-A0AE826D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DF9E4F-3484-450B-9352-6EC9E05ED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2DC9F9-9EF0-4612-AA51-2D575FA1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0E88E5-7BFE-4DAE-9433-494074777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B66D-FD08-468E-9F60-BD6C5E1DB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37941D-BB50-4D7A-8610-B79B46062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AE4E11-F594-423E-9463-33A03299D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A438D8-3625-4AD0-9F7F-8534F39A9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A40CA-9691-4791-A2EE-135718BD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A8CF57-697D-4E51-BD6F-A22EC6C4F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C7C78-7B64-42F7-86AE-9DC758046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FB71CBB-AF3C-4EEA-AEED-50A2B095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03A699-3A9E-4C86-85BC-9FB7A0C02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882E15-3E3A-442F-9C52-CD3801847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EBD56F-4E80-46E6-AAAC-341548979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0594-F5E5-41F9-A92B-06A33B7F57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2F60BE3-C455-4842-BBA6-78C4205A8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761D92-EDE2-474A-9077-3D3694D75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B926AC-1BA8-404E-9439-BDD94FE767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3D424C-3811-476B-94C3-138F720BD5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192AEC-47F7-4807-ABBF-877807D4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50F9A98-E7EC-4A21-BFD3-51A7B9864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126464-A433-486F-B324-A2A4826A3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1E3A6E-7416-440E-A21F-2C3E04C09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72C95-DA61-4796-B5A2-09BB3C53F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490FDE-5744-4E09-B347-843C9E60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ACA7B-6C2B-4155-AE27-55E8DA6F5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79D49A-F818-40EA-9BD7-4444ABE6C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0D3DD-1F16-4B98-BF0A-F945631E5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9ED6F-9BAB-44F6-A800-5D7247B52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79D1405-E1FB-44BA-8F80-CC6C13846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97A141-7BA3-4EB5-9966-6A00EAAB2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F9A541A-A477-48E1-9DCD-303D2DD572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BB5A75-C4ED-45C0-898F-C7E10885E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91FD847-64BE-4BA8-9E7F-93DB024C4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FD7BEF7-5FA1-44D6-9BF1-A77A4F8D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9A7B5E-E70B-418A-9851-9931B5DC3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8DE24-6EED-4F4B-B41F-E5488734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301AF2-0D07-4CE2-8AF5-47814D758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2EF32E8-4B3C-4AC2-949C-D99612A38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8334F1-7709-40A0-A54E-CCD7F1590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8E2ACC-0F9A-4DCE-94A2-889BF4CE0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344DBA-E78E-44FB-AFDC-B5EAC4A94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7BD80F-5A1D-46A2-A229-97718D76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438961-7F5B-4D82-AFA6-009F1EF1C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B9A56-4560-4937-AD39-19B1EBDD6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3071FC-DF37-4D0B-BE0E-D690918D6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519990-3F42-4E7E-AC56-A28ED035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A0B5A-31BB-41E9-B768-C431DB475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00D5F-0C2D-4817-B487-AB58C989D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1DA5C2F-8B1A-4D99-A91C-262EBC29D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6CE7C72-91E0-4A80-A6B5-57A438B9F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848F2C-A265-4A45-BE6C-E67AD8825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0B0E5-C182-432F-AB51-6CCE859A1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03ADA1-3A9F-46E9-BE5E-E68B84418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5B82E0B-DCCE-44A5-B2B3-D624B03F6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008F52-8F50-441D-9980-5BD2B40C3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47874D-264C-408B-A1A4-A15C6DB47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E017B2B-F432-4206-8BFC-51B23D6FD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320E4-450F-445C-BF17-2481BC058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4FC109-72D9-4EA2-B5D2-8D88E4776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B9A5ED5-1988-4475-99DE-DA8C0BFA7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158E5C-475B-4BD1-9A30-1DF74342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E04BBB7-76E1-4E06-BB09-1028F12F5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98C67E4-EA72-4306-85BC-6CEE0E629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3585EB-8C35-4B95-B307-87838C44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4A43703-1EC1-409B-AA60-8576F309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BE88A84-B1CB-4272-84AC-46F16A20C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A0336D-282D-4C36-90A6-29C392299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B45985-EE16-4EB8-9F20-0D62BAEC3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16FA7-BAE8-423D-A8F6-23DC71EE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4D1422D-73B4-453F-8A8E-7820295CE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5216872-8920-483D-88F3-51F01C79A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FCDF2F-6DE7-4731-BA09-B54035339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A2A3404-6BB7-41CC-9372-4DA062CCC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7A9BE2-6D47-4EBA-B2DD-967DCCFE5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7DE074-157C-4F02-B8D7-CC9F7F3E01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4E2954-F533-438B-A130-B330F029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DD584DB-4FE7-429A-AAD3-39820667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BFB26C4-1F7A-4A09-8B2E-AC8AE029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DC785E4-8128-4E9F-8BEB-F47FD6009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D94F4-1A4D-43DF-BE4A-EFC0C5A4C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5D29A9F-83BD-4C83-BCE2-6FC96C2BE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B3F0FAF-F034-4165-9C21-5FDB9DE3F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5F27291-C024-4AA8-8034-AE9D0A2C8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9B09A9-151F-432C-B282-3688786CD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7DEDBA-D833-4953-B708-8B14FA693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CBFE1E-2AE9-4EF6-BAB4-F397BD751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C6160C6-9FF5-4FC7-9486-17B9BEBD1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62CD37-3D3A-4723-B821-456A2ADB7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80EB63-FB3F-4D98-AD8D-416FF59F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71CF2B5-80C9-410F-9C0F-16B2E64F5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4B24-DC8A-4A3B-A571-9FE6CF82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366DF1-D078-4BDF-9721-9EE393A80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DB32D16-4FB4-436D-8797-7B5D9CE91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D456C9-844D-4BC8-9A46-FDD1E712B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058C7A-720B-441A-A317-DBA49B42D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F8A157-55C6-427D-A451-D91A2C833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18CF8B-4A02-4DB0-8C43-176A956D5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E197F9-CE69-4370-A483-23814E02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6F82207-C852-4A98-93BB-60265748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7FE2BE7-3F22-434A-96C4-A22BD82D3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56880E7-42AA-442D-978B-3EE5BD949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29D090-99F1-4A62-9636-3F556B7B2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F37EB-5D91-44FF-86C3-62CBEE6C2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67A009-A420-484C-BB20-4094E0C9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262663-8BB1-43D7-8C68-98BDBC71A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A91FA2-1FB4-47A6-ADF4-3F159FA65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6F312F-417D-4F4C-9118-098FB8491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3BAFEF1-A279-4E1C-90FA-B97FCB7CC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71D9CA7-BB26-4511-A466-F367FDCB6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3FA3365-469F-4869-A80C-FA87C9D3D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F5FF3F6-64C2-4080-A46F-8FDD8F91F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AB38A3-3D38-49C9-A5DB-BDAB02509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AC9B51A-71DA-4180-BDE1-A7AEB33BA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0EA96-7114-4BD5-A99E-41C916F09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22BB12-955B-4EB5-91FC-80CC5BA8D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C62159E-D168-4642-BEC5-94D2E1F57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B55764B-000B-4200-B1EC-B6C6317B8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4A12EB-A169-40A3-9807-B71DAF4E1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E2B91D-C318-4A9C-B934-BA53705E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019C11-6176-4273-86CA-C272E9462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2DB58E6-BD1D-41BF-894D-853CB90B9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C5FC0A-8C1D-4FD2-8E2B-46CAD80DC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108554-29F7-4A83-84A6-0B0BAED78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12FD1D9-CF82-47CF-B637-79320000F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CF66-F535-471F-925A-4E2E863B4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E352D43-6CF3-473B-9708-9941DA3FA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6D3A5AE-2C6C-401B-B2D1-BEB734F83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32F131A-B9F5-43A5-A40D-D3598AAAE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092090-5508-4BD2-A923-FF45825E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75F385-3EA1-4FA2-8966-D0033C334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473FB44-A2E3-4204-83FD-1F2CF0DD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198798A-30D0-4CBE-B7C3-69D73F16B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5E09FA-E1AC-4E6F-BD04-25987364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0CCA8BB-C5B3-4C1C-943C-D18CFD712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49AB49-0276-45F6-AA64-F06279EAA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50FC7-435A-4EEA-BCAF-E90D1A80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B2F459C-91CB-4E7C-9181-BC09ECE14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5E761E-9B82-4B4B-8B24-B3DEF83DF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7ED5528-11D6-4160-B982-AE31626BA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4A4B9AF-4380-4A67-BB20-A01A04EAF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6691CE-F6F4-4D34-B594-2ED20576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66C6BA-F39A-4E4A-B21F-62D403B9E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6327F1D-7932-473E-9EBF-C2B9C5349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3D14438-D94D-43DE-B35B-889150162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73C09E-804C-42B4-9ECA-948E9833B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21BC8AD-0C47-49D5-BCFE-720E2F428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3CDDDF-454D-4B48-9024-C99A6D722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33C79B-86F4-403E-B327-4BFFA40F5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347C83B-04FA-43F2-B3D0-B83597582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43712C8-7513-42B1-9E22-F1BCA6E4A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57DD3C8-C535-4172-9A0E-4CF871CEB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05E381-C9E4-4D8D-82AA-4B36BE50E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8446F3-05F2-4D30-A648-8D1B937F3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694E340-DD44-4FA3-8715-7001E73F0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63FA7D-C57E-4FE9-B0D2-29499A1C7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6FE59D-0F8C-47BE-A060-27E61732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03D8780-99AB-4C9F-AD98-0A3674343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3D949E-64F2-404D-9CCD-17F3C71A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9167B8-EA1C-4213-A9EB-1038E717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3C57E9-449C-4655-B0E5-9189D1D50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C10880-6055-4E94-BBF4-55CCB43BA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69A0F14-652C-4BE1-B794-E722B635F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B1A333-603C-47C3-A199-6C450306B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2EA5E1-32CC-4779-B73D-F8DC534D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ACF7A93-C1E2-4E7E-AD5A-9F375ECCF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7D64AB-EB1B-4FD6-A1AD-E3EC39A8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3F4474-0479-438F-A890-F0E7AE132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D041D2D-7525-4822-893E-5B8E3F9B6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38E1ED-CD95-48DA-852F-2AC41DE2B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050729A-6A50-4CE2-B84E-E063779F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A114A70-C7CE-43E0-AF76-0A350B05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988FA7-89D9-45AB-B28D-54C38C22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AE231C5-CA45-4759-AFE6-BD33D51AD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08D48E-748A-420E-A476-687B90BF5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A382DF6-51EE-470B-8BAD-090E31A39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3E960A-5014-4516-A9D7-F88D635D8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244EE6-6D89-496D-B098-F8D90A5A4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EEDD555-B4A4-4ABB-BC27-35F962568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71D865D-D09F-4D6A-B405-B8289779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A1315E-3790-4303-BF99-8F3EC8E0D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939FA2C-1630-4C45-A5F3-8EADBCA50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FF5EAD8-BD8A-4AC1-8847-541CB52CD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4070C67-1A4A-4DAC-8C8C-4E991A6D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91697E-D569-403B-B196-F5A83BF6A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0F59CE6-4CB1-4A36-AA20-CCC9E944A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FE8EF42-E271-41B9-92C4-C1F769AB5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D18517B-FFE4-49B7-87C1-AD82B0225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C9BBFC-D8C1-4552-9677-82CDE62CE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AA6C023-040D-4ADD-9443-2DDB2E50EE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C47602-5A35-445E-AD3A-2BD2D468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ACDC2C-A4B5-45D0-ABD8-6BC384463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5CDC548-3267-4905-8C86-07CB65F17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B12D8C6-0867-4C82-9830-90C89127B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91F16BC-292B-4DF2-A32D-5A708291D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9B8CB30-8D14-4D6E-AA6B-A67723972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0037AF-66D7-4F60-B0D4-6C1FE533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826184-7491-436B-BB63-1B7DD1194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FD7676A-8829-4828-8C76-9C85F5364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CAE43FA-614A-43CA-B8A0-22AE38B13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8972C9-341B-4237-A2EB-5178DDDFF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28F7CD1-4EAE-486A-BADB-F78921A43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8DECC-9A62-44D7-A99A-144485E8E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9A5F1-2364-4B01-8741-F0B99C1FF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CC70ED9-8285-4D6F-B65F-C5178F007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D49DCB-EDDF-48EC-97A7-165378CB9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A3F0429-972A-4616-B0FD-CE1C5CDA6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1943B6-B7DD-4A41-8262-A30571281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984893C-6C4C-4DC2-81A6-867546592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A1A795-9056-4D3C-B24F-0D0A6966E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8C1C300-7BB5-436D-9F45-DD238D649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4817A7F-9B23-4805-A334-39A64DB82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737FDFC-63B2-47E0-ABDC-D2151DF52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7651FA-1F3F-4E79-954F-97BA572AB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13CDF4-5AE2-41F2-B138-D256887F9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1E8C599-7938-4C9E-B55C-DDB3C4FDC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FC591C3-784D-4408-A871-8CC4B588F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27C9E4E-2086-4ADE-B540-8399A041E8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ADD2470-97CD-4C0E-AEAE-6FA87D23D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98D25AA-E09C-41EC-812A-EBD80DDC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E434E09-EF2E-4EAF-A636-2B3D16005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95D802D-59B2-4D05-90BA-767D3407C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4FE5303-255D-4EDF-AFFE-CD8A3156E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7A965A0-7724-4F1A-85F7-88F8024D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627FB16-4716-4EEC-96D7-E515C3A31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D5973-E571-4430-8A6E-483FF5841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0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22D5D03-2317-490A-8F3E-D51EDDDB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FFF423F-B15A-4775-8347-61E46D43F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7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7716062-B6A9-4926-A431-2BA04A3CE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2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4976D11-756B-4116-A567-2BEF031B3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7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8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9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293272F-F7A4-42CA-9617-95AE13748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906F938-4BD6-4BB7-A76D-08D32221C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3EB8E4-E1BA-41F5-A746-14BFC1EC4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D760DCE-E6AC-44D2-803E-5D3A7B067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9EA6F1D-0D50-4B20-990D-DFA9BD919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C0AD91A-FCC3-45FF-96A0-806C242E3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7FABFC-49D0-4508-B897-BDD26D5F1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B481911-973C-4922-8430-D6CF3563E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4FACEE4-B1E9-407D-8E39-F6DF479B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CBB6A3-EB96-4521-867D-A6D51AE3E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F296E95-392B-45F0-B4FF-9BB12EA61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C79C87-7D14-4B3B-A21A-C3EDF1659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C2E4DF6-AEB6-4DFE-B76A-E6E3003E2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B8BE638F-7313-42A4-9B82-DDDCF09A5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8CA9DC-52F4-43E2-883E-4C63AFA4D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DF561FF-51B1-4157-B57F-2D81C5818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F62BA4-7F72-46AB-BF49-3914AED9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787963-8B43-4418-A551-5391370B3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8C92EC1-B1F8-4CDC-9291-37DB07B37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C689F7-AEB0-4C73-ACFE-86F385A67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36D2DBA-2160-4031-9D06-D6A3DD64D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EC45509-DE64-4BEE-968A-EF8FF81B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EC0FDC-1ACB-4CEE-B53A-CDA6DC6A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A8A62F3-AB21-47B0-8E64-60965214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1F8149-77F2-4D20-8183-1FBA9C9DB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2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4E45E4D-6E1A-4919-8B0E-E577D15F9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7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8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9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5A7F93D-181C-4BCD-93CB-DEF68C07C8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4F73F7E-128F-40EF-99D0-43AF380F9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7262AF-E826-44BA-9D81-AC53B6D08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820D774-7420-44EA-ABFA-0C9CB19A2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075EEF4-8418-46CF-B6A3-48EB9F4B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D196E92-03F4-4D8F-998B-9D1E1936A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A7E8886-AD05-47BB-9D33-CDEE4091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214D82E-7F65-4515-A872-7C257DD18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21F3B6-86FC-410C-98E6-B303E5FD3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B19B1E1-C34D-4586-A5A2-CD892981E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7A151E-599B-4307-99EF-03EF18AF3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834D525-BD31-44DD-B08F-D22A84D9A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A114310-D138-44C1-BE51-6EFEB7AB3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AF4ED6-967B-4B8D-93B8-37B31D19F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A45804C-D438-41E9-AB33-ACA487548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7D23049-11C2-4926-9589-7B4FAF5A9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714737C-2A34-4114-BE4D-053453653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A40C2CC-CB14-4163-8E54-EB89B0F42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578D17D-71BA-4085-8652-A408C1880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918885D-3E46-46B6-A5B9-FA77B38DB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FA28A0B-FE2A-4C2B-8EA7-A543A8D2B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E65A9DF-F4E4-4AD2-BBE0-AE600A585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2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7596212-BD39-472E-AB15-ADA33D44F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BE1673A-FF82-4902-96BC-C4812145C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043349-ACB8-4686-B27E-2505D63ED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2A75BBB-F712-45EA-96BF-5611A36F6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53EE304-0EFB-4509-BF03-08228E786A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E04958FD-23DE-4450-90D0-11D5F6D68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5C13DE3-43A5-4F55-92BB-5B4A3A8ED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C45C326-A684-4F73-BA3B-CBF29EAEE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673004B-1842-47A3-A1C2-483D37EB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7F11712-314D-4603-8448-EBBEF2CD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6D8CF19-9830-40C3-A7FC-18FB53CC0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E949BF4-DBA8-414C-BB6D-DE71C9004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B5BABA7-8A33-4E23-B7EB-33DF804B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4E5C2A-727C-48E2-BF07-10920698B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7F684EA-3925-491E-955F-90EDF0C65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05234CC-0FE4-4FAD-BDDB-265BDCE64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C2CDAF5-B2AF-4BFD-AD00-C763D6AB1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BF5D449-A694-4CD5-A73C-04E0F7B02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B822380-7CB2-451E-A8B7-5144D184F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F0410C-16FD-42E7-8C55-DA5578CE7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B701BC-BAD0-458B-8EC5-2336D42FB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716E6E0-2E1A-401B-908C-564E2419A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D88B98D-3BD6-4417-B113-4AFF62723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2AAF862-9385-4ACE-896A-E23C3088B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45501E-111E-4E28-B9DC-9A57BECF3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21A1038-60CB-498A-AEE0-7E38503A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BB0A7BD-FEFE-4320-9401-5A208657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3467F5C-F849-4F2A-A06C-E5337FDA5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F0AB743-1308-4B8F-84C9-F9C12492F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720BE84F-DCCF-4054-B89E-45997EF257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5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EB14C864-3162-421B-9E3A-21ED959C7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8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9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0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1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2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241C63-09D0-475C-A3AF-E0F4591AB0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8D36640-6563-42C3-BDF3-2E34C3945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63021F5-12B8-43A7-AD54-7F0620419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BCD86B-FE1D-42E7-9103-41F7F2A1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02D36-50DE-427E-B7EA-E98A9A7A2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AFADE-65E0-457B-A289-9E62F36F6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2B027690-52A7-473E-BB41-8632EE303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CD82424-5CA3-4581-81AC-7BF74E23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A21786EF-D3D7-47D4-BA40-CAA888578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6FDB29A-CEB3-47F7-9115-5634166C3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5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D5137DD-BC96-4106-BFA0-6F2D49A73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9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199DF0E-97FC-4E0C-9828-BCB39C72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E5DA04-ACBA-4FC8-A9A1-9E1D5C82F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7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3771924-D1A2-487F-ADC4-BB7A671939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0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1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2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3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4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ECFB307-30A3-4F52-AB16-A6D4F8D57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2D489-893D-40F9-83CE-6E75A03C1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993159-604A-4E9D-BE5A-14EB36E70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67DD47-0580-4A4E-92A4-8461D3890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0D2F87-682D-4F21-A203-F97D2E015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92EE5-1530-4091-AFFD-AD021E95B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13C2E8-B45C-4F3E-B27C-3921F47D3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8077B3-A16E-43DF-9337-55398673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BC515-4F63-44EA-BA41-67A6C81B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781903-18B1-41BA-B1AC-D8BF62821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4F9E-9C9D-40DB-BA3D-3BD694279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2B96C8-A023-435F-A9EE-4C628BDE7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D65A2-A345-488C-8CBE-0FCBD64D4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2E49B7-7D45-495F-93E4-2C4A0EB1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E530D-CF9F-4EDD-BF6E-130AFBF5B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B5BC8-23D2-4EA3-AB0D-25B907E0C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C6CFEB5-CF8C-4459-AEFD-5B34E5736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50B4C3-94A0-41C4-B582-D86D35924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5136DE-C390-482C-B14C-CAC1CC7E3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585E1F-9A84-47EE-88E8-70D026A1B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FCAEA9-3B28-4F70-97BA-74A5DDD2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42DB-F2D6-4CC6-9981-713C7EAEA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267B660-E649-44E2-BC54-55A4C79EC0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352A65-2C53-46B0-95F0-8897FAC2B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AB3BFF-50F3-4144-B158-B378185FE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AA44F-B358-45BA-9B59-EB02D0172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450D3-D1B4-4B26-B16D-5F9B376D6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02F90C-2BA9-4BF7-B528-534DA0FD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5BA1558-1DE6-42DE-956B-A60B2C29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F2E79-DA7E-4081-8C23-0AFE912FB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34A7F9-790A-40E5-B55F-2AD0F5FF6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9950D-4140-4C84-A445-93B7740E2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8269-4147-4585-AE84-AB9FDCFC4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0435A6-E00E-457F-81F0-1DC7077DF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D7FA5E3-4EFB-4026-B080-D9FC93E9D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74A3C5-B2EA-4C3A-8166-F21E13B94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CDE138-2B90-4717-AFEE-482F19B480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FF62AD-4C2B-4B5C-8732-C0A450B48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AADDF5-28D1-4584-A3E7-7AFD6D6D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A2982F-71AC-4FFE-BE94-AD91A25F6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F29F37-AC25-4341-8097-6F30B6720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1E5BF5-F6AF-4379-A250-83EA0879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2AEF3-666B-47BA-B040-2A85B8790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4F5D-1235-4B54-BB9C-D5BEB43E2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EE32A5-7602-4053-BC8F-588E48214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14341D-4972-48FF-92BC-3A8FD392B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6C337F-9DEA-4E56-8A9B-5A6D26BD3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12969C-88D1-4A4C-9B5A-85B53E2DD1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D60779-AE7D-4E0C-A8AF-8B7718A7C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C3723F-E0E7-4483-8DE7-CAD87A7740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D743D6-A595-4DC7-9FD8-63B670501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373FB3-F8DF-43AD-A633-3D1B02049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5295FD-294D-4EAD-BB80-619994A80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33C612-A3D2-48DE-9311-1E89D2BA4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39617-6B3D-4188-A94E-E26A589FF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33520" y="19047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B7252-F30F-4229-9DD3-3925FF84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762FF8-ABC8-4555-A33C-5311A96C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3FD98-4EF0-4F3D-85B4-E37A0B7DA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2A424-8D9F-428C-9E56-4166829F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1905120" y="442116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7C4FD6-98E1-4615-9F97-BE3F2F414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5185080" y="35053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190512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5185080" y="442116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968E23-E027-45CA-A609-60B7B303F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06908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233400" y="35053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190512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406908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233400" y="442116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F6D4A6-C990-446A-976A-50D28837F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9821F4-1C38-40B1-9191-072B43E80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01B5C-85D5-4E47-A596-6EA38B31E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905120" y="35053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535B7F-0354-4E34-87CA-D58928FB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1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57.xml"/><Relationship Id="rId6" Type="http://schemas.openxmlformats.org/officeDocument/2006/relationships/slideLayout" Target="../slideLayouts/slideLayout158.xml"/><Relationship Id="rId7" Type="http://schemas.openxmlformats.org/officeDocument/2006/relationships/slideLayout" Target="../slideLayouts/slideLayout159.xml"/><Relationship Id="rId8" Type="http://schemas.openxmlformats.org/officeDocument/2006/relationships/slideLayout" Target="../slideLayouts/slideLayout160.xml"/><Relationship Id="rId9" Type="http://schemas.openxmlformats.org/officeDocument/2006/relationships/slideLayout" Target="../slideLayouts/slideLayout161.xml"/><Relationship Id="rId10" Type="http://schemas.openxmlformats.org/officeDocument/2006/relationships/slideLayout" Target="../slideLayouts/slideLayout162.xml"/><Relationship Id="rId11" Type="http://schemas.openxmlformats.org/officeDocument/2006/relationships/slideLayout" Target="../slideLayouts/slideLayout163.xml"/><Relationship Id="rId12" Type="http://schemas.openxmlformats.org/officeDocument/2006/relationships/slideLayout" Target="../slideLayouts/slideLayout164.xml"/><Relationship Id="rId13" Type="http://schemas.openxmlformats.org/officeDocument/2006/relationships/slideLayout" Target="../slideLayouts/slideLayout165.xml"/><Relationship Id="rId14" Type="http://schemas.openxmlformats.org/officeDocument/2006/relationships/slideLayout" Target="../slideLayouts/slideLayout166.xml"/><Relationship Id="rId15" Type="http://schemas.openxmlformats.org/officeDocument/2006/relationships/slideLayout" Target="../slideLayouts/slideLayout167.xml"/><Relationship Id="rId16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69.xml"/><Relationship Id="rId7" Type="http://schemas.openxmlformats.org/officeDocument/2006/relationships/slideLayout" Target="../slideLayouts/slideLayout170.xml"/><Relationship Id="rId8" Type="http://schemas.openxmlformats.org/officeDocument/2006/relationships/slideLayout" Target="../slideLayouts/slideLayout171.xml"/><Relationship Id="rId9" Type="http://schemas.openxmlformats.org/officeDocument/2006/relationships/slideLayout" Target="../slideLayouts/slideLayout172.xml"/><Relationship Id="rId10" Type="http://schemas.openxmlformats.org/officeDocument/2006/relationships/slideLayout" Target="../slideLayouts/slideLayout173.xml"/><Relationship Id="rId11" Type="http://schemas.openxmlformats.org/officeDocument/2006/relationships/slideLayout" Target="../slideLayouts/slideLayout174.xml"/><Relationship Id="rId12" Type="http://schemas.openxmlformats.org/officeDocument/2006/relationships/slideLayout" Target="../slideLayouts/slideLayout175.xml"/><Relationship Id="rId13" Type="http://schemas.openxmlformats.org/officeDocument/2006/relationships/slideLayout" Target="../slideLayouts/slideLayout176.xml"/><Relationship Id="rId14" Type="http://schemas.openxmlformats.org/officeDocument/2006/relationships/slideLayout" Target="../slideLayouts/slideLayout177.xml"/><Relationship Id="rId15" Type="http://schemas.openxmlformats.org/officeDocument/2006/relationships/slideLayout" Target="../slideLayouts/slideLayout178.xml"/><Relationship Id="rId16" Type="http://schemas.openxmlformats.org/officeDocument/2006/relationships/slideLayout" Target="../slideLayouts/slideLayout179.xml"/><Relationship Id="rId17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81.xml"/><Relationship Id="rId7" Type="http://schemas.openxmlformats.org/officeDocument/2006/relationships/slideLayout" Target="../slideLayouts/slideLayout182.xml"/><Relationship Id="rId8" Type="http://schemas.openxmlformats.org/officeDocument/2006/relationships/slideLayout" Target="../slideLayouts/slideLayout183.xml"/><Relationship Id="rId9" Type="http://schemas.openxmlformats.org/officeDocument/2006/relationships/slideLayout" Target="../slideLayouts/slideLayout184.xml"/><Relationship Id="rId10" Type="http://schemas.openxmlformats.org/officeDocument/2006/relationships/slideLayout" Target="../slideLayouts/slideLayout185.xml"/><Relationship Id="rId11" Type="http://schemas.openxmlformats.org/officeDocument/2006/relationships/slideLayout" Target="../slideLayouts/slideLayout186.xml"/><Relationship Id="rId12" Type="http://schemas.openxmlformats.org/officeDocument/2006/relationships/slideLayout" Target="../slideLayouts/slideLayout187.xml"/><Relationship Id="rId13" Type="http://schemas.openxmlformats.org/officeDocument/2006/relationships/slideLayout" Target="../slideLayouts/slideLayout188.xml"/><Relationship Id="rId14" Type="http://schemas.openxmlformats.org/officeDocument/2006/relationships/slideLayout" Target="../slideLayouts/slideLayout189.xml"/><Relationship Id="rId15" Type="http://schemas.openxmlformats.org/officeDocument/2006/relationships/slideLayout" Target="../slideLayouts/slideLayout190.xml"/><Relationship Id="rId16" Type="http://schemas.openxmlformats.org/officeDocument/2006/relationships/slideLayout" Target="../slideLayouts/slideLayout191.xml"/><Relationship Id="rId17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24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SzPct val="8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C8570-AB6F-4D36-AD03-CAC803E1058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335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dt" idx="28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8C387-ECA6-4EF1-86FA-A9FF53D89A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3322-AFF7-415E-A139-C9D13EECFD6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dt" idx="3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3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3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5A5C-4141-4D8E-98AA-0F7A00EA4CA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4" name=""/>
          <p:cNvGrpSpPr/>
          <p:nvPr/>
        </p:nvGrpSpPr>
        <p:grpSpPr>
          <a:xfrm>
            <a:off x="-228600" y="666720"/>
            <a:ext cx="8688240" cy="6191280"/>
            <a:chOff x="-228600" y="666720"/>
            <a:chExt cx="8688240" cy="6191280"/>
          </a:xfrm>
        </p:grpSpPr>
        <p:sp>
          <p:nvSpPr>
            <p:cNvPr id="495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496" name="" descr=""/>
            <p:cNvPicPr/>
            <p:nvPr/>
          </p:nvPicPr>
          <p:blipFill>
            <a:blip r:embed="rId3"/>
            <a:stretch/>
          </p:blipFill>
          <p:spPr>
            <a:xfrm>
              <a:off x="228600" y="3733920"/>
              <a:ext cx="1249200" cy="1493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7" name="" descr=""/>
            <p:cNvPicPr/>
            <p:nvPr/>
          </p:nvPicPr>
          <p:blipFill>
            <a:blip r:embed="rId4"/>
            <a:stretch/>
          </p:blipFill>
          <p:spPr>
            <a:xfrm>
              <a:off x="-228600" y="4916520"/>
              <a:ext cx="3782880" cy="1941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AE3D7-C15E-4C55-9867-06A833DE78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9" name=""/>
          <p:cNvGrpSpPr/>
          <p:nvPr/>
        </p:nvGrpSpPr>
        <p:grpSpPr>
          <a:xfrm>
            <a:off x="0" y="666720"/>
            <a:ext cx="8459640" cy="6191280"/>
            <a:chOff x="0" y="666720"/>
            <a:chExt cx="8459640" cy="6191280"/>
          </a:xfrm>
        </p:grpSpPr>
        <p:sp>
          <p:nvSpPr>
            <p:cNvPr id="540" name=""/>
            <p:cNvSpPr/>
            <p:nvPr/>
          </p:nvSpPr>
          <p:spPr>
            <a:xfrm>
              <a:off x="685800" y="666720"/>
              <a:ext cx="7773840" cy="5524560"/>
            </a:xfrm>
            <a:prstGeom prst="rect">
              <a:avLst/>
            </a:prstGeom>
            <a:gradFill rotWithShape="0">
              <a:gsLst>
                <a:gs pos="0">
                  <a:srgbClr val="ffefd1"/>
                </a:gs>
                <a:gs pos="100000">
                  <a:srgbClr val="d1c39f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541" name="" descr=""/>
            <p:cNvPicPr/>
            <p:nvPr/>
          </p:nvPicPr>
          <p:blipFill>
            <a:blip r:embed="rId3"/>
            <a:stretch/>
          </p:blipFill>
          <p:spPr>
            <a:xfrm>
              <a:off x="0" y="3352680"/>
              <a:ext cx="1644480" cy="1771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2" name="" descr=""/>
            <p:cNvPicPr/>
            <p:nvPr/>
          </p:nvPicPr>
          <p:blipFill>
            <a:blip r:embed="rId4"/>
            <a:stretch/>
          </p:blipFill>
          <p:spPr>
            <a:xfrm>
              <a:off x="0" y="4386240"/>
              <a:ext cx="4170240" cy="24717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051B-ED7E-4675-BFFA-980D8D231D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5"/>
    <p:sldLayoutId id="2147483819" r:id="rId6"/>
    <p:sldLayoutId id="2147483820" r:id="rId7"/>
    <p:sldLayoutId id="2147483821" r:id="rId8"/>
    <p:sldLayoutId id="2147483822" r:id="rId9"/>
    <p:sldLayoutId id="2147483823" r:id="rId10"/>
    <p:sldLayoutId id="2147483824" r:id="rId11"/>
    <p:sldLayoutId id="2147483825" r:id="rId12"/>
    <p:sldLayoutId id="2147483826" r:id="rId13"/>
    <p:sldLayoutId id="2147483827" r:id="rId14"/>
    <p:sldLayoutId id="2147483828" r:id="rId15"/>
    <p:sldLayoutId id="2147483829" r:id="rId16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3" name=""/>
          <p:cNvGrpSpPr/>
          <p:nvPr/>
        </p:nvGrpSpPr>
        <p:grpSpPr>
          <a:xfrm>
            <a:off x="0" y="0"/>
            <a:ext cx="9209160" cy="6858000"/>
            <a:chOff x="0" y="0"/>
            <a:chExt cx="9209160" cy="6858000"/>
          </a:xfrm>
        </p:grpSpPr>
        <p:pic>
          <p:nvPicPr>
            <p:cNvPr id="584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5" name="" descr=""/>
            <p:cNvPicPr/>
            <p:nvPr/>
          </p:nvPicPr>
          <p:blipFill>
            <a:blip r:embed="rId3"/>
            <a:stretch/>
          </p:blipFill>
          <p:spPr>
            <a:xfrm>
              <a:off x="0" y="3200400"/>
              <a:ext cx="1889280" cy="179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6" name="" descr=""/>
            <p:cNvPicPr/>
            <p:nvPr/>
          </p:nvPicPr>
          <p:blipFill>
            <a:blip r:embed="rId4"/>
            <a:stretch/>
          </p:blipFill>
          <p:spPr>
            <a:xfrm>
              <a:off x="0" y="4317840"/>
              <a:ext cx="2670120" cy="2540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87" name="" descr=""/>
            <p:cNvPicPr/>
            <p:nvPr/>
          </p:nvPicPr>
          <p:blipFill>
            <a:blip r:embed="rId5"/>
            <a:stretch/>
          </p:blipFill>
          <p:spPr>
            <a:xfrm>
              <a:off x="7772400" y="0"/>
              <a:ext cx="1436760" cy="1300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85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spcBef>
                <a:spcPts val="850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74240" indent="-214560">
              <a:spcBef>
                <a:spcPts val="850"/>
              </a:spcBef>
              <a:buClr>
                <a:srgbClr val="ff9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spcBef>
                <a:spcPts val="850"/>
              </a:spcBef>
              <a:buClr>
                <a:srgbClr val="3333cc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4" marL="1933920" indent="-214560">
              <a:spcBef>
                <a:spcPts val="850"/>
              </a:spcBef>
              <a:buClr>
                <a:srgbClr val="ff99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5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 lvl="6" marL="1933920" indent="-214560">
              <a:spcBef>
                <a:spcPts val="850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BD6E6-CCB7-42B0-902F-C52A7E08338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6"/>
    <p:sldLayoutId id="2147483832" r:id="rId7"/>
    <p:sldLayoutId id="2147483833" r:id="rId8"/>
    <p:sldLayoutId id="2147483834" r:id="rId9"/>
    <p:sldLayoutId id="2147483835" r:id="rId10"/>
    <p:sldLayoutId id="2147483836" r:id="rId11"/>
    <p:sldLayoutId id="2147483837" r:id="rId12"/>
    <p:sldLayoutId id="2147483838" r:id="rId13"/>
    <p:sldLayoutId id="2147483839" r:id="rId14"/>
    <p:sldLayoutId id="2147483840" r:id="rId15"/>
    <p:sldLayoutId id="2147483841" r:id="rId16"/>
    <p:sldLayoutId id="2147483842" r:id="rId17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9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630" name="" descr=""/>
            <p:cNvPicPr/>
            <p:nvPr/>
          </p:nvPicPr>
          <p:blipFill>
            <a:blip r:embed="rId2"/>
            <a:stretch/>
          </p:blipFill>
          <p:spPr>
            <a:xfrm>
              <a:off x="419040" y="380880"/>
              <a:ext cx="8305920" cy="613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1" name="" descr=""/>
            <p:cNvPicPr/>
            <p:nvPr/>
          </p:nvPicPr>
          <p:blipFill>
            <a:blip r:embed="rId3"/>
            <a:stretch/>
          </p:blipFill>
          <p:spPr>
            <a:xfrm>
              <a:off x="0" y="1905120"/>
              <a:ext cx="2610000" cy="2484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2" name="" descr=""/>
            <p:cNvPicPr/>
            <p:nvPr/>
          </p:nvPicPr>
          <p:blipFill>
            <a:blip r:embed="rId4"/>
            <a:stretch/>
          </p:blipFill>
          <p:spPr>
            <a:xfrm>
              <a:off x="0" y="3591000"/>
              <a:ext cx="3433680" cy="3267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3" name="" descr=""/>
            <p:cNvPicPr/>
            <p:nvPr/>
          </p:nvPicPr>
          <p:blipFill>
            <a:blip r:embed="rId5"/>
            <a:stretch/>
          </p:blipFill>
          <p:spPr>
            <a:xfrm>
              <a:off x="7315200" y="0"/>
              <a:ext cx="1828800" cy="1654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7799-9409-4640-89B2-AB1A9B706FB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6"/>
    <p:sldLayoutId id="2147483845" r:id="rId7"/>
    <p:sldLayoutId id="2147483846" r:id="rId8"/>
    <p:sldLayoutId id="2147483847" r:id="rId9"/>
    <p:sldLayoutId id="2147483848" r:id="rId10"/>
    <p:sldLayoutId id="2147483849" r:id="rId11"/>
    <p:sldLayoutId id="2147483850" r:id="rId12"/>
    <p:sldLayoutId id="2147483851" r:id="rId13"/>
    <p:sldLayoutId id="2147483852" r:id="rId14"/>
    <p:sldLayoutId id="2147483853" r:id="rId15"/>
    <p:sldLayoutId id="2147483854" r:id="rId16"/>
    <p:sldLayoutId id="2147483855" r:id="rId17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 type="dt" idx="4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E232-D7A0-464A-9731-03074FE0A6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dt" idx="5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FA26-9177-4B67-9752-CF626C8816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5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756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pic>
          <p:nvPicPr>
            <p:cNvPr id="757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 type="dt" idx="55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 type="sldNum" idx="57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2041-858B-49EF-8CE7-9ED4BC28422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9a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AE49A-ECCC-4EBD-A6CD-35A805A4C6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66ff"/>
              </a:buClr>
              <a:buSzPct val="90000"/>
              <a:buFont typeface="Wingdings" charset="2"/>
              <a:buChar char="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3300"/>
              </a:buClr>
              <a:buSzPct val="90000"/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9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dt" idx="58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sldNum" idx="60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D48B0-33F1-4682-A352-91F4A6580A7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0" name="" descr=""/>
          <p:cNvPicPr/>
          <p:nvPr/>
        </p:nvPicPr>
        <p:blipFill>
          <a:blip r:embed="rId3"/>
          <a:stretch/>
        </p:blipFill>
        <p:spPr>
          <a:xfrm>
            <a:off x="117360" y="115920"/>
            <a:ext cx="8910720" cy="6626160"/>
          </a:xfrm>
          <a:prstGeom prst="rect">
            <a:avLst/>
          </a:prstGeom>
          <a:ln w="0">
            <a:noFill/>
          </a:ln>
        </p:spPr>
      </p:pic>
      <p:sp>
        <p:nvSpPr>
          <p:cNvPr id="841" name="PlaceHolder 1"/>
          <p:cNvSpPr>
            <a:spLocks noGrp="1"/>
          </p:cNvSpPr>
          <p:nvPr>
            <p:ph type="dt" idx="6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 type="ftr" idx="6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3"/>
          <p:cNvSpPr>
            <a:spLocks noGrp="1"/>
          </p:cNvSpPr>
          <p:nvPr>
            <p:ph type="sldNum" idx="6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2E0C2-8E97-4974-87B4-9324DA4E1C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PlaceHolder 4"/>
          <p:cNvSpPr>
            <a:spLocks noGrp="1"/>
          </p:cNvSpPr>
          <p:nvPr>
            <p:ph type="title"/>
          </p:nvPr>
        </p:nvSpPr>
        <p:spPr>
          <a:xfrm>
            <a:off x="380880" y="685440"/>
            <a:ext cx="7391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5"/>
          <p:cNvSpPr>
            <a:spLocks noGrp="1"/>
          </p:cNvSpPr>
          <p:nvPr>
            <p:ph type="body"/>
          </p:nvPr>
        </p:nvSpPr>
        <p:spPr>
          <a:xfrm>
            <a:off x="380880" y="2057400"/>
            <a:ext cx="73915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820800" y="847800"/>
            <a:ext cx="7505640" cy="51624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pic>
        <p:nvPicPr>
          <p:cNvPr id="883" name="" descr=""/>
          <p:cNvPicPr/>
          <p:nvPr/>
        </p:nvPicPr>
        <p:blipFill>
          <a:blip r:embed="rId3"/>
          <a:stretch/>
        </p:blipFill>
        <p:spPr>
          <a:xfrm>
            <a:off x="762120" y="4038480"/>
            <a:ext cx="1374480" cy="2008440"/>
          </a:xfrm>
          <a:prstGeom prst="rect">
            <a:avLst/>
          </a:prstGeom>
          <a:ln w="0">
            <a:noFill/>
          </a:ln>
        </p:spPr>
      </p:pic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 type="dt" idx="6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 type="ftr" idx="6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 type="sldNum" idx="6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2B116-BE67-4A5F-9604-384BB61C98C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4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925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926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927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928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929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1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32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33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934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935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936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937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8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9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0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1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2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3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4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5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6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7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8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9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0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1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2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3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4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5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6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7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8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9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0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1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2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3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4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5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6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7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8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9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0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1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2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973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974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5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6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7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8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79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0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1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2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3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4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985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986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7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8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89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0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1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2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3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4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5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6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7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8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99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0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1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2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3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4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5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6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7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8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09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0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1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2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3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4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5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6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7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8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19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0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021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022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1023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24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1025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6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7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8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3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4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035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036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042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043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4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5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6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047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48" name="PlaceHolder 1"/>
          <p:cNvSpPr>
            <a:spLocks noGrp="1"/>
          </p:cNvSpPr>
          <p:nvPr>
            <p:ph type="dt" idx="6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 type="sldNum" idx="6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B3862-42D5-4DFD-8FD0-36FECDFC0191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9999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bfcb4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2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4c3a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9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090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091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092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4d4f4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1093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094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4d4f45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097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098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4d4f45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80808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99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100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4d4f45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080808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101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102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3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4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5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6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7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8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09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0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1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2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3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4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5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6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7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8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19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0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1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2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3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4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5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6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7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8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29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0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1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2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3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4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5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6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37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4d4f45"/>
                        </a:solidFill>
                        <a:ln w="9360">
                          <a:solidFill>
                            <a:srgbClr val="4d4f45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1138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1139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0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1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2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3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4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5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6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7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8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49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1150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4d4f45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080808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1151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2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3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4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5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6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7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8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59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0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1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2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3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4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5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6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7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8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69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0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1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2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3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4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5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6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7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8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79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0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1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2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3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4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5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186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4d4f45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080808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1187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1188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189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4d4f45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grpSp>
              <p:nvGrpSpPr>
                <p:cNvPr id="1190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1191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2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4d4f45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3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4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5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6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4d4f45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80808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00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1201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4d4f4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207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1208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0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1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212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d4f45"/>
                    </a:gs>
                    <a:gs pos="100000">
                      <a:srgbClr val="676961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c4c3aa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 type="dt" idx="7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 type="sldNum" idx="7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02E4-1487-450E-B078-9106D7694854}" type="slidenum">
              <a:rPr b="0" lang="zh-CN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grpSp>
        <p:nvGrpSpPr>
          <p:cNvPr id="1254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255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256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257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268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69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287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288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305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306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11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313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5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6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317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 type="dt" idx="7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 type="ftr" idx="7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0D5D7-C92D-4879-88A9-B8408B6B35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9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360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grpSp>
          <p:nvGrpSpPr>
            <p:cNvPr id="1361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362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8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69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0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1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2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373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374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5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6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79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0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3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4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5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6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7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8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89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0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1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392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393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4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5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3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4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5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6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7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8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09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410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411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2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3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4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417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grpSp>
            <p:nvGrpSpPr>
              <p:cNvPr id="1418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419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421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  <p:sp>
              <p:nvSpPr>
                <p:cNvPr id="1422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080808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PlaceHolder 4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E2C31-2524-4506-AA3E-1A19EE26915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3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1464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469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PlaceHolder 2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PlaceHolder 3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PlaceHolder 4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BBC24-9B57-466F-B226-7C1A19AAB3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0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1511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517" name="PlaceHolder 1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PlaceHolder 2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PlaceHolder 3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DBE1B-126A-409E-8C36-AE81A1D22F5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 type="dt" idx="8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3CC0-E69A-4DB0-B20B-8646FFF391DE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563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D2B0-38D6-4206-8A87-6936C3FF5E9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 type="dt" idx="8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 type="ftr" idx="89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 type="sldNum" idx="9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9DFF9-B452-4682-BCFB-EAD72136FDE1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605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64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3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7A91C-FA95-4D8E-A772-CF7F0991B8D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2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703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80808"/>
                </a:solidFill>
                <a:latin typeface="Arial"/>
              </a:endParaRPr>
            </a:p>
          </p:txBody>
        </p:sp>
      </p:grpSp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 type="dt" idx="9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 type="ftr" idx="9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 type="sldNum" idx="9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3167E-1A21-49B5-BCFC-818EB9880B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1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762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763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776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777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19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913" name="PlaceHolder 2"/>
          <p:cNvSpPr>
            <a:spLocks noGrp="1"/>
          </p:cNvSpPr>
          <p:nvPr>
            <p:ph type="dt" idx="9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PlaceHolder 3"/>
          <p:cNvSpPr>
            <a:spLocks noGrp="1"/>
          </p:cNvSpPr>
          <p:nvPr>
            <p:ph type="ftr" idx="9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PlaceHolder 4"/>
          <p:cNvSpPr>
            <a:spLocks noGrp="1"/>
          </p:cNvSpPr>
          <p:nvPr>
            <p:ph type="sldNum" idx="9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765B4-3ABE-4B4B-9524-C14CA9D5A4F2}" type="slidenum">
              <a:rPr b="0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5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5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  <p:grpSp>
          <p:nvGrpSpPr>
            <p:cNvPr id="196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96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80808"/>
                  </a:solidFill>
                  <a:latin typeface="Arial"/>
                </a:endParaRPr>
              </a:p>
            </p:txBody>
          </p:sp>
        </p:grpSp>
      </p:grpSp>
      <p:sp>
        <p:nvSpPr>
          <p:cNvPr id="2104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05" name="PlaceHolder 2"/>
          <p:cNvSpPr>
            <a:spLocks noGrp="1"/>
          </p:cNvSpPr>
          <p:nvPr>
            <p:ph type="dt" idx="100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6" name="PlaceHolder 3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7" name="PlaceHolder 4"/>
          <p:cNvSpPr>
            <a:spLocks noGrp="1"/>
          </p:cNvSpPr>
          <p:nvPr>
            <p:ph type="sldNum" idx="102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1102-F300-40BC-8B4B-832EF73050A1}" type="slidenum">
              <a:rPr b="0" lang="zh-CN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5558-64E8-48B9-9ADE-CA340C3E1A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55EEB-B07C-4E9F-BA31-6E5E0CEB24C3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ftr" idx="1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39F6D-3CFE-4E8F-A5B8-B8F947F95E64}" type="slidenum">
              <a:rPr b="0" lang="zh-CN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00C59-EED8-42E5-98C3-F005FA22C30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7DFEE-A61F-477D-94C3-016C74092D5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66"/>
              </a:buClr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533520" y="1672920"/>
            <a:ext cx="807696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fff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3013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305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3050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E8E66-FC35-43AB-828B-3C1FFBB8B63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6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4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1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4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9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1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4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7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6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1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1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39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99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2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4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5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9ac"/>
                </a:solidFill>
                <a:latin typeface="幼圆"/>
                <a:ea typeface="幼圆"/>
              </a:rPr>
              <a:t>播种习惯 </a:t>
            </a:r>
            <a:r>
              <a:rPr b="1" lang="zh-CN" sz="4400" spc="-1" strike="noStrike">
                <a:solidFill>
                  <a:srgbClr val="0039ac"/>
                </a:solidFill>
                <a:latin typeface="Arial"/>
              </a:rPr>
              <a:t>·  </a:t>
            </a:r>
            <a:r>
              <a:rPr b="1" lang="zh-CN" sz="5400" spc="-1" strike="noStrike">
                <a:solidFill>
                  <a:srgbClr val="0039ac"/>
                </a:solidFill>
                <a:latin typeface="幼圆"/>
                <a:ea typeface="幼圆"/>
              </a:rPr>
              <a:t>收获人生</a:t>
            </a:r>
            <a:endParaRPr b="0" lang="en-US" sz="54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初二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(2)</a:t>
            </a:r>
            <a:r>
              <a:rPr b="1" lang="zh-CN" sz="2800" spc="-1" strike="noStrike">
                <a:solidFill>
                  <a:srgbClr val="cc0066"/>
                </a:solidFill>
                <a:latin typeface="黑体"/>
                <a:ea typeface="黑体"/>
              </a:rPr>
              <a:t>班   第四周班会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Franklin Gothic Medium"/>
                <a:ea typeface="隶书"/>
              </a:rPr>
              <a:t>6th  March  2006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6" name="PlaceHolder 1"/>
          <p:cNvSpPr>
            <a:spLocks noGrp="1"/>
          </p:cNvSpPr>
          <p:nvPr>
            <p:ph/>
          </p:nvPr>
        </p:nvSpPr>
        <p:spPr>
          <a:xfrm>
            <a:off x="0" y="188640"/>
            <a:ext cx="70200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习惯真是太具强制力了，它使人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仿宋_GB2312"/>
                <a:ea typeface="仿宋_GB2312"/>
              </a:rPr>
              <a:t>“行”不由衷，“动”不由己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。故事中那个穷人的结局不正是他那“往海里扔石头的习惯性动作”作祟的结果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习惯真是一种顽强而巨大的力量，它可以主宰人生。因此，人自幼就应该通过完美的教育，去建立一种好的习惯”，“教育便是一种早期的习惯”，培根和林肯不约而同地论述了教育与建立好习惯的关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仿宋_GB2312"/>
                <a:ea typeface="仿宋_GB2312"/>
              </a:rPr>
              <a:t>因此，教育的过程，就应该是学生良好习惯的形成过程。对学生而言，成就学业也好，创造事业也罢，都必须养成一种好的习惯，使它服务于学业，服务于事业，服务于人生。否则，他们也可能会把人生道路上的“点铁成金石”扔进海里，自己却全然不知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"/>
          <p:cNvSpPr txBox="1"/>
          <p:nvPr/>
        </p:nvSpPr>
        <p:spPr>
          <a:xfrm rot="5400000">
            <a:off x="6630120" y="1691640"/>
            <a:ext cx="3332160" cy="10476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习惯的力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68" name=""/>
          <p:cNvSpPr txBox="1"/>
          <p:nvPr/>
        </p:nvSpPr>
        <p:spPr>
          <a:xfrm rot="5400000">
            <a:off x="5679360" y="4193640"/>
            <a:ext cx="3456000" cy="3427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—</a:t>
            </a: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古老的故事对我们说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0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2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2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2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0" dur="80"/>
                                        <p:tgtEl>
                                          <p:spTgt spid="2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1" dur="80"/>
                                        <p:tgtEl>
                                          <p:spTgt spid="2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2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2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8" dur="80"/>
                                        <p:tgtEl>
                                          <p:spTgt spid="21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2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2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02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2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25092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6000" spc="-1" strike="noStrike">
                <a:solidFill>
                  <a:srgbClr val="feec94"/>
                </a:solidFill>
                <a:latin typeface="Times New Roman"/>
                <a:ea typeface="华文新魏"/>
              </a:rPr>
              <a:t>习惯的故事</a:t>
            </a:r>
            <a:r>
              <a:rPr b="0" i="1" lang="zh-CN" sz="6000" spc="-1" strike="noStrike">
                <a:solidFill>
                  <a:srgbClr val="feec94"/>
                </a:solidFill>
                <a:latin typeface="Times New Roman"/>
                <a:ea typeface="华文新魏"/>
              </a:rPr>
              <a:t>(2)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——</a:t>
            </a:r>
            <a:r>
              <a:rPr b="0" i="1" lang="zh-CN" sz="24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大象与木桩</a:t>
            </a:r>
            <a:endParaRPr b="1" lang="en-US" sz="2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394920" y="2276280"/>
            <a:ext cx="8002440" cy="42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ffcc"/>
                </a:solidFill>
                <a:latin typeface="Times New Roman"/>
                <a:ea typeface="华文细黑"/>
              </a:rPr>
              <a:t>印第安纳州西南端的小镇，迎来了一支马戏团。人们成群结队地来观看马戏团撑帐篷。人们简直被大象不可思议的力量迷住了，大象竟然可以毫不费劲地抬起巨大的帐篷柱子，还可以撑起巨大的帆布！那天晚上，有一家人坐在巨大的帐篷底下观看演出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1" name=""/>
          <p:cNvSpPr/>
          <p:nvPr/>
        </p:nvSpPr>
        <p:spPr>
          <a:xfrm>
            <a:off x="1332000" y="2781360"/>
            <a:ext cx="64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Arial"/>
                <a:ea typeface="华文行楷"/>
              </a:rPr>
              <a:t>小孩子注意到，大象被安静地栓在一根小小的木桩上。“爸爸，大象为什么不把那么小的木桩连根拔起，然后伺机逃跑呢？”孩子好奇地问爸爸。爸爸似乎也有点儿吃惊，随即便找训象员询问……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2" name=""/>
          <p:cNvSpPr/>
          <p:nvPr/>
        </p:nvSpPr>
        <p:spPr>
          <a:xfrm>
            <a:off x="611280" y="1989000"/>
            <a:ext cx="79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80808"/>
                </a:solidFill>
                <a:latin typeface="隶书"/>
                <a:ea typeface="隶书"/>
              </a:rPr>
              <a:t>训象员解释道，当大象还很小、力气也不大的时候，它便被一根粗锁链栓到了一根牢牢固定的铁柱子上。每天，小象都会拼命地试图挣脱锁链逃跑，但是，它的每次尝试均以失败而告终。最后，小象得出结论，无论自己如何努力，锁链都牢不可破，铁柱也会毫不动摇。于是，小象放弃了努力，从此不再尝试。日复一日，这一习惯逐步巩固，直到小象长成大象，它仍然习惯性地坚信自己永远不可能挪动那根栓住它的桩子，无论桩子是否真正结实和牢固。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173" name=""/>
          <p:cNvSpPr/>
          <p:nvPr/>
        </p:nvSpPr>
        <p:spPr>
          <a:xfrm>
            <a:off x="3369600" y="2997360"/>
            <a:ext cx="17316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猜一猜</a:t>
            </a:r>
            <a:r>
              <a:rPr b="1" lang="zh-CN" sz="6600" spc="-1" strike="noStrike">
                <a:solidFill>
                  <a:srgbClr val="080808"/>
                </a:solidFill>
                <a:latin typeface="Arial"/>
              </a:rPr>
              <a:t>?</a:t>
            </a:r>
            <a:endParaRPr b="0" lang="en-US" sz="66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4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0" dur="8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3,106,-73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2" dur="8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4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56" dur="100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9" dur="1000"/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3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374" dur="1000"/>
                                        <p:tgtEl>
                                          <p:spTgt spid="2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xit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base">
                                        <p:cTn id="387" dur="500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/>
                                        <p:tgtEl>
                                          <p:spTgt spid="2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400" dur="2000"/>
                                        <p:tgtEl>
                                          <p:spTgt spid="2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subTitle"/>
          </p:nvPr>
        </p:nvSpPr>
        <p:spPr>
          <a:xfrm>
            <a:off x="1116000" y="1773360"/>
            <a:ext cx="69120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ccecff"/>
                </a:solidFill>
                <a:latin typeface="Tahoma"/>
                <a:ea typeface="隶书"/>
              </a:rPr>
              <a:t>人们也可能被“训练”！或者用心理学家的话来说，象大象那样“条件反射”地受到某种定性的思维、行动以及结果的禁锢。这时候，他们往往</a:t>
            </a:r>
            <a:r>
              <a:rPr b="0" lang="zh-CN" sz="3200" spc="-1" strike="noStrike" u="sng">
                <a:solidFill>
                  <a:srgbClr val="99ccff"/>
                </a:solidFill>
                <a:uFillTx/>
                <a:latin typeface="Tahoma"/>
                <a:ea typeface="隶书"/>
              </a:rPr>
              <a:t>不自觉地陷入了自己强加于自己的某种陷阱之中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500"/>
                                        <p:tgtEl>
                                          <p:spTgt spid="2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/>
          </p:nvPr>
        </p:nvSpPr>
        <p:spPr>
          <a:xfrm>
            <a:off x="611280" y="2205000"/>
            <a:ext cx="5976720" cy="39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33cc"/>
                </a:solidFill>
                <a:latin typeface="幼圆"/>
                <a:ea typeface="幼圆"/>
              </a:rPr>
              <a:t>说说自己 关于“好习惯” “坏习惯” 的故事</a:t>
            </a:r>
            <a:endParaRPr b="0" lang="en-US" sz="5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76" name=""/>
          <p:cNvSpPr txBox="1"/>
          <p:nvPr/>
        </p:nvSpPr>
        <p:spPr>
          <a:xfrm rot="5400000">
            <a:off x="5495040" y="2218320"/>
            <a:ext cx="3771720" cy="1008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9400ed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行楷"/>
              </a:rPr>
              <a:t>交流空间</a:t>
            </a:r>
            <a:endParaRPr b="1" lang="en-US" sz="4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0000ff"/>
                  </a:gs>
                  <a:gs pos="100000">
                    <a:srgbClr val="9400ed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7" name=""/>
          <p:cNvSpPr txBox="1"/>
          <p:nvPr/>
        </p:nvSpPr>
        <p:spPr>
          <a:xfrm>
            <a:off x="900000" y="1125360"/>
            <a:ext cx="554364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882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华文行楷"/>
              </a:rPr>
              <a:t>身边的榜样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  <p:sp>
        <p:nvSpPr>
          <p:cNvPr id="2178" name=""/>
          <p:cNvSpPr/>
          <p:nvPr/>
        </p:nvSpPr>
        <p:spPr>
          <a:xfrm>
            <a:off x="1116000" y="3213000"/>
            <a:ext cx="655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80808"/>
                </a:solidFill>
                <a:latin typeface="Arial"/>
              </a:rPr>
              <a:t>发现身边同学的好习惯</a:t>
            </a:r>
            <a:endParaRPr b="0" lang="en-US" sz="4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9" name="PlaceHolder 1"/>
          <p:cNvSpPr>
            <a:spLocks noGrp="1"/>
          </p:cNvSpPr>
          <p:nvPr>
            <p:ph type="title"/>
          </p:nvPr>
        </p:nvSpPr>
        <p:spPr>
          <a:xfrm>
            <a:off x="178920" y="1886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d7da9"/>
                </a:solidFill>
                <a:latin typeface="隶书"/>
                <a:ea typeface="隶书"/>
              </a:rPr>
              <a:t>好习惯结好果 坏习惯酿恶果</a:t>
            </a:r>
            <a:br>
              <a:rPr sz="4800"/>
            </a:br>
            <a:r>
              <a:rPr b="0" lang="zh-CN" sz="2400" spc="-1" strike="noStrike">
                <a:solidFill>
                  <a:srgbClr val="0033cc"/>
                </a:solidFill>
                <a:latin typeface="隶书"/>
                <a:ea typeface="隶书"/>
              </a:rPr>
              <a:t>——我们可以养成的好习惯</a:t>
            </a:r>
            <a:endParaRPr b="0" lang="en-US" sz="2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80" name="PlaceHolder 2"/>
          <p:cNvSpPr>
            <a:spLocks noGrp="1"/>
          </p:cNvSpPr>
          <p:nvPr>
            <p:ph/>
          </p:nvPr>
        </p:nvSpPr>
        <p:spPr>
          <a:xfrm>
            <a:off x="250920" y="1413000"/>
            <a:ext cx="859464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永远信守承诺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开会和约会不迟到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从来不忘记回复电话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快速处理各种琐碎的行政事务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积极倾听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永远不要等到最后一刻才做计划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一经介绍，就永远记住对方的名字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与人交谈时，保持良好的眼神接触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保证每天的饮食健康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锻炼身体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多读书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控制情绪和脾气；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33cc"/>
                </a:solidFill>
                <a:latin typeface="Arial"/>
                <a:ea typeface="黑体"/>
              </a:rPr>
              <a:t>定期给家人或朋友打电话或写信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2" dur="indefinite" restart="never" nodeType="tmRoot">
          <p:childTnLst>
            <p:seq>
              <p:cTn id="443" dur="indefinite" nodeType="mainSeq">
                <p:childTnLst>
                  <p:par>
                    <p:cTn id="444" fill="hold">
                      <p:stCondLst>
                        <p:cond delay="0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4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6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"/>
          <p:cNvSpPr txBox="1"/>
          <p:nvPr/>
        </p:nvSpPr>
        <p:spPr>
          <a:xfrm>
            <a:off x="1460520" y="1052640"/>
            <a:ext cx="5991120" cy="504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541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培养好习惯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,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构建新人生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请</a:t>
            </a: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MICHELLE</a:t>
            </a: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华文行楷"/>
              </a:rPr>
              <a:t>总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华文行楷"/>
              <a:ea typeface="华文行楷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2" name="PlaceHolder 1"/>
          <p:cNvSpPr>
            <a:spLocks noGrp="1"/>
          </p:cNvSpPr>
          <p:nvPr>
            <p:ph type="title"/>
          </p:nvPr>
        </p:nvSpPr>
        <p:spPr>
          <a:xfrm>
            <a:off x="0" y="83628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(1)</a:t>
            </a:r>
            <a:r>
              <a:rPr b="1" lang="zh-CN" sz="5400" spc="-1" strike="noStrike">
                <a:solidFill>
                  <a:srgbClr val="ccccff"/>
                </a:solidFill>
                <a:latin typeface="Times New Roman"/>
                <a:ea typeface="华文新魏"/>
              </a:rPr>
              <a:t> </a:t>
            </a:r>
            <a:br>
              <a:rPr sz="5400"/>
            </a:b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每天做些苦差事——为自己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PlaceHolder 2"/>
          <p:cNvSpPr>
            <a:spLocks noGrp="1"/>
          </p:cNvSpPr>
          <p:nvPr>
            <p:ph/>
          </p:nvPr>
        </p:nvSpPr>
        <p:spPr>
          <a:xfrm>
            <a:off x="826920" y="2349360"/>
            <a:ext cx="612144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关键在于每天去做一点自己心里并不愿意做的事情，这样，你便不会为那些真正需要你完成的义务而感到痛苦，这就是养成自觉习惯的黄金定律。”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马克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·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吐温（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Mark Twain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531" dur="indefinite" restart="never" nodeType="tmRoot">
          <p:childTnLst>
            <p:seq>
              <p:cTn id="532" dur="indefinite" nodeType="mainSeq">
                <p:childTnLst>
                  <p:par>
                    <p:cTn id="533" fill="hold">
                      <p:stCondLst>
                        <p:cond delay="0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178920" y="764640"/>
            <a:ext cx="828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,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构建新人生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(1)</a:t>
            </a:r>
            <a:r>
              <a:rPr b="1" lang="zh-CN" sz="2500" spc="-1" strike="noStrike">
                <a:solidFill>
                  <a:srgbClr val="ff0066"/>
                </a:solidFill>
                <a:latin typeface="Times New Roman"/>
                <a:ea typeface="隶书"/>
              </a:rPr>
              <a:t> </a:t>
            </a:r>
            <a:br>
              <a:rPr sz="2500"/>
            </a:br>
            <a:r>
              <a:rPr b="1" lang="zh-CN" sz="25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                   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  <a:ea typeface="黑体"/>
              </a:rPr>
              <a:t>——</a:t>
            </a:r>
            <a:r>
              <a:rPr b="1" lang="zh-CN" sz="2500" spc="-1" strike="noStrike">
                <a:solidFill>
                  <a:srgbClr val="009900"/>
                </a:solidFill>
                <a:latin typeface="Times New Roman"/>
                <a:ea typeface="黑体"/>
              </a:rPr>
              <a:t>每天做些苦差事——为自己</a:t>
            </a:r>
            <a:endParaRPr b="1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1618920" y="2133360"/>
            <a:ext cx="705636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不论你选择怎样的事情，它首先是一件你必须强迫自己完成的苦差事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其次，这件苦差事也必须是你每天都可以完成的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最后，这件苦差事当然还应该是一件有益处的事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选择怎样的苦差事本身并不重要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坚持才是问题的关键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每天坚持做点儿自己原本不太喜欢的事情，最终会让我们获得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  <a:ea typeface="华文行楷"/>
              </a:rPr>
              <a:t>自律、毅力、以及信守承诺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5" dur="1000"/>
                                        <p:tgtEl>
                                          <p:spTgt spid="2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2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7" dur="500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2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4" dur="500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6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7993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r>
              <a:rPr b="0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(1)</a:t>
            </a:r>
            <a:br>
              <a:rPr sz="6000"/>
            </a:br>
            <a:r>
              <a:rPr b="0" lang="zh-CN" sz="2400" spc="-1" strike="noStrike">
                <a:solidFill>
                  <a:srgbClr val="ff0066"/>
                </a:solidFill>
                <a:latin typeface="Times New Roman"/>
                <a:ea typeface="隶书"/>
              </a:rPr>
              <a:t>                  </a:t>
            </a:r>
            <a:r>
              <a:rPr b="0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9900"/>
                </a:solidFill>
                <a:latin typeface="Times New Roman"/>
                <a:ea typeface="黑体"/>
              </a:rPr>
              <a:t>每天做些苦差事——为自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PlaceHolder 2"/>
          <p:cNvSpPr>
            <a:spLocks noGrp="1"/>
          </p:cNvSpPr>
          <p:nvPr>
            <p:ph/>
          </p:nvPr>
        </p:nvSpPr>
        <p:spPr>
          <a:xfrm>
            <a:off x="2339640" y="2133360"/>
            <a:ext cx="583236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66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现在，请你花上几分钟的时间来想一想，你可能选择哪些苦差事吧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000066"/>
                </a:solidFill>
                <a:latin typeface="黑体"/>
                <a:ea typeface="黑体"/>
              </a:rPr>
              <a:t>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0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799"/>
                                        <p:tgtEl>
                                          <p:spTgt spid="2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1" dur="799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799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799" fill="hold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99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1000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1000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1" dur="1000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767ff"/>
                </a:solidFill>
                <a:latin typeface="Arial"/>
                <a:ea typeface="华文行楷"/>
              </a:rPr>
              <a:t>习惯无处不在</a:t>
            </a:r>
            <a:br>
              <a:rPr sz="5400"/>
            </a:br>
            <a:r>
              <a:rPr b="0" lang="zh-CN" sz="2400" spc="-1" strike="noStrike">
                <a:solidFill>
                  <a:srgbClr val="6767ff"/>
                </a:solidFill>
                <a:latin typeface="Arial"/>
                <a:ea typeface="华文行楷"/>
              </a:rPr>
              <a:t>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——不知不觉中就有习惯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178920" y="1628280"/>
            <a:ext cx="8713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66"/>
                </a:solidFill>
                <a:latin typeface="幼圆"/>
                <a:ea typeface="幼圆"/>
              </a:rPr>
              <a:t>有调查表明，人们日常活动的</a:t>
            </a:r>
            <a:r>
              <a:rPr b="1" lang="zh-CN" sz="2800" spc="-1" strike="noStrike">
                <a:solidFill>
                  <a:srgbClr val="660066"/>
                </a:solidFill>
                <a:latin typeface="幼圆"/>
                <a:ea typeface="幼圆"/>
              </a:rPr>
              <a:t>90</a:t>
            </a:r>
            <a:r>
              <a:rPr b="1" lang="zh-CN" sz="2800" spc="-1" strike="noStrike">
                <a:solidFill>
                  <a:srgbClr val="660066"/>
                </a:solidFill>
                <a:latin typeface="幼圆"/>
                <a:ea typeface="幼圆"/>
              </a:rPr>
              <a:t>％源自习惯和惯性。想想看，我们大多数的日常活动都只是习惯而已！我们几点钟起床，怎么洗澡，刷牙，穿衣，读报，吃早餐，驾车上班等等，一天之内上演着几百种习惯。然而，习惯还并不仅仅是日常惯例那么简单，它的影响十分深远。如果不加控制，习惯将影响我们生活的所有方面。小到啃指甲、挠头、握笔姿式以及双臂交叉等微不足道的事，大到一些关系到身体健康的事，比如，吃什么，吃多少，何时吃，运动项目是什么，锻炼时间长短，多久锻炼一次等等。甚至我们与朋友交往，与家人和同事如何相处都是基于我们的习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构建新人生 </a:t>
            </a:r>
            <a:r>
              <a:rPr b="0" lang="zh-CN" sz="5400" spc="-1" strike="noStrike">
                <a:solidFill>
                  <a:srgbClr val="800080"/>
                </a:solidFill>
                <a:latin typeface="Arial"/>
                <a:ea typeface="华文新魏"/>
              </a:rPr>
              <a:t>(2)</a:t>
            </a:r>
            <a:endParaRPr b="0" lang="en-US" sz="5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394920" y="169992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世上只有两条路能通往成功的目标并成就伟大的事业，那就是：力量和</a:t>
            </a:r>
            <a:r>
              <a:rPr b="1" lang="zh-CN" sz="3200" spc="-1" strike="noStrike">
                <a:solidFill>
                  <a:srgbClr val="ff6600"/>
                </a:solidFill>
                <a:latin typeface="Arial"/>
                <a:ea typeface="楷体_GB2312"/>
              </a:rPr>
              <a:t>坚韧</a:t>
            </a:r>
            <a:r>
              <a:rPr b="1" lang="zh-CN" sz="2400" spc="-1" strike="noStrike">
                <a:solidFill>
                  <a:srgbClr val="006600"/>
                </a:solidFill>
                <a:latin typeface="Arial"/>
                <a:ea typeface="楷体_GB2312"/>
              </a:rPr>
              <a:t>。力量并不属于大多数人，它是少数人的特权；然而，即便是最不起眼的小人物，也可以拥有吃苦耐劳的坚韧品质。坚韧从来不负众望，因为它沉默的力量将随着时间的推移一天天壮大，直到所向披靡无以抗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There are but two roads that lead to an important goal and to the doing of great things: strength and perseverance. Strength is the lot of but a few privileged man; but austere perseverance, harsh and continuous, may be employed by the smallest of us and rarely fails of its purpose, for its silent power grows irresistibly greater with tim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——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  <a:ea typeface="隶书"/>
              </a:rPr>
              <a:t>歌德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Johann von Goethe</a:t>
            </a:r>
            <a:r>
              <a:rPr b="1" lang="zh-CN" sz="2400" spc="-1" strike="noStrike">
                <a:solidFill>
                  <a:srgbClr val="80008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654" dur="indefinite" restart="never" nodeType="tmRoot">
          <p:childTnLst>
            <p:seq>
              <p:cTn id="655" dur="indefinite" nodeType="mainSeq">
                <p:childTnLst>
                  <p:par>
                    <p:cTn id="656" fill="hold">
                      <p:stCondLst>
                        <p:cond delay="0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59" dur="2000" fill="hold"/>
                                        <p:tgtEl>
                                          <p:spTgt spid="21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4" dur="10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1" dur="10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10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84" dur="5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5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88" dur="500"/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93" dur="5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5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7" dur="500"/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xit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6" dur="500"/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0" name="PlaceHolder 1"/>
          <p:cNvSpPr>
            <a:spLocks noGrp="1"/>
          </p:cNvSpPr>
          <p:nvPr>
            <p:ph type="title"/>
          </p:nvPr>
        </p:nvSpPr>
        <p:spPr>
          <a:xfrm>
            <a:off x="2700360" y="18864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4005c"/>
                </a:solidFill>
                <a:latin typeface="Arial"/>
                <a:ea typeface="华文新魏"/>
              </a:rPr>
              <a:t>培养好习惯</a:t>
            </a:r>
            <a:r>
              <a:rPr b="0" lang="zh-CN" sz="3600" spc="-1" strike="noStrike">
                <a:solidFill>
                  <a:srgbClr val="e4005c"/>
                </a:solidFill>
                <a:latin typeface="Arial"/>
                <a:ea typeface="华文新魏"/>
              </a:rPr>
              <a:t>,</a:t>
            </a:r>
            <a:r>
              <a:rPr b="0" lang="zh-CN" sz="3600" spc="-1" strike="noStrike">
                <a:solidFill>
                  <a:srgbClr val="e4005c"/>
                </a:solidFill>
                <a:latin typeface="Arial"/>
                <a:ea typeface="华文新魏"/>
              </a:rPr>
              <a:t>构建新人生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191" name="PlaceHolder 2"/>
          <p:cNvSpPr>
            <a:spLocks noGrp="1"/>
          </p:cNvSpPr>
          <p:nvPr>
            <p:ph/>
          </p:nvPr>
        </p:nvSpPr>
        <p:spPr>
          <a:xfrm>
            <a:off x="2050920" y="1267920"/>
            <a:ext cx="684216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步一步的走，漫漫长路有尽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针一针的缝，褴褛之衫变天衣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砖一瓦的垒，铜墙铁壁耸云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一片一片的积，万丈雪层深似山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ep and then another, and the longest walk is 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stitch and then another, and the longest rent is mend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brick upon another, and the tallest wall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</a:rPr>
              <a:t>One flake and then another, and the deepest snow is laid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0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21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7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/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500" fill="hold"/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500" fill="hold"/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500" fill="hold"/>
                                        <p:tgtEl>
                                          <p:spTgt spid="2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500" fill="hold"/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6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87" dur="500" fill="hold"/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9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0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4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4000" y="1196640"/>
            <a:ext cx="813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构建新人生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(3)</a:t>
            </a:r>
            <a:br>
              <a:rPr sz="5400"/>
            </a:br>
            <a:r>
              <a:rPr b="1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   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幼圆"/>
              </a:rPr>
              <a:t>——</a:t>
            </a:r>
            <a:r>
              <a:rPr b="1" lang="zh-CN" sz="2400" spc="-1" strike="noStrike">
                <a:solidFill>
                  <a:srgbClr val="006666"/>
                </a:solidFill>
                <a:latin typeface="Arial"/>
                <a:ea typeface="幼圆"/>
              </a:rPr>
              <a:t>永远不要低估你的潜能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3" name="PlaceHolder 2"/>
          <p:cNvSpPr>
            <a:spLocks noGrp="1"/>
          </p:cNvSpPr>
          <p:nvPr>
            <p:ph/>
          </p:nvPr>
        </p:nvSpPr>
        <p:spPr>
          <a:xfrm>
            <a:off x="900000" y="3068280"/>
            <a:ext cx="712944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我们每个人都拥有丰富的但却有待开发的潜能。问题只是，我们常常无法意识到自己所拥有的潜能。</a:t>
            </a:r>
            <a:r>
              <a:rPr b="0" lang="zh-CN" sz="3200" spc="-1" strike="noStrike">
                <a:solidFill>
                  <a:srgbClr val="660066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06" dur="indefinite" restart="never" nodeType="tmRoot">
          <p:childTnLst>
            <p:seq>
              <p:cTn id="807" dur="indefinite" nodeType="mainSeq">
                <p:childTnLst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23" dur="1000"/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4" fill="hold">
                      <p:stCondLst>
                        <p:cond delay="indefinite"/>
                      </p:stCondLst>
                      <p:childTnLst>
                        <p:par>
                          <p:cTn id="825" fill="hold">
                            <p:stCondLst>
                              <p:cond delay="0"/>
                            </p:stCondLst>
                            <p:childTnLst>
                              <p:par>
                                <p:cTn id="826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plus(in)" transition="out">
                                      <p:cBhvr additive="repl">
                                        <p:cTn id="827" dur="2000"/>
                                        <p:tgtEl>
                                          <p:spTgt spid="2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xit" presetID="4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2" dur="1000"/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2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/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fltVal val="-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/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35" dur="1000"/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5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59140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一天晚上，一个人在酒吧里喝醉了。从酒吧出来后，觉得头晕目眩的他并没有冒险去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车，而选择了走路回家。就在回家的路上，天空开始下起了暴雨，他于是决定抄近路穿过墓地。然而，不幸的是，由于黑暗和暴风雨的干扰，他没有注意到脚下刚刚挖好的墓穴，一头栽倒在墓穴里。他一次又一次地试图爬出墓穴，但是，雨水的冲刷让两侧的泥土变得泥泞而湿滑，更何况酒醉让他昏头昏脑！几经努力，他还是没能够爬出来。筋疲力尽的他，只好在角落里蜷缩成一团，昏昏沉沉地睡着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无巧不成书。又有一个家伙，同样喝醉了酒，因为想抄近路而穿过墓地，也不幸落入其中。在耗尽了每一分企图爬出墓穴的力气之后，同样得出了当晚无法逃出墓穴的结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　　就在这位老兄四处折腾的时候，睡着了的那位老兄终于醒了。隐藏在黑暗的墓穴角落中的他，用一种沉重而焦躁的声音说道：“你永远无法逃出这里。”猛然听到“空荡荡”的墓穴中发出的地狱般的声音，第二位老兄大受惊吓，他几乎没有迟疑，便纵身跳出了墓穴，一路飞奔地跑回了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4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5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5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5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5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5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860" dur="2000"/>
                                        <p:tgtEl>
                                          <p:spTgt spid="2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179280" y="62028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培养好习惯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,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构建新人生</a:t>
            </a:r>
            <a:r>
              <a:rPr b="0" lang="zh-CN" sz="6000" spc="-1" strike="noStrike">
                <a:solidFill>
                  <a:srgbClr val="ffff00"/>
                </a:solidFill>
                <a:latin typeface="Arial"/>
                <a:ea typeface="华文新魏"/>
              </a:rPr>
              <a:t>(4)</a:t>
            </a:r>
            <a:endParaRPr b="0" lang="en-US" sz="6000" spc="-1" strike="noStrike">
              <a:solidFill>
                <a:srgbClr val="c4c3aa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825120" y="2542680"/>
            <a:ext cx="6986520" cy="30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方正舒体"/>
              </a:rPr>
              <a:t>大处着眼，小处着手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方正舒体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方正舒体"/>
              </a:rPr>
              <a:t>百尺高台，起于垒土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c4c3aa"/>
              </a:buClr>
              <a:buSzPct val="60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Verdana"/>
                <a:ea typeface="方正舒体"/>
              </a:rPr>
              <a:t>当你从小处入手，并借助积累的力量，那么改掉习惯也将变得十分容易。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push dir="r"/>
  </p:transition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0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8" dur="2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9" dur="2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29800">
                                          <p:val>
                                            <p:strVal val="#ppt_h/2"/>
                                          </p:val>
                                        </p:tav>
                                        <p:tav tm="398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59700">
                                          <p:val>
                                            <p:strVal val="#ppt_h"/>
                                          </p:val>
                                        </p:tav>
                                        <p:tav tm="69800">
                                          <p:val>
                                            <p:strVal val="#ppt_h/2"/>
                                          </p:val>
                                        </p:tav>
                                        <p:tav tm="799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2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2000" fill="hold"/>
                                        <p:tgtEl>
                                          <p:spTgt spid="2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19900">
                                          <p:val>
                                            <p:strVal val="#ppt_y-.2"/>
                                          </p:val>
                                        </p:tav>
                                        <p:tav tm="29800">
                                          <p:val>
                                            <p:strVal val="#ppt_y"/>
                                          </p:val>
                                        </p:tav>
                                        <p:tav tm="398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597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800">
                                          <p:val>
                                            <p:strVal val="#ppt_y"/>
                                          </p:val>
                                        </p:tav>
                                        <p:tav tm="799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fill="hold">
                      <p:stCondLst>
                        <p:cond delay="indefinite"/>
                      </p:stCondLst>
                      <p:childTnLst>
                        <p:par>
                          <p:cTn id="880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9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你每天早晨的想法将决定你一整天的表现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Your morning thoughts may determine your conduct for the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威廉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M </a:t>
            </a:r>
            <a:r>
              <a:rPr b="1" lang="en-US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派克（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William M. Peck</a:t>
            </a:r>
            <a:r>
              <a:rPr b="1" lang="zh-CN" sz="3200" spc="-1" strike="noStrike">
                <a:solidFill>
                  <a:srgbClr val="003300"/>
                </a:solidFill>
                <a:latin typeface="华文细黑"/>
                <a:ea typeface="华文细黑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0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59.7"/>
                                  </p:iterate>
                                  <p:childTnLst>
                                    <p:set>
                                      <p:cBhvr>
                                        <p:cTn id="89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59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9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1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dc5900"/>
                </a:solidFill>
                <a:latin typeface="Arial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dc5900"/>
                </a:solidFill>
                <a:latin typeface="Arial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dc5900"/>
                </a:solidFill>
                <a:latin typeface="Arial"/>
                <a:ea typeface="华文新魏"/>
              </a:rPr>
              <a:t>构建新人生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01" name="PlaceHolder 2"/>
          <p:cNvSpPr>
            <a:spLocks noGrp="1"/>
          </p:cNvSpPr>
          <p:nvPr>
            <p:ph/>
          </p:nvPr>
        </p:nvSpPr>
        <p:spPr>
          <a:xfrm>
            <a:off x="611280" y="1915920"/>
            <a:ext cx="7921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细黑"/>
              </a:rPr>
              <a:t>手中牢牢紧握那根引导自己走完忙碌人生迷宫的线索的人，一定是那些</a:t>
            </a:r>
            <a:r>
              <a:rPr b="1" lang="zh-CN" sz="2800" spc="-1" strike="noStrike">
                <a:solidFill>
                  <a:srgbClr val="3366ff"/>
                </a:solidFill>
                <a:latin typeface="Arial"/>
                <a:ea typeface="华文细黑"/>
              </a:rPr>
              <a:t>每天早晨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  <a:ea typeface="华文细黑"/>
              </a:rPr>
              <a:t>都会为一整天的事务做个计划并能按时完成计划的人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He who every morning has a plan for the transactions of the day and follows that plan carries thread that will guide him through the labyrinth of the most busy life.”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维克多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·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雨果（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Victor Hugo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）</a:t>
            </a:r>
            <a:r>
              <a:rPr b="0" lang="zh-CN" sz="28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0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2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6" fill="hold">
                      <p:stCondLst>
                        <p:cond delay="indefinite"/>
                      </p:stCondLst>
                      <p:childTnLst>
                        <p:par>
                          <p:cTn id="927" fill="hold">
                            <p:stCondLst>
                              <p:cond delay="0"/>
                            </p:stCondLst>
                            <p:childTnLst>
                              <p:par>
                                <p:cTn id="92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1000"/>
                                        <p:tgtEl>
                                          <p:spTgt spid="2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9" dur="1000"/>
                                        <p:tgtEl>
                                          <p:spTgt spid="2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6" dur="1000"/>
                                        <p:tgtEl>
                                          <p:spTgt spid="2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2741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楷体_GB2312"/>
                <a:ea typeface="楷体_GB2312"/>
              </a:rPr>
              <a:t>一日之计在于晨。每一天的开始，将为一天中余下的时间搭起一个大舞台。如果你有目的地在每一天的早晨设定好一天中自己希望的行为模式，那么，这意味着你向着自己希望的生活迈出了重要的一步。如何度过每一天的早晨，正是我们自我检验控制能力的试剂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47" dur="indefinite" restart="never" nodeType="tmRoot">
          <p:childTnLst>
            <p:seq>
              <p:cTn id="948" dur="indefinite" nodeType="mainSeq">
                <p:childTnLst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1000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4" dur="1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2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/>
          </p:nvPr>
        </p:nvSpPr>
        <p:spPr>
          <a:xfrm>
            <a:off x="826920" y="1196640"/>
            <a:ext cx="749016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每天早晨醒来后是为一天做个计划，还是漫无目的地胡思乱想呢？假定我们已经为自己做了个计划，我们又是否能够坚持执行计划？我们是遵循一个有目的的、预先设定好的，并能够让我们更有效率、更有效果的行为模式呢，还是放任自己自由想象和自由休闲？或者，我们只是随意而匆忙地准备出门，目的不过是为了准时上学？</a:t>
            </a:r>
            <a:r>
              <a:rPr b="0" lang="zh-CN" sz="3200" spc="-1" strike="noStrike">
                <a:solidFill>
                  <a:srgbClr val="ffffcc"/>
                </a:solidFill>
                <a:latin typeface="隶书"/>
                <a:ea typeface="隶书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56" dur="indefinite" restart="never" nodeType="tmRoot">
          <p:childTnLst>
            <p:seq>
              <p:cTn id="957" dur="indefinite" nodeType="mainSeq">
                <p:childTnLst>
                  <p:par>
                    <p:cTn id="958" fill="hold">
                      <p:stCondLst>
                        <p:cond delay="indefinite"/>
                      </p:stCondLst>
                      <p:childTnLst>
                        <p:par>
                          <p:cTn id="959" fill="hold">
                            <p:stCondLst>
                              <p:cond delay="0"/>
                            </p:stCondLst>
                            <p:childTnLst>
                              <p:par>
                                <p:cTn id="9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1000"/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3" dur="1000" fill="hold"/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4" name="PlaceHolder 1"/>
          <p:cNvSpPr>
            <a:spLocks noGrp="1"/>
          </p:cNvSpPr>
          <p:nvPr>
            <p:ph/>
          </p:nvPr>
        </p:nvSpPr>
        <p:spPr>
          <a:xfrm>
            <a:off x="900000" y="1196640"/>
            <a:ext cx="734544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0066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ccff"/>
                </a:solidFill>
                <a:latin typeface="华文新魏"/>
                <a:ea typeface="华文新魏"/>
              </a:rPr>
              <a:t>如何度过早晨，决定了我们日常行为规律是否能发挥它潜在的威力。它究竟是由好习惯构成，还是被坏习惯充斥，早晨的时光将彻底揭示问题的答案。如果我们希望自己不至于一生碌碌无为，并能够最大限度地发挥潜能，那么，养成有效利用早晨时光的良好习惯将至关重要。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1" dur="1000"/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2" dur="1000" fill="hold"/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1000" fill="hold"/>
                                        <p:tgtEl>
                                          <p:spTgt spid="2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6767ff"/>
                </a:solidFill>
                <a:latin typeface="Arial"/>
                <a:ea typeface="华文行楷"/>
              </a:rPr>
              <a:t>习惯无处不在</a:t>
            </a:r>
            <a:br>
              <a:rPr sz="5400"/>
            </a:br>
            <a:r>
              <a:rPr b="0" lang="zh-CN" sz="2400" spc="-1" strike="noStrike">
                <a:solidFill>
                  <a:srgbClr val="6767ff"/>
                </a:solidFill>
                <a:latin typeface="Arial"/>
                <a:ea typeface="华文行楷"/>
              </a:rPr>
              <a:t>     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华文行楷"/>
              </a:rPr>
              <a:t>——不知不觉中就有习惯的影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仿宋_GB2312"/>
              </a:rPr>
              <a:t>毫无疑问，人就是一种习惯性的动物。</a:t>
            </a:r>
            <a:r>
              <a:rPr b="1" lang="zh-CN" sz="4000" spc="-1" strike="noStrike" u="sng">
                <a:solidFill>
                  <a:srgbClr val="000066"/>
                </a:solidFill>
                <a:uFillTx/>
                <a:latin typeface="Arial"/>
                <a:ea typeface="仿宋_GB2312"/>
              </a:rPr>
              <a:t>无论我们是否愿意，习惯总是无孔不入，渗透在我们生活的方方面面</a:t>
            </a:r>
            <a:r>
              <a:rPr b="1" lang="zh-CN" sz="4000" spc="-1" strike="noStrike">
                <a:solidFill>
                  <a:srgbClr val="000066"/>
                </a:solidFill>
                <a:latin typeface="Arial"/>
                <a:ea typeface="仿宋_GB2312"/>
              </a:rPr>
              <a:t>。很少有人能够意识到，习惯的影响力竟如此之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5" name="PlaceHolder 1"/>
          <p:cNvSpPr>
            <a:spLocks noGrp="1"/>
          </p:cNvSpPr>
          <p:nvPr>
            <p:ph type="title"/>
          </p:nvPr>
        </p:nvSpPr>
        <p:spPr>
          <a:xfrm>
            <a:off x="684360" y="980640"/>
            <a:ext cx="74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ccff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400" spc="-1" strike="noStrike">
                <a:solidFill>
                  <a:srgbClr val="ccccff"/>
                </a:solidFill>
                <a:latin typeface="Times New Roman"/>
                <a:ea typeface="华文新魏"/>
              </a:rPr>
              <a:t>,</a:t>
            </a:r>
            <a:r>
              <a:rPr b="1" lang="zh-CN" sz="5400" spc="-1" strike="noStrike">
                <a:solidFill>
                  <a:srgbClr val="ccccff"/>
                </a:solidFill>
                <a:latin typeface="Times New Roman"/>
                <a:ea typeface="华文新魏"/>
              </a:rPr>
              <a:t>构建新人生</a:t>
            </a:r>
            <a:endParaRPr b="1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2"/>
          <p:cNvSpPr>
            <a:spLocks noGrp="1"/>
          </p:cNvSpPr>
          <p:nvPr>
            <p:ph/>
          </p:nvPr>
        </p:nvSpPr>
        <p:spPr>
          <a:xfrm>
            <a:off x="395280" y="2636640"/>
            <a:ext cx="739152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每天晚上总结一下自己一天里所做的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Sum up at night what thou has done by day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华文细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罗德</a:t>
            </a:r>
            <a:r>
              <a:rPr b="1" lang="en-US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·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赫尔伯特</a:t>
            </a:r>
            <a:r>
              <a:rPr b="1" lang="zh-CN" sz="3200" spc="-1" strike="noStrike">
                <a:solidFill>
                  <a:srgbClr val="000000"/>
                </a:solidFill>
                <a:latin typeface="华文细黑"/>
                <a:ea typeface="华文细黑"/>
              </a:rPr>
              <a:t>(Lord Herber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fill="hold">
                      <p:stCondLst>
                        <p:cond delay="0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2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2" dur="1000"/>
                                        <p:tgtEl>
                                          <p:spTgt spid="2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fill="hold">
                      <p:stCondLst>
                        <p:cond delay="indefinite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7" dur="500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8" dur="500" fill="hold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2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0" fill="hold">
                      <p:stCondLst>
                        <p:cond delay="indefinite"/>
                      </p:stCondLst>
                      <p:childTnLst>
                        <p:par>
                          <p:cTn id="991" fill="hold">
                            <p:stCondLst>
                              <p:cond delay="0"/>
                            </p:stCondLst>
                            <p:childTnLst>
                              <p:par>
                                <p:cTn id="992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4" dur="500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5" dur="500" fill="hold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2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500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2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868"/>
            </a:gs>
            <a:gs pos="100000">
              <a:srgbClr val="4d4f45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7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4c3aa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一天中的第二个关键时刻出现在晚上。如何度过晚上的时光，也是决定你如何度过早晨时光的因素之一。在心中默默整理和评价一下自己一天中完成的事情，并规划好自己第二天应该做的事情，对于第二天早晨是否能够正确做好计划，以及是否能够拥有一个良好的开端至关重要。制定一天的计划，并坚持执行计划，将让你的工作变得效率更高成绩更大。如果，每一天你都无法完成自己希望完成的事情，那么，你应该反躬自问一下，症结或许就在于缺乏计划。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transition>
    <p:comb dir="horz"/>
  </p:transition>
  <p:timing>
    <p:tnLst>
      <p:par>
        <p:cTn id="1004" dur="indefinite" restart="never" nodeType="tmRoot">
          <p:childTnLst>
            <p:seq>
              <p:cTn id="1005" dur="indefinite" nodeType="mainSeq">
                <p:childTnLst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1000"/>
                                        <p:tgtEl>
                                          <p:spTgt spid="2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1" dur="1000" fill="hold"/>
                                        <p:tgtEl>
                                          <p:spTgt spid="2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2" dur="1000" fill="hold"/>
                                        <p:tgtEl>
                                          <p:spTgt spid="2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d699"/>
            </a:gs>
            <a:gs pos="50000">
              <a:srgbClr val="ffffff"/>
            </a:gs>
            <a:gs pos="100000">
              <a:srgbClr val="ffd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培养好习惯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,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构建新人生</a:t>
            </a:r>
            <a:r>
              <a:rPr b="1" lang="zh-CN" sz="5700" spc="-1" strike="noStrike">
                <a:solidFill>
                  <a:srgbClr val="00cc66"/>
                </a:solidFill>
                <a:latin typeface="Times New Roman"/>
                <a:ea typeface="华文新魏"/>
              </a:rPr>
              <a:t>(5)</a:t>
            </a:r>
            <a:endParaRPr b="1" lang="en-US" sz="5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2268360" y="2581200"/>
            <a:ext cx="5981760" cy="348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用习惯去克服习惯。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One habit overcomes another.”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9900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托马斯</a:t>
            </a:r>
            <a:r>
              <a:rPr b="1" lang="en-US" sz="2800" spc="-1" strike="noStrike">
                <a:solidFill>
                  <a:srgbClr val="000000"/>
                </a:solidFill>
                <a:latin typeface="Dotum"/>
                <a:ea typeface="Dotum"/>
              </a:rPr>
              <a:t>·</a:t>
            </a: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坎佩斯（</a:t>
            </a: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Thomas Kempis</a:t>
            </a:r>
            <a:r>
              <a:rPr b="1" lang="zh-CN" sz="2800" spc="-1" strike="noStrike">
                <a:solidFill>
                  <a:srgbClr val="000000"/>
                </a:solidFill>
                <a:latin typeface="Dotum"/>
                <a:ea typeface="Dotum"/>
              </a:rPr>
              <a:t>），《效法基督》的作者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0" name=""/>
          <p:cNvSpPr/>
          <p:nvPr/>
        </p:nvSpPr>
        <p:spPr>
          <a:xfrm>
            <a:off x="2268360" y="2276640"/>
            <a:ext cx="583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我们明确了希望养成的好习惯，以及希望改掉的坏习惯之后，应充分理解如何改变习惯，这很关键。人们通常说，习惯很难根除。其实，这种说法并不准确。习惯不可能根除，只能够被替换。换句话说，你只能够替换、而不是抹去一个坏习惯。替换，而非抹去，二者之间的区别很重要！因此，我们在着手改掉坏习惯之前，必须仔细地思考究竟应该选取哪些好习惯来替换它们。 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  <p:sp>
        <p:nvSpPr>
          <p:cNvPr id="2211" name=""/>
          <p:cNvSpPr/>
          <p:nvPr/>
        </p:nvSpPr>
        <p:spPr>
          <a:xfrm>
            <a:off x="2050920" y="2421000"/>
            <a:ext cx="60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如果你有目的地选取了好习惯去取代坏习惯，那么，改掉坏习惯将变得容易许多。以嚼烟草为例。我有一个朋友，就是用了磕瓜子这种简单的方式来取代嚼烟草。当他每次受到嚼烟草的诱惑时，便强迫自己嗑几颗瓜子。虽然他现在已经戒烟而且用不着嗑瓜子了，但他在戒烟的早期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隶书"/>
                <a:ea typeface="隶书"/>
              </a:rPr>
              <a:t>很长时间里都需要借助瓜子。</a:t>
            </a:r>
            <a:endParaRPr b="0" lang="en-US" sz="24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18" dur="500"/>
                                        <p:tgtEl>
                                          <p:spTgt spid="220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19" dur="250" autoRev="1" fill="hold"/>
                                        <p:tgtEl>
                                          <p:spTgt spid="220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0" fill="hold">
                      <p:stCondLst>
                        <p:cond delay="indefinite"/>
                      </p:stCondLst>
                      <p:childTnLst>
                        <p:par>
                          <p:cTn id="1021" fill="hold">
                            <p:stCondLst>
                              <p:cond delay="0"/>
                            </p:stCondLst>
                            <p:childTnLst>
                              <p:par>
                                <p:cTn id="10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4" dur="2000"/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fill="hold">
                      <p:stCondLst>
                        <p:cond delay="indefinite"/>
                      </p:stCondLst>
                      <p:childTnLst>
                        <p:par>
                          <p:cTn id="1026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9" dur="2000"/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4" dur="2000"/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5" fill="hold">
                      <p:stCondLst>
                        <p:cond delay="indefinite"/>
                      </p:stCondLst>
                      <p:childTnLst>
                        <p:par>
                          <p:cTn id="1036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38" dur="500"/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43" dur="500"/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fill="hold">
                      <p:stCondLst>
                        <p:cond delay="indefinite"/>
                      </p:stCondLst>
                      <p:childTnLst>
                        <p:par>
                          <p:cTn id="1046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1048" dur="500"/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fill="hold">
                      <p:stCondLst>
                        <p:cond delay="indefinite"/>
                      </p:stCondLst>
                      <p:childTnLst>
                        <p:par>
                          <p:cTn id="1051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4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2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21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heel(4)" transition="out">
                                      <p:cBhvr additive="repl">
                                        <p:cTn id="1061" dur="2000"/>
                                        <p:tgtEl>
                                          <p:spTgt spid="22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1000"/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0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137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培养好习惯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,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构建新人生</a:t>
            </a:r>
            <a:r>
              <a:rPr b="0" lang="zh-CN" sz="5400" spc="-1" strike="noStrike">
                <a:solidFill>
                  <a:srgbClr val="0000ff"/>
                </a:solidFill>
                <a:latin typeface="Arial"/>
                <a:ea typeface="华文新魏"/>
              </a:rPr>
              <a:t>(6)</a:t>
            </a: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    </a:t>
            </a:r>
            <a:br>
              <a:rPr sz="2400"/>
            </a:br>
            <a:r>
              <a:rPr b="0" lang="zh-CN" sz="2400" spc="-1" strike="noStrike">
                <a:solidFill>
                  <a:srgbClr val="ff0066"/>
                </a:solidFill>
                <a:latin typeface="Arial"/>
                <a:ea typeface="隶书"/>
              </a:rPr>
              <a:t>  </a:t>
            </a:r>
            <a:r>
              <a:rPr b="0" lang="zh-CN" sz="2400" spc="-1" strike="noStrike">
                <a:solidFill>
                  <a:srgbClr val="006666"/>
                </a:solidFill>
                <a:latin typeface="Arial"/>
                <a:ea typeface="黑体"/>
              </a:rPr>
              <a:t>——</a:t>
            </a:r>
            <a:r>
              <a:rPr b="0" lang="zh-CN" sz="2400" spc="-1" strike="noStrike">
                <a:solidFill>
                  <a:srgbClr val="006666"/>
                </a:solidFill>
                <a:latin typeface="Arial"/>
                <a:ea typeface="黑体"/>
              </a:rPr>
              <a:t>事先制定计划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971640" y="2133360"/>
            <a:ext cx="7200720" cy="391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在成功实现目标的人群中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,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事先制定   计划者高达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78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00"/>
                </a:solidFill>
                <a:latin typeface="幼圆"/>
                <a:ea typeface="幼圆"/>
              </a:rPr>
              <a:t>☆</a:t>
            </a:r>
            <a:r>
              <a:rPr b="1" lang="zh-CN" sz="3200" spc="-1" strike="noStrike">
                <a:solidFill>
                  <a:srgbClr val="000066"/>
                </a:solidFill>
                <a:latin typeface="幼圆"/>
                <a:ea typeface="幼圆"/>
              </a:rPr>
              <a:t>在改变或培养好习惯的努力过程中，还有一个关键的要素，那便是他人的支持。亲人、朋友，或者同事，都可以成为支持、鼓励、激励你的人选，或成为友善的提醒者——他们完全有可能决定我们究竟是成功地改变生活的某个方面，还是继续糟糕的现状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083" dur="indefinite" restart="never" nodeType="tmRoot">
          <p:childTnLst>
            <p:seq>
              <p:cTn id="1084" dur="indefinite" nodeType="mainSeq">
                <p:childTnLst>
                  <p:par>
                    <p:cTn id="1085" fill="hold">
                      <p:stCondLst>
                        <p:cond delay="0"/>
                      </p:stCondLst>
                      <p:childTnLst>
                        <p:par>
                          <p:cTn id="1086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79.9"/>
                                  </p:iterate>
                                  <p:childTnLst>
                                    <p:set>
                                      <p:cBhvr>
                                        <p:cTn id="10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9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0" dur="7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5" dur="500"/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500"/>
                                        <p:tgtEl>
                                          <p:spTgt spid="2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2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2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800" spc="-1" strike="noStrike">
                <a:solidFill>
                  <a:srgbClr val="ff33cc"/>
                </a:solidFill>
                <a:latin typeface="Arial"/>
                <a:ea typeface="华文行楷"/>
              </a:rPr>
              <a:t>习惯无处不在</a:t>
            </a:r>
            <a:br>
              <a:rPr sz="6800"/>
            </a:br>
            <a:r>
              <a:rPr b="1" lang="zh-CN" sz="3400" spc="-1" strike="noStrike">
                <a:solidFill>
                  <a:srgbClr val="0000ff"/>
                </a:solidFill>
                <a:latin typeface="Arial"/>
                <a:ea typeface="华文行楷"/>
              </a:rPr>
              <a:t>                          ——学习习惯</a:t>
            </a:r>
            <a:endParaRPr b="1" lang="en-US" sz="3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 type="subTitle"/>
          </p:nvPr>
        </p:nvSpPr>
        <p:spPr>
          <a:xfrm>
            <a:off x="1618920" y="3505320"/>
            <a:ext cx="6838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Arial"/>
                <a:ea typeface="华文新魏"/>
              </a:rPr>
              <a:t>学习成绩的好坏，往往取决于是否有良好的学习习惯，特别是思考习惯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105" dur="indefinite" restart="never" nodeType="tmRoot">
          <p:childTnLst>
            <p:seq>
              <p:cTn id="1106" dur="indefinite" nodeType="mainSeq">
                <p:childTnLst>
                  <p:par>
                    <p:cTn id="1107" fill="hold">
                      <p:stCondLst>
                        <p:cond delay="0"/>
                      </p:stCondLst>
                      <p:childTnLst>
                        <p:par>
                          <p:cTn id="1108" fill="hold">
                            <p:stCondLst>
                              <p:cond delay="0"/>
                            </p:stCondLst>
                            <p:childTnLst>
                              <p:par>
                                <p:cTn id="110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1" dur="20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20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20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2000" fill="hold"/>
                                        <p:tgtEl>
                                          <p:spTgt spid="2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5" dur="2000"/>
                                        <p:tgtEl>
                                          <p:spTgt spid="2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0" dur="500"/>
                                        <p:tgtEl>
                                          <p:spTgt spid="2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1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7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总是站在系统的高度把握知识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3300"/>
                </a:solidFill>
                <a:latin typeface="幼圆"/>
                <a:ea typeface="幼圆"/>
              </a:rPr>
              <a:t>很多同学在学习中习惯于跟着老师一节一节的走，一章一章的学，不太注意章节与学科整体系统之间的关系，只见树木，不见森林。随着时间推移，所学知识不断增加，就会感到内容繁杂、头绪不清，记忆负担加重。事实上，任何一门学科都有自身的知识结构系统，学习一门学科前首先应了解这一系统，从整体上把握知识，学习每一部分内容都要弄清其在整体系统中的位置，这样做往往使所学知识更容易把握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121" dur="indefinite" restart="never" nodeType="tmRoot">
          <p:childTnLst>
            <p:seq>
              <p:cTn id="1122" dur="indefinite" nodeType="mainSeq">
                <p:childTnLst>
                  <p:par>
                    <p:cTn id="1123" fill="hold">
                      <p:stCondLst>
                        <p:cond delay="0"/>
                      </p:stCondLst>
                      <p:childTnLst>
                        <p:par>
                          <p:cTn id="1124" fill="hold">
                            <p:stCondLst>
                              <p:cond delay="0"/>
                            </p:stCondLst>
                            <p:childTnLst>
                              <p:par>
                                <p:cTn id="112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1" fill="hold">
                      <p:stCondLst>
                        <p:cond delay="indefinite"/>
                      </p:stCondLst>
                      <p:childTnLst>
                        <p:par>
                          <p:cTn id="1132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9" fill="hold">
                      <p:stCondLst>
                        <p:cond delay="indefinite"/>
                      </p:stCondLst>
                      <p:childTnLst>
                        <p:par>
                          <p:cTn id="1140" fill="hold">
                            <p:stCondLst>
                              <p:cond delay="0"/>
                            </p:stCondLst>
                            <p:childTnLst>
                              <p:par>
                                <p:cTn id="114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2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5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5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56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9" dur="500" fill="hold"/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1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8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学习好习惯</a:t>
            </a:r>
            <a:r>
              <a:rPr b="0" lang="zh-CN" sz="5400" spc="-1" strike="noStrike">
                <a:solidFill>
                  <a:srgbClr val="ff33cc"/>
                </a:solidFill>
                <a:latin typeface="Arial"/>
                <a:ea typeface="华文行楷"/>
              </a:rPr>
              <a:t>(2)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追根溯源，寻求事物之间的内在联系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华文细黑"/>
                <a:ea typeface="华文细黑"/>
              </a:rPr>
              <a:t>学习最忌死记硬背，特别是理科学习，更重要的是弄清楚道理，所以不论学习什么内容，都要问为什么，这样学到的知识似有源上水，有木之本。即使你所提的问题超出了中学知识范围，甚至老师也回答不出来，但这并不要紧，要紧的是对什么事都要有求知欲，好奇心，这往往是培养我们学习兴趣的重要途径，更重要的是养成这种思考习惯，有利于思维品质的训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fill="hold">
                      <p:stCondLst>
                        <p:cond delay="0"/>
                      </p:stCondLst>
                      <p:childTnLst>
                        <p:par>
                          <p:cTn id="1170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80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181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118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5" fill="hold">
                      <p:stCondLst>
                        <p:cond delay="indefinite"/>
                      </p:stCondLst>
                      <p:childTnLst>
                        <p:par>
                          <p:cTn id="1186" fill="hold">
                            <p:stCondLst>
                              <p:cond delay="0"/>
                            </p:stCondLst>
                            <p:childTnLst>
                              <p:par>
                                <p:cTn id="1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2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6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7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1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04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0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学习好习惯</a:t>
            </a:r>
            <a:r>
              <a:rPr b="0" lang="zh-CN" sz="6000" spc="-1" strike="noStrike">
                <a:solidFill>
                  <a:srgbClr val="ff33cc"/>
                </a:solidFill>
                <a:latin typeface="Garamond"/>
                <a:ea typeface="华文行楷"/>
              </a:rPr>
              <a:t>(3)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21" name="PlaceHolder 2"/>
          <p:cNvSpPr>
            <a:spLocks noGrp="1"/>
          </p:cNvSpPr>
          <p:nvPr>
            <p:ph/>
          </p:nvPr>
        </p:nvSpPr>
        <p:spPr>
          <a:xfrm>
            <a:off x="395280" y="184428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发散思维，养成联想的思维习惯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幼圆"/>
                <a:ea typeface="幼圆"/>
              </a:rPr>
              <a:t>在学习中我们应经常注意新旧知识之间、学科之间、所学内容与生活实际等方面的联系，不要孤立的对待知识，养成多角度地去思考问题的习惯，有意识地去训练思维的流畅性、灵活性及独创性，长期下去，必然会促进智力素质的发展。知识的学习主要通过思维活动来实现的，学习的核心就是思维的核心，知识的掌握固然重要，但更重要的是通过知识的学习提高智力素质，智力素质提高了，知识的学习会变得容易。所以上面讲的学习的三个学习习惯实质上是三种思维习惯。学习的重点就是学会如何思考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205" dur="indefinite" restart="never" nodeType="tmRoot">
          <p:childTnLst>
            <p:seq>
              <p:cTn id="1206" dur="indefinite" nodeType="mainSeq">
                <p:childTnLst>
                  <p:par>
                    <p:cTn id="1207" fill="hold">
                      <p:stCondLst>
                        <p:cond delay="0"/>
                      </p:stCondLst>
                      <p:childTnLst>
                        <p:par>
                          <p:cTn id="1208" fill="hold">
                            <p:stCondLst>
                              <p:cond delay="0"/>
                            </p:stCondLst>
                            <p:childTnLst>
                              <p:par>
                                <p:cTn id="120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5" fill="hold">
                      <p:stCondLst>
                        <p:cond delay="indefinite"/>
                      </p:stCondLst>
                      <p:childTnLst>
                        <p:par>
                          <p:cTn id="1216" fill="hold">
                            <p:stCondLst>
                              <p:cond delay="0"/>
                            </p:stCondLst>
                            <p:childTnLst>
                              <p:par>
                                <p:cTn id="12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0" fill="hold">
                      <p:stCondLst>
                        <p:cond delay="indefinite"/>
                      </p:stCondLst>
                      <p:childTnLst>
                        <p:par>
                          <p:cTn id="1221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cc00cc"/>
                </a:solidFill>
                <a:latin typeface="Arial"/>
                <a:ea typeface="华文彩云"/>
              </a:rPr>
              <a:t>讨论与学习</a:t>
            </a:r>
            <a:br>
              <a:rPr sz="7200"/>
            </a:br>
            <a:r>
              <a:rPr b="1" lang="zh-CN" sz="4400" spc="-1" strike="noStrike">
                <a:solidFill>
                  <a:srgbClr val="cc3300"/>
                </a:solidFill>
                <a:latin typeface="黑体"/>
                <a:ea typeface="黑体"/>
              </a:rPr>
              <a:t>——习惯意义非凡 </a:t>
            </a:r>
            <a:br>
              <a:rPr sz="4400"/>
            </a:b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 type="subTitle"/>
          </p:nvPr>
        </p:nvSpPr>
        <p:spPr>
          <a:xfrm>
            <a:off x="684000" y="2997000"/>
            <a:ext cx="7088040" cy="26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幼圆"/>
                <a:ea typeface="幼圆"/>
              </a:rPr>
              <a:t>列举几个自己希望改掉的坏习惯，以及期望养成的好习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1"/>
  </p:transition>
  <p:timing>
    <p:tnLst>
      <p:par>
        <p:cTn id="1225" dur="indefinite" restart="never" nodeType="tmRoot">
          <p:childTnLst>
            <p:seq>
              <p:cTn id="1226" dur="indefinite" nodeType="mainSeq">
                <p:childTnLst>
                  <p:par>
                    <p:cTn id="1227" fill="hold">
                      <p:stCondLst>
                        <p:cond delay="0"/>
                      </p:stCondLst>
                      <p:childTnLst>
                        <p:par>
                          <p:cTn id="1228" fill="hold">
                            <p:stCondLst>
                              <p:cond delay="0"/>
                            </p:stCondLst>
                            <p:childTnLst>
                              <p:par>
                                <p:cTn id="12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1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2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5" fill="hold">
                      <p:stCondLst>
                        <p:cond delay="indefinite"/>
                      </p:stCondLst>
                      <p:childTnLst>
                        <p:par>
                          <p:cTn id="1236" fill="hold">
                            <p:stCondLst>
                              <p:cond delay="0"/>
                            </p:stCondLst>
                            <p:childTnLst>
                              <p:par>
                                <p:cTn id="1237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38" dur="44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1239" nodeType="withEffect" fill="hold" presetClass="entr" presetID="23" presetSubtype="16">
                                  <p:stCondLst>
                                    <p:cond delay="398"/>
                                  </p:stCondLst>
                                  <p:childTnLst>
                                    <p:set>
                                      <p:cBhvr>
                                        <p:cTn id="124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 fill="hold"/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6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7" dur="500" fill="hold"/>
                                        <p:tgtEl>
                                          <p:spTgt spid="2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8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9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1" dur="500" fill="hold"/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2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4" name="PlaceHolder 1"/>
          <p:cNvSpPr>
            <a:spLocks noGrp="1"/>
          </p:cNvSpPr>
          <p:nvPr>
            <p:ph type="title"/>
          </p:nvPr>
        </p:nvSpPr>
        <p:spPr>
          <a:xfrm>
            <a:off x="611280" y="191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cc3300"/>
                </a:solidFill>
                <a:latin typeface="Arial"/>
                <a:ea typeface="华文彩云"/>
              </a:rPr>
              <a:t>与大家共勉</a:t>
            </a:r>
            <a:endParaRPr b="0" lang="en-US" sz="6600" spc="-1" strike="noStrike">
              <a:solidFill>
                <a:srgbClr val="0039ac"/>
              </a:solidFill>
              <a:latin typeface="Arial"/>
            </a:endParaRPr>
          </a:p>
        </p:txBody>
      </p:sp>
      <p:sp>
        <p:nvSpPr>
          <p:cNvPr id="2225" name="PlaceHolder 2"/>
          <p:cNvSpPr>
            <a:spLocks noGrp="1"/>
          </p:cNvSpPr>
          <p:nvPr>
            <p:ph type="subTitle"/>
          </p:nvPr>
        </p:nvSpPr>
        <p:spPr>
          <a:xfrm>
            <a:off x="1186920" y="3284640"/>
            <a:ext cx="748836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60066"/>
                </a:solidFill>
                <a:latin typeface="Arial"/>
                <a:ea typeface="华文行楷"/>
              </a:rPr>
              <a:t>       </a:t>
            </a:r>
            <a:r>
              <a:rPr b="0" lang="zh-CN" sz="4000" spc="-1" strike="noStrike">
                <a:solidFill>
                  <a:srgbClr val="660066"/>
                </a:solidFill>
                <a:latin typeface="Arial"/>
                <a:ea typeface="华文行楷"/>
              </a:rPr>
              <a:t>即使是痛苦的，我们也要去养成好的习惯；因为如果不这样，坏的习惯会让我们更痛苦。</a:t>
            </a:r>
            <a:endParaRPr b="0" lang="en-US" sz="40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253" dur="indefinite" restart="never" nodeType="tmRoot">
          <p:childTnLst>
            <p:seq>
              <p:cTn id="1254" dur="indefinite" nodeType="mainSeq">
                <p:childTnLst>
                  <p:par>
                    <p:cTn id="1255" fill="hold">
                      <p:stCondLst>
                        <p:cond delay="0"/>
                      </p:stCondLst>
                      <p:childTnLst>
                        <p:par>
                          <p:cTn id="1256" fill="hold">
                            <p:stCondLst>
                              <p:cond delay="0"/>
                            </p:stCondLst>
                            <p:childTnLst>
                              <p:par>
                                <p:cTn id="125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9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2000" fill="hold"/>
                                        <p:tgtEl>
                                          <p:spTgt spid="2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3" dur="2000"/>
                                        <p:tgtEl>
                                          <p:spTgt spid="2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4" fill="hold">
                      <p:stCondLst>
                        <p:cond delay="indefinite"/>
                      </p:stCondLst>
                      <p:childTnLst>
                        <p:par>
                          <p:cTn id="1265" fill="hold">
                            <p:stCondLst>
                              <p:cond delay="0"/>
                            </p:stCondLst>
                            <p:childTnLst>
                              <p:par>
                                <p:cTn id="12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8" dur="500"/>
                                        <p:tgtEl>
                                          <p:spTgt spid="2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0769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00"/>
                </a:solidFill>
                <a:latin typeface="Arial"/>
                <a:ea typeface="华文新魏"/>
              </a:rPr>
              <a:t>名人名言</a:t>
            </a:r>
            <a:br>
              <a:rPr sz="5400"/>
            </a:b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新魏"/>
              </a:rPr>
              <a:t>——述说习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2" name="PlaceHolder 2"/>
          <p:cNvSpPr>
            <a:spLocks noGrp="1"/>
          </p:cNvSpPr>
          <p:nvPr>
            <p:ph/>
          </p:nvPr>
        </p:nvSpPr>
        <p:spPr>
          <a:xfrm>
            <a:off x="539280" y="2276640"/>
            <a:ext cx="807732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99"/>
                </a:solidFill>
                <a:latin typeface="黑体"/>
                <a:ea typeface="黑体"/>
              </a:rPr>
              <a:t>成功的秘密就隐藏在你的日常行为中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9999"/>
                </a:solidFill>
                <a:latin typeface="黑体"/>
                <a:ea typeface="黑体"/>
              </a:rPr>
              <a:t>“</a:t>
            </a:r>
            <a:r>
              <a:rPr b="1" lang="zh-CN" sz="3200" spc="-1" strike="noStrike">
                <a:solidFill>
                  <a:srgbClr val="ff9999"/>
                </a:solidFill>
                <a:latin typeface="黑体"/>
                <a:ea typeface="黑体"/>
              </a:rPr>
              <a:t>You will never change your life until you change something you do daily. The secret of your success is found in your daily routine.”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ffff"/>
              </a:buClr>
              <a:buSzPct val="6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      ——</a:t>
            </a: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约翰 </a:t>
            </a:r>
            <a:r>
              <a:rPr b="1" lang="en-US" sz="2400" spc="-1" strike="noStrike">
                <a:solidFill>
                  <a:srgbClr val="ff9999"/>
                </a:solidFill>
                <a:latin typeface="黑体"/>
                <a:ea typeface="黑体"/>
              </a:rPr>
              <a:t>·</a:t>
            </a: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马克斯韦尔（</a:t>
            </a: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John C. Maxwell</a:t>
            </a:r>
            <a:r>
              <a:rPr b="1" lang="zh-CN" sz="2400" spc="-1" strike="noStrike">
                <a:solidFill>
                  <a:srgbClr val="ff9999"/>
                </a:solidFill>
                <a:latin typeface="黑体"/>
                <a:ea typeface="黑体"/>
              </a:rPr>
              <a:t>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2000" fill="hold"/>
                                        <p:tgtEl>
                                          <p:spTgt spid="2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fill="hold">
                                          <p:stCondLst>
                                            <p:cond delay="1996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6" name="PlaceHolder 1"/>
          <p:cNvSpPr>
            <a:spLocks noGrp="1"/>
          </p:cNvSpPr>
          <p:nvPr>
            <p:ph type="title"/>
          </p:nvPr>
        </p:nvSpPr>
        <p:spPr>
          <a:xfrm>
            <a:off x="755640" y="1125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00"/>
                </a:solidFill>
                <a:latin typeface="Arial"/>
                <a:ea typeface="华文彩云"/>
              </a:rPr>
              <a:t>与大家共勉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7" name=""/>
          <p:cNvSpPr/>
          <p:nvPr/>
        </p:nvSpPr>
        <p:spPr>
          <a:xfrm>
            <a:off x="3132000" y="2997360"/>
            <a:ext cx="5113440" cy="122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80808"/>
                </a:solidFill>
                <a:latin typeface="黑体"/>
                <a:ea typeface="黑体"/>
              </a:rPr>
              <a:t>勉强成习惯，习惯成自然。一开始是很勉强自己的，按照某一种步骤进行训练，这样习惯就自然了。 </a:t>
            </a: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69" dur="indefinite" restart="never" nodeType="tmRoot">
          <p:childTnLst>
            <p:seq>
              <p:cTn id="1270" dur="indefinite" nodeType="mainSeq">
                <p:childTnLst>
                  <p:par>
                    <p:cTn id="1271" fill="hold">
                      <p:stCondLst>
                        <p:cond delay="0"/>
                      </p:stCondLst>
                      <p:childTnLst>
                        <p:par>
                          <p:cTn id="1272" fill="hold">
                            <p:stCondLst>
                              <p:cond delay="0"/>
                            </p:stCondLst>
                            <p:childTnLst>
                              <p:par>
                                <p:cTn id="1273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7" fill="hold">
                      <p:stCondLst>
                        <p:cond delay="indefinite"/>
                      </p:stCondLst>
                      <p:childTnLst>
                        <p:par>
                          <p:cTn id="1278" fill="hold">
                            <p:stCondLst>
                              <p:cond delay="0"/>
                            </p:stCondLst>
                            <p:childTnLst>
                              <p:par>
                                <p:cTn id="1279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1" dur="100"/>
                                        <p:tgtEl>
                                          <p:spTgt spid="22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2" dur="4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3" dur="400" fill="hold"/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3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7d7da9"/>
                </a:solidFill>
                <a:latin typeface="Arial"/>
                <a:ea typeface="华文新魏"/>
              </a:rPr>
              <a:t>名人名言</a:t>
            </a:r>
            <a:br>
              <a:rPr sz="5400"/>
            </a:br>
            <a:r>
              <a:rPr b="0" lang="zh-CN" sz="2400" spc="-1" strike="noStrike">
                <a:solidFill>
                  <a:srgbClr val="007572"/>
                </a:solidFill>
                <a:latin typeface="Arial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007572"/>
                </a:solidFill>
                <a:latin typeface="Arial"/>
                <a:ea typeface="华文新魏"/>
              </a:rPr>
              <a:t>——述说习惯</a:t>
            </a:r>
            <a:endParaRPr b="0" lang="en-US" sz="28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154" name="PlaceHolder 2"/>
          <p:cNvSpPr>
            <a:spLocks noGrp="1"/>
          </p:cNvSpPr>
          <p:nvPr>
            <p:ph/>
          </p:nvPr>
        </p:nvSpPr>
        <p:spPr>
          <a:xfrm>
            <a:off x="539280" y="2276280"/>
            <a:ext cx="807732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如果你希望出类拔萃，也希望生活方式与众不同，那么，你必须明白一点——是你的习惯决定着你的未来。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“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If you want to distance yourself from the masses and enjoy a unique lifestyle, understand this——your habits will determine your future.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杰克</a:t>
            </a:r>
            <a:r>
              <a:rPr b="1" lang="en-US" sz="2800" spc="-1" strike="noStrike">
                <a:solidFill>
                  <a:srgbClr val="0033cc"/>
                </a:solidFill>
                <a:latin typeface="Gulim"/>
              </a:rPr>
              <a:t>·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坎菲尔德（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Jack Canfield</a:t>
            </a:r>
            <a:r>
              <a:rPr b="1" lang="zh-CN" sz="2800" spc="-1" strike="noStrike">
                <a:solidFill>
                  <a:srgbClr val="0033cc"/>
                </a:solidFill>
                <a:latin typeface="Gulim"/>
                <a:ea typeface="隶书"/>
              </a:rPr>
              <a:t>），全球畅销书《心灵鸡汤》的作者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7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3" fill="hold">
                                          <p:stCondLst>
                                            <p:cond delay="497"/>
                                          </p:stCondLst>
                                        </p:cTn>
                                        <p:tgtEl>
                                          <p:spTgt spid="2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3366ff"/>
                </a:solidFill>
                <a:latin typeface="Times New Roman"/>
                <a:ea typeface="华文新魏"/>
              </a:rPr>
              <a:t>名人名言</a:t>
            </a:r>
            <a:br>
              <a:rPr sz="5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                         </a:t>
            </a:r>
            <a:r>
              <a:rPr b="0" lang="zh-CN" sz="2800" spc="-1" strike="noStrike">
                <a:solidFill>
                  <a:srgbClr val="ff0066"/>
                </a:solidFill>
                <a:latin typeface="Times New Roman"/>
                <a:ea typeface="华文新魏"/>
              </a:rPr>
              <a:t>——述说习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1547640" y="1989000"/>
            <a:ext cx="6702480" cy="39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没有什么比习惯的力量更强大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“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Nothing is more powerful than habit.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——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奥维德（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Ovid</a:t>
            </a:r>
            <a:r>
              <a:rPr b="1" lang="zh-CN" sz="2800" spc="-1" strike="noStrike">
                <a:solidFill>
                  <a:srgbClr val="cc0099"/>
                </a:solidFill>
                <a:latin typeface="Times New Roman"/>
              </a:rPr>
              <a:t>），古罗马著名诗人，长篇叙事诗《变形记》的作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幼圆"/>
                <a:ea typeface="幼圆"/>
              </a:rPr>
              <a:t>行为决定习惯；习惯决定性格；性格决定命运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　　——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G.D. Boardm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0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2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9" dur="500"/>
                                        <p:tgtEl>
                                          <p:spTgt spid="2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4" dur="500"/>
                                        <p:tgtEl>
                                          <p:spTgt spid="2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2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7" name="PlaceHolder 1"/>
          <p:cNvSpPr>
            <a:spLocks noGrp="1"/>
          </p:cNvSpPr>
          <p:nvPr>
            <p:ph/>
          </p:nvPr>
        </p:nvSpPr>
        <p:spPr>
          <a:xfrm>
            <a:off x="539640" y="692280"/>
            <a:ext cx="6337440" cy="54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66"/>
                </a:solidFill>
                <a:latin typeface="幼圆"/>
                <a:ea typeface="幼圆"/>
              </a:rPr>
              <a:t>亚历山大帝国图书馆发生火灾的时候，馆里所藏图书被焚烧殆尽，但有一本不很贵重的书得以幸免。有一个能识几个字的穷人，花了几个铜板买下了这本书。书本身不是很有意思，但书里面却藏着一样非常有趣的东西：一张薄薄的羊皮纸，上面写着点铁成金石的秘密。所谓点铁成金石，是一块小圆石，能把任何普通的金属变成纯金。小纸片上写着：这块奇石可以在黑海边找到，但是奇石的外观跟海边成千上万的石头没什么两样。谜底在于：奇石摸起来是温的，而普通的石头摸起来是冰凉的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"/>
          <p:cNvSpPr txBox="1"/>
          <p:nvPr/>
        </p:nvSpPr>
        <p:spPr>
          <a:xfrm rot="5400000">
            <a:off x="6211800" y="2365560"/>
            <a:ext cx="3857760" cy="79992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习惯的力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59" name=""/>
          <p:cNvSpPr txBox="1"/>
          <p:nvPr/>
        </p:nvSpPr>
        <p:spPr>
          <a:xfrm rot="5400000">
            <a:off x="5273280" y="3911760"/>
            <a:ext cx="4343400" cy="352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—</a:t>
            </a: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从一个古老的故事谈起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2160" name=""/>
          <p:cNvSpPr/>
          <p:nvPr/>
        </p:nvSpPr>
        <p:spPr>
          <a:xfrm>
            <a:off x="900000" y="2781360"/>
            <a:ext cx="583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60066"/>
                </a:solidFill>
                <a:latin typeface="黑体"/>
                <a:ea typeface="黑体"/>
              </a:rPr>
              <a:t>于是，这个穷人于是变卖了家当，带着简单的行囊，露宿于黑海岸边，开始寻找点铁成金石。 </a:t>
            </a:r>
            <a:endParaRPr b="0" lang="en-US" sz="2800" spc="-1" strike="noStrike">
              <a:solidFill>
                <a:srgbClr val="080808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xit" presetID="13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plus(in)" transition="out">
                                      <p:cBhvr additive="repl">
                                        <p:cTn id="218" dur="2000"/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2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1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720072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a50021"/>
                </a:solidFill>
                <a:latin typeface="幼圆"/>
                <a:ea typeface="幼圆"/>
              </a:rPr>
              <a:t>他知道，如果他把捡起来的冰凉的石头随手就扔掉的话，那么他可能会重复地捡到已经摸过的石头，而无法辨认真正的奇石。为防止这种情形的发生，每当捡起一块冰凉的石头，他就往海里扔。一天过去了，他捡的石头中没有一块是书中所说的奇石。一个月，一年，两年，三年……他还是没有找到那块奇石。但是，他不气馁，继续捡石头，扔石头……没完没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49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a50021"/>
                </a:solidFill>
                <a:latin typeface="幼圆"/>
                <a:ea typeface="幼圆"/>
              </a:rPr>
              <a:t>What happened at last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"/>
          <p:cNvSpPr txBox="1"/>
          <p:nvPr/>
        </p:nvSpPr>
        <p:spPr>
          <a:xfrm rot="5400000">
            <a:off x="6848640" y="2086560"/>
            <a:ext cx="2973600" cy="6159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行楷"/>
              </a:rPr>
              <a:t>习惯的力量</a:t>
            </a:r>
            <a:endParaRPr b="1" lang="en-US" sz="6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163" name=""/>
          <p:cNvSpPr txBox="1"/>
          <p:nvPr/>
        </p:nvSpPr>
        <p:spPr>
          <a:xfrm rot="5400000">
            <a:off x="6129360" y="4030560"/>
            <a:ext cx="3348000" cy="271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—</a:t>
            </a:r>
            <a:r>
              <a:rPr b="1" lang="zh-CN" sz="2800" spc="1" strike="noStrike">
                <a:ln w="0">
                  <a:noFill/>
                </a:ln>
                <a:gradFill rotWithShape="0">
                  <a:gsLst>
                    <a:gs pos="0">
                      <a:srgbClr val="ff8200"/>
                    </a:gs>
                    <a:gs pos="100000">
                      <a:srgbClr val="000082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楷体_GB2312"/>
              </a:rPr>
              <a:t>从一个古老的故事谈起</a:t>
            </a:r>
            <a:endParaRPr b="1" lang="en-US" sz="2800" spc="1" strike="noStrike">
              <a:ln w="0">
                <a:noFill/>
              </a:ln>
              <a:gradFill rotWithShape="0">
                <a:gsLst>
                  <a:gs pos="0">
                    <a:srgbClr val="ff8200"/>
                  </a:gs>
                  <a:gs pos="100000">
                    <a:srgbClr val="000082"/>
                  </a:gs>
                </a:gsLst>
                <a:lin ang="54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2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1" dur="2000"/>
                                        <p:tgtEl>
                                          <p:spTgt spid="2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50"/>
              </a:spcBef>
              <a:buClr>
                <a:srgbClr val="ff0066"/>
              </a:buClr>
              <a:buSzPct val="6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a50021"/>
                </a:solidFill>
                <a:latin typeface="幼圆"/>
                <a:ea typeface="幼圆"/>
              </a:rPr>
              <a:t>有一天早上，他捡起一块石头，一摸，是温的！他仍然随手扔到了海里，因为他已经养成了往海里扔石头的习惯。这个扔石头的动作太具习惯性了，以至于当他梦寐以求、苦苦寻觅的奇石出现时，他仍然习惯性地扔到了海里。 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8" dur="2000"/>
                                        <p:tgtEl>
                                          <p:spTgt spid="2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5T02:40:41Z</dcterms:created>
  <dc:creator>MC SYSTEM</dc:creator>
  <dc:description/>
  <dc:language>en-US</dc:language>
  <cp:lastModifiedBy>微软用户</cp:lastModifiedBy>
  <dcterms:modified xsi:type="dcterms:W3CDTF">2006-10-26T14:37:10Z</dcterms:modified>
  <cp:revision>37</cp:revision>
  <dc:subject/>
  <dc:title>播种习惯 ·  收获人生</dc:title>
</cp:coreProperties>
</file>