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111-2C91-4567-BA24-E8B0C75B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3BC-4E76-4400-A146-A72CB368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457-4FD0-4CA9-8C47-F55C6B14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481-E914-4C5B-8AFF-3E8DC071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872-E5C4-47AA-938A-1DE43ACD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91E-8350-46BE-9932-599512E2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ACA-4EA6-4C9B-B1C0-B7A0BE12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24D-5D4E-443B-8443-5D91A32D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A33-8064-4F57-B372-9AF92139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1CB-6B97-4B95-BD81-B263FCD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273-C6D1-43D4-B1BB-54EFEEF9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7EB-FA7C-433B-B7F1-5A68ACD8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FC6F-0D56-4848-93E4-7203A06B647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5160" y="782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是我的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10320" y="2131920"/>
            <a:ext cx="21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克里斯强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迪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史丹伯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逸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4983120" cy="4994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52640" y="363528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86520" y="658008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件事情一点都不奇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他会被欺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许要怪他自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72280" y="6580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他一个人孤伶伶的站着流眼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67720" y="675648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男生爱哭羞羞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4983120" cy="4994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81000" y="900000"/>
            <a:ext cx="4983120" cy="4994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81000" y="900000"/>
            <a:ext cx="4983120" cy="4994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981000" y="90000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62120" y="649764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虽然应该去告诉老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是我不敢耶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何况这又不关我的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52240" y="6656400"/>
            <a:ext cx="322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他默默的在一旁掉眼泪，什么也不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家也好像什么事都没发生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53560" y="6421320"/>
            <a:ext cx="274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他什么都没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我们只有眼睁睁在一旁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他自己应该大声求救呀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10200" y="589428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虽然我也打了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但我觉得没什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所有的人都打了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不能怪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6280" y="3132000"/>
            <a:ext cx="5759280" cy="201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真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和我没关系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49360" y="323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Times New Roman"/>
              <a:ea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9360" y="2124000"/>
            <a:ext cx="5829120" cy="70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故事中每个人都说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〝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是我的错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〞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你认为到底是谁的错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-6480"/>
            <a:ext cx="6858000" cy="9150480"/>
            <a:chOff x="0" y="-6480"/>
            <a:chExt cx="6858000" cy="91504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6858000" cy="30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3027240"/>
              <a:ext cx="6815160" cy="611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4427640" y="3027240"/>
              <a:ext cx="2050920" cy="441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71400" y="665640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那是在下课以后才发生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关我的事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042920"/>
            <a:ext cx="6858000" cy="65502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65160" y="0"/>
            <a:ext cx="6950160" cy="9144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360" y="323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战争、水灾、饥饿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到底是谁的错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3635280"/>
            <a:ext cx="604836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请你描述一下在你的感觉中，我们的世界是一个怎样的世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360" y="323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战争、水灾、饥饿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到底是谁的错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3000" y="3203280"/>
            <a:ext cx="633564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你觉得你身边的世界公平吗？举例说说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360" y="323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Times New Roman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3000" y="1476000"/>
            <a:ext cx="633564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为你而存在，你该如何为世界而存在？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33560" y="1986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32240" y="68086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没有看到事情发生的经过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不知道他为什么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1360" y="6367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84880" y="65041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虽然看到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知道怎么一回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但又不是我的错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2280" y="673272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很害怕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却又帮不上忙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有眼睁睁在一旁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04920" y="650412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很多人欺负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一个人也没办法去阻止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不能怪我呀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23680" y="64278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很多人打他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实，所有的人都打了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虽然我也打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是我只有打一下下而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03640" y="65041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是我先打他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别人先打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不是我的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2280" y="67327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难道我有错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总觉得他有点古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983120" cy="499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7:10:05Z</dcterms:created>
  <dc:creator>Besto</dc:creator>
  <dc:description/>
  <dc:language>en-US</dc:language>
  <cp:lastModifiedBy>ISO9000 XP SP3 11Q3_IE8</cp:lastModifiedBy>
  <dcterms:modified xsi:type="dcterms:W3CDTF">2012-05-03T10:17:33Z</dcterms:modified>
  <cp:revision>27</cp:revision>
  <dc:subject/>
  <dc:title>PowerPoint 簡報</dc:title>
</cp:coreProperties>
</file>