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5A77-35E7-440D-BF6D-357FFB27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A65-EF57-4AA0-B551-5FD29407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27A-80B5-476B-AEE1-E937E67A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D07C-1044-474F-872C-83873A65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B314-612C-4EAC-9690-9F92B975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C85B-0935-42B8-9AE1-003C80BC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C139-0250-4AF0-B080-FF98FB2F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DC7-4FDF-4288-AF4A-AB85FF05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864E-22C1-4C58-80D5-50B16C98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621-0394-48D1-98F6-8B004484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F3E3-6F56-4F7A-ABEE-2276FF18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BDA8-EB87-4BCF-B9DA-A943B890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88F8-4BC3-43A7-A462-44652E36DF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692280"/>
            <a:ext cx="74883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班级兴衰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2852640"/>
            <a:ext cx="6697800" cy="18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我的责任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24360" y="5516640"/>
            <a:ext cx="4465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楷体_GB2312"/>
              </a:rPr>
              <a:t>——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楷体_GB2312"/>
              </a:rPr>
              <a:t>2.1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楷体_GB2312"/>
              </a:rPr>
              <a:t>主题团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187280" y="2133720"/>
            <a:ext cx="7242480" cy="18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承担责任，判断是非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楷体_GB2312"/>
              </a:rPr>
              <a:t>对自己的言行负责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楷体_GB2312"/>
              <a:ea typeface="楷体_GB2312"/>
            </a:endParaRPr>
          </a:p>
        </p:txBody>
      </p:sp>
    </p:spTree>
  </p:cSld>
  <p:transition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692360" y="1773360"/>
            <a:ext cx="5616360" cy="28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团结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zoom dir="in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1916280"/>
            <a:ext cx="3889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海贼王的路飞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就是我死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我的伙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也一个都不会给你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981000"/>
            <a:ext cx="3529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火影中的鸣人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这个村子里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就算没有血缘关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对我来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就是最重要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最重要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家人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268280"/>
            <a:ext cx="49672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死神中的斩月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为了阻止那场雨的话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不论什么力量我都会借给你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能够信任我的话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我不会让这世界下任何一场雨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护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相信我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并不是一个人在战斗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333360"/>
            <a:ext cx="4608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200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前主将恩克离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个月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他的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号球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被安置在德国队的替补席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恩克是球场上的第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个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也是德国球门永远的守护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476280"/>
            <a:ext cx="38894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朝鲜首场亮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国歌响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郑大世禁不住泪流满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4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的期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他们最终落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但不屈的斗志和干净的脚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已经赢得了世人的尊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404640"/>
            <a:ext cx="2952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与加纳的淘汰赛的最后一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苏亚雷斯手球挡出了对手的绝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红牌加禁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背负了骗子和无赖恶名的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用自己的牺牲将乌拉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从死亡线上拉了回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1484280"/>
            <a:ext cx="525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植物大战僵尸里的坚果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当我还是一个完整的坚果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就在那里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当我的身躯残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眼中含着泪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依旧在那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什么要这么坚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身后我有我想保护的朋友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27640" y="333360"/>
            <a:ext cx="381636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97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的荷兰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圈的比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车手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Roger Williamson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赛车发生翻转，倒扣在赛道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此时赛车突然着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竟然没有一名工作人员过来救护——大家都畏惧大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94200" y="476280"/>
            <a:ext cx="4249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他的队友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David Purley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立即把赛车停在了一旁，跳下赛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试图将冒出熊熊大火的赛车翻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但是他无能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DavidPurley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抢过不紧不慢的工作人员手中的灭火器拼命喷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悲剧最终还是发生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那一天，见证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F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最感人的兄弟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987640" y="260280"/>
            <a:ext cx="460872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不同的人眼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团结的含义各不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互助？承诺？羁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面对利益、危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他们做出了相同的选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甚至牺牲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因为你是我的同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今日谁与我并肩作战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谁就是我的兄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 rot="5400000">
            <a:off x="-469440" y="2925000"/>
            <a:ext cx="5257800" cy="79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阿拉德战记之伙伴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 rot="5400000">
            <a:off x="3853440" y="2778840"/>
            <a:ext cx="5133960" cy="960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atin typeface="黑体"/>
              </a:rPr>
              <a:t>南非世界杯之巴西—朝鲜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3399"/>
                    </a:gs>
                  </a:gsLst>
                  <a:path path="rect">
                    <a:fillToRect l="50000" t="50000" r="50000" b="50000"/>
                  </a:path>
                </a:gradFill>
                <a:latin typeface="黑体"/>
              </a:rPr>
              <a:t>郑大世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path path="rect">
                  <a:fillToRect l="50000" t="50000" r="50000" b="50000"/>
                </a:path>
              </a:gradFill>
              <a:latin typeface="黑体"/>
              <a:ea typeface="黑体"/>
            </a:endParaRPr>
          </a:p>
        </p:txBody>
      </p:sp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 rot="5400000">
            <a:off x="2797200" y="3043800"/>
            <a:ext cx="5134320" cy="57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南非世界杯之苏亚雷斯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105264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社会犹如一条船，每个人都要有掌舵的准备。                                —— 易卜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2637000"/>
            <a:ext cx="748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是国家的主人，应该处处为国家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——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雷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422100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我们这个国家作为一个好国民，第一条件是他要能够并愿意凡事尽责，全力以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西奥多‧罗斯福，美国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总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826920" y="1773360"/>
            <a:ext cx="6769440" cy="28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DO IT NOW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zoom dir="ou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403280" y="1773360"/>
            <a:ext cx="65534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SHAR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69957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403280" y="2205000"/>
            <a:ext cx="6553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HAVE A REST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44720" cy="144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22530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050920" y="4005360"/>
            <a:ext cx="52405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承担责任，为了班级的兴盛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24000" y="1628640"/>
            <a:ext cx="4896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THANK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03280" y="1773360"/>
            <a:ext cx="5977080" cy="27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楷体_GB2312"/>
              </a:rPr>
              <a:t>判断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zoom dir="in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71640" y="155736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一：如果你知道一个女人怀孕了，他已经生了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个小孩子了，其中有三个耳朵聋，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个眼睛瞎，一个智能不足，请问，你会建议她坠胎吗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213372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那你就杀了</a:t>
            </a:r>
            <a:r>
              <a:rPr b="1" lang="zh-CN" sz="8800" spc="-1" strike="noStrike">
                <a:solidFill>
                  <a:srgbClr val="ffffff"/>
                </a:solidFill>
                <a:latin typeface="Arial"/>
                <a:ea typeface="黑体"/>
              </a:rPr>
              <a:t>贝多芬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，因为这个妇女就是贝多芬的母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55640" y="2133720"/>
            <a:ext cx="7991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你会把票投给谁？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18900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：现在要选举一名领袖，而你这一票很关键，下面是三个候选人的一些事实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19700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候选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和一些不诚实的政客有来往，而且会星象占卜学。他有婚外情，是一个老烟枪，每天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杯的马丁尼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924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选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他过去有过两次被解雇的经历，睡觉睡到中午才起来，大学时吸鸦片，而且每天傍晚会喝一大杯威士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4797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候选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他是一位受勋的战争英雄，素食主义者，不抽烟，只偶尔喝一点啤酒，从没有发生婚外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276720" y="765000"/>
            <a:ext cx="20872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富兰克林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·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罗斯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19640" y="4292640"/>
            <a:ext cx="15840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温斯特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·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丘吉尔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796000" y="4365720"/>
            <a:ext cx="2736720" cy="10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亚道夫</a:t>
            </a: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·</a:t>
            </a: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希特勒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8c3d91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332000" y="620640"/>
            <a:ext cx="1458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58920" y="4076640"/>
            <a:ext cx="1458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372360" y="1268280"/>
            <a:ext cx="1458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C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20032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2224080" cy="3024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867280" y="620640"/>
            <a:ext cx="2417760" cy="32846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11280" y="2781360"/>
            <a:ext cx="82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公司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上班，不打考勤．每人一间办公室，每间办公室可以按自己的爱好进行布置，走廊白墙上，信手涂鸦不会有人制止，饮料和水果免费供应，上班时间可以去理发，游泳．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76500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公司Ａ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上班，实行打卡制，迟到或早退一分钟扣５０元；统一着装，必须佩带胸卡，每年有组织地搞一次旅游，两次聚会，三次联欢，四次体育比赛，每个员工每年为公司提四项合理化建议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94172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公司Ｃ；想什么时候来就什么时候来；没有专门的制服，爱穿什么就穿什么，把自己家的狗和孩子带到办公室也可以，上班时间去渡假也不扣工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700360" y="47628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广东金正电子有限公司。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997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年成立，是一家多元化高科技企业。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005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月，因管理不善，申请破产，生存期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年。      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00000" y="333360"/>
            <a:ext cx="14590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71640" y="2349360"/>
            <a:ext cx="1458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00000" y="4508640"/>
            <a:ext cx="145908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C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278136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微软公司。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975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年创立，现为全球最大的软件公司，股票市值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883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亿美元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4581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Goolge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公司。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998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年由两名学生创立，股价上市一年翻了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倍，超越全球媒体巨人时代华纳，直逼百年老牌可口可乐，也是唯一能从微软帝国挖走人才的公司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13:36:09Z</dcterms:created>
  <dc:creator>User</dc:creator>
  <dc:description/>
  <dc:language>en-US</dc:language>
  <cp:lastModifiedBy>User</cp:lastModifiedBy>
  <dcterms:modified xsi:type="dcterms:W3CDTF">2011-05-16T03:38:29Z</dcterms:modified>
  <cp:revision>10</cp:revision>
  <dc:subject/>
  <dc:title>幻灯片 1</dc:title>
</cp:coreProperties>
</file>