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4.jpeg" ContentType="image/jpeg"/>
  <Override PartName="/ppt/media/image6.jpeg" ContentType="image/jpeg"/>
  <Override PartName="/ppt/media/type.wav" ContentType="audio/x-wav"/>
  <Override PartName="/ppt/media/image8.jpeg" ContentType="image/jpeg"/>
  <Override PartName="/ppt/media/image9.jpeg" ContentType="image/jpeg"/>
  <Override PartName="/ppt/media/image10.gif" ContentType="image/gif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3517-58FA-446E-B7F5-F5D57363E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A654-EF35-4D82-8BB2-E027C6DE4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FF72-A97C-40E1-ADB0-EBE892FA7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5804-C6C6-4491-BBBA-652B9CE17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13D98D-0454-43B1-80F2-4490982CF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556C45-1C97-4334-B09A-69D55527B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654B02-B65D-4B01-9DFF-13164762E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4D71A7-945B-4719-BF9E-B866A8BCD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EBBB09-DAC4-4F30-BF6A-F185581C8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E67FA3-0FB7-4736-AD4E-454F38160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50F244-9A62-4D8A-A576-D5563BA0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C7FB-6BEB-4C47-BD0D-A72FA1E69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5E2FB0-91B2-49F7-9D20-2A9D0741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3CE045-D550-4243-8DAC-A6296B55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D4EB16-E46A-45A9-A614-38249368F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444E65-3952-495F-A638-235E1E83B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5FFD21-814E-4D17-B3BA-349B59EA2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C8350-9EF7-453D-8934-1FCE36334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7AB75-CF7F-48AD-A97C-3C5C6A7F8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F3C91-45BE-45DD-9F62-76709B60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51FAE-4C38-4084-A3E2-FC0A89C35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85236-8E5D-4DB3-BBF5-3187165BA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7B4D-2A0F-4627-A383-DCE863FA4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6436E-A78B-487E-9092-0D2C06E3E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FB6FE-8B77-4156-BFDC-7075FFC9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4A838-DB19-4EF6-A516-E0B28246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54BA4-69DF-42A3-88C6-A004E9FA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027F5-230E-4D31-9CD5-E92B8CC53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1A65A-75A7-450F-BBE8-BEFC2A1D7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F6F07-4C0C-4DF4-91B8-12815696F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5A49F-4EC0-4577-9F4F-768727BB0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D085D-BD88-4C52-8047-C82B5578F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BD3E3-8353-4A66-8D6A-DF934A051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15DA-CFC3-4FF8-8C8F-B41EEF822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77EB6-A49A-44A7-8DCB-984C6D224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CE627-9CC2-462B-8098-B99341A2A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7FDCF-3AB7-4D6B-8321-B34B3895C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43E28-2273-424F-B7D6-EA132C0C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E91DE-2C41-4EFD-ACF6-A8554C36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489A1-8D19-49D3-B29C-9177ABCC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FB449-81A0-44FA-B493-F52FDD108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57181-D213-41DE-B0D8-43DA66E02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BC6FB-D2B1-4FC0-B3FA-CE28D9086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348BF-2288-41CB-9957-56B6EBA10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95FE-99F6-44E7-9E6D-E87874989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7989A-A872-4AD1-9D33-3D68E21EC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7C02F-8245-4F4D-999A-04704FF1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95143-2420-472F-8AE5-63449AEDF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A097A-0441-4C0C-9727-3C8B82518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60C49-2C5E-44E3-9151-E6DB73681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376AC-71BE-467E-8EB8-9D8CED50B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17F93-80FE-4577-BDCF-CE1CC87D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62749-F25E-4EF0-A867-44372D14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7ACC2-00D8-4159-97DE-7D45CDBDB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DF616-9FBF-4706-94F8-22AB48276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0598-05A0-40A1-B900-2061ACE2E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46D46-3961-47A8-A212-3AC43DBF9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7D07-3C7D-48E8-A5DC-BCAFDA55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A665-AB76-4CB9-BCFC-06DE8BCC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AE77-3FE7-43B5-834F-C0F1ADA0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1988A-0A7A-4194-93B6-B1ECC5E6C359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E009C-3F94-4AB7-89B1-155A0652235B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8A314-4DB6-41C1-869E-35AEE0CEA01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10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ftr" idx="11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sldNum" idx="12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C9183-0EF3-4B8E-B9A8-F20E9855A1B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62914-5B98-4661-BD76-B741B55DC04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"/><Relationship Id="rId3" Type="http://schemas.openxmlformats.org/officeDocument/2006/relationships/image" Target="../media/image10.gif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5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50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"/><Relationship Id="rId3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"/><Relationship Id="rId3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55640" y="333360"/>
            <a:ext cx="8209080" cy="61563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1763640" y="2133720"/>
            <a:ext cx="54374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学做文明小学生</a:t>
            </a:r>
            <a:endParaRPr b="1" i="1" lang="en-US" sz="6000" spc="1" strike="noStrike">
              <a:ln w="0">
                <a:noFill/>
              </a:ln>
              <a:solidFill>
                <a:srgbClr val="ff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8244000" y="5661000"/>
            <a:ext cx="577800" cy="4320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3716" fill="hold"/>
                                        <p:tgtEl>
                                          <p:spTgt spid="2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24000" y="-6076800"/>
            <a:ext cx="712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773360"/>
            <a:ext cx="8675640" cy="57340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教室门口比较窄，离开教室应有秩序，不要争先恐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6009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◆ 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在教室及走廊行走，应轻步慢走，不能追逐打闹，否则很容易因碰撞而出现不友好的行为。</a:t>
            </a:r>
            <a:r>
              <a:rPr b="0" lang="zh-CN" sz="2800" spc="-1" strike="noStrike">
                <a:solidFill>
                  <a:srgbClr val="d6009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◆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上下楼梯靠右走，楼梯是上下楼的必经之路，为了保证安全，必须按各自方向上楼。</a:t>
            </a:r>
            <a:r>
              <a:rPr b="0" lang="zh-CN" sz="2800" spc="-1" strike="noStrike">
                <a:solidFill>
                  <a:srgbClr val="d6009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◆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玩游戏要到操场玩耍，并且要守秩序，排好队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遵守游戏规则</a:t>
            </a:r>
            <a:r>
              <a:rPr b="0" lang="zh-CN" sz="2800" spc="-1" strike="noStrike">
                <a:solidFill>
                  <a:srgbClr val="d60093"/>
                </a:solidFill>
                <a:latin typeface="Arial"/>
              </a:rPr>
              <a:t>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79280" y="333360"/>
            <a:ext cx="47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课间活动的要求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-612720" y="0"/>
            <a:ext cx="9756720" cy="6858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2514600" y="19051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-252360" y="1197000"/>
            <a:ext cx="3376440" cy="44546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 txBox="1"/>
          <p:nvPr/>
        </p:nvSpPr>
        <p:spPr>
          <a:xfrm>
            <a:off x="2700360" y="2133720"/>
            <a:ext cx="486576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畅所欲言  喜谈收获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2556000" y="620640"/>
            <a:ext cx="27018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倡议书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96" name=""/>
          <p:cNvSpPr/>
          <p:nvPr/>
        </p:nvSpPr>
        <p:spPr>
          <a:xfrm>
            <a:off x="2176560" y="2354400"/>
            <a:ext cx="405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319480" y="2425680"/>
            <a:ext cx="520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959120" y="1994040"/>
            <a:ext cx="354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39640" y="227664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亲爱的同学们：我们呼吁大家以文明为己任，从现在做起，从自身做起，从自己身旁的点滴小事做起，时刻紧记我们的口号：人人讲文明，从改掉一个不良习惯做起！由此，我们倡议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79280" y="1125360"/>
            <a:ext cx="8785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爱班爱校，说文明话，塑造文明形象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以校为家，爱护公共设施，杜绝损坏公物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遵守交通规则，维护正常的校园秩序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严守校规校纪，虚心接受老师教诲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5.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保持校园干净整洁，不佩戴耳环、项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6.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自尊自爱，言行得体，不追逐喧闹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7.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注意安全，不闯红灯、双黄线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8.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树立健康生活理念，不购买无证摊贩的食品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755640" y="189000"/>
            <a:ext cx="8209080" cy="615636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 txBox="1"/>
          <p:nvPr/>
        </p:nvSpPr>
        <p:spPr>
          <a:xfrm>
            <a:off x="1871640" y="2421000"/>
            <a:ext cx="5437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懂礼仪，讲礼貌，</a:t>
            </a:r>
            <a:endParaRPr b="1" i="1" lang="en-US" sz="6000" spc="1" strike="noStrike">
              <a:ln w="0">
                <a:noFill/>
              </a:ln>
              <a:solidFill>
                <a:srgbClr val="ff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学做文明小学生！</a:t>
            </a:r>
            <a:endParaRPr b="1" i="1" lang="en-US" sz="6000" spc="1" strike="noStrike">
              <a:ln w="0">
                <a:noFill/>
              </a:ln>
              <a:solidFill>
                <a:srgbClr val="ff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8972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 rot="21315000">
            <a:off x="1642680" y="1775880"/>
            <a:ext cx="5184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908000" y="1341360"/>
            <a:ext cx="561672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咱们从小讲礼貌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Arial"/>
              </a:rPr>
              <a:t>晨风吹，阳光照，红领巾胸前飘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Arial"/>
              </a:rPr>
              <a:t>小朋友啊欢欢喜喜进学校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Arial"/>
              </a:rPr>
              <a:t>见了老师敬个礼，见了同学问声好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Arial"/>
              </a:rPr>
              <a:t>老师您好！同学你早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Arial"/>
              </a:rPr>
              <a:t>团结友爱心一条，团结友爱心一条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Arial"/>
              </a:rPr>
              <a:t>好儿童，志气高，讲文明，讲礼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Arial"/>
              </a:rPr>
              <a:t>小朋友呀咱们一定要记牢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Arial"/>
              </a:rPr>
              <a:t>不骂人来不打架，果皮纸屑不乱抛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Arial"/>
              </a:rPr>
              <a:t>纪律要遵守，卫生要做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Arial"/>
              </a:rPr>
              <a:t>咱们从小讲文明，咱们从小讲礼貌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1116000" y="6453360"/>
            <a:ext cx="503280" cy="556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121" dur="indefinite" restart="never" nodeType="tmRoot">
          <p:childTnLst>
            <p:seq>
              <p:cTn id="122" restart="whenNotActive" nodeType="interactiveSeq" fill="hold">
                <p:stCondLst>
                  <p:cond evt="onClick">
                    <p:tgtEl>
                      <p:spTgt spid="307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307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31820" fill="hold"/>
                                        <p:tgtEl>
                                          <p:spTgt spid="3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8972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 rot="21315000">
            <a:off x="1783080" y="1771200"/>
            <a:ext cx="5184720" cy="37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文明拍手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你拍一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我拍一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文明学生我和你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你拍二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我拍二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文明学生不落后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你拍三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我拍三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请勿随地乱吐痰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你拍四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我拍四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大家都从点滴起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你拍五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我拍五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加强管理和监督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你拍六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我拍六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纸屑杂物不乱丢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你拍七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我拍七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人际交往要和气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21297000">
            <a:off x="5651640" y="2204640"/>
            <a:ext cx="2089080" cy="29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你拍八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我拍八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公共设施不乱画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你拍九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我拍九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保护环境要持久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你拍十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我拍十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文明公约要落实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74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Arial"/>
              </a:rPr>
              <a:t>作业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227448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针对本次班会对自己进行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思，找到自己的错误并改正它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921708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1476360" y="2060640"/>
            <a:ext cx="3097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700360" y="98100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小学生日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788000" y="981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行为规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26920" y="1628640"/>
            <a:ext cx="7993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、尊敬国旗、国徽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会唱国歌，升降国旗、奏唱国歌时肃立、脱帽、行注目礼，少先队员行队礼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　   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、尊敬父母，关心父母身体健康，主动为家庭做力所能及的事。听从父母和长辈的教导，外出或回到家要主动打招呼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　   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、尊敬老师，见面行礼，主动问好，接受老师的教导，与老师交流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　   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、尊老爱幼，平等待人。同学之间友好相处，互相关心，互相帮助。不欺负弱小，不讥笑、戏弄他人。尊重残疾人。尊重他人的民族习惯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　   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、待人有礼貌，说话文明，讲普通话，会用礼貌用语。不骂人，不打架。到他人房间先敲门，经允许再进入，不随意翻动别人的物品，不打扰别人的工作、学习和休息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　   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、诚实守信，不说谎话，知错就改，不随意拿别人的东西，借东西及时归还，答应别人的事努力做到，做不到时表示歉意。考试不作弊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　　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  <p:sndAc>
      <p:stSnd>
        <p:snd r:embed="rId2" name="typ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921708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1476360" y="2060640"/>
            <a:ext cx="3097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700360" y="98100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小学生日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788000" y="981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行为规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258920" y="1628640"/>
            <a:ext cx="7129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7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、虚心学习别人的长处和优点，不嫉妒别人。遇到挫折和失败不灰心，不气馁，遇到困难努力克服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　　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、爱惜粮食和学习、生活用品。节约水电，不比吃穿，不乱花钱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　　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9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、衣着整洁，经常洗澡，勤剪指甲，勤洗头，早晚刷牙，饭前便后要洗手。自己能做的事自己做，衣物用品摆放整齐，学会收拾房间、洗衣服、洗餐具等家务劳动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、按时上学，不迟到，不早退，不逃学，有病有事要请假，放学后按时回家。参加活动守时，不能参加事先请假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　　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11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、课前准备好学习用品，上课专心听讲，积极思考，大胆提问，回答问题声音清楚，不随意打断他人发言。课间活动有秩序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  <p:sndAc>
      <p:stSnd>
        <p:snd r:embed="rId2" name="typ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921708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476360" y="2060640"/>
            <a:ext cx="3097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700360" y="98100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小学生日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788000" y="981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行为规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58920" y="1484280"/>
            <a:ext cx="7129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12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、课前预习，课后认真复习，按时完成作业，书写工整，卷面整洁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13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、坚持锻炼身体，认真做广播体操和眼保健操，坐、立、行、读书、写字姿势正确。积极参加有益的文体活动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　　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14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、认真做值日，保持教室、校园整洁。保护环境，爱护花草树木、庄稼和有益动物，不随地吐痰，不乱扔果皮纸屑等废弃物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　　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15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、爱护公物，不在课桌椅、建筑物和文物古迹上涂抹刻画。损坏公物要赔偿。拾到东西归还失主或交公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　　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16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、积极参加集体活动，认真完成集体交给的任务，少先队员服从队的决议，不做有损集体荣誉的事，集体成员之间相互尊重，学会合作。积极参加学校组织的各种劳动和社会实践活动，多观察，勤动手。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  <p:sndAc>
      <p:stSnd>
        <p:snd r:embed="rId2" name="typ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9217080" cy="68580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1476360" y="2060640"/>
            <a:ext cx="3097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700360" y="98100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小学生日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788000" y="981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行为规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116000" y="1773360"/>
            <a:ext cx="720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　   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17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、遵守交通法规，过马路走人行横道，不乱穿马路，不在公路、铁路、码头玩耍和追逐打闹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　　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18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、遵守公共秩序，在公共场所守不拥挤，不喧哗，礼让他人。乘公共车、船等主动购票，主动给老幼病残孕让座。不做法律禁止的事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　　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19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、珍爱生命，注意安全，防火、防溺水、防触电、防盗、防中毒，不做有危险的游戏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　　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、阅读、观看健康有益的图书、报刊、音像和网上信息，收听、收看内容健康的广播电视节目。不吸烟、不喝酒、不赌博，远离毒品，不参加封建迷信活动，不进入网吧等未成年人不宜入内的场所。敢于斗争，遇到坏人坏事主动报告。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  <p:sndAc>
      <p:stSnd>
        <p:snd r:embed="rId2" name="typ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-73080" y="0"/>
            <a:ext cx="9217080" cy="68580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1042920" y="1989000"/>
            <a:ext cx="30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700360" y="9810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1619280" y="981000"/>
            <a:ext cx="266544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38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说一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71" name=""/>
          <p:cNvSpPr/>
          <p:nvPr/>
        </p:nvSpPr>
        <p:spPr>
          <a:xfrm rot="21474000">
            <a:off x="2340000" y="3195720"/>
            <a:ext cx="593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请说说班内或学校近期出现的不良习惯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  <p:sndAc>
      <p:stSnd>
        <p:snd r:embed="rId2" name="typ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-252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24000" y="-6076800"/>
            <a:ext cx="712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468000" cy="6381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◆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在校园内，随地吐痰，乱扔垃圾和果皮纸屑，乱扔纸袋，公共场合嚼口香糖，随地丢垃圾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◆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举行升旗仪式时，有的同学交头接耳、东张西望、左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右盼、站得东倒西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◆ 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有的同学在校园内进出或上下楼梯与老师相遇时，不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招呼。更有甚者，进老师的办公室时破门而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◆ 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有的同学不仅不穿校服，还在校服校牌上乱写乱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◆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有的同学出口成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◆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有的同学破坏班级财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◆ 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有的同学欺负弱小群体，给他人乱起绰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◆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有的同学追打哄闹，推推搡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611280" y="3500280"/>
            <a:ext cx="792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◆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预备铃响了，我们应该怎么做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◆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上课可以随便说话吗？有事情怎么办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◆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课堂上可以做小动作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◆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别人发言时，我们应该注意些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>
            <a:hlinkClick r:id="rId2" action="ppaction://hlinksldjump"/>
          </p:cNvPr>
          <p:cNvSpPr/>
          <p:nvPr/>
        </p:nvSpPr>
        <p:spPr>
          <a:xfrm>
            <a:off x="5796000" y="5805360"/>
            <a:ext cx="129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132000" y="549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547640" y="189000"/>
            <a:ext cx="266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议一议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611280" y="3500280"/>
            <a:ext cx="792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395280" y="299700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刚才几个同学的表演，你认为他们做的对吗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为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>
            <a:hlinkClick r:id="rId2" action="ppaction://hlinksldjump"/>
          </p:cNvPr>
          <p:cNvSpPr/>
          <p:nvPr/>
        </p:nvSpPr>
        <p:spPr>
          <a:xfrm>
            <a:off x="5796000" y="5805360"/>
            <a:ext cx="129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132000" y="549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2124000" y="620640"/>
            <a:ext cx="302436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讨 论</a:t>
            </a:r>
            <a:endParaRPr b="0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19:59:46Z</dcterms:created>
  <dc:creator>USER</dc:creator>
  <dc:description/>
  <dc:language>en-US</dc:language>
  <cp:lastModifiedBy>微软用户</cp:lastModifiedBy>
  <dcterms:modified xsi:type="dcterms:W3CDTF">2012-11-22T01:07:36Z</dcterms:modified>
  <cp:revision>60</cp:revision>
  <dc:subject/>
  <dc:title>幻灯片 1</dc:title>
</cp:coreProperties>
</file>