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A5F-5B92-4E20-BAD6-024D56E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006-2CD0-495A-89D9-ACA0139A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BC9-6BBA-405B-9E72-178B3524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9FB-439C-4452-B98B-28619D3E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B01-7C61-4542-9267-7649CB2D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E13B-732C-4969-8E94-D5F72941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E3A8-94C2-4698-B08C-7D9143D2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FDB-E4D0-4E84-A0CD-611777C9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4A80-EA55-43EF-AA7A-BA752244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0ECF-B58D-41B6-A083-B6FBD868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102-F02F-4621-B7E3-60D0AD3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6A9-8522-4F95-ADC1-577BC2B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3006-F9B4-49D2-AABA-E06C019D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312E-C8A2-4F16-9D24-03DA29E4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1FFF-0126-4B79-8CE5-B793A68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CE66-4BB6-40DF-85AE-E88CEAC4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9B91-F745-46E9-B225-8ED0557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690-C478-4F64-8618-50361F77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874-4CA5-4D0A-BDC1-E38A09C9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F07-E93E-4A79-A037-9CA4E4C0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0D6-22EA-4E08-A9EA-E327A510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7F8-9A7B-4142-8B2D-FF5C6BE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47D-B12A-405D-B29F-3B31D4F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DEC-FA1D-4DD8-B40B-FBB1E60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D3A1-B183-4BE1-98FD-2159F3C0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1083-6E23-475A-9B75-E6CEEE81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987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黄土高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5126040" cy="482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6121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8780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安塞腰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刘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5300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字音检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ts val="47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亢奋 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晦暗 ： 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羁绊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冗杂 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蓦然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叹为观止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戛然而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268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极度兴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989000"/>
            <a:ext cx="27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昏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63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缠住了不能脱身，束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7560" y="3357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繁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4005360"/>
            <a:ext cx="24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突然，蓦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724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赞美看到的事物好到了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445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声音突然中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1488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整体感知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的朗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用的最多的修辞手法是什么？举例说明这样写的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一个词语概况你心中的安塞腰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28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分析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337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开头和结尾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42100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课文描写安塞腰鼓的几个角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28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质疑探究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41492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中作者是怎样歌颂西北汉子的？为什么这样歌颂西北汉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06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中作者是怎样写黄土高原的？作者为什么对黄土高原情有独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68080"/>
            <a:ext cx="79916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一方水土养一方人，</a:t>
            </a: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不同的地域有不同的文化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/>
  <dc:description/>
  <dc:language>en-US</dc:language>
  <cp:lastModifiedBy/>
  <dcterms:modified xsi:type="dcterms:W3CDTF">2015-04-03T09:0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