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9AF-56A5-4025-8218-9E57FB2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DD5-9350-4665-8285-5331679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168-5D9A-474E-8A42-5DD65B59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716-7EBC-48F8-BD29-83EA7F99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87F-9003-4801-8D73-A34D3688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E77B-5043-4A6D-BB93-D3D5EE8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140-088F-45EF-92E8-BDE4E34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6E7E-439C-4615-8581-5B35E919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F4E-0F74-4145-8C97-37DA0710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E6D2-D433-4D0B-95F5-E119E98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9841-9583-4CFC-8FEC-753BB88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B3B-C5B9-4E52-99C5-2C6E507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3E2-662D-4DDF-B8DD-ADE3E1C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882-896B-4AAF-879D-589367B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32D-F2BA-4023-A54C-E748EE4C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4229-A90F-4D19-8807-55A3F019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6242-A44D-465C-AFCD-465D0F0A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BF25-6C89-4583-82E4-178413CD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B622-40F5-4665-8FD2-2810FAA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0D50-350B-4FD7-83A2-3E7B678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9FA2-9562-494B-91A0-A0D29387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5A8E-DF26-4287-A447-57DA4DE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F86-DF8E-4739-8291-6450499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9668-A99F-4D31-89F6-0DEC8708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4342-83FE-4013-9A18-8B64AD5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8514-F33D-429B-8773-DF5F54F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3647-FEB1-471C-9E72-B5F14F9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BF39-B9FC-46E0-8486-C41EC0A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D112-8A09-4F9D-99CA-9EB0EF30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6DFE-FF37-418F-B011-CFB78D8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FB1-2AC3-4159-A616-B3F7882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12D-9902-4F99-8BAD-038E81C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10C-4B41-42CA-AB7C-B821E65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223-95C4-43F0-A1FE-05F3995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851-9D06-4532-9A76-266F3F46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F02-8FF9-476D-8225-8EA1F9A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26F-9ED7-433C-B371-42063AF14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259-880D-43B1-B65C-94BB3E7437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63CB-71AC-46B0-8C7D-3BCD92F25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png"/><Relationship Id="rId3" Type="http://schemas.openxmlformats.org/officeDocument/2006/relationships/slide" Target="slide14.xml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png"/><Relationship Id="rId7" Type="http://schemas.openxmlformats.org/officeDocument/2006/relationships/slide" Target="slide7.xml"/><Relationship Id="rId8" Type="http://schemas.openxmlformats.org/officeDocument/2006/relationships/image" Target="../media/image20.png"/><Relationship Id="rId9" Type="http://schemas.openxmlformats.org/officeDocument/2006/relationships/slide" Target="slide8.xml"/><Relationship Id="rId10" Type="http://schemas.openxmlformats.org/officeDocument/2006/relationships/image" Target="../media/image21.png"/><Relationship Id="rId11" Type="http://schemas.openxmlformats.org/officeDocument/2006/relationships/slide" Target="slide6.xml"/><Relationship Id="rId12" Type="http://schemas.openxmlformats.org/officeDocument/2006/relationships/image" Target="../media/image22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508720" y="1620720"/>
            <a:ext cx="3824280" cy="447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0" y="4680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24000" y="3855960"/>
            <a:ext cx="511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二年级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主题班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748720" y="6453360"/>
            <a:ext cx="395280" cy="404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群星 - 悯农.mp3" descr=""/>
          <p:cNvPicPr/>
          <p:nvPr/>
        </p:nvPicPr>
        <p:blipFill>
          <a:blip r:embed="rId3"/>
          <a:stretch/>
        </p:blipFill>
        <p:spPr>
          <a:xfrm>
            <a:off x="7885080" y="595296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907920"/>
            <a:ext cx="76327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zh-CN" sz="9600" spc="-1" strike="noStrike">
                <a:solidFill>
                  <a:srgbClr val="ff9900"/>
                </a:solidFill>
                <a:latin typeface="Arial"/>
                <a:ea typeface="浪漫雅圆"/>
              </a:rPr>
              <a:t>爱 惜 粮 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2666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inggan"/>
          <p:cNvPicPr/>
          <p:nvPr/>
        </p:nvPicPr>
        <p:blipFill>
          <a:blip r:embed="rId1"/>
          <a:stretch/>
        </p:blipFill>
        <p:spPr>
          <a:xfrm>
            <a:off x="5940360" y="1052640"/>
            <a:ext cx="2592360" cy="1726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mianbao"/>
          <p:cNvPicPr/>
          <p:nvPr/>
        </p:nvPicPr>
        <p:blipFill>
          <a:blip r:embed="rId2"/>
          <a:stretch/>
        </p:blipFill>
        <p:spPr>
          <a:xfrm>
            <a:off x="611280" y="981000"/>
            <a:ext cx="3600360" cy="19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饺子"/>
          <p:cNvPicPr/>
          <p:nvPr/>
        </p:nvPicPr>
        <p:blipFill>
          <a:blip r:embed="rId3"/>
          <a:stretch/>
        </p:blipFill>
        <p:spPr>
          <a:xfrm>
            <a:off x="2411280" y="3141720"/>
            <a:ext cx="4249800" cy="2566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97.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9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9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9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9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39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1">
                                  <p:stCondLst>
                                    <p:cond delay="5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红薯粉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314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红薯片"/>
          <p:cNvPicPr/>
          <p:nvPr/>
        </p:nvPicPr>
        <p:blipFill>
          <a:blip r:embed="rId2"/>
          <a:stretch/>
        </p:blipFill>
        <p:spPr>
          <a:xfrm>
            <a:off x="971640" y="1413000"/>
            <a:ext cx="39211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4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14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大豆"/>
          <p:cNvPicPr/>
          <p:nvPr/>
        </p:nvPicPr>
        <p:blipFill>
          <a:blip r:embed="rId1"/>
          <a:stretch/>
        </p:blipFill>
        <p:spPr>
          <a:xfrm>
            <a:off x="1332000" y="692280"/>
            <a:ext cx="6121440" cy="5113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2419200" y="586584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豆腐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350028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豆浆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403280" y="620640"/>
            <a:ext cx="3745080" cy="21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酱油-2 "/>
          <p:cNvPicPr/>
          <p:nvPr/>
        </p:nvPicPr>
        <p:blipFill>
          <a:blip r:embed="rId3"/>
          <a:stretch/>
        </p:blipFill>
        <p:spPr>
          <a:xfrm rot="21461400">
            <a:off x="6227640" y="691920"/>
            <a:ext cx="168768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160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3600"/>
                                  </p:stCondLst>
                                  <p:iterate type="lt">
                                    <p:tmAbs val="18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红薯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404640"/>
            <a:ext cx="6337440" cy="5977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3233880" y="6137280"/>
            <a:ext cx="27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一粒米的来历.wav" descr=""/>
          <p:cNvPicPr/>
          <p:nvPr/>
        </p:nvPicPr>
        <p:blipFill>
          <a:blip r:embed="rId1"/>
          <a:stretch/>
        </p:blipFill>
        <p:spPr>
          <a:xfrm>
            <a:off x="1870200" y="3284640"/>
            <a:ext cx="203040" cy="21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一粒米2"/>
          <p:cNvPicPr/>
          <p:nvPr/>
        </p:nvPicPr>
        <p:blipFill>
          <a:blip r:embed="rId2">
            <a:lum contrast="6000"/>
          </a:blip>
          <a:srcRect l="0" t="0" r="52785" b="12803"/>
          <a:stretch/>
        </p:blipFill>
        <p:spPr>
          <a:xfrm>
            <a:off x="1403280" y="1125360"/>
            <a:ext cx="2228760" cy="388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一粒米"/>
          <p:cNvPicPr/>
          <p:nvPr/>
        </p:nvPicPr>
        <p:blipFill>
          <a:blip r:embed="rId3">
            <a:lum contrast="12000"/>
          </a:blip>
          <a:srcRect l="9447" t="15173" r="48134" b="26982"/>
          <a:stretch/>
        </p:blipFill>
        <p:spPr>
          <a:xfrm>
            <a:off x="4859280" y="907920"/>
            <a:ext cx="2351160" cy="431964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米醋"/>
          <p:cNvPicPr/>
          <p:nvPr/>
        </p:nvPicPr>
        <p:blipFill>
          <a:blip r:embed="rId1"/>
          <a:stretch/>
        </p:blipFill>
        <p:spPr>
          <a:xfrm>
            <a:off x="5003640" y="404640"/>
            <a:ext cx="2779920" cy="5185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mijiu"/>
          <p:cNvPicPr/>
          <p:nvPr/>
        </p:nvPicPr>
        <p:blipFill>
          <a:blip r:embed="rId2"/>
          <a:stretch/>
        </p:blipFill>
        <p:spPr>
          <a:xfrm>
            <a:off x="1763640" y="620640"/>
            <a:ext cx="201636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476280"/>
          <a:ext cx="9144000" cy="6016680"/>
        </p:xfrm>
        <a:graphic>
          <a:graphicData uri="http://schemas.openxmlformats.org/drawingml/2006/table">
            <a:tbl>
              <a:tblPr/>
              <a:tblGrid>
                <a:gridCol w="663480"/>
                <a:gridCol w="848052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65656"/>
                          </a:solidFill>
                          <a:latin typeface="Times New Roman"/>
                          <a:ea typeface="华文彩云"/>
                        </a:rPr>
                        <a:t>生活中浪费粮食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学校食堂就餐时浪费蔬菜现象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饭店客人浪费米饭现象极为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家庭节假日浪费饭菜现象极为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8" name="Picture 28" descr="20277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376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9"/>
          <p:cNvSpPr/>
          <p:nvPr/>
        </p:nvSpPr>
        <p:spPr>
          <a:xfrm>
            <a:off x="789120" y="57722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民间举行婚庆喜事时浪费粮食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863640" y="4998960"/>
            <a:ext cx="82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大型饭店中就餐人员浪费粮食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803160" y="4076640"/>
            <a:ext cx="83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家庭平时浪费米饭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00080" y="88920"/>
            <a:ext cx="8964720" cy="6669000"/>
          </a:xfrm>
          <a:prstGeom prst="rect">
            <a:avLst/>
          </a:prstGeom>
          <a:noFill/>
          <a:ln w="12600">
            <a:solidFill>
              <a:srgbClr val="ccecff"/>
            </a:solidFill>
            <a:miter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6264000" cy="417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5734080" y="260280"/>
            <a:ext cx="3409920" cy="3807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4"/>
          <a:stretch/>
        </p:blipFill>
        <p:spPr>
          <a:xfrm>
            <a:off x="2771640" y="3960720"/>
            <a:ext cx="3095640" cy="2781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179280" y="260280"/>
            <a:ext cx="888552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给同学们的一封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亲爱的同学们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你们好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我是一个普通的不能在普通的农村出身的孩子，我的爸爸和我妈妈都是农民。我深知爸爸和妈妈的辛苦，所以我希望所有人都要体谅农民。有首诗不是说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锄和日当午，汗滴禾下土。谁知盘中餐，粒粒节辛苦，这首诗表达了农民的辛苦，忙禄了一年，才有今天的收获，而我们却在不经意间浪费了他们的“成果”，好好反思一下吧，我们做得对吗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粮食是人类生命的基本，如果没有了粮食，那我们还有生命吗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不用思考就知道，一定没有，那我们为什么还要浪费粮食呢？节约粮食靠大家，你做到，我做到，大家都做到。这样，也许，就不会再有剩饭剩菜了，我说的对吗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如果对，就请大家行动起来，怀着一颗感恩的心来珍惜粮食，珍惜农民们的劳动成果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5"/>
          <a:srcRect l="0" t="0" r="77511" b="0"/>
          <a:stretch/>
        </p:blipFill>
        <p:spPr>
          <a:xfrm>
            <a:off x="8459640" y="6165720"/>
            <a:ext cx="505080" cy="4622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0"/>
          <p:cNvSpPr txBox="1"/>
          <p:nvPr/>
        </p:nvSpPr>
        <p:spPr>
          <a:xfrm>
            <a:off x="8575560" y="5877000"/>
            <a:ext cx="21600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66ff"/>
                </a:solidFill>
                <a:latin typeface="Snap ITC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9966ff"/>
              </a:solidFill>
              <a:latin typeface="Snap ITC"/>
              <a:ea typeface="Snap ITC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027040" y="623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695560" y="622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封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271560" y="622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>
            <a:hlinkClick r:id="" action="ppaction://hlinkshowjump?jump=previousslide"/>
          </p:cNvPr>
          <p:cNvSpPr/>
          <p:nvPr/>
        </p:nvSpPr>
        <p:spPr>
          <a:xfrm>
            <a:off x="6992280" y="621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>
            <a:hlinkClick r:id="" action="ppaction://hlinkshowjump?jump=nextslide"/>
          </p:cNvPr>
          <p:cNvSpPr/>
          <p:nvPr/>
        </p:nvSpPr>
        <p:spPr>
          <a:xfrm>
            <a:off x="7815960" y="6226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乱丢粮食"/>
          <p:cNvPicPr/>
          <p:nvPr/>
        </p:nvPicPr>
        <p:blipFill>
          <a:blip r:embed="rId1"/>
          <a:stretch/>
        </p:blipFill>
        <p:spPr>
          <a:xfrm>
            <a:off x="5796000" y="407664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拾稻穗"/>
          <p:cNvPicPr/>
          <p:nvPr/>
        </p:nvPicPr>
        <p:blipFill>
          <a:blip r:embed="rId2"/>
          <a:stretch/>
        </p:blipFill>
        <p:spPr>
          <a:xfrm>
            <a:off x="1692360" y="4149720"/>
            <a:ext cx="1511280" cy="784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吃的干净"/>
          <p:cNvPicPr/>
          <p:nvPr/>
        </p:nvPicPr>
        <p:blipFill>
          <a:blip r:embed="rId3"/>
          <a:stretch/>
        </p:blipFill>
        <p:spPr>
          <a:xfrm>
            <a:off x="684360" y="1166760"/>
            <a:ext cx="129528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浪费粮食"/>
          <p:cNvPicPr/>
          <p:nvPr/>
        </p:nvPicPr>
        <p:blipFill>
          <a:blip r:embed="rId4"/>
          <a:stretch/>
        </p:blipFill>
        <p:spPr>
          <a:xfrm>
            <a:off x="6804000" y="1085760"/>
            <a:ext cx="1513080" cy="1101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陈毅爷爷"/>
          <p:cNvPicPr/>
          <p:nvPr/>
        </p:nvPicPr>
        <p:blipFill>
          <a:blip r:embed="rId5"/>
          <a:stretch/>
        </p:blipFill>
        <p:spPr>
          <a:xfrm>
            <a:off x="3348000" y="1557360"/>
            <a:ext cx="1800360" cy="787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7"/>
          <p:cNvSpPr/>
          <p:nvPr/>
        </p:nvSpPr>
        <p:spPr>
          <a:xfrm>
            <a:off x="684360" y="260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0a5"/>
                </a:solidFill>
                <a:latin typeface="Arial"/>
                <a:ea typeface="隶书"/>
              </a:rPr>
              <a:t>比一比谁最诚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55640" y="263700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a5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800a5"/>
                </a:solidFill>
                <a:latin typeface="隶书"/>
                <a:ea typeface="隶书"/>
              </a:rPr>
              <a:t>、你有过浪费粮食的情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900000" y="508464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a5"/>
                </a:solidFill>
                <a:latin typeface="Arial"/>
                <a:ea typeface="隶书"/>
              </a:rPr>
              <a:t>2</a:t>
            </a:r>
            <a:r>
              <a:rPr b="0" lang="zh-CN" sz="4400" spc="-1" strike="noStrike">
                <a:solidFill>
                  <a:srgbClr val="f800a5"/>
                </a:solidFill>
                <a:latin typeface="Arial"/>
                <a:ea typeface="隶书"/>
              </a:rPr>
              <a:t>、你有节约粮食的好办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65" dur="indefinite" restart="never" nodeType="tmRoot">
          <p:childTnLst>
            <p:seq>
              <p:cTn id="46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播种2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插秧2"/>
          <p:cNvPicPr/>
          <p:nvPr/>
        </p:nvPicPr>
        <p:blipFill>
          <a:blip r:embed="rId2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治虫2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抗旱2"/>
          <p:cNvPicPr/>
          <p:nvPr/>
        </p:nvPicPr>
        <p:blipFill>
          <a:blip r:embed="rId4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收割2"/>
          <p:cNvPicPr/>
          <p:nvPr/>
        </p:nvPicPr>
        <p:blipFill>
          <a:blip r:embed="rId5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一粒米2"/>
          <p:cNvPicPr/>
          <p:nvPr/>
        </p:nvPicPr>
        <p:blipFill>
          <a:blip r:embed="rId6">
            <a:lum contrast="6000"/>
          </a:blip>
          <a:srcRect l="0" t="0" r="52785" b="12803"/>
          <a:stretch/>
        </p:blipFill>
        <p:spPr>
          <a:xfrm>
            <a:off x="324000" y="333360"/>
            <a:ext cx="1692000" cy="295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一粒米"/>
          <p:cNvPicPr/>
          <p:nvPr/>
        </p:nvPicPr>
        <p:blipFill>
          <a:blip r:embed="rId7">
            <a:lum contrast="12000"/>
          </a:blip>
          <a:srcRect l="9447" t="15173" r="48134" b="26982"/>
          <a:stretch/>
        </p:blipFill>
        <p:spPr>
          <a:xfrm>
            <a:off x="324000" y="333360"/>
            <a:ext cx="1685880" cy="309708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0" fill="hold">
                                          <p:stCondLst>
                                            <p:cond delay="48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0" fill="hold">
                                          <p:stCondLst>
                                            <p:cond delay="12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499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 repeatCount="3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4367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367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8" nodeType="withEffect" fill="hold" presetClass="entr" presetID="53" repeatCount="3000">
                                  <p:stCondLst>
                                    <p:cond delay="4950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8167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167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8167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entr" presetID="31" repeatCount="3000">
                                  <p:stCondLst>
                                    <p:cond delay="74001"/>
                                  </p:stCondLst>
                                  <p:iterate type="lt">
                                    <p:tmAbs val="114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2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2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1" nodeType="withEffect" fill="hold" presetClass="entr" presetID="37" repeatCount="3000">
                                  <p:stCondLst>
                                    <p:cond delay="142701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633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5633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30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63" fill="hold">
                                          <p:stCondLst>
                                            <p:cond delay="230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8" nodeType="withEffect" fill="hold" presetClass="entr" presetID="17" presetSubtype="10" repeatCount="3000">
                                  <p:stCondLst>
                                    <p:cond delay="219701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967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967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440" y="1440"/>
          <a:ext cx="9107640" cy="6885000"/>
        </p:xfrm>
        <a:graphic>
          <a:graphicData uri="http://schemas.openxmlformats.org/drawingml/2006/table">
            <a:tbl>
              <a:tblPr/>
              <a:tblGrid>
                <a:gridCol w="1140120"/>
                <a:gridCol w="1203120"/>
                <a:gridCol w="1049400"/>
                <a:gridCol w="1800360"/>
                <a:gridCol w="752400"/>
                <a:gridCol w="3162240"/>
              </a:tblGrid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校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地环境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浪费现象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你的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如何解决浪费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46080"/>
            <a:ext cx="910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身边的浪费粮食问题，记录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做这两个题：①你有过浪费粮                                        食的情况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有节约粮食的好办法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做这一个纪录。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字左右，格式如表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抗旱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372360" y="3500280"/>
            <a:ext cx="2771640" cy="3357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治虫2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35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播种2"/>
          <p:cNvPicPr/>
          <p:nvPr/>
        </p:nvPicPr>
        <p:blipFill>
          <a:blip r:embed="rId3"/>
          <a:stretch/>
        </p:blipFill>
        <p:spPr>
          <a:xfrm>
            <a:off x="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插秧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059280" y="0"/>
            <a:ext cx="2736720" cy="3357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收割2"/>
          <p:cNvPicPr/>
          <p:nvPr/>
        </p:nvPicPr>
        <p:blipFill>
          <a:blip r:embed="rId5"/>
          <a:stretch/>
        </p:blipFill>
        <p:spPr>
          <a:xfrm>
            <a:off x="2916360" y="3500280"/>
            <a:ext cx="2879640" cy="3357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米饭"/>
          <p:cNvPicPr/>
          <p:nvPr/>
        </p:nvPicPr>
        <p:blipFill>
          <a:blip r:embed="rId6">
            <a:alphaModFix amt="18000"/>
          </a:blip>
          <a:stretch/>
        </p:blipFill>
        <p:spPr>
          <a:xfrm>
            <a:off x="0" y="350028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一粒米2"/>
          <p:cNvPicPr/>
          <p:nvPr/>
        </p:nvPicPr>
        <p:blipFill>
          <a:blip r:embed="rId7"/>
          <a:srcRect l="0" t="0" r="52785" b="12803"/>
          <a:stretch/>
        </p:blipFill>
        <p:spPr>
          <a:xfrm>
            <a:off x="2340000" y="2997360"/>
            <a:ext cx="958680" cy="136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一粒米"/>
          <p:cNvPicPr/>
          <p:nvPr/>
        </p:nvPicPr>
        <p:blipFill>
          <a:blip r:embed="rId8"/>
          <a:srcRect l="9447" t="15173" r="48134" b="26982"/>
          <a:stretch/>
        </p:blipFill>
        <p:spPr>
          <a:xfrm>
            <a:off x="2411280" y="2997360"/>
            <a:ext cx="898560" cy="136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一粒米2"/>
          <p:cNvPicPr/>
          <p:nvPr/>
        </p:nvPicPr>
        <p:blipFill>
          <a:blip r:embed="rId9"/>
          <a:srcRect l="0" t="0" r="52785" b="12803"/>
          <a:stretch/>
        </p:blipFill>
        <p:spPr>
          <a:xfrm>
            <a:off x="5508720" y="2852640"/>
            <a:ext cx="100944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一粒米"/>
          <p:cNvPicPr/>
          <p:nvPr/>
        </p:nvPicPr>
        <p:blipFill>
          <a:blip r:embed="rId10"/>
          <a:srcRect l="9447" t="15173" r="48134" b="26982"/>
          <a:stretch/>
        </p:blipFill>
        <p:spPr>
          <a:xfrm>
            <a:off x="5580000" y="2852640"/>
            <a:ext cx="94608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Oval 12">
            <a:hlinkClick r:id="rId11" action="ppaction://hlinksldjump"/>
          </p:cNvPr>
          <p:cNvSpPr/>
          <p:nvPr/>
        </p:nvSpPr>
        <p:spPr>
          <a:xfrm>
            <a:off x="8028000" y="6597720"/>
            <a:ext cx="111600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游戏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41120" y="14940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行楷"/>
              </a:rPr>
              <a:t>播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870280" y="2570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插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6300720" y="358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治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121520" y="37479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抗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3618000" y="35434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收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363680" y="34624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米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大豆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360" y="3789360"/>
            <a:ext cx="2303640" cy="23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红薯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3933720"/>
            <a:ext cx="202248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小麦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4360" y="3789360"/>
            <a:ext cx="20192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玉米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360" y="620640"/>
            <a:ext cx="236556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高粱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948360" y="549360"/>
            <a:ext cx="1300320" cy="266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水稻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11280" y="620640"/>
            <a:ext cx="2155680" cy="2448000"/>
          </a:xfrm>
          <a:prstGeom prst="rect">
            <a:avLst/>
          </a:prstGeom>
          <a:ln w="0">
            <a:noFill/>
          </a:ln>
        </p:spPr>
      </p:pic>
      <p:sp>
        <p:nvSpPr>
          <p:cNvPr id="160" name="Oval 8">
            <a:hlinkClick r:id="rId13" action="ppaction://hlinksldjump"/>
          </p:cNvPr>
          <p:cNvSpPr/>
          <p:nvPr/>
        </p:nvSpPr>
        <p:spPr>
          <a:xfrm>
            <a:off x="8172360" y="6597720"/>
            <a:ext cx="97164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粮食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>
            <a:hlinkClick r:id="rId2" action="ppaction://hlinksldjump"/>
          </p:cNvPr>
          <p:cNvSpPr/>
          <p:nvPr/>
        </p:nvSpPr>
        <p:spPr>
          <a:xfrm>
            <a:off x="0" y="6597720"/>
            <a:ext cx="161928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粮食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水稻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692280"/>
            <a:ext cx="7416720" cy="5514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197000" y="6327720"/>
            <a:ext cx="69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水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玉米">
            <a:hlinkClick r:id="rId1" action="ppaction://hlinksldjump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39640" y="476280"/>
            <a:ext cx="7777440" cy="5665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917720" y="589284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玉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高粱">
            <a:hlinkClick r:id="rId1" action="ppaction://hlinksldjump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56000" y="260280"/>
            <a:ext cx="3384360" cy="6337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73840" y="168444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小麦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692280"/>
            <a:ext cx="7129800" cy="578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8510040" y="1019160"/>
            <a:ext cx="454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44:16Z</dcterms:created>
  <dc:creator>ymj</dc:creator>
  <dc:description/>
  <cp:keywords/>
  <dc:language>en-US</dc:language>
  <cp:lastModifiedBy>Sky123.Org</cp:lastModifiedBy>
  <cp:lastPrinted>1899-12-30T00:00:00Z</cp:lastPrinted>
  <dcterms:modified xsi:type="dcterms:W3CDTF">2015-10-10T02:24:4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9</vt:lpwstr>
  </property>
</Properties>
</file>